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F6F-1196-4F5F-90F4-09C4971E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cell parts.  Functions will be covered with the appropri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cell parts.  Functions will be covered with the appropri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ages 170-171. Janet Plowe demonstrated how the cell membrane works.  Janet is on here because she’s a woman and recent! Not for t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5 – Robert Hooke  publishes his book which contains his drawings of sections of cork as seen through one of the first microscopes.  Coined the term “cell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73 – Anton van Leeuwenhook – perfects the simple microscope and observes cells and microorganisms.  Four years later, he discovers prot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of Organization: how organisms are arranged from simple to compl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of Organization: how organisms are arranged from simple to compl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4DC-1D59-4486-BCE0-AB67341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340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01F-BC8B-4524-9062-BF43D64B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562-A032-4002-80A6-F269F9D9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DA6-F676-4EAA-BE06-2AD9C303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810-6FF2-4816-8534-D23F3BC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B14-FB48-4A75-89AE-B1B2BD1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C98-476B-4981-B591-A85A0EC2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335-2AF6-4353-9BF0-9CC9E96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2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4E4-A97C-42E0-9183-CF2B4EE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FC9-F976-4EDD-951C-51923AF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B3A-463B-4AAD-AE36-28148E0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159-9B4A-411E-8104-30D2B8F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63640" y="142920"/>
            <a:ext cx="7543800" cy="6588000"/>
          </a:xfrm>
          <a:custGeom>
            <a:avLst/>
            <a:gdLst/>
            <a:ahLst/>
            <a:rect l="l" t="t" r="r" b="b"/>
            <a:pathLst>
              <a:path w="4752" h="4150">
                <a:moveTo>
                  <a:pt x="2192" y="6"/>
                </a:moveTo>
                <a:cubicBezTo>
                  <a:pt x="2024" y="14"/>
                  <a:pt x="1776" y="62"/>
                  <a:pt x="1616" y="150"/>
                </a:cubicBezTo>
                <a:cubicBezTo>
                  <a:pt x="1456" y="238"/>
                  <a:pt x="1368" y="422"/>
                  <a:pt x="1232" y="534"/>
                </a:cubicBezTo>
                <a:cubicBezTo>
                  <a:pt x="1096" y="646"/>
                  <a:pt x="920" y="734"/>
                  <a:pt x="800" y="822"/>
                </a:cubicBezTo>
                <a:cubicBezTo>
                  <a:pt x="680" y="910"/>
                  <a:pt x="616" y="966"/>
                  <a:pt x="512" y="1062"/>
                </a:cubicBezTo>
                <a:cubicBezTo>
                  <a:pt x="408" y="1158"/>
                  <a:pt x="256" y="1278"/>
                  <a:pt x="176" y="1398"/>
                </a:cubicBezTo>
                <a:cubicBezTo>
                  <a:pt x="96" y="1518"/>
                  <a:pt x="56" y="1590"/>
                  <a:pt x="32" y="1782"/>
                </a:cubicBezTo>
                <a:cubicBezTo>
                  <a:pt x="8" y="1974"/>
                  <a:pt x="0" y="2310"/>
                  <a:pt x="32" y="2550"/>
                </a:cubicBezTo>
                <a:cubicBezTo>
                  <a:pt x="64" y="2790"/>
                  <a:pt x="136" y="3054"/>
                  <a:pt x="224" y="3222"/>
                </a:cubicBezTo>
                <a:cubicBezTo>
                  <a:pt x="312" y="3390"/>
                  <a:pt x="448" y="3438"/>
                  <a:pt x="560" y="3558"/>
                </a:cubicBezTo>
                <a:cubicBezTo>
                  <a:pt x="672" y="3678"/>
                  <a:pt x="776" y="3854"/>
                  <a:pt x="896" y="3942"/>
                </a:cubicBezTo>
                <a:cubicBezTo>
                  <a:pt x="1016" y="4030"/>
                  <a:pt x="1112" y="4062"/>
                  <a:pt x="1280" y="4086"/>
                </a:cubicBezTo>
                <a:cubicBezTo>
                  <a:pt x="1448" y="4110"/>
                  <a:pt x="1712" y="4078"/>
                  <a:pt x="1904" y="4086"/>
                </a:cubicBezTo>
                <a:cubicBezTo>
                  <a:pt x="2096" y="4094"/>
                  <a:pt x="2264" y="4126"/>
                  <a:pt x="2432" y="4134"/>
                </a:cubicBezTo>
                <a:cubicBezTo>
                  <a:pt x="2600" y="4142"/>
                  <a:pt x="2744" y="4150"/>
                  <a:pt x="2912" y="4134"/>
                </a:cubicBezTo>
                <a:cubicBezTo>
                  <a:pt x="3080" y="4118"/>
                  <a:pt x="3272" y="4118"/>
                  <a:pt x="3440" y="4038"/>
                </a:cubicBezTo>
                <a:cubicBezTo>
                  <a:pt x="3608" y="3958"/>
                  <a:pt x="3776" y="3758"/>
                  <a:pt x="3920" y="3654"/>
                </a:cubicBezTo>
                <a:cubicBezTo>
                  <a:pt x="4064" y="3550"/>
                  <a:pt x="4200" y="3542"/>
                  <a:pt x="4304" y="3414"/>
                </a:cubicBezTo>
                <a:cubicBezTo>
                  <a:pt x="4408" y="3286"/>
                  <a:pt x="4472" y="3126"/>
                  <a:pt x="4544" y="2886"/>
                </a:cubicBezTo>
                <a:cubicBezTo>
                  <a:pt x="4616" y="2646"/>
                  <a:pt x="4720" y="2270"/>
                  <a:pt x="4736" y="1974"/>
                </a:cubicBezTo>
                <a:cubicBezTo>
                  <a:pt x="4752" y="1678"/>
                  <a:pt x="4704" y="1326"/>
                  <a:pt x="4640" y="1110"/>
                </a:cubicBezTo>
                <a:cubicBezTo>
                  <a:pt x="4576" y="894"/>
                  <a:pt x="4502" y="784"/>
                  <a:pt x="4352" y="678"/>
                </a:cubicBezTo>
                <a:cubicBezTo>
                  <a:pt x="4202" y="572"/>
                  <a:pt x="3892" y="556"/>
                  <a:pt x="3740" y="474"/>
                </a:cubicBezTo>
                <a:cubicBezTo>
                  <a:pt x="3588" y="392"/>
                  <a:pt x="3632" y="260"/>
                  <a:pt x="3440" y="186"/>
                </a:cubicBezTo>
                <a:cubicBezTo>
                  <a:pt x="3248" y="112"/>
                  <a:pt x="2796" y="60"/>
                  <a:pt x="2588" y="30"/>
                </a:cubicBezTo>
                <a:cubicBezTo>
                  <a:pt x="2380" y="0"/>
                  <a:pt x="2274" y="11"/>
                  <a:pt x="2192" y="6"/>
                </a:cubicBez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B632-6336-4888-A029-68F66EE14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image" Target="../media/image12.png"/><Relationship Id="rId134" Type="http://schemas.openxmlformats.org/officeDocument/2006/relationships/image" Target="../media/image12.png"/><Relationship Id="rId135" Type="http://schemas.openxmlformats.org/officeDocument/2006/relationships/image" Target="../media/image12.png"/><Relationship Id="rId136" Type="http://schemas.openxmlformats.org/officeDocument/2006/relationships/image" Target="../media/image12.png"/><Relationship Id="rId137" Type="http://schemas.openxmlformats.org/officeDocument/2006/relationships/image" Target="../media/image12.png"/><Relationship Id="rId138" Type="http://schemas.openxmlformats.org/officeDocument/2006/relationships/image" Target="../media/image12.png"/><Relationship Id="rId139" Type="http://schemas.openxmlformats.org/officeDocument/2006/relationships/image" Target="../media/image12.png"/><Relationship Id="rId140" Type="http://schemas.openxmlformats.org/officeDocument/2006/relationships/image" Target="../media/image12.png"/><Relationship Id="rId141" Type="http://schemas.openxmlformats.org/officeDocument/2006/relationships/image" Target="../media/image12.png"/><Relationship Id="rId142" Type="http://schemas.openxmlformats.org/officeDocument/2006/relationships/image" Target="../media/image12.png"/><Relationship Id="rId143" Type="http://schemas.openxmlformats.org/officeDocument/2006/relationships/image" Target="../media/image12.png"/><Relationship Id="rId144" Type="http://schemas.openxmlformats.org/officeDocument/2006/relationships/image" Target="../media/image12.png"/><Relationship Id="rId145" Type="http://schemas.openxmlformats.org/officeDocument/2006/relationships/image" Target="../media/image12.png"/><Relationship Id="rId146" Type="http://schemas.openxmlformats.org/officeDocument/2006/relationships/image" Target="../media/image12.png"/><Relationship Id="rId147" Type="http://schemas.openxmlformats.org/officeDocument/2006/relationships/image" Target="../media/image12.png"/><Relationship Id="rId148" Type="http://schemas.openxmlformats.org/officeDocument/2006/relationships/image" Target="../media/image12.png"/><Relationship Id="rId149" Type="http://schemas.openxmlformats.org/officeDocument/2006/relationships/image" Target="../media/image12.png"/><Relationship Id="rId150" Type="http://schemas.openxmlformats.org/officeDocument/2006/relationships/image" Target="../media/image12.png"/><Relationship Id="rId151" Type="http://schemas.openxmlformats.org/officeDocument/2006/relationships/image" Target="../media/image12.png"/><Relationship Id="rId152" Type="http://schemas.openxmlformats.org/officeDocument/2006/relationships/image" Target="../media/image12.png"/><Relationship Id="rId153" Type="http://schemas.openxmlformats.org/officeDocument/2006/relationships/image" Target="../media/image12.png"/><Relationship Id="rId154" Type="http://schemas.openxmlformats.org/officeDocument/2006/relationships/image" Target="../media/image12.png"/><Relationship Id="rId155" Type="http://schemas.openxmlformats.org/officeDocument/2006/relationships/image" Target="../media/image13.png"/><Relationship Id="rId156" Type="http://schemas.openxmlformats.org/officeDocument/2006/relationships/image" Target="../media/image13.png"/><Relationship Id="rId157" Type="http://schemas.openxmlformats.org/officeDocument/2006/relationships/image" Target="../media/image13.png"/><Relationship Id="rId158" Type="http://schemas.openxmlformats.org/officeDocument/2006/relationships/image" Target="../media/image13.png"/><Relationship Id="rId159" Type="http://schemas.openxmlformats.org/officeDocument/2006/relationships/image" Target="../media/image13.png"/><Relationship Id="rId160" Type="http://schemas.openxmlformats.org/officeDocument/2006/relationships/image" Target="../media/image13.png"/><Relationship Id="rId161" Type="http://schemas.openxmlformats.org/officeDocument/2006/relationships/image" Target="../media/image13.png"/><Relationship Id="rId162" Type="http://schemas.openxmlformats.org/officeDocument/2006/relationships/image" Target="../media/image13.png"/><Relationship Id="rId163" Type="http://schemas.openxmlformats.org/officeDocument/2006/relationships/image" Target="../media/image13.png"/><Relationship Id="rId164" Type="http://schemas.openxmlformats.org/officeDocument/2006/relationships/image" Target="../media/image13.png"/><Relationship Id="rId165" Type="http://schemas.openxmlformats.org/officeDocument/2006/relationships/image" Target="../media/image12.png"/><Relationship Id="rId16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.nih.gov/dtm/dtm_whole_blood.htm" TargetMode="External"/><Relationship Id="rId3" Type="http://schemas.openxmlformats.org/officeDocument/2006/relationships/hyperlink" Target="http://www.sc.doe.gov/bes/eb/Highlights/CaOscillate/body_caoscillate.html" TargetMode="External"/><Relationship Id="rId4" Type="http://schemas.openxmlformats.org/officeDocument/2006/relationships/hyperlink" Target="http://www.nlm.nih.gov/medlineplus/ency/imagepages/19495.htm" TargetMode="External"/><Relationship Id="rId5" Type="http://schemas.openxmlformats.org/officeDocument/2006/relationships/hyperlink" Target="http://nai.arc.nasa.gov/news_stories/news_detail.cfm?article=old/meaning_of_life.htm" TargetMode="External"/><Relationship Id="rId6" Type="http://schemas.openxmlformats.org/officeDocument/2006/relationships/hyperlink" Target="http://nai.arc.nasa.gov/news_stories/news_detail.cfm?article=old/meaning_of_life.htm" TargetMode="External"/><Relationship Id="rId7" Type="http://schemas.openxmlformats.org/officeDocument/2006/relationships/hyperlink" Target="http://nai.arc.nasa.gov/news_stories/news_detail.cfm?article=old/meaning_of_life.htm" TargetMode="External"/><Relationship Id="rId8" Type="http://schemas.openxmlformats.org/officeDocument/2006/relationships/hyperlink" Target="http://nai.arc.nasa.gov/news_stories/news_detail.cfm?article=old/meaning_of_life.htm" TargetMode="Externa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i.arc.nasa.gov/news_stories/news_detail.cfm?article=old/domains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ACHER NOTE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41120"/>
            <a:ext cx="777240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s PPT was revised June 6,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s PPT is to be used as an Introduction to Cells in Semester 1 in the Energy Conversion Unit.  This same (or similar) ppt is also to be used to review cells at the beginning of the Kingdoms Uni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re is a TEKS handout to accompany this PPT.  It may be used for regular if desire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last slide starts an optional assignment that has students make cell drawings and then add to the diagram unit by uni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409680" y="1928880"/>
          <a:ext cx="8610480" cy="4570200"/>
        </p:xfrm>
        <a:graphic>
          <a:graphicData uri="http://schemas.openxmlformats.org/drawingml/2006/table">
            <a:tbl>
              <a:tblPr/>
              <a:tblGrid>
                <a:gridCol w="2057400"/>
                <a:gridCol w="3295440"/>
                <a:gridCol w="32576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61800" y="999720"/>
            <a:ext cx="861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is the benefit of being made of all of these cell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51680" y="3081240"/>
            <a:ext cx="2039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080" y="4135320"/>
            <a:ext cx="96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98440" y="4441320"/>
            <a:ext cx="2997000" cy="877320"/>
            <a:chOff x="5698440" y="4441320"/>
            <a:chExt cx="2997000" cy="877320"/>
          </a:xfrm>
        </p:grpSpPr>
        <p:grpSp>
          <p:nvGrpSpPr>
            <p:cNvPr id="289" name=""/>
            <p:cNvGrpSpPr/>
            <p:nvPr/>
          </p:nvGrpSpPr>
          <p:grpSpPr>
            <a:xfrm>
              <a:off x="6192720" y="4666680"/>
              <a:ext cx="1137600" cy="393840"/>
              <a:chOff x="6192720" y="4666680"/>
              <a:chExt cx="1137600" cy="393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6192720" y="4666680"/>
                <a:ext cx="1137600" cy="393840"/>
                <a:chOff x="6192720" y="4666680"/>
                <a:chExt cx="1137600" cy="393840"/>
              </a:xfrm>
            </p:grpSpPr>
            <p:sp>
              <p:nvSpPr>
                <p:cNvPr id="291" name=""/>
                <p:cNvSpPr/>
                <p:nvPr/>
              </p:nvSpPr>
              <p:spPr>
                <a:xfrm rot="10489800">
                  <a:off x="7062120" y="4789440"/>
                  <a:ext cx="51120" cy="194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0684800">
                  <a:off x="6990480" y="4793760"/>
                  <a:ext cx="60840" cy="216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1080200">
                  <a:off x="6925320" y="4792680"/>
                  <a:ext cx="56520" cy="2160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1080200">
                  <a:off x="6855840" y="4780800"/>
                  <a:ext cx="60480" cy="244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1080200">
                  <a:off x="6796800" y="4769280"/>
                  <a:ext cx="51120" cy="23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0255200">
                  <a:off x="6726240" y="4768200"/>
                  <a:ext cx="53280" cy="201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0172400">
                  <a:off x="6662880" y="4766760"/>
                  <a:ext cx="57960" cy="2160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0172400">
                  <a:off x="6588000" y="4778280"/>
                  <a:ext cx="61560" cy="20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9533400">
                  <a:off x="7045560" y="4795560"/>
                  <a:ext cx="18000" cy="100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1080200">
                  <a:off x="6978240" y="4799880"/>
                  <a:ext cx="18000" cy="1008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1617200">
                  <a:off x="6905880" y="4794480"/>
                  <a:ext cx="18000" cy="1008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1721000">
                  <a:off x="6839640" y="4780800"/>
                  <a:ext cx="18000" cy="1008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0582800">
                  <a:off x="6643800" y="4775040"/>
                  <a:ext cx="18000" cy="100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1080200">
                  <a:off x="6712560" y="4772880"/>
                  <a:ext cx="18000" cy="1008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1080200">
                  <a:off x="6778440" y="4770000"/>
                  <a:ext cx="18000" cy="1008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1080200">
                  <a:off x="6206400" y="4681800"/>
                  <a:ext cx="38556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1080200">
                  <a:off x="7106040" y="4808880"/>
                  <a:ext cx="21708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1080200">
                  <a:off x="7097400" y="4763880"/>
                  <a:ext cx="22860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419160" y="4851360"/>
                <a:ext cx="29880" cy="2376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509880" y="4621320"/>
              <a:ext cx="1125360" cy="697320"/>
              <a:chOff x="6509880" y="4621320"/>
              <a:chExt cx="1125360" cy="6973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509880" y="4621320"/>
                <a:ext cx="1125360" cy="697320"/>
                <a:chOff x="6509880" y="4621320"/>
                <a:chExt cx="1125360" cy="697320"/>
              </a:xfrm>
            </p:grpSpPr>
            <p:sp>
              <p:nvSpPr>
                <p:cNvPr id="312" name=""/>
                <p:cNvSpPr/>
                <p:nvPr/>
              </p:nvSpPr>
              <p:spPr>
                <a:xfrm rot="9043800">
                  <a:off x="7327080" y="4734000"/>
                  <a:ext cx="51120" cy="1944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9238800">
                  <a:off x="7264080" y="4764960"/>
                  <a:ext cx="60480" cy="2160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9634200">
                  <a:off x="7203960" y="4791240"/>
                  <a:ext cx="56520" cy="2160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9634200">
                  <a:off x="7135560" y="4808160"/>
                  <a:ext cx="60480" cy="2448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9634200">
                  <a:off x="7077960" y="4823640"/>
                  <a:ext cx="51120" cy="230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8809200">
                  <a:off x="7012080" y="4851000"/>
                  <a:ext cx="53280" cy="2016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8726400">
                  <a:off x="6954480" y="4874040"/>
                  <a:ext cx="57960" cy="2160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8726400">
                  <a:off x="6890040" y="4915080"/>
                  <a:ext cx="61560" cy="20160"/>
                </a:xfrm>
                <a:prstGeom prst="ellips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8087400">
                  <a:off x="7314120" y="4753440"/>
                  <a:ext cx="18000" cy="10080"/>
                </a:xfrm>
                <a:prstGeom prst="rect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9634200">
                  <a:off x="7254360" y="4784760"/>
                  <a:ext cx="18000" cy="10080"/>
                </a:xfrm>
                <a:prstGeom prst="rect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0171200">
                  <a:off x="7186320" y="4809240"/>
                  <a:ext cx="18000" cy="10080"/>
                </a:xfrm>
                <a:prstGeom prst="rect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0275000">
                  <a:off x="7120440" y="4824000"/>
                  <a:ext cx="18000" cy="10080"/>
                </a:xfrm>
                <a:prstGeom prst="rect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9136800">
                  <a:off x="6939360" y="4898520"/>
                  <a:ext cx="18000" cy="10080"/>
                </a:xfrm>
                <a:prstGeom prst="rect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9634200">
                  <a:off x="7001280" y="4868640"/>
                  <a:ext cx="18000" cy="10080"/>
                </a:xfrm>
                <a:prstGeom prst="rect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9634200">
                  <a:off x="7059960" y="4839120"/>
                  <a:ext cx="18000" cy="1008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9634200">
                  <a:off x="6559200" y="490104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9634200">
                  <a:off x="7397280" y="469368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9634200">
                  <a:off x="7358400" y="465624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 rot="20154000">
                <a:off x="6768000" y="5056560"/>
                <a:ext cx="29880" cy="2376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98440" y="4441320"/>
              <a:ext cx="1068480" cy="874800"/>
              <a:chOff x="5698440" y="4441320"/>
              <a:chExt cx="1068480" cy="874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698440" y="4441320"/>
                <a:ext cx="1068480" cy="874800"/>
                <a:chOff x="5698440" y="4441320"/>
                <a:chExt cx="1068480" cy="874800"/>
              </a:xfrm>
            </p:grpSpPr>
            <p:sp>
              <p:nvSpPr>
                <p:cNvPr id="333" name=""/>
                <p:cNvSpPr/>
                <p:nvPr/>
              </p:nvSpPr>
              <p:spPr>
                <a:xfrm rot="8328600">
                  <a:off x="6449760" y="4594680"/>
                  <a:ext cx="51120" cy="19440"/>
                </a:xfrm>
                <a:prstGeom prst="ellipse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8523600">
                  <a:off x="6394320" y="4637160"/>
                  <a:ext cx="60480" cy="21600"/>
                </a:xfrm>
                <a:prstGeom prst="ellips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8919000">
                  <a:off x="6341400" y="4676040"/>
                  <a:ext cx="56520" cy="2160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8919000">
                  <a:off x="6278400" y="4705920"/>
                  <a:ext cx="60480" cy="24480"/>
                </a:xfrm>
                <a:prstGeom prst="ellipse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8919000">
                  <a:off x="6224400" y="4734000"/>
                  <a:ext cx="51120" cy="230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8094000">
                  <a:off x="6165720" y="4773960"/>
                  <a:ext cx="53280" cy="20160"/>
                </a:xfrm>
                <a:prstGeom prst="ellips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8011200">
                  <a:off x="6114240" y="4808160"/>
                  <a:ext cx="57960" cy="2160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8011200">
                  <a:off x="6059520" y="4861080"/>
                  <a:ext cx="61560" cy="20160"/>
                </a:xfrm>
                <a:prstGeom prst="ellipse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372200">
                  <a:off x="6440400" y="4620240"/>
                  <a:ext cx="18000" cy="10080"/>
                </a:xfrm>
                <a:prstGeom prst="rect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8919000">
                  <a:off x="6388560" y="4663080"/>
                  <a:ext cx="18000" cy="10080"/>
                </a:xfrm>
                <a:prstGeom prst="rect">
                  <a:avLst/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9456000">
                  <a:off x="6327360" y="4700880"/>
                  <a:ext cx="18000" cy="10080"/>
                </a:xfrm>
                <a:prstGeom prst="rect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9559800">
                  <a:off x="6265440" y="4729320"/>
                  <a:ext cx="18000" cy="10080"/>
                </a:xfrm>
                <a:prstGeom prst="rect">
                  <a:avLst/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8421600">
                  <a:off x="6103800" y="4839480"/>
                  <a:ext cx="18000" cy="10080"/>
                </a:xfrm>
                <a:prstGeom prst="rect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8919000">
                  <a:off x="6158520" y="4797360"/>
                  <a:ext cx="18000" cy="10080"/>
                </a:xfrm>
                <a:prstGeom prst="rect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8919000">
                  <a:off x="6209640" y="4756320"/>
                  <a:ext cx="18000" cy="10080"/>
                </a:xfrm>
                <a:prstGeom prst="rect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8919000">
                  <a:off x="5764680" y="487872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8919000">
                  <a:off x="6523200" y="452196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8919000">
                  <a:off x="6471720" y="449316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rot="19438800">
                <a:off x="5969880" y="5028480"/>
                <a:ext cx="29880" cy="23760"/>
              </a:xfrm>
              <a:prstGeom prst="ellipse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559280" y="4465080"/>
              <a:ext cx="1136160" cy="393840"/>
              <a:chOff x="7559280" y="4465080"/>
              <a:chExt cx="1136160" cy="3938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7559280" y="4465080"/>
                <a:ext cx="1136160" cy="393840"/>
                <a:chOff x="7559280" y="4465080"/>
                <a:chExt cx="1136160" cy="393840"/>
              </a:xfrm>
            </p:grpSpPr>
            <p:sp>
              <p:nvSpPr>
                <p:cNvPr id="354" name=""/>
                <p:cNvSpPr/>
                <p:nvPr/>
              </p:nvSpPr>
              <p:spPr>
                <a:xfrm rot="10489800">
                  <a:off x="8427600" y="4587840"/>
                  <a:ext cx="51120" cy="19440"/>
                </a:xfrm>
                <a:prstGeom prst="ellipse">
                  <a:avLst/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0684800">
                  <a:off x="8356320" y="4592160"/>
                  <a:ext cx="60480" cy="21600"/>
                </a:xfrm>
                <a:prstGeom prst="ellipse">
                  <a:avLst/>
                </a:prstGeom>
                <a:blipFill rotWithShape="0">
                  <a:blip r:embed="rId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1080200">
                  <a:off x="8291160" y="4591080"/>
                  <a:ext cx="56520" cy="21600"/>
                </a:xfrm>
                <a:prstGeom prst="ellipse">
                  <a:avLst/>
                </a:prstGeom>
                <a:blipFill rotWithShape="0">
                  <a:blip r:embed="rId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1080200">
                  <a:off x="8221320" y="4579200"/>
                  <a:ext cx="60480" cy="24480"/>
                </a:xfrm>
                <a:prstGeom prst="ellipse">
                  <a:avLst/>
                </a:prstGeom>
                <a:blipFill rotWithShape="0">
                  <a:blip r:embed="rId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1080200">
                  <a:off x="8162280" y="4567680"/>
                  <a:ext cx="51120" cy="23040"/>
                </a:xfrm>
                <a:prstGeom prst="ellipse">
                  <a:avLst/>
                </a:prstGeom>
                <a:blipFill rotWithShape="0">
                  <a:blip r:embed="rId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0255200">
                  <a:off x="8092080" y="4566600"/>
                  <a:ext cx="53280" cy="20160"/>
                </a:xfrm>
                <a:prstGeom prst="ellipse">
                  <a:avLst/>
                </a:prstGeom>
                <a:blipFill rotWithShape="0">
                  <a:blip r:embed="rId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0172400">
                  <a:off x="8029080" y="4565160"/>
                  <a:ext cx="57960" cy="21600"/>
                </a:xfrm>
                <a:prstGeom prst="ellipse">
                  <a:avLst/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0172400">
                  <a:off x="7953840" y="4576680"/>
                  <a:ext cx="61560" cy="20160"/>
                </a:xfrm>
                <a:prstGeom prst="ellipse">
                  <a:avLst/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9533400">
                  <a:off x="8411040" y="4593960"/>
                  <a:ext cx="18000" cy="10080"/>
                </a:xfrm>
                <a:prstGeom prst="rect">
                  <a:avLst/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1080200">
                  <a:off x="8344080" y="4598280"/>
                  <a:ext cx="18000" cy="10080"/>
                </a:xfrm>
                <a:prstGeom prst="rect">
                  <a:avLst/>
                </a:pr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617200">
                  <a:off x="8271720" y="4592880"/>
                  <a:ext cx="18000" cy="10080"/>
                </a:xfrm>
                <a:prstGeom prst="rect">
                  <a:avLst/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1721000">
                  <a:off x="8205120" y="4579200"/>
                  <a:ext cx="18000" cy="10080"/>
                </a:xfrm>
                <a:prstGeom prst="rect">
                  <a:avLst/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10582800">
                  <a:off x="8010000" y="4573440"/>
                  <a:ext cx="18000" cy="10080"/>
                </a:xfrm>
                <a:prstGeom prst="rect">
                  <a:avLst/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11080200">
                  <a:off x="8078760" y="4571640"/>
                  <a:ext cx="18000" cy="10080"/>
                </a:xfrm>
                <a:prstGeom prst="rect">
                  <a:avLst/>
                </a:pr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11080200">
                  <a:off x="8144280" y="4568400"/>
                  <a:ext cx="18000" cy="10080"/>
                </a:xfrm>
                <a:prstGeom prst="rect">
                  <a:avLst/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11080200">
                  <a:off x="7572960" y="448020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11080200">
                  <a:off x="8471520" y="460728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080200">
                  <a:off x="8462880" y="456228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85360" y="4649760"/>
                <a:ext cx="29880" cy="23760"/>
              </a:xfrm>
              <a:prstGeom prst="ellipse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541920" y="4448880"/>
              <a:ext cx="1135080" cy="392040"/>
              <a:chOff x="6541920" y="4448880"/>
              <a:chExt cx="1135080" cy="3920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6541920" y="4448880"/>
                <a:ext cx="1135080" cy="392040"/>
                <a:chOff x="6541920" y="4448880"/>
                <a:chExt cx="1135080" cy="392040"/>
              </a:xfrm>
            </p:grpSpPr>
            <p:sp>
              <p:nvSpPr>
                <p:cNvPr id="375" name=""/>
                <p:cNvSpPr/>
                <p:nvPr/>
              </p:nvSpPr>
              <p:spPr>
                <a:xfrm rot="10489800">
                  <a:off x="7409160" y="4571640"/>
                  <a:ext cx="51120" cy="19080"/>
                </a:xfrm>
                <a:prstGeom prst="ellipse">
                  <a:avLst/>
                </a:pr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0684800">
                  <a:off x="7338600" y="4575600"/>
                  <a:ext cx="60480" cy="21600"/>
                </a:xfrm>
                <a:prstGeom prst="ellipse">
                  <a:avLst/>
                </a:pr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1080200">
                  <a:off x="7273080" y="4574520"/>
                  <a:ext cx="56520" cy="21600"/>
                </a:xfrm>
                <a:prstGeom prst="ellipse">
                  <a:avLst/>
                </a:prstGeom>
                <a:blipFill rotWithShape="0">
                  <a:blip r:embed="rId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1080200">
                  <a:off x="7203240" y="4562640"/>
                  <a:ext cx="60480" cy="24480"/>
                </a:xfrm>
                <a:prstGeom prst="ellips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1080200">
                  <a:off x="7144560" y="4551120"/>
                  <a:ext cx="51120" cy="23040"/>
                </a:xfrm>
                <a:prstGeom prst="ellipse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0255200">
                  <a:off x="7074000" y="4550040"/>
                  <a:ext cx="53280" cy="20160"/>
                </a:xfrm>
                <a:prstGeom prst="ellips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0172400">
                  <a:off x="7011000" y="4548600"/>
                  <a:ext cx="57960" cy="21600"/>
                </a:xfrm>
                <a:prstGeom prst="ellipse">
                  <a:avLst/>
                </a:pr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0172400">
                  <a:off x="6936120" y="4560480"/>
                  <a:ext cx="61560" cy="19800"/>
                </a:xfrm>
                <a:prstGeom prst="ellipse">
                  <a:avLst/>
                </a:prstGeom>
                <a:blipFill rotWithShape="0">
                  <a:blip r:embed="rId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9533400">
                  <a:off x="7392960" y="4577400"/>
                  <a:ext cx="18000" cy="10080"/>
                </a:xfrm>
                <a:prstGeom prst="rect">
                  <a:avLst/>
                </a:pr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1080200">
                  <a:off x="7326000" y="4581720"/>
                  <a:ext cx="18000" cy="10080"/>
                </a:xfrm>
                <a:prstGeom prst="rect">
                  <a:avLst/>
                </a:pr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1617200">
                  <a:off x="7253640" y="4576320"/>
                  <a:ext cx="18000" cy="10080"/>
                </a:xfrm>
                <a:prstGeom prst="rect">
                  <a:avLst/>
                </a:prstGeom>
                <a:blipFill rotWithShape="0">
                  <a:blip r:embed="rId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1721000">
                  <a:off x="7187400" y="4562640"/>
                  <a:ext cx="18000" cy="10080"/>
                </a:xfrm>
                <a:prstGeom prst="rect">
                  <a:avLst/>
                </a:prstGeom>
                <a:blipFill rotWithShape="0">
                  <a:blip r:embed="rId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0582800">
                  <a:off x="6991920" y="4556880"/>
                  <a:ext cx="18000" cy="10080"/>
                </a:xfrm>
                <a:prstGeom prst="rect">
                  <a:avLst/>
                </a:prstGeom>
                <a:blipFill rotWithShape="0">
                  <a:blip r:embed="rId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1080200">
                  <a:off x="7060680" y="4554720"/>
                  <a:ext cx="18000" cy="1008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1080200">
                  <a:off x="7126560" y="4551840"/>
                  <a:ext cx="18000" cy="10080"/>
                </a:xfrm>
                <a:prstGeom prst="rect">
                  <a:avLst/>
                </a:prstGeom>
                <a:blipFill rotWithShape="0">
                  <a:blip r:embed="rId9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1080200">
                  <a:off x="6555600" y="4464000"/>
                  <a:ext cx="384840" cy="3618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1080200">
                  <a:off x="7453440" y="459072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1080200">
                  <a:off x="7444800" y="4546080"/>
                  <a:ext cx="228240" cy="10332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68000" y="4633200"/>
                <a:ext cx="29880" cy="23760"/>
              </a:xfrm>
              <a:prstGeom prst="ellipse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972120" y="4564800"/>
              <a:ext cx="1135080" cy="392040"/>
              <a:chOff x="6972120" y="4564800"/>
              <a:chExt cx="1135080" cy="3920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972120" y="4564800"/>
                <a:ext cx="1135080" cy="392040"/>
                <a:chOff x="6972120" y="4564800"/>
                <a:chExt cx="1135080" cy="392040"/>
              </a:xfrm>
            </p:grpSpPr>
            <p:sp>
              <p:nvSpPr>
                <p:cNvPr id="396" name=""/>
                <p:cNvSpPr/>
                <p:nvPr/>
              </p:nvSpPr>
              <p:spPr>
                <a:xfrm rot="10489800">
                  <a:off x="7839360" y="4687560"/>
                  <a:ext cx="51120" cy="19080"/>
                </a:xfrm>
                <a:prstGeom prst="ellipse">
                  <a:avLst/>
                </a:prstGeom>
                <a:blipFill rotWithShape="0">
                  <a:blip r:embed="rId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684800">
                  <a:off x="7768800" y="4691520"/>
                  <a:ext cx="60480" cy="21600"/>
                </a:xfrm>
                <a:prstGeom prst="ellipse">
                  <a:avLst/>
                </a:prstGeom>
                <a:blipFill rotWithShape="0">
                  <a:blip r:embed="rId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1080200">
                  <a:off x="7703280" y="4690440"/>
                  <a:ext cx="56520" cy="21600"/>
                </a:xfrm>
                <a:prstGeom prst="ellipse">
                  <a:avLst/>
                </a:pr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1080200">
                  <a:off x="7633440" y="4678560"/>
                  <a:ext cx="60480" cy="24480"/>
                </a:xfrm>
                <a:prstGeom prst="ellipse">
                  <a:avLst/>
                </a:pr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1080200">
                  <a:off x="7574760" y="4667040"/>
                  <a:ext cx="51120" cy="23040"/>
                </a:xfrm>
                <a:prstGeom prst="ellipse">
                  <a:avLst/>
                </a:prstGeom>
                <a:blipFill rotWithShape="0">
                  <a:blip r:embed="rId1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10255200">
                  <a:off x="7504200" y="4665960"/>
                  <a:ext cx="53280" cy="20160"/>
                </a:xfrm>
                <a:prstGeom prst="ellipse">
                  <a:avLst/>
                </a:prstGeom>
                <a:blipFill rotWithShape="0">
                  <a:blip r:embed="rId1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10172400">
                  <a:off x="7441200" y="4664520"/>
                  <a:ext cx="57960" cy="21600"/>
                </a:xfrm>
                <a:prstGeom prst="ellipse">
                  <a:avLst/>
                </a:pr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0172400">
                  <a:off x="7366320" y="4676400"/>
                  <a:ext cx="61560" cy="19800"/>
                </a:xfrm>
                <a:prstGeom prst="ellipse">
                  <a:avLst/>
                </a:pr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9533400">
                  <a:off x="7823160" y="4693320"/>
                  <a:ext cx="18000" cy="10080"/>
                </a:xfrm>
                <a:prstGeom prst="rect">
                  <a:avLst/>
                </a:prstGeom>
                <a:blipFill rotWithShape="0">
                  <a:blip r:embed="rId1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11080200">
                  <a:off x="7756200" y="4697640"/>
                  <a:ext cx="18000" cy="1008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1617200">
                  <a:off x="7683840" y="4692240"/>
                  <a:ext cx="18000" cy="10080"/>
                </a:xfrm>
                <a:prstGeom prst="rect">
                  <a:avLst/>
                </a:pr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1721000">
                  <a:off x="7617600" y="4678560"/>
                  <a:ext cx="18000" cy="10080"/>
                </a:xfrm>
                <a:prstGeom prst="rect">
                  <a:avLst/>
                </a:pr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0582800">
                  <a:off x="7422120" y="4672800"/>
                  <a:ext cx="18000" cy="10080"/>
                </a:xfrm>
                <a:prstGeom prst="rect">
                  <a:avLst/>
                </a:prstGeom>
                <a:blipFill rotWithShape="0">
                  <a:blip r:embed="rId1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1080200">
                  <a:off x="7490880" y="4670640"/>
                  <a:ext cx="18000" cy="10080"/>
                </a:xfrm>
                <a:prstGeom prst="rect">
                  <a:avLst/>
                </a:prstGeom>
                <a:blipFill rotWithShape="0">
                  <a:blip r:embed="rId1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1080200">
                  <a:off x="7556760" y="4667760"/>
                  <a:ext cx="18000" cy="10080"/>
                </a:xfrm>
                <a:prstGeom prst="rect">
                  <a:avLst/>
                </a:pr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1080200">
                  <a:off x="6985800" y="4579920"/>
                  <a:ext cx="384840" cy="3618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1080200">
                  <a:off x="7883640" y="470664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11080200">
                  <a:off x="7875000" y="4662000"/>
                  <a:ext cx="228240" cy="10332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7198200" y="4749120"/>
                <a:ext cx="29880" cy="23760"/>
              </a:xfrm>
              <a:prstGeom prst="ellipse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7020720" y="4777920"/>
              <a:ext cx="1137960" cy="393840"/>
              <a:chOff x="7020720" y="4777920"/>
              <a:chExt cx="1137960" cy="393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7020720" y="4777920"/>
                <a:ext cx="1137960" cy="393840"/>
                <a:chOff x="7020720" y="4777920"/>
                <a:chExt cx="1137960" cy="393840"/>
              </a:xfrm>
            </p:grpSpPr>
            <p:sp>
              <p:nvSpPr>
                <p:cNvPr id="417" name=""/>
                <p:cNvSpPr/>
                <p:nvPr/>
              </p:nvSpPr>
              <p:spPr>
                <a:xfrm rot="10489800">
                  <a:off x="7890480" y="4900680"/>
                  <a:ext cx="51120" cy="19440"/>
                </a:xfrm>
                <a:prstGeom prst="ellipse">
                  <a:avLst/>
                </a:pr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10684800">
                  <a:off x="7818840" y="4905000"/>
                  <a:ext cx="60840" cy="21600"/>
                </a:xfrm>
                <a:prstGeom prst="ellipse">
                  <a:avLst/>
                </a:prstGeom>
                <a:blipFill rotWithShape="0">
                  <a:blip r:embed="rId1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11080200">
                  <a:off x="7753320" y="4903920"/>
                  <a:ext cx="56880" cy="21600"/>
                </a:xfrm>
                <a:prstGeom prst="ellipse">
                  <a:avLst/>
                </a:prstGeom>
                <a:blipFill rotWithShape="0">
                  <a:blip r:embed="rId1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11080200">
                  <a:off x="7683840" y="4892040"/>
                  <a:ext cx="60480" cy="24480"/>
                </a:xfrm>
                <a:prstGeom prst="ellipse">
                  <a:avLst/>
                </a:prstGeom>
                <a:blipFill rotWithShape="0">
                  <a:blip r:embed="rId1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1080200">
                  <a:off x="7624800" y="4880520"/>
                  <a:ext cx="51120" cy="23040"/>
                </a:xfrm>
                <a:prstGeom prst="ellipse">
                  <a:avLst/>
                </a:pr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0255200">
                  <a:off x="7554240" y="4879440"/>
                  <a:ext cx="53280" cy="20160"/>
                </a:xfrm>
                <a:prstGeom prst="ellipse">
                  <a:avLst/>
                </a:pr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0172400">
                  <a:off x="7491240" y="4878000"/>
                  <a:ext cx="57960" cy="21600"/>
                </a:xfrm>
                <a:prstGeom prst="ellipse">
                  <a:avLst/>
                </a:pr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10172400">
                  <a:off x="7416000" y="4889160"/>
                  <a:ext cx="61560" cy="20160"/>
                </a:xfrm>
                <a:prstGeom prst="ellipse">
                  <a:avLst/>
                </a:prstGeom>
                <a:blipFill rotWithShape="0">
                  <a:blip r:embed="rId1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9533400">
                  <a:off x="7873920" y="4906800"/>
                  <a:ext cx="18000" cy="10080"/>
                </a:xfrm>
                <a:prstGeom prst="rect">
                  <a:avLst/>
                </a:prstGeom>
                <a:blipFill rotWithShape="0">
                  <a:blip r:embed="rId1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1080200">
                  <a:off x="7806600" y="4911120"/>
                  <a:ext cx="18000" cy="10080"/>
                </a:xfrm>
                <a:prstGeom prst="rect">
                  <a:avLst/>
                </a:prstGeom>
                <a:blipFill rotWithShape="0">
                  <a:blip r:embed="rId1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1617200">
                  <a:off x="7734240" y="4905720"/>
                  <a:ext cx="18000" cy="10080"/>
                </a:xfrm>
                <a:prstGeom prst="rect">
                  <a:avLst/>
                </a:pr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1721000">
                  <a:off x="7667640" y="4892040"/>
                  <a:ext cx="18000" cy="10080"/>
                </a:xfrm>
                <a:prstGeom prst="rect">
                  <a:avLst/>
                </a:pr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0582800">
                  <a:off x="7472160" y="4886280"/>
                  <a:ext cx="18000" cy="10080"/>
                </a:xfrm>
                <a:prstGeom prst="rect">
                  <a:avLst/>
                </a:prstGeom>
                <a:blipFill rotWithShape="0">
                  <a:blip r:embed="rId1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1080200">
                  <a:off x="7540920" y="4884120"/>
                  <a:ext cx="18000" cy="10080"/>
                </a:xfrm>
                <a:prstGeom prst="rect">
                  <a:avLst/>
                </a:prstGeom>
                <a:blipFill rotWithShape="0">
                  <a:blip r:embed="rId1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1080200">
                  <a:off x="7606800" y="4881240"/>
                  <a:ext cx="18000" cy="10080"/>
                </a:xfrm>
                <a:prstGeom prst="rect">
                  <a:avLst/>
                </a:prstGeom>
                <a:blipFill rotWithShape="0">
                  <a:blip r:embed="rId1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1080200">
                  <a:off x="7034400" y="4793040"/>
                  <a:ext cx="38556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1080200">
                  <a:off x="7934400" y="4920120"/>
                  <a:ext cx="21708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1080200">
                  <a:off x="7925760" y="4875120"/>
                  <a:ext cx="22860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247520" y="4962600"/>
                <a:ext cx="29880" cy="23760"/>
              </a:xfrm>
              <a:prstGeom prst="ellipse">
                <a:avLst/>
              </a:prstGeom>
              <a:blipFill rotWithShape="0">
                <a:blip r:embed="rId1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32640" y="4830120"/>
              <a:ext cx="1135440" cy="392400"/>
              <a:chOff x="7532640" y="4830120"/>
              <a:chExt cx="1135440" cy="3924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7532640" y="4830120"/>
                <a:ext cx="1135440" cy="392400"/>
                <a:chOff x="7532640" y="4830120"/>
                <a:chExt cx="1135440" cy="392400"/>
              </a:xfrm>
            </p:grpSpPr>
            <p:sp>
              <p:nvSpPr>
                <p:cNvPr id="438" name=""/>
                <p:cNvSpPr/>
                <p:nvPr/>
              </p:nvSpPr>
              <p:spPr>
                <a:xfrm rot="10489800">
                  <a:off x="8400240" y="4952880"/>
                  <a:ext cx="51120" cy="19080"/>
                </a:xfrm>
                <a:prstGeom prst="ellipse">
                  <a:avLst/>
                </a:prstGeom>
                <a:blipFill rotWithShape="0">
                  <a:blip r:embed="rId1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0684800">
                  <a:off x="8329320" y="4957200"/>
                  <a:ext cx="60480" cy="21600"/>
                </a:xfrm>
                <a:prstGeom prst="ellipse">
                  <a:avLst/>
                </a:prstGeom>
                <a:blipFill rotWithShape="0">
                  <a:blip r:embed="rId1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1080200">
                  <a:off x="8264160" y="4955760"/>
                  <a:ext cx="56520" cy="21600"/>
                </a:xfrm>
                <a:prstGeom prst="ellipse">
                  <a:avLst/>
                </a:prstGeom>
                <a:blipFill rotWithShape="0">
                  <a:blip r:embed="rId1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1080200">
                  <a:off x="8194320" y="4943880"/>
                  <a:ext cx="60480" cy="24480"/>
                </a:xfrm>
                <a:prstGeom prst="ellipse">
                  <a:avLst/>
                </a:prstGeom>
                <a:blipFill rotWithShape="0">
                  <a:blip r:embed="rId1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1080200">
                  <a:off x="8135280" y="4932720"/>
                  <a:ext cx="51120" cy="23040"/>
                </a:xfrm>
                <a:prstGeom prst="ellipse">
                  <a:avLst/>
                </a:prstGeom>
                <a:blipFill rotWithShape="0">
                  <a:blip r:embed="rId1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0255200">
                  <a:off x="8065080" y="4931280"/>
                  <a:ext cx="53280" cy="20160"/>
                </a:xfrm>
                <a:prstGeom prst="ellipse">
                  <a:avLst/>
                </a:prstGeom>
                <a:blipFill rotWithShape="0">
                  <a:blip r:embed="rId1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0172400">
                  <a:off x="8002080" y="4929840"/>
                  <a:ext cx="57960" cy="21600"/>
                </a:xfrm>
                <a:prstGeom prst="ellipse">
                  <a:avLst/>
                </a:prstGeom>
                <a:blipFill rotWithShape="0">
                  <a:blip r:embed="rId1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0172400">
                  <a:off x="7926840" y="4941720"/>
                  <a:ext cx="61560" cy="19800"/>
                </a:xfrm>
                <a:prstGeom prst="ellipse">
                  <a:avLst/>
                </a:prstGeom>
                <a:blipFill rotWithShape="0">
                  <a:blip r:embed="rId1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9533400">
                  <a:off x="8384040" y="4958640"/>
                  <a:ext cx="18000" cy="10080"/>
                </a:xfrm>
                <a:prstGeom prst="rect">
                  <a:avLst/>
                </a:prstGeom>
                <a:blipFill rotWithShape="0">
                  <a:blip r:embed="rId1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1080200">
                  <a:off x="8317080" y="4962960"/>
                  <a:ext cx="18000" cy="10080"/>
                </a:xfrm>
                <a:prstGeom prst="rect">
                  <a:avLst/>
                </a:prstGeom>
                <a:blipFill rotWithShape="0">
                  <a:blip r:embed="rId1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1617200">
                  <a:off x="8244720" y="4957560"/>
                  <a:ext cx="18000" cy="10080"/>
                </a:xfrm>
                <a:prstGeom prst="rect">
                  <a:avLst/>
                </a:prstGeom>
                <a:blipFill rotWithShape="0">
                  <a:blip r:embed="rId1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1721000">
                  <a:off x="8178120" y="4943880"/>
                  <a:ext cx="18000" cy="10080"/>
                </a:xfrm>
                <a:prstGeom prst="rect">
                  <a:avLst/>
                </a:prstGeom>
                <a:blipFill rotWithShape="0">
                  <a:blip r:embed="rId1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0582800">
                  <a:off x="7983000" y="4938120"/>
                  <a:ext cx="18000" cy="10080"/>
                </a:xfrm>
                <a:prstGeom prst="rect">
                  <a:avLst/>
                </a:prstGeom>
                <a:blipFill rotWithShape="0">
                  <a:blip r:embed="rId1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1080200">
                  <a:off x="8051760" y="4936320"/>
                  <a:ext cx="18000" cy="10080"/>
                </a:xfrm>
                <a:prstGeom prst="rect">
                  <a:avLst/>
                </a:pr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1080200">
                  <a:off x="8117280" y="4933440"/>
                  <a:ext cx="18000" cy="10080"/>
                </a:xfrm>
                <a:prstGeom prst="rect">
                  <a:avLst/>
                </a:pr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11080200">
                  <a:off x="7546320" y="4845240"/>
                  <a:ext cx="384840" cy="36216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1080200">
                  <a:off x="8444520" y="497232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1080200">
                  <a:off x="8435880" y="4926960"/>
                  <a:ext cx="228240" cy="10368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7758360" y="5014440"/>
                <a:ext cx="29880" cy="23760"/>
              </a:xfrm>
              <a:prstGeom prst="ellipse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7246800" y="5153040"/>
            <a:ext cx="1844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rvou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56480" y="6165720"/>
            <a:ext cx="1434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37960" y="2565000"/>
            <a:ext cx="0" cy="3886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145800"/>
            <a:ext cx="7772400" cy="723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evels of Organ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880" y="2435400"/>
            <a:ext cx="2049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880" y="3448080"/>
            <a:ext cx="2048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880" y="4457880"/>
            <a:ext cx="2048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7880" y="5472000"/>
            <a:ext cx="2048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75000" y="2435400"/>
            <a:ext cx="3270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rgan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75000" y="3448080"/>
            <a:ext cx="3267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issue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75000" y="4457880"/>
            <a:ext cx="3267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cell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75000" y="5472000"/>
            <a:ext cx="3267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perform special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580080" y="5457960"/>
            <a:ext cx="1639800" cy="877680"/>
            <a:chOff x="6580080" y="5457960"/>
            <a:chExt cx="1639800" cy="877680"/>
          </a:xfrm>
        </p:grpSpPr>
        <p:sp>
          <p:nvSpPr>
            <p:cNvPr id="470" name=""/>
            <p:cNvSpPr/>
            <p:nvPr/>
          </p:nvSpPr>
          <p:spPr>
            <a:xfrm flipH="1">
              <a:off x="6580080" y="5457960"/>
              <a:ext cx="852480" cy="877680"/>
            </a:xfrm>
            <a:custGeom>
              <a:avLst/>
              <a:gdLst/>
              <a:ahLst/>
              <a:rect l="l" t="t" r="r" b="b"/>
              <a:pathLst>
                <a:path w="1343" h="1383">
                  <a:moveTo>
                    <a:pt x="322" y="460"/>
                  </a:moveTo>
                  <a:cubicBezTo>
                    <a:pt x="337" y="466"/>
                    <a:pt x="382" y="511"/>
                    <a:pt x="420" y="533"/>
                  </a:cubicBezTo>
                  <a:cubicBezTo>
                    <a:pt x="458" y="555"/>
                    <a:pt x="512" y="580"/>
                    <a:pt x="549" y="589"/>
                  </a:cubicBezTo>
                  <a:cubicBezTo>
                    <a:pt x="586" y="598"/>
                    <a:pt x="617" y="602"/>
                    <a:pt x="643" y="585"/>
                  </a:cubicBezTo>
                  <a:cubicBezTo>
                    <a:pt x="669" y="568"/>
                    <a:pt x="695" y="539"/>
                    <a:pt x="703" y="490"/>
                  </a:cubicBezTo>
                  <a:cubicBezTo>
                    <a:pt x="711" y="441"/>
                    <a:pt x="701" y="341"/>
                    <a:pt x="690" y="293"/>
                  </a:cubicBezTo>
                  <a:cubicBezTo>
                    <a:pt x="679" y="245"/>
                    <a:pt x="655" y="220"/>
                    <a:pt x="639" y="199"/>
                  </a:cubicBezTo>
                  <a:cubicBezTo>
                    <a:pt x="623" y="178"/>
                    <a:pt x="616" y="172"/>
                    <a:pt x="596" y="165"/>
                  </a:cubicBezTo>
                  <a:cubicBezTo>
                    <a:pt x="576" y="158"/>
                    <a:pt x="542" y="160"/>
                    <a:pt x="519" y="156"/>
                  </a:cubicBezTo>
                  <a:cubicBezTo>
                    <a:pt x="496" y="152"/>
                    <a:pt x="458" y="143"/>
                    <a:pt x="459" y="139"/>
                  </a:cubicBezTo>
                  <a:cubicBezTo>
                    <a:pt x="460" y="135"/>
                    <a:pt x="517" y="142"/>
                    <a:pt x="523" y="130"/>
                  </a:cubicBezTo>
                  <a:cubicBezTo>
                    <a:pt x="529" y="118"/>
                    <a:pt x="499" y="81"/>
                    <a:pt x="498" y="66"/>
                  </a:cubicBezTo>
                  <a:cubicBezTo>
                    <a:pt x="497" y="51"/>
                    <a:pt x="510" y="35"/>
                    <a:pt x="519" y="40"/>
                  </a:cubicBezTo>
                  <a:cubicBezTo>
                    <a:pt x="528" y="45"/>
                    <a:pt x="541" y="80"/>
                    <a:pt x="553" y="96"/>
                  </a:cubicBezTo>
                  <a:cubicBezTo>
                    <a:pt x="565" y="112"/>
                    <a:pt x="585" y="140"/>
                    <a:pt x="592" y="135"/>
                  </a:cubicBezTo>
                  <a:cubicBezTo>
                    <a:pt x="599" y="130"/>
                    <a:pt x="597" y="83"/>
                    <a:pt x="596" y="66"/>
                  </a:cubicBezTo>
                  <a:cubicBezTo>
                    <a:pt x="595" y="49"/>
                    <a:pt x="584" y="29"/>
                    <a:pt x="588" y="32"/>
                  </a:cubicBezTo>
                  <a:cubicBezTo>
                    <a:pt x="592" y="35"/>
                    <a:pt x="612" y="67"/>
                    <a:pt x="618" y="87"/>
                  </a:cubicBezTo>
                  <a:cubicBezTo>
                    <a:pt x="624" y="107"/>
                    <a:pt x="615" y="128"/>
                    <a:pt x="626" y="152"/>
                  </a:cubicBezTo>
                  <a:cubicBezTo>
                    <a:pt x="637" y="176"/>
                    <a:pt x="675" y="244"/>
                    <a:pt x="686" y="233"/>
                  </a:cubicBezTo>
                  <a:cubicBezTo>
                    <a:pt x="697" y="222"/>
                    <a:pt x="700" y="123"/>
                    <a:pt x="695" y="87"/>
                  </a:cubicBezTo>
                  <a:cubicBezTo>
                    <a:pt x="690" y="51"/>
                    <a:pt x="655" y="29"/>
                    <a:pt x="656" y="19"/>
                  </a:cubicBezTo>
                  <a:cubicBezTo>
                    <a:pt x="657" y="9"/>
                    <a:pt x="688" y="6"/>
                    <a:pt x="699" y="27"/>
                  </a:cubicBezTo>
                  <a:cubicBezTo>
                    <a:pt x="710" y="48"/>
                    <a:pt x="710" y="135"/>
                    <a:pt x="720" y="147"/>
                  </a:cubicBezTo>
                  <a:cubicBezTo>
                    <a:pt x="730" y="159"/>
                    <a:pt x="747" y="119"/>
                    <a:pt x="759" y="100"/>
                  </a:cubicBezTo>
                  <a:cubicBezTo>
                    <a:pt x="771" y="81"/>
                    <a:pt x="785" y="52"/>
                    <a:pt x="793" y="36"/>
                  </a:cubicBezTo>
                  <a:cubicBezTo>
                    <a:pt x="801" y="20"/>
                    <a:pt x="800" y="4"/>
                    <a:pt x="806" y="2"/>
                  </a:cubicBezTo>
                  <a:cubicBezTo>
                    <a:pt x="812" y="0"/>
                    <a:pt x="828" y="10"/>
                    <a:pt x="828" y="23"/>
                  </a:cubicBezTo>
                  <a:cubicBezTo>
                    <a:pt x="828" y="36"/>
                    <a:pt x="813" y="68"/>
                    <a:pt x="806" y="83"/>
                  </a:cubicBezTo>
                  <a:cubicBezTo>
                    <a:pt x="799" y="98"/>
                    <a:pt x="787" y="109"/>
                    <a:pt x="789" y="113"/>
                  </a:cubicBezTo>
                  <a:cubicBezTo>
                    <a:pt x="791" y="117"/>
                    <a:pt x="808" y="111"/>
                    <a:pt x="819" y="105"/>
                  </a:cubicBezTo>
                  <a:cubicBezTo>
                    <a:pt x="830" y="99"/>
                    <a:pt x="852" y="70"/>
                    <a:pt x="853" y="75"/>
                  </a:cubicBezTo>
                  <a:cubicBezTo>
                    <a:pt x="854" y="80"/>
                    <a:pt x="839" y="123"/>
                    <a:pt x="828" y="135"/>
                  </a:cubicBezTo>
                  <a:cubicBezTo>
                    <a:pt x="817" y="147"/>
                    <a:pt x="809" y="131"/>
                    <a:pt x="789" y="147"/>
                  </a:cubicBezTo>
                  <a:cubicBezTo>
                    <a:pt x="769" y="163"/>
                    <a:pt x="718" y="186"/>
                    <a:pt x="708" y="229"/>
                  </a:cubicBezTo>
                  <a:cubicBezTo>
                    <a:pt x="698" y="272"/>
                    <a:pt x="726" y="353"/>
                    <a:pt x="729" y="405"/>
                  </a:cubicBezTo>
                  <a:cubicBezTo>
                    <a:pt x="732" y="457"/>
                    <a:pt x="717" y="513"/>
                    <a:pt x="725" y="542"/>
                  </a:cubicBezTo>
                  <a:cubicBezTo>
                    <a:pt x="733" y="571"/>
                    <a:pt x="752" y="591"/>
                    <a:pt x="780" y="580"/>
                  </a:cubicBezTo>
                  <a:cubicBezTo>
                    <a:pt x="808" y="569"/>
                    <a:pt x="860" y="509"/>
                    <a:pt x="892" y="477"/>
                  </a:cubicBezTo>
                  <a:cubicBezTo>
                    <a:pt x="924" y="445"/>
                    <a:pt x="956" y="428"/>
                    <a:pt x="973" y="387"/>
                  </a:cubicBezTo>
                  <a:cubicBezTo>
                    <a:pt x="990" y="346"/>
                    <a:pt x="1001" y="276"/>
                    <a:pt x="995" y="233"/>
                  </a:cubicBezTo>
                  <a:cubicBezTo>
                    <a:pt x="989" y="190"/>
                    <a:pt x="952" y="159"/>
                    <a:pt x="939" y="130"/>
                  </a:cubicBezTo>
                  <a:cubicBezTo>
                    <a:pt x="926" y="101"/>
                    <a:pt x="919" y="73"/>
                    <a:pt x="918" y="57"/>
                  </a:cubicBezTo>
                  <a:cubicBezTo>
                    <a:pt x="917" y="41"/>
                    <a:pt x="929" y="25"/>
                    <a:pt x="935" y="32"/>
                  </a:cubicBezTo>
                  <a:cubicBezTo>
                    <a:pt x="941" y="39"/>
                    <a:pt x="946" y="83"/>
                    <a:pt x="952" y="100"/>
                  </a:cubicBezTo>
                  <a:cubicBezTo>
                    <a:pt x="958" y="117"/>
                    <a:pt x="966" y="141"/>
                    <a:pt x="973" y="135"/>
                  </a:cubicBezTo>
                  <a:cubicBezTo>
                    <a:pt x="980" y="129"/>
                    <a:pt x="991" y="81"/>
                    <a:pt x="995" y="62"/>
                  </a:cubicBezTo>
                  <a:cubicBezTo>
                    <a:pt x="999" y="43"/>
                    <a:pt x="992" y="21"/>
                    <a:pt x="995" y="19"/>
                  </a:cubicBezTo>
                  <a:cubicBezTo>
                    <a:pt x="998" y="17"/>
                    <a:pt x="1009" y="30"/>
                    <a:pt x="1012" y="49"/>
                  </a:cubicBezTo>
                  <a:cubicBezTo>
                    <a:pt x="1015" y="68"/>
                    <a:pt x="1013" y="116"/>
                    <a:pt x="1012" y="135"/>
                  </a:cubicBezTo>
                  <a:cubicBezTo>
                    <a:pt x="1011" y="154"/>
                    <a:pt x="1002" y="167"/>
                    <a:pt x="1008" y="165"/>
                  </a:cubicBezTo>
                  <a:cubicBezTo>
                    <a:pt x="1014" y="163"/>
                    <a:pt x="1039" y="134"/>
                    <a:pt x="1050" y="122"/>
                  </a:cubicBezTo>
                  <a:cubicBezTo>
                    <a:pt x="1061" y="110"/>
                    <a:pt x="1074" y="88"/>
                    <a:pt x="1076" y="92"/>
                  </a:cubicBezTo>
                  <a:cubicBezTo>
                    <a:pt x="1078" y="96"/>
                    <a:pt x="1071" y="130"/>
                    <a:pt x="1063" y="147"/>
                  </a:cubicBezTo>
                  <a:cubicBezTo>
                    <a:pt x="1055" y="164"/>
                    <a:pt x="1030" y="168"/>
                    <a:pt x="1025" y="195"/>
                  </a:cubicBezTo>
                  <a:cubicBezTo>
                    <a:pt x="1020" y="222"/>
                    <a:pt x="1022" y="296"/>
                    <a:pt x="1033" y="310"/>
                  </a:cubicBezTo>
                  <a:cubicBezTo>
                    <a:pt x="1044" y="324"/>
                    <a:pt x="1078" y="294"/>
                    <a:pt x="1093" y="280"/>
                  </a:cubicBezTo>
                  <a:cubicBezTo>
                    <a:pt x="1108" y="266"/>
                    <a:pt x="1117" y="251"/>
                    <a:pt x="1123" y="229"/>
                  </a:cubicBezTo>
                  <a:cubicBezTo>
                    <a:pt x="1129" y="207"/>
                    <a:pt x="1121" y="168"/>
                    <a:pt x="1128" y="147"/>
                  </a:cubicBezTo>
                  <a:cubicBezTo>
                    <a:pt x="1135" y="126"/>
                    <a:pt x="1163" y="94"/>
                    <a:pt x="1166" y="100"/>
                  </a:cubicBezTo>
                  <a:cubicBezTo>
                    <a:pt x="1169" y="106"/>
                    <a:pt x="1147" y="162"/>
                    <a:pt x="1145" y="186"/>
                  </a:cubicBezTo>
                  <a:cubicBezTo>
                    <a:pt x="1143" y="210"/>
                    <a:pt x="1142" y="244"/>
                    <a:pt x="1153" y="242"/>
                  </a:cubicBezTo>
                  <a:cubicBezTo>
                    <a:pt x="1164" y="240"/>
                    <a:pt x="1215" y="172"/>
                    <a:pt x="1213" y="177"/>
                  </a:cubicBezTo>
                  <a:cubicBezTo>
                    <a:pt x="1211" y="182"/>
                    <a:pt x="1165" y="246"/>
                    <a:pt x="1140" y="272"/>
                  </a:cubicBezTo>
                  <a:cubicBezTo>
                    <a:pt x="1115" y="298"/>
                    <a:pt x="1085" y="310"/>
                    <a:pt x="1063" y="332"/>
                  </a:cubicBezTo>
                  <a:cubicBezTo>
                    <a:pt x="1041" y="354"/>
                    <a:pt x="1003" y="391"/>
                    <a:pt x="1008" y="405"/>
                  </a:cubicBezTo>
                  <a:cubicBezTo>
                    <a:pt x="1013" y="419"/>
                    <a:pt x="1070" y="428"/>
                    <a:pt x="1093" y="417"/>
                  </a:cubicBezTo>
                  <a:cubicBezTo>
                    <a:pt x="1116" y="406"/>
                    <a:pt x="1123" y="352"/>
                    <a:pt x="1149" y="336"/>
                  </a:cubicBezTo>
                  <a:cubicBezTo>
                    <a:pt x="1175" y="320"/>
                    <a:pt x="1249" y="318"/>
                    <a:pt x="1248" y="323"/>
                  </a:cubicBezTo>
                  <a:cubicBezTo>
                    <a:pt x="1247" y="328"/>
                    <a:pt x="1160" y="352"/>
                    <a:pt x="1140" y="366"/>
                  </a:cubicBezTo>
                  <a:cubicBezTo>
                    <a:pt x="1120" y="380"/>
                    <a:pt x="1116" y="399"/>
                    <a:pt x="1128" y="405"/>
                  </a:cubicBezTo>
                  <a:cubicBezTo>
                    <a:pt x="1140" y="411"/>
                    <a:pt x="1210" y="397"/>
                    <a:pt x="1213" y="400"/>
                  </a:cubicBezTo>
                  <a:cubicBezTo>
                    <a:pt x="1216" y="403"/>
                    <a:pt x="1165" y="420"/>
                    <a:pt x="1149" y="426"/>
                  </a:cubicBezTo>
                  <a:cubicBezTo>
                    <a:pt x="1133" y="432"/>
                    <a:pt x="1146" y="434"/>
                    <a:pt x="1119" y="439"/>
                  </a:cubicBezTo>
                  <a:cubicBezTo>
                    <a:pt x="1092" y="444"/>
                    <a:pt x="1019" y="443"/>
                    <a:pt x="986" y="456"/>
                  </a:cubicBezTo>
                  <a:cubicBezTo>
                    <a:pt x="953" y="469"/>
                    <a:pt x="942" y="496"/>
                    <a:pt x="922" y="516"/>
                  </a:cubicBezTo>
                  <a:cubicBezTo>
                    <a:pt x="902" y="536"/>
                    <a:pt x="861" y="552"/>
                    <a:pt x="866" y="576"/>
                  </a:cubicBezTo>
                  <a:cubicBezTo>
                    <a:pt x="871" y="600"/>
                    <a:pt x="919" y="655"/>
                    <a:pt x="952" y="662"/>
                  </a:cubicBezTo>
                  <a:cubicBezTo>
                    <a:pt x="985" y="669"/>
                    <a:pt x="1023" y="633"/>
                    <a:pt x="1063" y="619"/>
                  </a:cubicBezTo>
                  <a:cubicBezTo>
                    <a:pt x="1103" y="605"/>
                    <a:pt x="1165" y="606"/>
                    <a:pt x="1192" y="576"/>
                  </a:cubicBezTo>
                  <a:cubicBezTo>
                    <a:pt x="1219" y="546"/>
                    <a:pt x="1210" y="470"/>
                    <a:pt x="1222" y="439"/>
                  </a:cubicBezTo>
                  <a:cubicBezTo>
                    <a:pt x="1234" y="408"/>
                    <a:pt x="1264" y="384"/>
                    <a:pt x="1265" y="387"/>
                  </a:cubicBezTo>
                  <a:cubicBezTo>
                    <a:pt x="1266" y="390"/>
                    <a:pt x="1233" y="429"/>
                    <a:pt x="1226" y="456"/>
                  </a:cubicBezTo>
                  <a:cubicBezTo>
                    <a:pt x="1219" y="483"/>
                    <a:pt x="1225" y="527"/>
                    <a:pt x="1222" y="550"/>
                  </a:cubicBezTo>
                  <a:cubicBezTo>
                    <a:pt x="1219" y="573"/>
                    <a:pt x="1200" y="592"/>
                    <a:pt x="1209" y="593"/>
                  </a:cubicBezTo>
                  <a:cubicBezTo>
                    <a:pt x="1218" y="594"/>
                    <a:pt x="1260" y="562"/>
                    <a:pt x="1278" y="555"/>
                  </a:cubicBezTo>
                  <a:cubicBezTo>
                    <a:pt x="1296" y="548"/>
                    <a:pt x="1320" y="543"/>
                    <a:pt x="1316" y="550"/>
                  </a:cubicBezTo>
                  <a:cubicBezTo>
                    <a:pt x="1312" y="557"/>
                    <a:pt x="1272" y="586"/>
                    <a:pt x="1256" y="597"/>
                  </a:cubicBezTo>
                  <a:cubicBezTo>
                    <a:pt x="1240" y="608"/>
                    <a:pt x="1218" y="613"/>
                    <a:pt x="1222" y="619"/>
                  </a:cubicBezTo>
                  <a:cubicBezTo>
                    <a:pt x="1226" y="625"/>
                    <a:pt x="1260" y="630"/>
                    <a:pt x="1278" y="632"/>
                  </a:cubicBezTo>
                  <a:cubicBezTo>
                    <a:pt x="1296" y="634"/>
                    <a:pt x="1330" y="626"/>
                    <a:pt x="1329" y="632"/>
                  </a:cubicBezTo>
                  <a:cubicBezTo>
                    <a:pt x="1328" y="638"/>
                    <a:pt x="1292" y="667"/>
                    <a:pt x="1269" y="666"/>
                  </a:cubicBezTo>
                  <a:cubicBezTo>
                    <a:pt x="1246" y="665"/>
                    <a:pt x="1217" y="629"/>
                    <a:pt x="1192" y="627"/>
                  </a:cubicBezTo>
                  <a:cubicBezTo>
                    <a:pt x="1167" y="625"/>
                    <a:pt x="1125" y="641"/>
                    <a:pt x="1119" y="653"/>
                  </a:cubicBezTo>
                  <a:cubicBezTo>
                    <a:pt x="1113" y="665"/>
                    <a:pt x="1139" y="696"/>
                    <a:pt x="1153" y="700"/>
                  </a:cubicBezTo>
                  <a:cubicBezTo>
                    <a:pt x="1167" y="704"/>
                    <a:pt x="1201" y="678"/>
                    <a:pt x="1205" y="679"/>
                  </a:cubicBezTo>
                  <a:cubicBezTo>
                    <a:pt x="1209" y="680"/>
                    <a:pt x="1190" y="704"/>
                    <a:pt x="1175" y="705"/>
                  </a:cubicBezTo>
                  <a:cubicBezTo>
                    <a:pt x="1160" y="706"/>
                    <a:pt x="1133" y="693"/>
                    <a:pt x="1115" y="687"/>
                  </a:cubicBezTo>
                  <a:cubicBezTo>
                    <a:pt x="1097" y="681"/>
                    <a:pt x="1083" y="664"/>
                    <a:pt x="1068" y="666"/>
                  </a:cubicBezTo>
                  <a:cubicBezTo>
                    <a:pt x="1053" y="668"/>
                    <a:pt x="1034" y="680"/>
                    <a:pt x="1025" y="700"/>
                  </a:cubicBezTo>
                  <a:cubicBezTo>
                    <a:pt x="1016" y="720"/>
                    <a:pt x="1005" y="769"/>
                    <a:pt x="1016" y="786"/>
                  </a:cubicBezTo>
                  <a:cubicBezTo>
                    <a:pt x="1027" y="803"/>
                    <a:pt x="1060" y="802"/>
                    <a:pt x="1089" y="803"/>
                  </a:cubicBezTo>
                  <a:cubicBezTo>
                    <a:pt x="1118" y="804"/>
                    <a:pt x="1161" y="802"/>
                    <a:pt x="1192" y="790"/>
                  </a:cubicBezTo>
                  <a:cubicBezTo>
                    <a:pt x="1223" y="778"/>
                    <a:pt x="1271" y="728"/>
                    <a:pt x="1273" y="730"/>
                  </a:cubicBezTo>
                  <a:cubicBezTo>
                    <a:pt x="1275" y="732"/>
                    <a:pt x="1225" y="785"/>
                    <a:pt x="1205" y="803"/>
                  </a:cubicBezTo>
                  <a:cubicBezTo>
                    <a:pt x="1185" y="821"/>
                    <a:pt x="1144" y="832"/>
                    <a:pt x="1153" y="837"/>
                  </a:cubicBezTo>
                  <a:cubicBezTo>
                    <a:pt x="1162" y="842"/>
                    <a:pt x="1229" y="830"/>
                    <a:pt x="1260" y="833"/>
                  </a:cubicBezTo>
                  <a:cubicBezTo>
                    <a:pt x="1291" y="836"/>
                    <a:pt x="1337" y="851"/>
                    <a:pt x="1338" y="855"/>
                  </a:cubicBezTo>
                  <a:cubicBezTo>
                    <a:pt x="1339" y="859"/>
                    <a:pt x="1292" y="854"/>
                    <a:pt x="1269" y="855"/>
                  </a:cubicBezTo>
                  <a:cubicBezTo>
                    <a:pt x="1246" y="856"/>
                    <a:pt x="1197" y="853"/>
                    <a:pt x="1200" y="859"/>
                  </a:cubicBezTo>
                  <a:cubicBezTo>
                    <a:pt x="1203" y="865"/>
                    <a:pt x="1262" y="876"/>
                    <a:pt x="1286" y="889"/>
                  </a:cubicBezTo>
                  <a:cubicBezTo>
                    <a:pt x="1310" y="902"/>
                    <a:pt x="1341" y="936"/>
                    <a:pt x="1342" y="940"/>
                  </a:cubicBezTo>
                  <a:cubicBezTo>
                    <a:pt x="1343" y="944"/>
                    <a:pt x="1312" y="923"/>
                    <a:pt x="1295" y="915"/>
                  </a:cubicBezTo>
                  <a:cubicBezTo>
                    <a:pt x="1278" y="907"/>
                    <a:pt x="1262" y="896"/>
                    <a:pt x="1239" y="889"/>
                  </a:cubicBezTo>
                  <a:cubicBezTo>
                    <a:pt x="1216" y="882"/>
                    <a:pt x="1191" y="873"/>
                    <a:pt x="1158" y="872"/>
                  </a:cubicBezTo>
                  <a:cubicBezTo>
                    <a:pt x="1125" y="871"/>
                    <a:pt x="1061" y="866"/>
                    <a:pt x="1042" y="885"/>
                  </a:cubicBezTo>
                  <a:cubicBezTo>
                    <a:pt x="1023" y="904"/>
                    <a:pt x="1022" y="957"/>
                    <a:pt x="1042" y="987"/>
                  </a:cubicBezTo>
                  <a:cubicBezTo>
                    <a:pt x="1062" y="1017"/>
                    <a:pt x="1127" y="1059"/>
                    <a:pt x="1162" y="1065"/>
                  </a:cubicBezTo>
                  <a:cubicBezTo>
                    <a:pt x="1197" y="1071"/>
                    <a:pt x="1234" y="1041"/>
                    <a:pt x="1252" y="1022"/>
                  </a:cubicBezTo>
                  <a:cubicBezTo>
                    <a:pt x="1270" y="1003"/>
                    <a:pt x="1274" y="949"/>
                    <a:pt x="1273" y="953"/>
                  </a:cubicBezTo>
                  <a:cubicBezTo>
                    <a:pt x="1272" y="957"/>
                    <a:pt x="1239" y="1038"/>
                    <a:pt x="1243" y="1047"/>
                  </a:cubicBezTo>
                  <a:cubicBezTo>
                    <a:pt x="1247" y="1056"/>
                    <a:pt x="1280" y="1016"/>
                    <a:pt x="1295" y="1005"/>
                  </a:cubicBezTo>
                  <a:cubicBezTo>
                    <a:pt x="1310" y="994"/>
                    <a:pt x="1338" y="971"/>
                    <a:pt x="1333" y="979"/>
                  </a:cubicBezTo>
                  <a:cubicBezTo>
                    <a:pt x="1328" y="987"/>
                    <a:pt x="1290" y="1030"/>
                    <a:pt x="1265" y="1052"/>
                  </a:cubicBezTo>
                  <a:cubicBezTo>
                    <a:pt x="1240" y="1074"/>
                    <a:pt x="1187" y="1096"/>
                    <a:pt x="1183" y="1112"/>
                  </a:cubicBezTo>
                  <a:cubicBezTo>
                    <a:pt x="1179" y="1128"/>
                    <a:pt x="1215" y="1138"/>
                    <a:pt x="1239" y="1146"/>
                  </a:cubicBezTo>
                  <a:cubicBezTo>
                    <a:pt x="1263" y="1154"/>
                    <a:pt x="1335" y="1157"/>
                    <a:pt x="1329" y="1163"/>
                  </a:cubicBezTo>
                  <a:cubicBezTo>
                    <a:pt x="1323" y="1169"/>
                    <a:pt x="1215" y="1166"/>
                    <a:pt x="1205" y="1180"/>
                  </a:cubicBezTo>
                  <a:cubicBezTo>
                    <a:pt x="1195" y="1194"/>
                    <a:pt x="1248" y="1225"/>
                    <a:pt x="1269" y="1249"/>
                  </a:cubicBezTo>
                  <a:cubicBezTo>
                    <a:pt x="1290" y="1273"/>
                    <a:pt x="1337" y="1323"/>
                    <a:pt x="1329" y="1322"/>
                  </a:cubicBezTo>
                  <a:cubicBezTo>
                    <a:pt x="1321" y="1321"/>
                    <a:pt x="1235" y="1241"/>
                    <a:pt x="1222" y="1245"/>
                  </a:cubicBezTo>
                  <a:cubicBezTo>
                    <a:pt x="1209" y="1249"/>
                    <a:pt x="1256" y="1356"/>
                    <a:pt x="1252" y="1347"/>
                  </a:cubicBezTo>
                  <a:cubicBezTo>
                    <a:pt x="1248" y="1338"/>
                    <a:pt x="1217" y="1237"/>
                    <a:pt x="1196" y="1193"/>
                  </a:cubicBezTo>
                  <a:cubicBezTo>
                    <a:pt x="1175" y="1149"/>
                    <a:pt x="1158" y="1109"/>
                    <a:pt x="1128" y="1082"/>
                  </a:cubicBezTo>
                  <a:cubicBezTo>
                    <a:pt x="1098" y="1055"/>
                    <a:pt x="1044" y="1039"/>
                    <a:pt x="1016" y="1030"/>
                  </a:cubicBezTo>
                  <a:cubicBezTo>
                    <a:pt x="988" y="1021"/>
                    <a:pt x="966" y="1016"/>
                    <a:pt x="960" y="1030"/>
                  </a:cubicBezTo>
                  <a:cubicBezTo>
                    <a:pt x="954" y="1044"/>
                    <a:pt x="968" y="1087"/>
                    <a:pt x="978" y="1116"/>
                  </a:cubicBezTo>
                  <a:cubicBezTo>
                    <a:pt x="988" y="1145"/>
                    <a:pt x="1001" y="1180"/>
                    <a:pt x="1020" y="1206"/>
                  </a:cubicBezTo>
                  <a:cubicBezTo>
                    <a:pt x="1039" y="1232"/>
                    <a:pt x="1074" y="1256"/>
                    <a:pt x="1093" y="1275"/>
                  </a:cubicBezTo>
                  <a:cubicBezTo>
                    <a:pt x="1112" y="1294"/>
                    <a:pt x="1138" y="1325"/>
                    <a:pt x="1132" y="1322"/>
                  </a:cubicBezTo>
                  <a:cubicBezTo>
                    <a:pt x="1126" y="1319"/>
                    <a:pt x="1075" y="1269"/>
                    <a:pt x="1055" y="1257"/>
                  </a:cubicBezTo>
                  <a:cubicBezTo>
                    <a:pt x="1035" y="1245"/>
                    <a:pt x="1013" y="1234"/>
                    <a:pt x="1012" y="1249"/>
                  </a:cubicBezTo>
                  <a:cubicBezTo>
                    <a:pt x="1011" y="1264"/>
                    <a:pt x="1053" y="1347"/>
                    <a:pt x="1050" y="1347"/>
                  </a:cubicBezTo>
                  <a:cubicBezTo>
                    <a:pt x="1047" y="1347"/>
                    <a:pt x="1007" y="1275"/>
                    <a:pt x="995" y="1249"/>
                  </a:cubicBezTo>
                  <a:cubicBezTo>
                    <a:pt x="983" y="1223"/>
                    <a:pt x="984" y="1197"/>
                    <a:pt x="978" y="1193"/>
                  </a:cubicBezTo>
                  <a:cubicBezTo>
                    <a:pt x="972" y="1189"/>
                    <a:pt x="961" y="1206"/>
                    <a:pt x="960" y="1227"/>
                  </a:cubicBezTo>
                  <a:cubicBezTo>
                    <a:pt x="959" y="1248"/>
                    <a:pt x="973" y="1313"/>
                    <a:pt x="969" y="1317"/>
                  </a:cubicBezTo>
                  <a:cubicBezTo>
                    <a:pt x="965" y="1321"/>
                    <a:pt x="942" y="1279"/>
                    <a:pt x="939" y="1253"/>
                  </a:cubicBezTo>
                  <a:cubicBezTo>
                    <a:pt x="936" y="1227"/>
                    <a:pt x="956" y="1187"/>
                    <a:pt x="952" y="1159"/>
                  </a:cubicBezTo>
                  <a:cubicBezTo>
                    <a:pt x="948" y="1131"/>
                    <a:pt x="932" y="1098"/>
                    <a:pt x="913" y="1082"/>
                  </a:cubicBezTo>
                  <a:cubicBezTo>
                    <a:pt x="894" y="1066"/>
                    <a:pt x="859" y="1049"/>
                    <a:pt x="836" y="1065"/>
                  </a:cubicBezTo>
                  <a:cubicBezTo>
                    <a:pt x="813" y="1081"/>
                    <a:pt x="775" y="1147"/>
                    <a:pt x="772" y="1180"/>
                  </a:cubicBezTo>
                  <a:cubicBezTo>
                    <a:pt x="769" y="1213"/>
                    <a:pt x="804" y="1233"/>
                    <a:pt x="815" y="1262"/>
                  </a:cubicBezTo>
                  <a:cubicBezTo>
                    <a:pt x="826" y="1291"/>
                    <a:pt x="839" y="1349"/>
                    <a:pt x="836" y="1352"/>
                  </a:cubicBezTo>
                  <a:cubicBezTo>
                    <a:pt x="833" y="1355"/>
                    <a:pt x="812" y="1304"/>
                    <a:pt x="798" y="1283"/>
                  </a:cubicBezTo>
                  <a:cubicBezTo>
                    <a:pt x="784" y="1262"/>
                    <a:pt x="763" y="1222"/>
                    <a:pt x="750" y="1227"/>
                  </a:cubicBezTo>
                  <a:cubicBezTo>
                    <a:pt x="737" y="1232"/>
                    <a:pt x="720" y="1287"/>
                    <a:pt x="720" y="1313"/>
                  </a:cubicBezTo>
                  <a:cubicBezTo>
                    <a:pt x="720" y="1339"/>
                    <a:pt x="754" y="1381"/>
                    <a:pt x="750" y="1382"/>
                  </a:cubicBezTo>
                  <a:cubicBezTo>
                    <a:pt x="746" y="1383"/>
                    <a:pt x="703" y="1333"/>
                    <a:pt x="695" y="1317"/>
                  </a:cubicBezTo>
                  <a:cubicBezTo>
                    <a:pt x="687" y="1301"/>
                    <a:pt x="709" y="1285"/>
                    <a:pt x="699" y="1287"/>
                  </a:cubicBezTo>
                  <a:cubicBezTo>
                    <a:pt x="689" y="1289"/>
                    <a:pt x="653" y="1326"/>
                    <a:pt x="635" y="1330"/>
                  </a:cubicBezTo>
                  <a:cubicBezTo>
                    <a:pt x="617" y="1334"/>
                    <a:pt x="584" y="1321"/>
                    <a:pt x="588" y="1313"/>
                  </a:cubicBezTo>
                  <a:cubicBezTo>
                    <a:pt x="592" y="1305"/>
                    <a:pt x="633" y="1309"/>
                    <a:pt x="660" y="1283"/>
                  </a:cubicBezTo>
                  <a:cubicBezTo>
                    <a:pt x="687" y="1257"/>
                    <a:pt x="732" y="1196"/>
                    <a:pt x="750" y="1159"/>
                  </a:cubicBezTo>
                  <a:cubicBezTo>
                    <a:pt x="768" y="1122"/>
                    <a:pt x="775" y="1086"/>
                    <a:pt x="768" y="1060"/>
                  </a:cubicBezTo>
                  <a:cubicBezTo>
                    <a:pt x="761" y="1034"/>
                    <a:pt x="732" y="1011"/>
                    <a:pt x="708" y="1005"/>
                  </a:cubicBezTo>
                  <a:cubicBezTo>
                    <a:pt x="684" y="999"/>
                    <a:pt x="658" y="1005"/>
                    <a:pt x="626" y="1026"/>
                  </a:cubicBezTo>
                  <a:cubicBezTo>
                    <a:pt x="594" y="1047"/>
                    <a:pt x="534" y="1097"/>
                    <a:pt x="515" y="1129"/>
                  </a:cubicBezTo>
                  <a:cubicBezTo>
                    <a:pt x="496" y="1161"/>
                    <a:pt x="522" y="1184"/>
                    <a:pt x="515" y="1215"/>
                  </a:cubicBezTo>
                  <a:cubicBezTo>
                    <a:pt x="508" y="1246"/>
                    <a:pt x="476" y="1313"/>
                    <a:pt x="472" y="1317"/>
                  </a:cubicBezTo>
                  <a:cubicBezTo>
                    <a:pt x="468" y="1321"/>
                    <a:pt x="489" y="1263"/>
                    <a:pt x="489" y="1240"/>
                  </a:cubicBezTo>
                  <a:cubicBezTo>
                    <a:pt x="489" y="1217"/>
                    <a:pt x="483" y="1176"/>
                    <a:pt x="472" y="1180"/>
                  </a:cubicBezTo>
                  <a:cubicBezTo>
                    <a:pt x="461" y="1184"/>
                    <a:pt x="439" y="1233"/>
                    <a:pt x="420" y="1262"/>
                  </a:cubicBezTo>
                  <a:cubicBezTo>
                    <a:pt x="401" y="1291"/>
                    <a:pt x="365" y="1348"/>
                    <a:pt x="356" y="1356"/>
                  </a:cubicBezTo>
                  <a:cubicBezTo>
                    <a:pt x="347" y="1364"/>
                    <a:pt x="359" y="1328"/>
                    <a:pt x="365" y="1309"/>
                  </a:cubicBezTo>
                  <a:cubicBezTo>
                    <a:pt x="371" y="1290"/>
                    <a:pt x="415" y="1249"/>
                    <a:pt x="395" y="1240"/>
                  </a:cubicBezTo>
                  <a:cubicBezTo>
                    <a:pt x="375" y="1231"/>
                    <a:pt x="261" y="1260"/>
                    <a:pt x="245" y="1257"/>
                  </a:cubicBezTo>
                  <a:cubicBezTo>
                    <a:pt x="229" y="1254"/>
                    <a:pt x="274" y="1232"/>
                    <a:pt x="300" y="1223"/>
                  </a:cubicBezTo>
                  <a:cubicBezTo>
                    <a:pt x="326" y="1214"/>
                    <a:pt x="375" y="1216"/>
                    <a:pt x="399" y="1206"/>
                  </a:cubicBezTo>
                  <a:cubicBezTo>
                    <a:pt x="423" y="1196"/>
                    <a:pt x="423" y="1190"/>
                    <a:pt x="446" y="1163"/>
                  </a:cubicBezTo>
                  <a:cubicBezTo>
                    <a:pt x="469" y="1136"/>
                    <a:pt x="513" y="1082"/>
                    <a:pt x="536" y="1043"/>
                  </a:cubicBezTo>
                  <a:cubicBezTo>
                    <a:pt x="559" y="1004"/>
                    <a:pt x="586" y="963"/>
                    <a:pt x="583" y="932"/>
                  </a:cubicBezTo>
                  <a:cubicBezTo>
                    <a:pt x="580" y="901"/>
                    <a:pt x="555" y="870"/>
                    <a:pt x="519" y="859"/>
                  </a:cubicBezTo>
                  <a:cubicBezTo>
                    <a:pt x="483" y="848"/>
                    <a:pt x="408" y="848"/>
                    <a:pt x="365" y="867"/>
                  </a:cubicBezTo>
                  <a:cubicBezTo>
                    <a:pt x="322" y="886"/>
                    <a:pt x="288" y="932"/>
                    <a:pt x="262" y="970"/>
                  </a:cubicBezTo>
                  <a:cubicBezTo>
                    <a:pt x="236" y="1008"/>
                    <a:pt x="227" y="1068"/>
                    <a:pt x="210" y="1095"/>
                  </a:cubicBezTo>
                  <a:cubicBezTo>
                    <a:pt x="193" y="1122"/>
                    <a:pt x="160" y="1134"/>
                    <a:pt x="159" y="1133"/>
                  </a:cubicBezTo>
                  <a:cubicBezTo>
                    <a:pt x="158" y="1132"/>
                    <a:pt x="189" y="1110"/>
                    <a:pt x="202" y="1086"/>
                  </a:cubicBezTo>
                  <a:cubicBezTo>
                    <a:pt x="215" y="1062"/>
                    <a:pt x="242" y="991"/>
                    <a:pt x="236" y="987"/>
                  </a:cubicBezTo>
                  <a:cubicBezTo>
                    <a:pt x="230" y="983"/>
                    <a:pt x="194" y="1044"/>
                    <a:pt x="168" y="1060"/>
                  </a:cubicBezTo>
                  <a:cubicBezTo>
                    <a:pt x="142" y="1076"/>
                    <a:pt x="80" y="1089"/>
                    <a:pt x="78" y="1086"/>
                  </a:cubicBezTo>
                  <a:cubicBezTo>
                    <a:pt x="76" y="1083"/>
                    <a:pt x="139" y="1056"/>
                    <a:pt x="155" y="1043"/>
                  </a:cubicBezTo>
                  <a:cubicBezTo>
                    <a:pt x="171" y="1030"/>
                    <a:pt x="179" y="1015"/>
                    <a:pt x="172" y="1009"/>
                  </a:cubicBezTo>
                  <a:cubicBezTo>
                    <a:pt x="165" y="1003"/>
                    <a:pt x="141" y="1009"/>
                    <a:pt x="116" y="1009"/>
                  </a:cubicBezTo>
                  <a:cubicBezTo>
                    <a:pt x="91" y="1009"/>
                    <a:pt x="11" y="1016"/>
                    <a:pt x="22" y="1009"/>
                  </a:cubicBezTo>
                  <a:cubicBezTo>
                    <a:pt x="33" y="1002"/>
                    <a:pt x="132" y="990"/>
                    <a:pt x="180" y="970"/>
                  </a:cubicBezTo>
                  <a:cubicBezTo>
                    <a:pt x="228" y="950"/>
                    <a:pt x="299" y="904"/>
                    <a:pt x="309" y="889"/>
                  </a:cubicBezTo>
                  <a:cubicBezTo>
                    <a:pt x="319" y="874"/>
                    <a:pt x="261" y="881"/>
                    <a:pt x="240" y="880"/>
                  </a:cubicBezTo>
                  <a:cubicBezTo>
                    <a:pt x="219" y="879"/>
                    <a:pt x="207" y="878"/>
                    <a:pt x="180" y="880"/>
                  </a:cubicBezTo>
                  <a:cubicBezTo>
                    <a:pt x="153" y="882"/>
                    <a:pt x="79" y="895"/>
                    <a:pt x="78" y="893"/>
                  </a:cubicBezTo>
                  <a:cubicBezTo>
                    <a:pt x="77" y="891"/>
                    <a:pt x="164" y="878"/>
                    <a:pt x="172" y="867"/>
                  </a:cubicBezTo>
                  <a:cubicBezTo>
                    <a:pt x="180" y="856"/>
                    <a:pt x="150" y="829"/>
                    <a:pt x="129" y="825"/>
                  </a:cubicBezTo>
                  <a:cubicBezTo>
                    <a:pt x="108" y="821"/>
                    <a:pt x="68" y="841"/>
                    <a:pt x="48" y="842"/>
                  </a:cubicBezTo>
                  <a:cubicBezTo>
                    <a:pt x="28" y="843"/>
                    <a:pt x="0" y="837"/>
                    <a:pt x="9" y="829"/>
                  </a:cubicBezTo>
                  <a:cubicBezTo>
                    <a:pt x="18" y="821"/>
                    <a:pt x="90" y="811"/>
                    <a:pt x="103" y="795"/>
                  </a:cubicBezTo>
                  <a:cubicBezTo>
                    <a:pt x="116" y="779"/>
                    <a:pt x="80" y="738"/>
                    <a:pt x="86" y="735"/>
                  </a:cubicBezTo>
                  <a:cubicBezTo>
                    <a:pt x="92" y="732"/>
                    <a:pt x="107" y="758"/>
                    <a:pt x="138" y="777"/>
                  </a:cubicBezTo>
                  <a:cubicBezTo>
                    <a:pt x="169" y="796"/>
                    <a:pt x="224" y="844"/>
                    <a:pt x="270" y="850"/>
                  </a:cubicBezTo>
                  <a:cubicBezTo>
                    <a:pt x="316" y="856"/>
                    <a:pt x="380" y="839"/>
                    <a:pt x="416" y="816"/>
                  </a:cubicBezTo>
                  <a:cubicBezTo>
                    <a:pt x="452" y="793"/>
                    <a:pt x="489" y="755"/>
                    <a:pt x="485" y="713"/>
                  </a:cubicBezTo>
                  <a:cubicBezTo>
                    <a:pt x="481" y="671"/>
                    <a:pt x="416" y="599"/>
                    <a:pt x="390" y="563"/>
                  </a:cubicBezTo>
                  <a:cubicBezTo>
                    <a:pt x="364" y="527"/>
                    <a:pt x="341" y="515"/>
                    <a:pt x="330" y="499"/>
                  </a:cubicBezTo>
                  <a:cubicBezTo>
                    <a:pt x="319" y="483"/>
                    <a:pt x="307" y="454"/>
                    <a:pt x="322" y="460"/>
                  </a:cubicBezTo>
                  <a:close/>
                </a:path>
              </a:pathLst>
            </a:custGeom>
            <a:blipFill rotWithShape="0">
              <a:blip r:embed="rId15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895440" y="5878440"/>
              <a:ext cx="150840" cy="133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20725200">
              <a:off x="7439400" y="5601960"/>
              <a:ext cx="82800" cy="26640"/>
            </a:xfrm>
            <a:prstGeom prst="roundRect">
              <a:avLst>
                <a:gd name="adj" fmla="val 50000"/>
              </a:avLst>
            </a:prstGeom>
            <a:blipFill rotWithShape="0">
              <a:blip r:embed="rId15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20289600">
              <a:off x="7360200" y="5628960"/>
              <a:ext cx="842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5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19766400">
              <a:off x="7287480" y="567324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5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252600">
              <a:off x="7519680" y="5594040"/>
              <a:ext cx="82440" cy="28440"/>
            </a:xfrm>
            <a:prstGeom prst="roundRect">
              <a:avLst>
                <a:gd name="adj" fmla="val 50000"/>
              </a:avLst>
            </a:prstGeom>
            <a:blipFill rotWithShape="0">
              <a:blip r:embed="rId15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19677000">
              <a:off x="7217280" y="5721120"/>
              <a:ext cx="82440" cy="28080"/>
            </a:xfrm>
            <a:prstGeom prst="roundRect">
              <a:avLst>
                <a:gd name="adj" fmla="val 50000"/>
              </a:avLst>
            </a:prstGeom>
            <a:blipFill rotWithShape="0">
              <a:blip r:embed="rId15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rot="1554600">
              <a:off x="7596720" y="561960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2198400">
              <a:off x="7671600" y="5665320"/>
              <a:ext cx="82440" cy="27360"/>
            </a:xfrm>
            <a:prstGeom prst="roundRect">
              <a:avLst>
                <a:gd name="adj" fmla="val 50000"/>
              </a:avLst>
            </a:prstGeom>
            <a:blipFill rotWithShape="0">
              <a:blip r:embed="rId16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2212800">
              <a:off x="7740720" y="571788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2039400">
              <a:off x="7877880" y="5818320"/>
              <a:ext cx="82800" cy="27360"/>
            </a:xfrm>
            <a:prstGeom prst="roundRect">
              <a:avLst>
                <a:gd name="adj" fmla="val 50000"/>
              </a:avLst>
            </a:prstGeom>
            <a:blipFill rotWithShape="0">
              <a:blip r:embed="rId16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rot="2147400">
              <a:off x="7810560" y="576864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892280" y="5851440"/>
              <a:ext cx="327240" cy="279360"/>
            </a:xfrm>
            <a:custGeom>
              <a:avLst/>
              <a:gdLst/>
              <a:ahLst/>
              <a:rect l="l" t="t" r="r" b="b"/>
              <a:pathLst>
                <a:path w="516" h="440">
                  <a:moveTo>
                    <a:pt x="414" y="3"/>
                  </a:moveTo>
                  <a:cubicBezTo>
                    <a:pt x="402" y="6"/>
                    <a:pt x="374" y="28"/>
                    <a:pt x="357" y="36"/>
                  </a:cubicBezTo>
                  <a:cubicBezTo>
                    <a:pt x="340" y="44"/>
                    <a:pt x="330" y="50"/>
                    <a:pt x="310" y="54"/>
                  </a:cubicBezTo>
                  <a:cubicBezTo>
                    <a:pt x="290" y="58"/>
                    <a:pt x="265" y="62"/>
                    <a:pt x="237" y="58"/>
                  </a:cubicBezTo>
                  <a:cubicBezTo>
                    <a:pt x="209" y="54"/>
                    <a:pt x="167" y="33"/>
                    <a:pt x="141" y="27"/>
                  </a:cubicBezTo>
                  <a:cubicBezTo>
                    <a:pt x="115" y="21"/>
                    <a:pt x="100" y="17"/>
                    <a:pt x="78" y="19"/>
                  </a:cubicBezTo>
                  <a:cubicBezTo>
                    <a:pt x="56" y="21"/>
                    <a:pt x="10" y="38"/>
                    <a:pt x="10" y="41"/>
                  </a:cubicBezTo>
                  <a:cubicBezTo>
                    <a:pt x="10" y="44"/>
                    <a:pt x="59" y="35"/>
                    <a:pt x="78" y="36"/>
                  </a:cubicBezTo>
                  <a:cubicBezTo>
                    <a:pt x="97" y="37"/>
                    <a:pt x="110" y="39"/>
                    <a:pt x="126" y="45"/>
                  </a:cubicBezTo>
                  <a:cubicBezTo>
                    <a:pt x="142" y="51"/>
                    <a:pt x="173" y="68"/>
                    <a:pt x="172" y="75"/>
                  </a:cubicBezTo>
                  <a:cubicBezTo>
                    <a:pt x="171" y="82"/>
                    <a:pt x="138" y="86"/>
                    <a:pt x="121" y="88"/>
                  </a:cubicBezTo>
                  <a:cubicBezTo>
                    <a:pt x="104" y="90"/>
                    <a:pt x="88" y="85"/>
                    <a:pt x="70" y="88"/>
                  </a:cubicBezTo>
                  <a:cubicBezTo>
                    <a:pt x="52" y="91"/>
                    <a:pt x="16" y="106"/>
                    <a:pt x="14" y="109"/>
                  </a:cubicBezTo>
                  <a:cubicBezTo>
                    <a:pt x="12" y="112"/>
                    <a:pt x="41" y="106"/>
                    <a:pt x="57" y="105"/>
                  </a:cubicBezTo>
                  <a:cubicBezTo>
                    <a:pt x="73" y="104"/>
                    <a:pt x="108" y="93"/>
                    <a:pt x="108" y="101"/>
                  </a:cubicBezTo>
                  <a:cubicBezTo>
                    <a:pt x="108" y="109"/>
                    <a:pt x="73" y="134"/>
                    <a:pt x="57" y="152"/>
                  </a:cubicBezTo>
                  <a:cubicBezTo>
                    <a:pt x="41" y="170"/>
                    <a:pt x="0" y="217"/>
                    <a:pt x="10" y="212"/>
                  </a:cubicBezTo>
                  <a:cubicBezTo>
                    <a:pt x="20" y="207"/>
                    <a:pt x="89" y="142"/>
                    <a:pt x="117" y="123"/>
                  </a:cubicBezTo>
                  <a:cubicBezTo>
                    <a:pt x="145" y="104"/>
                    <a:pt x="162" y="103"/>
                    <a:pt x="177" y="96"/>
                  </a:cubicBezTo>
                  <a:cubicBezTo>
                    <a:pt x="192" y="89"/>
                    <a:pt x="196" y="85"/>
                    <a:pt x="210" y="81"/>
                  </a:cubicBezTo>
                  <a:cubicBezTo>
                    <a:pt x="224" y="77"/>
                    <a:pt x="247" y="75"/>
                    <a:pt x="261" y="75"/>
                  </a:cubicBezTo>
                  <a:cubicBezTo>
                    <a:pt x="275" y="75"/>
                    <a:pt x="293" y="74"/>
                    <a:pt x="297" y="84"/>
                  </a:cubicBezTo>
                  <a:cubicBezTo>
                    <a:pt x="301" y="94"/>
                    <a:pt x="293" y="122"/>
                    <a:pt x="285" y="138"/>
                  </a:cubicBezTo>
                  <a:cubicBezTo>
                    <a:pt x="277" y="154"/>
                    <a:pt x="263" y="169"/>
                    <a:pt x="249" y="180"/>
                  </a:cubicBezTo>
                  <a:cubicBezTo>
                    <a:pt x="235" y="191"/>
                    <a:pt x="217" y="193"/>
                    <a:pt x="198" y="204"/>
                  </a:cubicBezTo>
                  <a:cubicBezTo>
                    <a:pt x="179" y="215"/>
                    <a:pt x="138" y="244"/>
                    <a:pt x="138" y="246"/>
                  </a:cubicBezTo>
                  <a:cubicBezTo>
                    <a:pt x="138" y="248"/>
                    <a:pt x="179" y="223"/>
                    <a:pt x="198" y="216"/>
                  </a:cubicBezTo>
                  <a:cubicBezTo>
                    <a:pt x="217" y="209"/>
                    <a:pt x="253" y="194"/>
                    <a:pt x="254" y="204"/>
                  </a:cubicBezTo>
                  <a:cubicBezTo>
                    <a:pt x="255" y="214"/>
                    <a:pt x="218" y="254"/>
                    <a:pt x="202" y="276"/>
                  </a:cubicBezTo>
                  <a:cubicBezTo>
                    <a:pt x="186" y="298"/>
                    <a:pt x="154" y="339"/>
                    <a:pt x="160" y="336"/>
                  </a:cubicBezTo>
                  <a:cubicBezTo>
                    <a:pt x="166" y="333"/>
                    <a:pt x="221" y="260"/>
                    <a:pt x="237" y="258"/>
                  </a:cubicBezTo>
                  <a:cubicBezTo>
                    <a:pt x="253" y="256"/>
                    <a:pt x="248" y="308"/>
                    <a:pt x="254" y="324"/>
                  </a:cubicBezTo>
                  <a:cubicBezTo>
                    <a:pt x="260" y="340"/>
                    <a:pt x="271" y="358"/>
                    <a:pt x="271" y="354"/>
                  </a:cubicBezTo>
                  <a:cubicBezTo>
                    <a:pt x="271" y="350"/>
                    <a:pt x="256" y="317"/>
                    <a:pt x="254" y="298"/>
                  </a:cubicBezTo>
                  <a:cubicBezTo>
                    <a:pt x="252" y="279"/>
                    <a:pt x="254" y="261"/>
                    <a:pt x="258" y="242"/>
                  </a:cubicBezTo>
                  <a:cubicBezTo>
                    <a:pt x="262" y="223"/>
                    <a:pt x="268" y="191"/>
                    <a:pt x="275" y="182"/>
                  </a:cubicBezTo>
                  <a:cubicBezTo>
                    <a:pt x="282" y="173"/>
                    <a:pt x="289" y="174"/>
                    <a:pt x="301" y="186"/>
                  </a:cubicBezTo>
                  <a:cubicBezTo>
                    <a:pt x="313" y="198"/>
                    <a:pt x="340" y="234"/>
                    <a:pt x="348" y="252"/>
                  </a:cubicBezTo>
                  <a:cubicBezTo>
                    <a:pt x="356" y="270"/>
                    <a:pt x="351" y="279"/>
                    <a:pt x="348" y="294"/>
                  </a:cubicBezTo>
                  <a:cubicBezTo>
                    <a:pt x="345" y="309"/>
                    <a:pt x="334" y="329"/>
                    <a:pt x="327" y="345"/>
                  </a:cubicBezTo>
                  <a:cubicBezTo>
                    <a:pt x="320" y="361"/>
                    <a:pt x="304" y="376"/>
                    <a:pt x="305" y="392"/>
                  </a:cubicBezTo>
                  <a:cubicBezTo>
                    <a:pt x="306" y="408"/>
                    <a:pt x="328" y="438"/>
                    <a:pt x="331" y="439"/>
                  </a:cubicBezTo>
                  <a:cubicBezTo>
                    <a:pt x="334" y="440"/>
                    <a:pt x="319" y="412"/>
                    <a:pt x="322" y="396"/>
                  </a:cubicBezTo>
                  <a:cubicBezTo>
                    <a:pt x="325" y="380"/>
                    <a:pt x="338" y="346"/>
                    <a:pt x="352" y="345"/>
                  </a:cubicBezTo>
                  <a:cubicBezTo>
                    <a:pt x="366" y="344"/>
                    <a:pt x="387" y="381"/>
                    <a:pt x="404" y="392"/>
                  </a:cubicBezTo>
                  <a:cubicBezTo>
                    <a:pt x="421" y="403"/>
                    <a:pt x="451" y="417"/>
                    <a:pt x="451" y="414"/>
                  </a:cubicBezTo>
                  <a:cubicBezTo>
                    <a:pt x="451" y="411"/>
                    <a:pt x="418" y="386"/>
                    <a:pt x="404" y="371"/>
                  </a:cubicBezTo>
                  <a:cubicBezTo>
                    <a:pt x="390" y="356"/>
                    <a:pt x="374" y="340"/>
                    <a:pt x="369" y="324"/>
                  </a:cubicBezTo>
                  <a:cubicBezTo>
                    <a:pt x="364" y="308"/>
                    <a:pt x="363" y="282"/>
                    <a:pt x="372" y="276"/>
                  </a:cubicBezTo>
                  <a:cubicBezTo>
                    <a:pt x="381" y="270"/>
                    <a:pt x="403" y="280"/>
                    <a:pt x="421" y="289"/>
                  </a:cubicBezTo>
                  <a:cubicBezTo>
                    <a:pt x="439" y="298"/>
                    <a:pt x="465" y="325"/>
                    <a:pt x="481" y="332"/>
                  </a:cubicBezTo>
                  <a:cubicBezTo>
                    <a:pt x="497" y="339"/>
                    <a:pt x="516" y="336"/>
                    <a:pt x="515" y="332"/>
                  </a:cubicBezTo>
                  <a:cubicBezTo>
                    <a:pt x="514" y="328"/>
                    <a:pt x="490" y="315"/>
                    <a:pt x="477" y="306"/>
                  </a:cubicBezTo>
                  <a:cubicBezTo>
                    <a:pt x="464" y="297"/>
                    <a:pt x="456" y="287"/>
                    <a:pt x="438" y="276"/>
                  </a:cubicBezTo>
                  <a:cubicBezTo>
                    <a:pt x="420" y="265"/>
                    <a:pt x="392" y="259"/>
                    <a:pt x="370" y="238"/>
                  </a:cubicBezTo>
                  <a:cubicBezTo>
                    <a:pt x="348" y="217"/>
                    <a:pt x="314" y="176"/>
                    <a:pt x="305" y="152"/>
                  </a:cubicBezTo>
                  <a:cubicBezTo>
                    <a:pt x="296" y="128"/>
                    <a:pt x="302" y="115"/>
                    <a:pt x="318" y="96"/>
                  </a:cubicBezTo>
                  <a:cubicBezTo>
                    <a:pt x="334" y="77"/>
                    <a:pt x="381" y="49"/>
                    <a:pt x="400" y="36"/>
                  </a:cubicBezTo>
                  <a:cubicBezTo>
                    <a:pt x="419" y="23"/>
                    <a:pt x="428" y="20"/>
                    <a:pt x="430" y="15"/>
                  </a:cubicBezTo>
                  <a:cubicBezTo>
                    <a:pt x="432" y="10"/>
                    <a:pt x="426" y="0"/>
                    <a:pt x="414" y="3"/>
                  </a:cubicBezTo>
                  <a:close/>
                </a:path>
              </a:pathLst>
            </a:custGeom>
            <a:blipFill rotWithShape="0">
              <a:blip r:embed="rId16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856560" y="3537000"/>
            <a:ext cx="996840" cy="857160"/>
            <a:chOff x="6856560" y="3537000"/>
            <a:chExt cx="996840" cy="857160"/>
          </a:xfrm>
        </p:grpSpPr>
        <p:grpSp>
          <p:nvGrpSpPr>
            <p:cNvPr id="484" name=""/>
            <p:cNvGrpSpPr/>
            <p:nvPr/>
          </p:nvGrpSpPr>
          <p:grpSpPr>
            <a:xfrm>
              <a:off x="6856560" y="3537000"/>
              <a:ext cx="996840" cy="658800"/>
              <a:chOff x="6856560" y="3537000"/>
              <a:chExt cx="996840" cy="658800"/>
            </a:xfrm>
          </p:grpSpPr>
          <p:sp>
            <p:nvSpPr>
              <p:cNvPr id="485" name=""/>
              <p:cNvSpPr/>
              <p:nvPr/>
            </p:nvSpPr>
            <p:spPr>
              <a:xfrm>
                <a:off x="6856560" y="3537000"/>
                <a:ext cx="996840" cy="658800"/>
              </a:xfrm>
              <a:custGeom>
                <a:avLst/>
                <a:gdLst/>
                <a:ahLst/>
                <a:rect l="l" t="t" r="r" b="b"/>
                <a:pathLst>
                  <a:path w="1651" h="1092">
                    <a:moveTo>
                      <a:pt x="1037" y="1002"/>
                    </a:moveTo>
                    <a:cubicBezTo>
                      <a:pt x="1012" y="1009"/>
                      <a:pt x="871" y="1048"/>
                      <a:pt x="805" y="1062"/>
                    </a:cubicBezTo>
                    <a:cubicBezTo>
                      <a:pt x="739" y="1076"/>
                      <a:pt x="694" y="1092"/>
                      <a:pt x="640" y="1085"/>
                    </a:cubicBezTo>
                    <a:cubicBezTo>
                      <a:pt x="586" y="1078"/>
                      <a:pt x="522" y="1044"/>
                      <a:pt x="482" y="1017"/>
                    </a:cubicBezTo>
                    <a:cubicBezTo>
                      <a:pt x="442" y="990"/>
                      <a:pt x="413" y="956"/>
                      <a:pt x="400" y="920"/>
                    </a:cubicBezTo>
                    <a:cubicBezTo>
                      <a:pt x="387" y="884"/>
                      <a:pt x="386" y="831"/>
                      <a:pt x="407" y="800"/>
                    </a:cubicBezTo>
                    <a:cubicBezTo>
                      <a:pt x="428" y="769"/>
                      <a:pt x="475" y="757"/>
                      <a:pt x="527" y="732"/>
                    </a:cubicBezTo>
                    <a:cubicBezTo>
                      <a:pt x="579" y="707"/>
                      <a:pt x="678" y="665"/>
                      <a:pt x="722" y="650"/>
                    </a:cubicBezTo>
                    <a:cubicBezTo>
                      <a:pt x="766" y="635"/>
                      <a:pt x="809" y="634"/>
                      <a:pt x="790" y="642"/>
                    </a:cubicBezTo>
                    <a:cubicBezTo>
                      <a:pt x="771" y="650"/>
                      <a:pt x="666" y="678"/>
                      <a:pt x="610" y="695"/>
                    </a:cubicBezTo>
                    <a:cubicBezTo>
                      <a:pt x="554" y="712"/>
                      <a:pt x="487" y="730"/>
                      <a:pt x="452" y="747"/>
                    </a:cubicBezTo>
                    <a:cubicBezTo>
                      <a:pt x="417" y="764"/>
                      <a:pt x="436" y="789"/>
                      <a:pt x="400" y="800"/>
                    </a:cubicBezTo>
                    <a:cubicBezTo>
                      <a:pt x="364" y="811"/>
                      <a:pt x="294" y="825"/>
                      <a:pt x="235" y="815"/>
                    </a:cubicBezTo>
                    <a:cubicBezTo>
                      <a:pt x="176" y="805"/>
                      <a:pt x="84" y="797"/>
                      <a:pt x="47" y="740"/>
                    </a:cubicBezTo>
                    <a:cubicBezTo>
                      <a:pt x="10" y="683"/>
                      <a:pt x="0" y="549"/>
                      <a:pt x="10" y="470"/>
                    </a:cubicBezTo>
                    <a:cubicBezTo>
                      <a:pt x="20" y="391"/>
                      <a:pt x="61" y="327"/>
                      <a:pt x="107" y="267"/>
                    </a:cubicBezTo>
                    <a:cubicBezTo>
                      <a:pt x="153" y="207"/>
                      <a:pt x="225" y="147"/>
                      <a:pt x="287" y="110"/>
                    </a:cubicBezTo>
                    <a:cubicBezTo>
                      <a:pt x="349" y="73"/>
                      <a:pt x="415" y="59"/>
                      <a:pt x="482" y="42"/>
                    </a:cubicBezTo>
                    <a:cubicBezTo>
                      <a:pt x="549" y="25"/>
                      <a:pt x="623" y="10"/>
                      <a:pt x="692" y="5"/>
                    </a:cubicBezTo>
                    <a:cubicBezTo>
                      <a:pt x="761" y="0"/>
                      <a:pt x="816" y="2"/>
                      <a:pt x="895" y="12"/>
                    </a:cubicBezTo>
                    <a:cubicBezTo>
                      <a:pt x="974" y="22"/>
                      <a:pt x="1080" y="30"/>
                      <a:pt x="1165" y="65"/>
                    </a:cubicBezTo>
                    <a:cubicBezTo>
                      <a:pt x="1250" y="100"/>
                      <a:pt x="1343" y="158"/>
                      <a:pt x="1405" y="222"/>
                    </a:cubicBezTo>
                    <a:cubicBezTo>
                      <a:pt x="1467" y="286"/>
                      <a:pt x="1500" y="364"/>
                      <a:pt x="1540" y="447"/>
                    </a:cubicBezTo>
                    <a:cubicBezTo>
                      <a:pt x="1580" y="530"/>
                      <a:pt x="1651" y="651"/>
                      <a:pt x="1645" y="717"/>
                    </a:cubicBezTo>
                    <a:cubicBezTo>
                      <a:pt x="1639" y="783"/>
                      <a:pt x="1577" y="808"/>
                      <a:pt x="1502" y="845"/>
                    </a:cubicBezTo>
                    <a:cubicBezTo>
                      <a:pt x="1427" y="882"/>
                      <a:pt x="1286" y="913"/>
                      <a:pt x="1195" y="942"/>
                    </a:cubicBezTo>
                    <a:cubicBezTo>
                      <a:pt x="1104" y="971"/>
                      <a:pt x="981" y="1010"/>
                      <a:pt x="955" y="1017"/>
                    </a:cubicBezTo>
                    <a:cubicBezTo>
                      <a:pt x="929" y="1024"/>
                      <a:pt x="1062" y="995"/>
                      <a:pt x="1037" y="1002"/>
                    </a:cubicBezTo>
                    <a:close/>
                  </a:path>
                </a:pathLst>
              </a:custGeom>
              <a:solidFill>
                <a:srgbClr val="66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16760" y="3551400"/>
                <a:ext cx="658800" cy="403200"/>
              </a:xfrm>
              <a:custGeom>
                <a:avLst/>
                <a:gdLst/>
                <a:ahLst/>
                <a:rect l="l" t="t" r="r" b="b"/>
                <a:pathLst>
                  <a:path w="1091" h="668">
                    <a:moveTo>
                      <a:pt x="651" y="19"/>
                    </a:moveTo>
                    <a:cubicBezTo>
                      <a:pt x="625" y="20"/>
                      <a:pt x="599" y="21"/>
                      <a:pt x="576" y="19"/>
                    </a:cubicBezTo>
                    <a:cubicBezTo>
                      <a:pt x="553" y="17"/>
                      <a:pt x="517" y="0"/>
                      <a:pt x="516" y="4"/>
                    </a:cubicBezTo>
                    <a:cubicBezTo>
                      <a:pt x="515" y="8"/>
                      <a:pt x="571" y="22"/>
                      <a:pt x="569" y="42"/>
                    </a:cubicBezTo>
                    <a:cubicBezTo>
                      <a:pt x="567" y="62"/>
                      <a:pt x="527" y="97"/>
                      <a:pt x="501" y="124"/>
                    </a:cubicBezTo>
                    <a:cubicBezTo>
                      <a:pt x="475" y="151"/>
                      <a:pt x="436" y="191"/>
                      <a:pt x="411" y="207"/>
                    </a:cubicBezTo>
                    <a:cubicBezTo>
                      <a:pt x="386" y="223"/>
                      <a:pt x="353" y="213"/>
                      <a:pt x="351" y="222"/>
                    </a:cubicBezTo>
                    <a:cubicBezTo>
                      <a:pt x="349" y="231"/>
                      <a:pt x="394" y="242"/>
                      <a:pt x="396" y="259"/>
                    </a:cubicBezTo>
                    <a:cubicBezTo>
                      <a:pt x="398" y="276"/>
                      <a:pt x="387" y="311"/>
                      <a:pt x="366" y="327"/>
                    </a:cubicBezTo>
                    <a:cubicBezTo>
                      <a:pt x="345" y="343"/>
                      <a:pt x="301" y="342"/>
                      <a:pt x="269" y="357"/>
                    </a:cubicBezTo>
                    <a:cubicBezTo>
                      <a:pt x="237" y="372"/>
                      <a:pt x="185" y="392"/>
                      <a:pt x="171" y="417"/>
                    </a:cubicBezTo>
                    <a:cubicBezTo>
                      <a:pt x="157" y="442"/>
                      <a:pt x="173" y="485"/>
                      <a:pt x="186" y="507"/>
                    </a:cubicBezTo>
                    <a:cubicBezTo>
                      <a:pt x="199" y="529"/>
                      <a:pt x="231" y="536"/>
                      <a:pt x="246" y="552"/>
                    </a:cubicBezTo>
                    <a:cubicBezTo>
                      <a:pt x="261" y="568"/>
                      <a:pt x="286" y="608"/>
                      <a:pt x="276" y="604"/>
                    </a:cubicBezTo>
                    <a:cubicBezTo>
                      <a:pt x="266" y="600"/>
                      <a:pt x="201" y="553"/>
                      <a:pt x="186" y="529"/>
                    </a:cubicBezTo>
                    <a:cubicBezTo>
                      <a:pt x="171" y="505"/>
                      <a:pt x="192" y="481"/>
                      <a:pt x="186" y="462"/>
                    </a:cubicBezTo>
                    <a:cubicBezTo>
                      <a:pt x="180" y="443"/>
                      <a:pt x="167" y="425"/>
                      <a:pt x="149" y="417"/>
                    </a:cubicBezTo>
                    <a:cubicBezTo>
                      <a:pt x="131" y="409"/>
                      <a:pt x="105" y="412"/>
                      <a:pt x="81" y="417"/>
                    </a:cubicBezTo>
                    <a:cubicBezTo>
                      <a:pt x="57" y="422"/>
                      <a:pt x="12" y="436"/>
                      <a:pt x="6" y="447"/>
                    </a:cubicBezTo>
                    <a:cubicBezTo>
                      <a:pt x="0" y="458"/>
                      <a:pt x="35" y="465"/>
                      <a:pt x="44" y="484"/>
                    </a:cubicBezTo>
                    <a:cubicBezTo>
                      <a:pt x="53" y="503"/>
                      <a:pt x="49" y="534"/>
                      <a:pt x="59" y="559"/>
                    </a:cubicBezTo>
                    <a:cubicBezTo>
                      <a:pt x="69" y="584"/>
                      <a:pt x="82" y="620"/>
                      <a:pt x="104" y="634"/>
                    </a:cubicBezTo>
                    <a:cubicBezTo>
                      <a:pt x="126" y="648"/>
                      <a:pt x="155" y="639"/>
                      <a:pt x="194" y="642"/>
                    </a:cubicBezTo>
                    <a:cubicBezTo>
                      <a:pt x="233" y="645"/>
                      <a:pt x="317" y="668"/>
                      <a:pt x="336" y="649"/>
                    </a:cubicBezTo>
                    <a:cubicBezTo>
                      <a:pt x="355" y="630"/>
                      <a:pt x="311" y="568"/>
                      <a:pt x="306" y="529"/>
                    </a:cubicBezTo>
                    <a:cubicBezTo>
                      <a:pt x="301" y="490"/>
                      <a:pt x="304" y="411"/>
                      <a:pt x="306" y="417"/>
                    </a:cubicBezTo>
                    <a:cubicBezTo>
                      <a:pt x="308" y="423"/>
                      <a:pt x="316" y="530"/>
                      <a:pt x="321" y="567"/>
                    </a:cubicBezTo>
                    <a:cubicBezTo>
                      <a:pt x="326" y="604"/>
                      <a:pt x="317" y="635"/>
                      <a:pt x="336" y="642"/>
                    </a:cubicBezTo>
                    <a:cubicBezTo>
                      <a:pt x="355" y="649"/>
                      <a:pt x="409" y="634"/>
                      <a:pt x="434" y="612"/>
                    </a:cubicBezTo>
                    <a:cubicBezTo>
                      <a:pt x="459" y="590"/>
                      <a:pt x="476" y="544"/>
                      <a:pt x="486" y="507"/>
                    </a:cubicBezTo>
                    <a:cubicBezTo>
                      <a:pt x="496" y="470"/>
                      <a:pt x="482" y="426"/>
                      <a:pt x="494" y="387"/>
                    </a:cubicBezTo>
                    <a:cubicBezTo>
                      <a:pt x="506" y="348"/>
                      <a:pt x="551" y="305"/>
                      <a:pt x="561" y="274"/>
                    </a:cubicBezTo>
                    <a:cubicBezTo>
                      <a:pt x="571" y="243"/>
                      <a:pt x="540" y="210"/>
                      <a:pt x="554" y="199"/>
                    </a:cubicBezTo>
                    <a:cubicBezTo>
                      <a:pt x="568" y="188"/>
                      <a:pt x="619" y="214"/>
                      <a:pt x="644" y="207"/>
                    </a:cubicBezTo>
                    <a:cubicBezTo>
                      <a:pt x="669" y="200"/>
                      <a:pt x="684" y="169"/>
                      <a:pt x="704" y="154"/>
                    </a:cubicBezTo>
                    <a:cubicBezTo>
                      <a:pt x="724" y="139"/>
                      <a:pt x="734" y="123"/>
                      <a:pt x="764" y="117"/>
                    </a:cubicBezTo>
                    <a:cubicBezTo>
                      <a:pt x="794" y="111"/>
                      <a:pt x="853" y="121"/>
                      <a:pt x="884" y="117"/>
                    </a:cubicBezTo>
                    <a:cubicBezTo>
                      <a:pt x="915" y="113"/>
                      <a:pt x="922" y="90"/>
                      <a:pt x="951" y="94"/>
                    </a:cubicBezTo>
                    <a:cubicBezTo>
                      <a:pt x="980" y="98"/>
                      <a:pt x="1034" y="119"/>
                      <a:pt x="1056" y="139"/>
                    </a:cubicBezTo>
                    <a:cubicBezTo>
                      <a:pt x="1078" y="159"/>
                      <a:pt x="1091" y="202"/>
                      <a:pt x="1086" y="214"/>
                    </a:cubicBezTo>
                    <a:cubicBezTo>
                      <a:pt x="1081" y="226"/>
                      <a:pt x="1056" y="217"/>
                      <a:pt x="1026" y="214"/>
                    </a:cubicBezTo>
                    <a:cubicBezTo>
                      <a:pt x="996" y="211"/>
                      <a:pt x="936" y="197"/>
                      <a:pt x="906" y="199"/>
                    </a:cubicBezTo>
                    <a:cubicBezTo>
                      <a:pt x="876" y="201"/>
                      <a:pt x="868" y="213"/>
                      <a:pt x="846" y="229"/>
                    </a:cubicBezTo>
                    <a:cubicBezTo>
                      <a:pt x="824" y="245"/>
                      <a:pt x="797" y="285"/>
                      <a:pt x="771" y="297"/>
                    </a:cubicBezTo>
                    <a:cubicBezTo>
                      <a:pt x="745" y="309"/>
                      <a:pt x="706" y="285"/>
                      <a:pt x="689" y="304"/>
                    </a:cubicBezTo>
                    <a:cubicBezTo>
                      <a:pt x="672" y="323"/>
                      <a:pt x="675" y="374"/>
                      <a:pt x="666" y="409"/>
                    </a:cubicBezTo>
                    <a:cubicBezTo>
                      <a:pt x="657" y="444"/>
                      <a:pt x="639" y="488"/>
                      <a:pt x="636" y="514"/>
                    </a:cubicBezTo>
                    <a:cubicBezTo>
                      <a:pt x="633" y="540"/>
                      <a:pt x="642" y="555"/>
                      <a:pt x="651" y="567"/>
                    </a:cubicBezTo>
                    <a:cubicBezTo>
                      <a:pt x="660" y="579"/>
                      <a:pt x="663" y="593"/>
                      <a:pt x="689" y="589"/>
                    </a:cubicBezTo>
                    <a:cubicBezTo>
                      <a:pt x="715" y="585"/>
                      <a:pt x="787" y="559"/>
                      <a:pt x="809" y="544"/>
                    </a:cubicBezTo>
                    <a:cubicBezTo>
                      <a:pt x="831" y="529"/>
                      <a:pt x="825" y="497"/>
                      <a:pt x="824" y="499"/>
                    </a:cubicBezTo>
                    <a:cubicBezTo>
                      <a:pt x="823" y="501"/>
                      <a:pt x="795" y="549"/>
                      <a:pt x="801" y="559"/>
                    </a:cubicBezTo>
                    <a:cubicBezTo>
                      <a:pt x="807" y="569"/>
                      <a:pt x="871" y="556"/>
                      <a:pt x="861" y="559"/>
                    </a:cubicBezTo>
                    <a:cubicBezTo>
                      <a:pt x="851" y="562"/>
                      <a:pt x="762" y="572"/>
                      <a:pt x="741" y="5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35760" y="3892680"/>
                <a:ext cx="208080" cy="115920"/>
              </a:xfrm>
              <a:custGeom>
                <a:avLst/>
                <a:gdLst/>
                <a:ahLst/>
                <a:rect l="l" t="t" r="r" b="b"/>
                <a:pathLst>
                  <a:path w="344" h="192">
                    <a:moveTo>
                      <a:pt x="344" y="157"/>
                    </a:moveTo>
                    <a:cubicBezTo>
                      <a:pt x="304" y="158"/>
                      <a:pt x="265" y="159"/>
                      <a:pt x="224" y="150"/>
                    </a:cubicBezTo>
                    <a:cubicBezTo>
                      <a:pt x="183" y="141"/>
                      <a:pt x="131" y="121"/>
                      <a:pt x="96" y="105"/>
                    </a:cubicBezTo>
                    <a:cubicBezTo>
                      <a:pt x="61" y="89"/>
                      <a:pt x="28" y="68"/>
                      <a:pt x="14" y="52"/>
                    </a:cubicBezTo>
                    <a:cubicBezTo>
                      <a:pt x="0" y="36"/>
                      <a:pt x="3" y="0"/>
                      <a:pt x="14" y="7"/>
                    </a:cubicBezTo>
                    <a:cubicBezTo>
                      <a:pt x="25" y="14"/>
                      <a:pt x="60" y="74"/>
                      <a:pt x="81" y="97"/>
                    </a:cubicBezTo>
                    <a:cubicBezTo>
                      <a:pt x="102" y="120"/>
                      <a:pt x="152" y="137"/>
                      <a:pt x="141" y="142"/>
                    </a:cubicBezTo>
                    <a:cubicBezTo>
                      <a:pt x="130" y="147"/>
                      <a:pt x="15" y="120"/>
                      <a:pt x="14" y="127"/>
                    </a:cubicBezTo>
                    <a:cubicBezTo>
                      <a:pt x="13" y="134"/>
                      <a:pt x="98" y="182"/>
                      <a:pt x="134" y="187"/>
                    </a:cubicBezTo>
                    <a:cubicBezTo>
                      <a:pt x="170" y="192"/>
                      <a:pt x="213" y="165"/>
                      <a:pt x="231" y="1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39000" y="3557520"/>
                <a:ext cx="376200" cy="349200"/>
              </a:xfrm>
              <a:custGeom>
                <a:avLst/>
                <a:gdLst/>
                <a:ahLst/>
                <a:rect l="l" t="t" r="r" b="b"/>
                <a:pathLst>
                  <a:path w="622" h="577">
                    <a:moveTo>
                      <a:pt x="622" y="0"/>
                    </a:moveTo>
                    <a:cubicBezTo>
                      <a:pt x="590" y="17"/>
                      <a:pt x="558" y="34"/>
                      <a:pt x="532" y="45"/>
                    </a:cubicBezTo>
                    <a:cubicBezTo>
                      <a:pt x="506" y="56"/>
                      <a:pt x="485" y="65"/>
                      <a:pt x="464" y="67"/>
                    </a:cubicBezTo>
                    <a:cubicBezTo>
                      <a:pt x="443" y="69"/>
                      <a:pt x="423" y="50"/>
                      <a:pt x="404" y="60"/>
                    </a:cubicBezTo>
                    <a:cubicBezTo>
                      <a:pt x="385" y="70"/>
                      <a:pt x="375" y="118"/>
                      <a:pt x="352" y="127"/>
                    </a:cubicBezTo>
                    <a:cubicBezTo>
                      <a:pt x="329" y="136"/>
                      <a:pt x="291" y="111"/>
                      <a:pt x="269" y="112"/>
                    </a:cubicBezTo>
                    <a:cubicBezTo>
                      <a:pt x="247" y="113"/>
                      <a:pt x="239" y="121"/>
                      <a:pt x="217" y="135"/>
                    </a:cubicBezTo>
                    <a:cubicBezTo>
                      <a:pt x="195" y="149"/>
                      <a:pt x="139" y="181"/>
                      <a:pt x="134" y="195"/>
                    </a:cubicBezTo>
                    <a:cubicBezTo>
                      <a:pt x="129" y="209"/>
                      <a:pt x="171" y="213"/>
                      <a:pt x="187" y="217"/>
                    </a:cubicBezTo>
                    <a:cubicBezTo>
                      <a:pt x="203" y="221"/>
                      <a:pt x="208" y="208"/>
                      <a:pt x="232" y="217"/>
                    </a:cubicBezTo>
                    <a:cubicBezTo>
                      <a:pt x="256" y="226"/>
                      <a:pt x="311" y="250"/>
                      <a:pt x="329" y="270"/>
                    </a:cubicBezTo>
                    <a:cubicBezTo>
                      <a:pt x="347" y="290"/>
                      <a:pt x="348" y="317"/>
                      <a:pt x="337" y="337"/>
                    </a:cubicBezTo>
                    <a:cubicBezTo>
                      <a:pt x="326" y="357"/>
                      <a:pt x="283" y="381"/>
                      <a:pt x="262" y="390"/>
                    </a:cubicBezTo>
                    <a:cubicBezTo>
                      <a:pt x="241" y="399"/>
                      <a:pt x="226" y="384"/>
                      <a:pt x="209" y="390"/>
                    </a:cubicBezTo>
                    <a:cubicBezTo>
                      <a:pt x="192" y="396"/>
                      <a:pt x="176" y="429"/>
                      <a:pt x="157" y="427"/>
                    </a:cubicBezTo>
                    <a:cubicBezTo>
                      <a:pt x="138" y="425"/>
                      <a:pt x="114" y="384"/>
                      <a:pt x="97" y="375"/>
                    </a:cubicBezTo>
                    <a:cubicBezTo>
                      <a:pt x="80" y="366"/>
                      <a:pt x="63" y="363"/>
                      <a:pt x="52" y="375"/>
                    </a:cubicBezTo>
                    <a:cubicBezTo>
                      <a:pt x="41" y="387"/>
                      <a:pt x="35" y="429"/>
                      <a:pt x="29" y="450"/>
                    </a:cubicBezTo>
                    <a:cubicBezTo>
                      <a:pt x="23" y="471"/>
                      <a:pt x="0" y="482"/>
                      <a:pt x="14" y="502"/>
                    </a:cubicBezTo>
                    <a:cubicBezTo>
                      <a:pt x="28" y="522"/>
                      <a:pt x="87" y="563"/>
                      <a:pt x="112" y="570"/>
                    </a:cubicBezTo>
                    <a:cubicBezTo>
                      <a:pt x="137" y="577"/>
                      <a:pt x="150" y="562"/>
                      <a:pt x="164" y="5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80240" y="3784680"/>
                <a:ext cx="119160" cy="22392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45" y="0"/>
                    </a:moveTo>
                    <a:cubicBezTo>
                      <a:pt x="145" y="40"/>
                      <a:pt x="146" y="81"/>
                      <a:pt x="137" y="97"/>
                    </a:cubicBezTo>
                    <a:cubicBezTo>
                      <a:pt x="128" y="113"/>
                      <a:pt x="107" y="101"/>
                      <a:pt x="92" y="97"/>
                    </a:cubicBezTo>
                    <a:cubicBezTo>
                      <a:pt x="77" y="93"/>
                      <a:pt x="52" y="66"/>
                      <a:pt x="47" y="75"/>
                    </a:cubicBezTo>
                    <a:cubicBezTo>
                      <a:pt x="42" y="84"/>
                      <a:pt x="69" y="129"/>
                      <a:pt x="62" y="150"/>
                    </a:cubicBezTo>
                    <a:cubicBezTo>
                      <a:pt x="55" y="171"/>
                      <a:pt x="0" y="187"/>
                      <a:pt x="2" y="202"/>
                    </a:cubicBezTo>
                    <a:cubicBezTo>
                      <a:pt x="4" y="217"/>
                      <a:pt x="71" y="223"/>
                      <a:pt x="77" y="240"/>
                    </a:cubicBezTo>
                    <a:cubicBezTo>
                      <a:pt x="83" y="257"/>
                      <a:pt x="36" y="292"/>
                      <a:pt x="40" y="307"/>
                    </a:cubicBezTo>
                    <a:cubicBezTo>
                      <a:pt x="44" y="322"/>
                      <a:pt x="80" y="320"/>
                      <a:pt x="100" y="330"/>
                    </a:cubicBezTo>
                    <a:cubicBezTo>
                      <a:pt x="120" y="340"/>
                      <a:pt x="152" y="371"/>
                      <a:pt x="160" y="367"/>
                    </a:cubicBezTo>
                    <a:cubicBezTo>
                      <a:pt x="168" y="363"/>
                      <a:pt x="161" y="328"/>
                      <a:pt x="152" y="307"/>
                    </a:cubicBezTo>
                    <a:cubicBezTo>
                      <a:pt x="143" y="286"/>
                      <a:pt x="108" y="262"/>
                      <a:pt x="107" y="240"/>
                    </a:cubicBezTo>
                    <a:cubicBezTo>
                      <a:pt x="106" y="218"/>
                      <a:pt x="130" y="190"/>
                      <a:pt x="145" y="172"/>
                    </a:cubicBezTo>
                    <a:cubicBezTo>
                      <a:pt x="160" y="154"/>
                      <a:pt x="188" y="146"/>
                      <a:pt x="197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56440" y="3875040"/>
                <a:ext cx="530280" cy="279360"/>
              </a:xfrm>
              <a:custGeom>
                <a:avLst/>
                <a:gdLst/>
                <a:ahLst/>
                <a:rect l="l" t="t" r="r" b="b"/>
                <a:pathLst>
                  <a:path w="879" h="462">
                    <a:moveTo>
                      <a:pt x="826" y="0"/>
                    </a:moveTo>
                    <a:cubicBezTo>
                      <a:pt x="802" y="6"/>
                      <a:pt x="778" y="13"/>
                      <a:pt x="759" y="22"/>
                    </a:cubicBezTo>
                    <a:cubicBezTo>
                      <a:pt x="740" y="31"/>
                      <a:pt x="724" y="32"/>
                      <a:pt x="714" y="52"/>
                    </a:cubicBezTo>
                    <a:cubicBezTo>
                      <a:pt x="704" y="72"/>
                      <a:pt x="716" y="120"/>
                      <a:pt x="699" y="142"/>
                    </a:cubicBezTo>
                    <a:cubicBezTo>
                      <a:pt x="682" y="164"/>
                      <a:pt x="636" y="178"/>
                      <a:pt x="609" y="187"/>
                    </a:cubicBezTo>
                    <a:cubicBezTo>
                      <a:pt x="582" y="196"/>
                      <a:pt x="558" y="191"/>
                      <a:pt x="534" y="195"/>
                    </a:cubicBezTo>
                    <a:cubicBezTo>
                      <a:pt x="510" y="199"/>
                      <a:pt x="501" y="206"/>
                      <a:pt x="466" y="210"/>
                    </a:cubicBezTo>
                    <a:cubicBezTo>
                      <a:pt x="431" y="214"/>
                      <a:pt x="364" y="212"/>
                      <a:pt x="324" y="217"/>
                    </a:cubicBezTo>
                    <a:cubicBezTo>
                      <a:pt x="284" y="222"/>
                      <a:pt x="261" y="234"/>
                      <a:pt x="226" y="240"/>
                    </a:cubicBezTo>
                    <a:cubicBezTo>
                      <a:pt x="191" y="246"/>
                      <a:pt x="149" y="245"/>
                      <a:pt x="114" y="255"/>
                    </a:cubicBezTo>
                    <a:cubicBezTo>
                      <a:pt x="79" y="265"/>
                      <a:pt x="32" y="302"/>
                      <a:pt x="16" y="300"/>
                    </a:cubicBezTo>
                    <a:cubicBezTo>
                      <a:pt x="0" y="298"/>
                      <a:pt x="11" y="236"/>
                      <a:pt x="16" y="240"/>
                    </a:cubicBezTo>
                    <a:cubicBezTo>
                      <a:pt x="21" y="244"/>
                      <a:pt x="42" y="301"/>
                      <a:pt x="46" y="322"/>
                    </a:cubicBezTo>
                    <a:cubicBezTo>
                      <a:pt x="50" y="343"/>
                      <a:pt x="29" y="357"/>
                      <a:pt x="39" y="367"/>
                    </a:cubicBezTo>
                    <a:cubicBezTo>
                      <a:pt x="49" y="377"/>
                      <a:pt x="96" y="368"/>
                      <a:pt x="106" y="382"/>
                    </a:cubicBezTo>
                    <a:cubicBezTo>
                      <a:pt x="116" y="396"/>
                      <a:pt x="85" y="441"/>
                      <a:pt x="99" y="450"/>
                    </a:cubicBezTo>
                    <a:cubicBezTo>
                      <a:pt x="113" y="459"/>
                      <a:pt x="180" y="445"/>
                      <a:pt x="189" y="435"/>
                    </a:cubicBezTo>
                    <a:cubicBezTo>
                      <a:pt x="198" y="425"/>
                      <a:pt x="144" y="391"/>
                      <a:pt x="151" y="390"/>
                    </a:cubicBezTo>
                    <a:cubicBezTo>
                      <a:pt x="158" y="389"/>
                      <a:pt x="203" y="416"/>
                      <a:pt x="234" y="427"/>
                    </a:cubicBezTo>
                    <a:cubicBezTo>
                      <a:pt x="265" y="438"/>
                      <a:pt x="303" y="462"/>
                      <a:pt x="339" y="457"/>
                    </a:cubicBezTo>
                    <a:cubicBezTo>
                      <a:pt x="375" y="452"/>
                      <a:pt x="434" y="423"/>
                      <a:pt x="451" y="397"/>
                    </a:cubicBezTo>
                    <a:cubicBezTo>
                      <a:pt x="468" y="371"/>
                      <a:pt x="473" y="306"/>
                      <a:pt x="444" y="300"/>
                    </a:cubicBezTo>
                    <a:cubicBezTo>
                      <a:pt x="415" y="294"/>
                      <a:pt x="325" y="351"/>
                      <a:pt x="279" y="360"/>
                    </a:cubicBezTo>
                    <a:cubicBezTo>
                      <a:pt x="233" y="369"/>
                      <a:pt x="191" y="359"/>
                      <a:pt x="166" y="352"/>
                    </a:cubicBezTo>
                    <a:cubicBezTo>
                      <a:pt x="141" y="345"/>
                      <a:pt x="112" y="324"/>
                      <a:pt x="129" y="315"/>
                    </a:cubicBezTo>
                    <a:cubicBezTo>
                      <a:pt x="146" y="306"/>
                      <a:pt x="225" y="307"/>
                      <a:pt x="271" y="300"/>
                    </a:cubicBezTo>
                    <a:cubicBezTo>
                      <a:pt x="317" y="293"/>
                      <a:pt x="368" y="283"/>
                      <a:pt x="406" y="270"/>
                    </a:cubicBezTo>
                    <a:cubicBezTo>
                      <a:pt x="444" y="257"/>
                      <a:pt x="465" y="222"/>
                      <a:pt x="496" y="225"/>
                    </a:cubicBezTo>
                    <a:cubicBezTo>
                      <a:pt x="527" y="228"/>
                      <a:pt x="555" y="279"/>
                      <a:pt x="594" y="285"/>
                    </a:cubicBezTo>
                    <a:cubicBezTo>
                      <a:pt x="633" y="291"/>
                      <a:pt x="690" y="280"/>
                      <a:pt x="729" y="262"/>
                    </a:cubicBezTo>
                    <a:cubicBezTo>
                      <a:pt x="768" y="244"/>
                      <a:pt x="807" y="206"/>
                      <a:pt x="826" y="180"/>
                    </a:cubicBezTo>
                    <a:cubicBezTo>
                      <a:pt x="845" y="154"/>
                      <a:pt x="846" y="117"/>
                      <a:pt x="841" y="105"/>
                    </a:cubicBezTo>
                    <a:cubicBezTo>
                      <a:pt x="836" y="93"/>
                      <a:pt x="790" y="99"/>
                      <a:pt x="796" y="105"/>
                    </a:cubicBezTo>
                    <a:cubicBezTo>
                      <a:pt x="802" y="111"/>
                      <a:pt x="864" y="140"/>
                      <a:pt x="879" y="1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88240" y="3670200"/>
                <a:ext cx="220680" cy="285840"/>
              </a:xfrm>
              <a:custGeom>
                <a:avLst/>
                <a:gdLst/>
                <a:ahLst/>
                <a:rect l="l" t="t" r="r" b="b"/>
                <a:pathLst>
                  <a:path w="366" h="473">
                    <a:moveTo>
                      <a:pt x="257" y="98"/>
                    </a:moveTo>
                    <a:cubicBezTo>
                      <a:pt x="279" y="103"/>
                      <a:pt x="301" y="108"/>
                      <a:pt x="317" y="120"/>
                    </a:cubicBezTo>
                    <a:cubicBezTo>
                      <a:pt x="333" y="132"/>
                      <a:pt x="366" y="169"/>
                      <a:pt x="354" y="173"/>
                    </a:cubicBezTo>
                    <a:cubicBezTo>
                      <a:pt x="342" y="177"/>
                      <a:pt x="273" y="155"/>
                      <a:pt x="242" y="143"/>
                    </a:cubicBezTo>
                    <a:cubicBezTo>
                      <a:pt x="211" y="131"/>
                      <a:pt x="189" y="102"/>
                      <a:pt x="167" y="98"/>
                    </a:cubicBezTo>
                    <a:cubicBezTo>
                      <a:pt x="145" y="94"/>
                      <a:pt x="109" y="136"/>
                      <a:pt x="107" y="120"/>
                    </a:cubicBezTo>
                    <a:cubicBezTo>
                      <a:pt x="105" y="104"/>
                      <a:pt x="152" y="0"/>
                      <a:pt x="152" y="0"/>
                    </a:cubicBezTo>
                    <a:cubicBezTo>
                      <a:pt x="152" y="0"/>
                      <a:pt x="130" y="80"/>
                      <a:pt x="107" y="120"/>
                    </a:cubicBezTo>
                    <a:cubicBezTo>
                      <a:pt x="84" y="160"/>
                      <a:pt x="34" y="206"/>
                      <a:pt x="17" y="240"/>
                    </a:cubicBezTo>
                    <a:cubicBezTo>
                      <a:pt x="0" y="274"/>
                      <a:pt x="3" y="292"/>
                      <a:pt x="2" y="323"/>
                    </a:cubicBezTo>
                    <a:cubicBezTo>
                      <a:pt x="1" y="354"/>
                      <a:pt x="0" y="403"/>
                      <a:pt x="9" y="428"/>
                    </a:cubicBezTo>
                    <a:cubicBezTo>
                      <a:pt x="18" y="453"/>
                      <a:pt x="42" y="464"/>
                      <a:pt x="54" y="4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623000" y="3689280"/>
                <a:ext cx="92160" cy="154080"/>
              </a:xfrm>
              <a:custGeom>
                <a:avLst/>
                <a:gdLst/>
                <a:ahLst/>
                <a:rect l="l" t="t" r="r" b="b"/>
                <a:pathLst>
                  <a:path w="153" h="255">
                    <a:moveTo>
                      <a:pt x="22" y="0"/>
                    </a:moveTo>
                    <a:cubicBezTo>
                      <a:pt x="49" y="13"/>
                      <a:pt x="77" y="26"/>
                      <a:pt x="97" y="45"/>
                    </a:cubicBezTo>
                    <a:cubicBezTo>
                      <a:pt x="117" y="64"/>
                      <a:pt x="135" y="86"/>
                      <a:pt x="142" y="113"/>
                    </a:cubicBezTo>
                    <a:cubicBezTo>
                      <a:pt x="149" y="140"/>
                      <a:pt x="153" y="186"/>
                      <a:pt x="142" y="210"/>
                    </a:cubicBezTo>
                    <a:cubicBezTo>
                      <a:pt x="131" y="234"/>
                      <a:pt x="92" y="255"/>
                      <a:pt x="75" y="255"/>
                    </a:cubicBezTo>
                    <a:cubicBezTo>
                      <a:pt x="58" y="255"/>
                      <a:pt x="49" y="230"/>
                      <a:pt x="37" y="210"/>
                    </a:cubicBezTo>
                    <a:cubicBezTo>
                      <a:pt x="25" y="190"/>
                      <a:pt x="9" y="150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461360" y="3695760"/>
                <a:ext cx="207720" cy="163440"/>
              </a:xfrm>
              <a:custGeom>
                <a:avLst/>
                <a:gdLst/>
                <a:ahLst/>
                <a:rect l="l" t="t" r="r" b="b"/>
                <a:pathLst>
                  <a:path w="345" h="271">
                    <a:moveTo>
                      <a:pt x="291" y="229"/>
                    </a:moveTo>
                    <a:cubicBezTo>
                      <a:pt x="267" y="238"/>
                      <a:pt x="243" y="247"/>
                      <a:pt x="224" y="252"/>
                    </a:cubicBezTo>
                    <a:cubicBezTo>
                      <a:pt x="205" y="257"/>
                      <a:pt x="194" y="271"/>
                      <a:pt x="179" y="259"/>
                    </a:cubicBezTo>
                    <a:cubicBezTo>
                      <a:pt x="164" y="247"/>
                      <a:pt x="149" y="192"/>
                      <a:pt x="134" y="177"/>
                    </a:cubicBezTo>
                    <a:cubicBezTo>
                      <a:pt x="119" y="162"/>
                      <a:pt x="110" y="160"/>
                      <a:pt x="89" y="169"/>
                    </a:cubicBezTo>
                    <a:cubicBezTo>
                      <a:pt x="68" y="178"/>
                      <a:pt x="12" y="230"/>
                      <a:pt x="6" y="229"/>
                    </a:cubicBezTo>
                    <a:cubicBezTo>
                      <a:pt x="0" y="228"/>
                      <a:pt x="44" y="187"/>
                      <a:pt x="51" y="162"/>
                    </a:cubicBezTo>
                    <a:cubicBezTo>
                      <a:pt x="58" y="137"/>
                      <a:pt x="38" y="95"/>
                      <a:pt x="51" y="79"/>
                    </a:cubicBezTo>
                    <a:cubicBezTo>
                      <a:pt x="64" y="63"/>
                      <a:pt x="114" y="76"/>
                      <a:pt x="126" y="64"/>
                    </a:cubicBezTo>
                    <a:cubicBezTo>
                      <a:pt x="138" y="52"/>
                      <a:pt x="115" y="0"/>
                      <a:pt x="126" y="4"/>
                    </a:cubicBezTo>
                    <a:cubicBezTo>
                      <a:pt x="137" y="8"/>
                      <a:pt x="172" y="71"/>
                      <a:pt x="194" y="87"/>
                    </a:cubicBezTo>
                    <a:cubicBezTo>
                      <a:pt x="216" y="103"/>
                      <a:pt x="237" y="93"/>
                      <a:pt x="261" y="102"/>
                    </a:cubicBezTo>
                    <a:cubicBezTo>
                      <a:pt x="285" y="111"/>
                      <a:pt x="327" y="144"/>
                      <a:pt x="336" y="139"/>
                    </a:cubicBezTo>
                    <a:cubicBezTo>
                      <a:pt x="345" y="134"/>
                      <a:pt x="332" y="92"/>
                      <a:pt x="314" y="72"/>
                    </a:cubicBezTo>
                    <a:cubicBezTo>
                      <a:pt x="296" y="52"/>
                      <a:pt x="250" y="30"/>
                      <a:pt x="23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9520" y="3767040"/>
                <a:ext cx="41400" cy="112680"/>
              </a:xfrm>
              <a:custGeom>
                <a:avLst/>
                <a:gdLst/>
                <a:ahLst/>
                <a:rect l="l" t="t" r="r" b="b"/>
                <a:pathLst>
                  <a:path w="69" h="187">
                    <a:moveTo>
                      <a:pt x="0" y="0"/>
                    </a:moveTo>
                    <a:cubicBezTo>
                      <a:pt x="11" y="37"/>
                      <a:pt x="22" y="75"/>
                      <a:pt x="23" y="105"/>
                    </a:cubicBezTo>
                    <a:cubicBezTo>
                      <a:pt x="24" y="135"/>
                      <a:pt x="2" y="173"/>
                      <a:pt x="8" y="180"/>
                    </a:cubicBezTo>
                    <a:cubicBezTo>
                      <a:pt x="14" y="187"/>
                      <a:pt x="51" y="174"/>
                      <a:pt x="60" y="150"/>
                    </a:cubicBezTo>
                    <a:cubicBezTo>
                      <a:pt x="69" y="126"/>
                      <a:pt x="61" y="58"/>
                      <a:pt x="60" y="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69200" y="3579840"/>
                <a:ext cx="176040" cy="60120"/>
              </a:xfrm>
              <a:custGeom>
                <a:avLst/>
                <a:gdLst/>
                <a:ahLst/>
                <a:rect l="l" t="t" r="r" b="b"/>
                <a:pathLst>
                  <a:path w="292" h="99">
                    <a:moveTo>
                      <a:pt x="292" y="9"/>
                    </a:moveTo>
                    <a:cubicBezTo>
                      <a:pt x="263" y="4"/>
                      <a:pt x="234" y="0"/>
                      <a:pt x="210" y="1"/>
                    </a:cubicBezTo>
                    <a:cubicBezTo>
                      <a:pt x="186" y="2"/>
                      <a:pt x="176" y="2"/>
                      <a:pt x="150" y="16"/>
                    </a:cubicBezTo>
                    <a:cubicBezTo>
                      <a:pt x="124" y="30"/>
                      <a:pt x="77" y="70"/>
                      <a:pt x="52" y="84"/>
                    </a:cubicBezTo>
                    <a:cubicBezTo>
                      <a:pt x="27" y="98"/>
                      <a:pt x="10" y="96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7443720" y="3944880"/>
              <a:ext cx="358920" cy="3603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515" y="191"/>
                  </a:moveTo>
                  <a:cubicBezTo>
                    <a:pt x="491" y="171"/>
                    <a:pt x="474" y="148"/>
                    <a:pt x="448" y="131"/>
                  </a:cubicBezTo>
                  <a:cubicBezTo>
                    <a:pt x="422" y="114"/>
                    <a:pt x="390" y="102"/>
                    <a:pt x="358" y="86"/>
                  </a:cubicBezTo>
                  <a:cubicBezTo>
                    <a:pt x="326" y="70"/>
                    <a:pt x="288" y="45"/>
                    <a:pt x="253" y="34"/>
                  </a:cubicBezTo>
                  <a:cubicBezTo>
                    <a:pt x="218" y="23"/>
                    <a:pt x="187" y="0"/>
                    <a:pt x="148" y="19"/>
                  </a:cubicBezTo>
                  <a:cubicBezTo>
                    <a:pt x="109" y="38"/>
                    <a:pt x="40" y="102"/>
                    <a:pt x="20" y="146"/>
                  </a:cubicBezTo>
                  <a:cubicBezTo>
                    <a:pt x="0" y="190"/>
                    <a:pt x="12" y="242"/>
                    <a:pt x="28" y="281"/>
                  </a:cubicBezTo>
                  <a:cubicBezTo>
                    <a:pt x="44" y="320"/>
                    <a:pt x="78" y="360"/>
                    <a:pt x="118" y="379"/>
                  </a:cubicBezTo>
                  <a:cubicBezTo>
                    <a:pt x="158" y="398"/>
                    <a:pt x="207" y="403"/>
                    <a:pt x="268" y="394"/>
                  </a:cubicBezTo>
                  <a:cubicBezTo>
                    <a:pt x="329" y="385"/>
                    <a:pt x="480" y="327"/>
                    <a:pt x="485" y="326"/>
                  </a:cubicBezTo>
                  <a:cubicBezTo>
                    <a:pt x="490" y="325"/>
                    <a:pt x="354" y="376"/>
                    <a:pt x="298" y="386"/>
                  </a:cubicBezTo>
                  <a:cubicBezTo>
                    <a:pt x="242" y="396"/>
                    <a:pt x="182" y="392"/>
                    <a:pt x="148" y="386"/>
                  </a:cubicBezTo>
                  <a:cubicBezTo>
                    <a:pt x="114" y="380"/>
                    <a:pt x="115" y="356"/>
                    <a:pt x="95" y="349"/>
                  </a:cubicBezTo>
                  <a:cubicBezTo>
                    <a:pt x="75" y="342"/>
                    <a:pt x="38" y="329"/>
                    <a:pt x="28" y="341"/>
                  </a:cubicBezTo>
                  <a:cubicBezTo>
                    <a:pt x="18" y="353"/>
                    <a:pt x="25" y="413"/>
                    <a:pt x="35" y="424"/>
                  </a:cubicBezTo>
                  <a:cubicBezTo>
                    <a:pt x="45" y="435"/>
                    <a:pt x="68" y="414"/>
                    <a:pt x="88" y="409"/>
                  </a:cubicBezTo>
                  <a:cubicBezTo>
                    <a:pt x="108" y="404"/>
                    <a:pt x="161" y="390"/>
                    <a:pt x="155" y="394"/>
                  </a:cubicBezTo>
                  <a:cubicBezTo>
                    <a:pt x="149" y="398"/>
                    <a:pt x="64" y="414"/>
                    <a:pt x="50" y="431"/>
                  </a:cubicBezTo>
                  <a:cubicBezTo>
                    <a:pt x="36" y="448"/>
                    <a:pt x="61" y="478"/>
                    <a:pt x="73" y="499"/>
                  </a:cubicBezTo>
                  <a:cubicBezTo>
                    <a:pt x="85" y="520"/>
                    <a:pt x="106" y="543"/>
                    <a:pt x="125" y="559"/>
                  </a:cubicBezTo>
                  <a:cubicBezTo>
                    <a:pt x="144" y="575"/>
                    <a:pt x="156" y="598"/>
                    <a:pt x="185" y="596"/>
                  </a:cubicBezTo>
                  <a:cubicBezTo>
                    <a:pt x="214" y="594"/>
                    <a:pt x="287" y="559"/>
                    <a:pt x="298" y="544"/>
                  </a:cubicBezTo>
                  <a:cubicBezTo>
                    <a:pt x="309" y="529"/>
                    <a:pt x="239" y="510"/>
                    <a:pt x="253" y="506"/>
                  </a:cubicBezTo>
                  <a:cubicBezTo>
                    <a:pt x="267" y="502"/>
                    <a:pt x="339" y="528"/>
                    <a:pt x="380" y="521"/>
                  </a:cubicBezTo>
                  <a:cubicBezTo>
                    <a:pt x="421" y="514"/>
                    <a:pt x="469" y="489"/>
                    <a:pt x="500" y="461"/>
                  </a:cubicBezTo>
                  <a:cubicBezTo>
                    <a:pt x="531" y="433"/>
                    <a:pt x="553" y="391"/>
                    <a:pt x="568" y="356"/>
                  </a:cubicBezTo>
                  <a:cubicBezTo>
                    <a:pt x="583" y="321"/>
                    <a:pt x="596" y="277"/>
                    <a:pt x="590" y="251"/>
                  </a:cubicBezTo>
                  <a:cubicBezTo>
                    <a:pt x="584" y="225"/>
                    <a:pt x="539" y="211"/>
                    <a:pt x="515" y="191"/>
                  </a:cubicBez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53360" y="4129200"/>
              <a:ext cx="236520" cy="264960"/>
            </a:xfrm>
            <a:custGeom>
              <a:avLst/>
              <a:gdLst/>
              <a:ahLst/>
              <a:rect l="l" t="t" r="r" b="b"/>
              <a:pathLst>
                <a:path w="391" h="440">
                  <a:moveTo>
                    <a:pt x="176" y="0"/>
                  </a:moveTo>
                  <a:cubicBezTo>
                    <a:pt x="179" y="14"/>
                    <a:pt x="151" y="65"/>
                    <a:pt x="161" y="97"/>
                  </a:cubicBezTo>
                  <a:cubicBezTo>
                    <a:pt x="171" y="129"/>
                    <a:pt x="215" y="166"/>
                    <a:pt x="236" y="195"/>
                  </a:cubicBezTo>
                  <a:cubicBezTo>
                    <a:pt x="257" y="224"/>
                    <a:pt x="268" y="238"/>
                    <a:pt x="288" y="270"/>
                  </a:cubicBezTo>
                  <a:cubicBezTo>
                    <a:pt x="308" y="302"/>
                    <a:pt x="340" y="363"/>
                    <a:pt x="356" y="390"/>
                  </a:cubicBezTo>
                  <a:cubicBezTo>
                    <a:pt x="372" y="417"/>
                    <a:pt x="391" y="430"/>
                    <a:pt x="386" y="435"/>
                  </a:cubicBezTo>
                  <a:cubicBezTo>
                    <a:pt x="381" y="440"/>
                    <a:pt x="345" y="424"/>
                    <a:pt x="326" y="420"/>
                  </a:cubicBezTo>
                  <a:cubicBezTo>
                    <a:pt x="307" y="416"/>
                    <a:pt x="289" y="421"/>
                    <a:pt x="273" y="412"/>
                  </a:cubicBezTo>
                  <a:cubicBezTo>
                    <a:pt x="257" y="403"/>
                    <a:pt x="240" y="386"/>
                    <a:pt x="228" y="367"/>
                  </a:cubicBezTo>
                  <a:cubicBezTo>
                    <a:pt x="216" y="348"/>
                    <a:pt x="208" y="317"/>
                    <a:pt x="198" y="300"/>
                  </a:cubicBezTo>
                  <a:cubicBezTo>
                    <a:pt x="188" y="283"/>
                    <a:pt x="181" y="273"/>
                    <a:pt x="168" y="262"/>
                  </a:cubicBezTo>
                  <a:cubicBezTo>
                    <a:pt x="155" y="251"/>
                    <a:pt x="135" y="244"/>
                    <a:pt x="123" y="232"/>
                  </a:cubicBezTo>
                  <a:cubicBezTo>
                    <a:pt x="111" y="220"/>
                    <a:pt x="98" y="204"/>
                    <a:pt x="93" y="187"/>
                  </a:cubicBezTo>
                  <a:cubicBezTo>
                    <a:pt x="88" y="170"/>
                    <a:pt x="101" y="141"/>
                    <a:pt x="93" y="127"/>
                  </a:cubicBezTo>
                  <a:cubicBezTo>
                    <a:pt x="85" y="113"/>
                    <a:pt x="62" y="115"/>
                    <a:pt x="48" y="105"/>
                  </a:cubicBezTo>
                  <a:cubicBezTo>
                    <a:pt x="34" y="95"/>
                    <a:pt x="0" y="80"/>
                    <a:pt x="11" y="67"/>
                  </a:cubicBezTo>
                  <a:cubicBezTo>
                    <a:pt x="22" y="54"/>
                    <a:pt x="89" y="41"/>
                    <a:pt x="116" y="30"/>
                  </a:cubicBezTo>
                  <a:cubicBezTo>
                    <a:pt x="143" y="19"/>
                    <a:pt x="164" y="6"/>
                    <a:pt x="176" y="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111720" y="2452680"/>
            <a:ext cx="777960" cy="984240"/>
            <a:chOff x="6111720" y="2452680"/>
            <a:chExt cx="777960" cy="984240"/>
          </a:xfrm>
        </p:grpSpPr>
        <p:sp>
          <p:nvSpPr>
            <p:cNvPr id="499" name=""/>
            <p:cNvSpPr/>
            <p:nvPr/>
          </p:nvSpPr>
          <p:spPr>
            <a:xfrm>
              <a:off x="6111720" y="2452680"/>
              <a:ext cx="777960" cy="984240"/>
            </a:xfrm>
            <a:custGeom>
              <a:avLst/>
              <a:gdLst/>
              <a:ahLst/>
              <a:rect l="l" t="t" r="r" b="b"/>
              <a:pathLst>
                <a:path w="2767" h="4762">
                  <a:moveTo>
                    <a:pt x="995" y="60"/>
                  </a:moveTo>
                  <a:cubicBezTo>
                    <a:pt x="1050" y="53"/>
                    <a:pt x="1213" y="8"/>
                    <a:pt x="1325" y="15"/>
                  </a:cubicBezTo>
                  <a:cubicBezTo>
                    <a:pt x="1437" y="22"/>
                    <a:pt x="1580" y="62"/>
                    <a:pt x="1670" y="105"/>
                  </a:cubicBezTo>
                  <a:cubicBezTo>
                    <a:pt x="1760" y="148"/>
                    <a:pt x="1830" y="183"/>
                    <a:pt x="1865" y="270"/>
                  </a:cubicBezTo>
                  <a:cubicBezTo>
                    <a:pt x="1900" y="357"/>
                    <a:pt x="1900" y="525"/>
                    <a:pt x="1880" y="630"/>
                  </a:cubicBezTo>
                  <a:cubicBezTo>
                    <a:pt x="1860" y="735"/>
                    <a:pt x="1780" y="820"/>
                    <a:pt x="1745" y="900"/>
                  </a:cubicBezTo>
                  <a:cubicBezTo>
                    <a:pt x="1710" y="980"/>
                    <a:pt x="1670" y="1043"/>
                    <a:pt x="1670" y="1110"/>
                  </a:cubicBezTo>
                  <a:cubicBezTo>
                    <a:pt x="1670" y="1177"/>
                    <a:pt x="1653" y="1235"/>
                    <a:pt x="1745" y="1305"/>
                  </a:cubicBezTo>
                  <a:cubicBezTo>
                    <a:pt x="1837" y="1375"/>
                    <a:pt x="2110" y="1472"/>
                    <a:pt x="2225" y="1530"/>
                  </a:cubicBezTo>
                  <a:cubicBezTo>
                    <a:pt x="2340" y="1588"/>
                    <a:pt x="2380" y="1595"/>
                    <a:pt x="2435" y="1650"/>
                  </a:cubicBezTo>
                  <a:cubicBezTo>
                    <a:pt x="2490" y="1705"/>
                    <a:pt x="2528" y="1763"/>
                    <a:pt x="2555" y="1860"/>
                  </a:cubicBezTo>
                  <a:cubicBezTo>
                    <a:pt x="2582" y="1957"/>
                    <a:pt x="2570" y="2000"/>
                    <a:pt x="2600" y="2235"/>
                  </a:cubicBezTo>
                  <a:cubicBezTo>
                    <a:pt x="2630" y="2470"/>
                    <a:pt x="2708" y="3053"/>
                    <a:pt x="2735" y="3270"/>
                  </a:cubicBezTo>
                  <a:cubicBezTo>
                    <a:pt x="2762" y="3487"/>
                    <a:pt x="2767" y="3433"/>
                    <a:pt x="2765" y="3540"/>
                  </a:cubicBezTo>
                  <a:cubicBezTo>
                    <a:pt x="2763" y="3647"/>
                    <a:pt x="2738" y="3770"/>
                    <a:pt x="2720" y="3915"/>
                  </a:cubicBezTo>
                  <a:cubicBezTo>
                    <a:pt x="2702" y="4060"/>
                    <a:pt x="2670" y="4285"/>
                    <a:pt x="2660" y="4410"/>
                  </a:cubicBezTo>
                  <a:cubicBezTo>
                    <a:pt x="2650" y="4535"/>
                    <a:pt x="2718" y="4622"/>
                    <a:pt x="2660" y="4665"/>
                  </a:cubicBezTo>
                  <a:cubicBezTo>
                    <a:pt x="2602" y="4708"/>
                    <a:pt x="2355" y="4697"/>
                    <a:pt x="2315" y="4665"/>
                  </a:cubicBezTo>
                  <a:cubicBezTo>
                    <a:pt x="2275" y="4633"/>
                    <a:pt x="2398" y="4570"/>
                    <a:pt x="2420" y="4470"/>
                  </a:cubicBezTo>
                  <a:cubicBezTo>
                    <a:pt x="2442" y="4370"/>
                    <a:pt x="2462" y="4225"/>
                    <a:pt x="2450" y="4065"/>
                  </a:cubicBezTo>
                  <a:cubicBezTo>
                    <a:pt x="2438" y="3905"/>
                    <a:pt x="2357" y="3655"/>
                    <a:pt x="2345" y="3510"/>
                  </a:cubicBezTo>
                  <a:cubicBezTo>
                    <a:pt x="2333" y="3365"/>
                    <a:pt x="2387" y="3337"/>
                    <a:pt x="2375" y="3195"/>
                  </a:cubicBezTo>
                  <a:cubicBezTo>
                    <a:pt x="2363" y="3053"/>
                    <a:pt x="2302" y="2767"/>
                    <a:pt x="2270" y="2655"/>
                  </a:cubicBezTo>
                  <a:cubicBezTo>
                    <a:pt x="2238" y="2543"/>
                    <a:pt x="2215" y="2417"/>
                    <a:pt x="2180" y="2520"/>
                  </a:cubicBezTo>
                  <a:cubicBezTo>
                    <a:pt x="2145" y="2623"/>
                    <a:pt x="2065" y="3070"/>
                    <a:pt x="2060" y="3270"/>
                  </a:cubicBezTo>
                  <a:cubicBezTo>
                    <a:pt x="2055" y="3470"/>
                    <a:pt x="2125" y="3533"/>
                    <a:pt x="2150" y="3720"/>
                  </a:cubicBezTo>
                  <a:cubicBezTo>
                    <a:pt x="2175" y="3907"/>
                    <a:pt x="2190" y="4230"/>
                    <a:pt x="2210" y="4395"/>
                  </a:cubicBezTo>
                  <a:cubicBezTo>
                    <a:pt x="2230" y="4560"/>
                    <a:pt x="2338" y="4658"/>
                    <a:pt x="2270" y="4710"/>
                  </a:cubicBezTo>
                  <a:cubicBezTo>
                    <a:pt x="2202" y="4762"/>
                    <a:pt x="1967" y="4710"/>
                    <a:pt x="1805" y="4710"/>
                  </a:cubicBezTo>
                  <a:cubicBezTo>
                    <a:pt x="1643" y="4710"/>
                    <a:pt x="1457" y="4710"/>
                    <a:pt x="1295" y="4710"/>
                  </a:cubicBezTo>
                  <a:cubicBezTo>
                    <a:pt x="1133" y="4710"/>
                    <a:pt x="957" y="4710"/>
                    <a:pt x="830" y="4710"/>
                  </a:cubicBezTo>
                  <a:cubicBezTo>
                    <a:pt x="703" y="4710"/>
                    <a:pt x="575" y="4762"/>
                    <a:pt x="530" y="4710"/>
                  </a:cubicBezTo>
                  <a:cubicBezTo>
                    <a:pt x="485" y="4658"/>
                    <a:pt x="543" y="4537"/>
                    <a:pt x="560" y="4395"/>
                  </a:cubicBezTo>
                  <a:cubicBezTo>
                    <a:pt x="577" y="4253"/>
                    <a:pt x="623" y="4005"/>
                    <a:pt x="635" y="3855"/>
                  </a:cubicBezTo>
                  <a:cubicBezTo>
                    <a:pt x="647" y="3705"/>
                    <a:pt x="625" y="3607"/>
                    <a:pt x="635" y="3495"/>
                  </a:cubicBezTo>
                  <a:cubicBezTo>
                    <a:pt x="645" y="3383"/>
                    <a:pt x="698" y="3280"/>
                    <a:pt x="695" y="3180"/>
                  </a:cubicBezTo>
                  <a:cubicBezTo>
                    <a:pt x="692" y="3080"/>
                    <a:pt x="637" y="3000"/>
                    <a:pt x="620" y="2895"/>
                  </a:cubicBezTo>
                  <a:cubicBezTo>
                    <a:pt x="603" y="2790"/>
                    <a:pt x="612" y="2567"/>
                    <a:pt x="590" y="2550"/>
                  </a:cubicBezTo>
                  <a:cubicBezTo>
                    <a:pt x="568" y="2533"/>
                    <a:pt x="512" y="2665"/>
                    <a:pt x="485" y="2790"/>
                  </a:cubicBezTo>
                  <a:cubicBezTo>
                    <a:pt x="458" y="2915"/>
                    <a:pt x="435" y="3168"/>
                    <a:pt x="425" y="3300"/>
                  </a:cubicBezTo>
                  <a:cubicBezTo>
                    <a:pt x="415" y="3432"/>
                    <a:pt x="432" y="3468"/>
                    <a:pt x="425" y="3585"/>
                  </a:cubicBezTo>
                  <a:cubicBezTo>
                    <a:pt x="418" y="3702"/>
                    <a:pt x="387" y="3873"/>
                    <a:pt x="380" y="4005"/>
                  </a:cubicBezTo>
                  <a:cubicBezTo>
                    <a:pt x="373" y="4137"/>
                    <a:pt x="375" y="4275"/>
                    <a:pt x="380" y="4380"/>
                  </a:cubicBezTo>
                  <a:cubicBezTo>
                    <a:pt x="385" y="4485"/>
                    <a:pt x="395" y="4580"/>
                    <a:pt x="410" y="4635"/>
                  </a:cubicBezTo>
                  <a:cubicBezTo>
                    <a:pt x="425" y="4690"/>
                    <a:pt x="515" y="4698"/>
                    <a:pt x="470" y="4710"/>
                  </a:cubicBezTo>
                  <a:cubicBezTo>
                    <a:pt x="425" y="4722"/>
                    <a:pt x="200" y="4748"/>
                    <a:pt x="140" y="4710"/>
                  </a:cubicBezTo>
                  <a:cubicBezTo>
                    <a:pt x="80" y="4672"/>
                    <a:pt x="122" y="4627"/>
                    <a:pt x="110" y="4485"/>
                  </a:cubicBezTo>
                  <a:cubicBezTo>
                    <a:pt x="98" y="4343"/>
                    <a:pt x="82" y="4017"/>
                    <a:pt x="65" y="3855"/>
                  </a:cubicBezTo>
                  <a:cubicBezTo>
                    <a:pt x="48" y="3693"/>
                    <a:pt x="0" y="3642"/>
                    <a:pt x="5" y="3510"/>
                  </a:cubicBezTo>
                  <a:cubicBezTo>
                    <a:pt x="10" y="3378"/>
                    <a:pt x="80" y="3172"/>
                    <a:pt x="95" y="3060"/>
                  </a:cubicBezTo>
                  <a:cubicBezTo>
                    <a:pt x="110" y="2948"/>
                    <a:pt x="93" y="2907"/>
                    <a:pt x="95" y="2835"/>
                  </a:cubicBezTo>
                  <a:cubicBezTo>
                    <a:pt x="97" y="2763"/>
                    <a:pt x="102" y="2710"/>
                    <a:pt x="110" y="2625"/>
                  </a:cubicBezTo>
                  <a:cubicBezTo>
                    <a:pt x="118" y="2540"/>
                    <a:pt x="132" y="2405"/>
                    <a:pt x="140" y="2325"/>
                  </a:cubicBezTo>
                  <a:cubicBezTo>
                    <a:pt x="148" y="2245"/>
                    <a:pt x="135" y="2260"/>
                    <a:pt x="155" y="2145"/>
                  </a:cubicBezTo>
                  <a:cubicBezTo>
                    <a:pt x="175" y="2030"/>
                    <a:pt x="175" y="1748"/>
                    <a:pt x="260" y="1635"/>
                  </a:cubicBezTo>
                  <a:cubicBezTo>
                    <a:pt x="345" y="1522"/>
                    <a:pt x="553" y="1517"/>
                    <a:pt x="665" y="1470"/>
                  </a:cubicBezTo>
                  <a:cubicBezTo>
                    <a:pt x="777" y="1423"/>
                    <a:pt x="868" y="1377"/>
                    <a:pt x="935" y="1350"/>
                  </a:cubicBezTo>
                  <a:cubicBezTo>
                    <a:pt x="1002" y="1323"/>
                    <a:pt x="1060" y="1337"/>
                    <a:pt x="1070" y="1305"/>
                  </a:cubicBezTo>
                  <a:cubicBezTo>
                    <a:pt x="1080" y="1273"/>
                    <a:pt x="1032" y="1185"/>
                    <a:pt x="995" y="1155"/>
                  </a:cubicBezTo>
                  <a:cubicBezTo>
                    <a:pt x="958" y="1125"/>
                    <a:pt x="890" y="1140"/>
                    <a:pt x="845" y="1125"/>
                  </a:cubicBezTo>
                  <a:cubicBezTo>
                    <a:pt x="800" y="1110"/>
                    <a:pt x="740" y="1092"/>
                    <a:pt x="725" y="1065"/>
                  </a:cubicBezTo>
                  <a:cubicBezTo>
                    <a:pt x="710" y="1038"/>
                    <a:pt x="753" y="992"/>
                    <a:pt x="755" y="960"/>
                  </a:cubicBezTo>
                  <a:cubicBezTo>
                    <a:pt x="757" y="928"/>
                    <a:pt x="733" y="900"/>
                    <a:pt x="740" y="870"/>
                  </a:cubicBezTo>
                  <a:cubicBezTo>
                    <a:pt x="747" y="840"/>
                    <a:pt x="807" y="795"/>
                    <a:pt x="800" y="780"/>
                  </a:cubicBezTo>
                  <a:cubicBezTo>
                    <a:pt x="793" y="765"/>
                    <a:pt x="707" y="795"/>
                    <a:pt x="695" y="780"/>
                  </a:cubicBezTo>
                  <a:cubicBezTo>
                    <a:pt x="683" y="765"/>
                    <a:pt x="713" y="720"/>
                    <a:pt x="725" y="690"/>
                  </a:cubicBezTo>
                  <a:cubicBezTo>
                    <a:pt x="737" y="660"/>
                    <a:pt x="755" y="632"/>
                    <a:pt x="770" y="600"/>
                  </a:cubicBezTo>
                  <a:cubicBezTo>
                    <a:pt x="785" y="568"/>
                    <a:pt x="800" y="550"/>
                    <a:pt x="815" y="495"/>
                  </a:cubicBezTo>
                  <a:cubicBezTo>
                    <a:pt x="830" y="440"/>
                    <a:pt x="832" y="345"/>
                    <a:pt x="860" y="270"/>
                  </a:cubicBezTo>
                  <a:cubicBezTo>
                    <a:pt x="888" y="195"/>
                    <a:pt x="898" y="90"/>
                    <a:pt x="980" y="45"/>
                  </a:cubicBezTo>
                  <a:cubicBezTo>
                    <a:pt x="1062" y="0"/>
                    <a:pt x="1277" y="9"/>
                    <a:pt x="1355" y="0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5520" y="2474280"/>
              <a:ext cx="261000" cy="120600"/>
            </a:xfrm>
            <a:custGeom>
              <a:avLst/>
              <a:gdLst/>
              <a:ahLst/>
              <a:rect l="l" t="t" r="r" b="b"/>
              <a:pathLst>
                <a:path w="929" h="585">
                  <a:moveTo>
                    <a:pt x="32" y="210"/>
                  </a:moveTo>
                  <a:cubicBezTo>
                    <a:pt x="55" y="163"/>
                    <a:pt x="105" y="123"/>
                    <a:pt x="152" y="90"/>
                  </a:cubicBezTo>
                  <a:cubicBezTo>
                    <a:pt x="199" y="57"/>
                    <a:pt x="255" y="27"/>
                    <a:pt x="317" y="15"/>
                  </a:cubicBezTo>
                  <a:cubicBezTo>
                    <a:pt x="379" y="3"/>
                    <a:pt x="462" y="0"/>
                    <a:pt x="527" y="15"/>
                  </a:cubicBezTo>
                  <a:cubicBezTo>
                    <a:pt x="592" y="30"/>
                    <a:pt x="652" y="75"/>
                    <a:pt x="707" y="105"/>
                  </a:cubicBezTo>
                  <a:cubicBezTo>
                    <a:pt x="762" y="135"/>
                    <a:pt x="824" y="150"/>
                    <a:pt x="857" y="195"/>
                  </a:cubicBezTo>
                  <a:cubicBezTo>
                    <a:pt x="890" y="240"/>
                    <a:pt x="895" y="315"/>
                    <a:pt x="902" y="375"/>
                  </a:cubicBezTo>
                  <a:cubicBezTo>
                    <a:pt x="909" y="435"/>
                    <a:pt x="929" y="525"/>
                    <a:pt x="902" y="555"/>
                  </a:cubicBezTo>
                  <a:cubicBezTo>
                    <a:pt x="875" y="585"/>
                    <a:pt x="789" y="560"/>
                    <a:pt x="737" y="555"/>
                  </a:cubicBezTo>
                  <a:cubicBezTo>
                    <a:pt x="685" y="550"/>
                    <a:pt x="637" y="530"/>
                    <a:pt x="587" y="525"/>
                  </a:cubicBezTo>
                  <a:cubicBezTo>
                    <a:pt x="537" y="520"/>
                    <a:pt x="487" y="520"/>
                    <a:pt x="437" y="525"/>
                  </a:cubicBezTo>
                  <a:cubicBezTo>
                    <a:pt x="387" y="530"/>
                    <a:pt x="319" y="575"/>
                    <a:pt x="287" y="555"/>
                  </a:cubicBezTo>
                  <a:cubicBezTo>
                    <a:pt x="255" y="535"/>
                    <a:pt x="267" y="427"/>
                    <a:pt x="242" y="405"/>
                  </a:cubicBezTo>
                  <a:cubicBezTo>
                    <a:pt x="217" y="383"/>
                    <a:pt x="174" y="425"/>
                    <a:pt x="137" y="420"/>
                  </a:cubicBezTo>
                  <a:cubicBezTo>
                    <a:pt x="100" y="415"/>
                    <a:pt x="34" y="410"/>
                    <a:pt x="17" y="375"/>
                  </a:cubicBezTo>
                  <a:cubicBezTo>
                    <a:pt x="0" y="340"/>
                    <a:pt x="9" y="257"/>
                    <a:pt x="32" y="21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7400" y="2581560"/>
              <a:ext cx="141120" cy="49680"/>
            </a:xfrm>
            <a:custGeom>
              <a:avLst/>
              <a:gdLst/>
              <a:ahLst/>
              <a:rect l="l" t="t" r="r" b="b"/>
              <a:pathLst>
                <a:path w="502" h="242">
                  <a:moveTo>
                    <a:pt x="15" y="20"/>
                  </a:moveTo>
                  <a:cubicBezTo>
                    <a:pt x="0" y="30"/>
                    <a:pt x="125" y="35"/>
                    <a:pt x="150" y="65"/>
                  </a:cubicBezTo>
                  <a:cubicBezTo>
                    <a:pt x="175" y="95"/>
                    <a:pt x="128" y="175"/>
                    <a:pt x="165" y="200"/>
                  </a:cubicBezTo>
                  <a:cubicBezTo>
                    <a:pt x="202" y="225"/>
                    <a:pt x="323" y="242"/>
                    <a:pt x="375" y="215"/>
                  </a:cubicBezTo>
                  <a:cubicBezTo>
                    <a:pt x="427" y="188"/>
                    <a:pt x="502" y="70"/>
                    <a:pt x="480" y="35"/>
                  </a:cubicBezTo>
                  <a:cubicBezTo>
                    <a:pt x="458" y="0"/>
                    <a:pt x="307" y="10"/>
                    <a:pt x="240" y="5"/>
                  </a:cubicBezTo>
                  <a:cubicBezTo>
                    <a:pt x="173" y="0"/>
                    <a:pt x="30" y="10"/>
                    <a:pt x="15" y="20"/>
                  </a:cubicBez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10520" y="2502000"/>
              <a:ext cx="13680" cy="108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1"/>
                  </a:moveTo>
                  <a:cubicBezTo>
                    <a:pt x="20" y="0"/>
                    <a:pt x="41" y="0"/>
                    <a:pt x="45" y="9"/>
                  </a:cubicBezTo>
                  <a:cubicBezTo>
                    <a:pt x="49" y="18"/>
                    <a:pt x="31" y="43"/>
                    <a:pt x="22" y="54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6160" y="2480400"/>
              <a:ext cx="8280" cy="1404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cubicBezTo>
                    <a:pt x="20" y="26"/>
                    <a:pt x="10" y="52"/>
                    <a:pt x="0" y="6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4120" y="2480400"/>
              <a:ext cx="76320" cy="69840"/>
            </a:xfrm>
            <a:custGeom>
              <a:avLst/>
              <a:gdLst/>
              <a:ahLst/>
              <a:rect l="l" t="t" r="r" b="b"/>
              <a:pathLst>
                <a:path w="272" h="338">
                  <a:moveTo>
                    <a:pt x="272" y="0"/>
                  </a:moveTo>
                  <a:cubicBezTo>
                    <a:pt x="239" y="20"/>
                    <a:pt x="206" y="41"/>
                    <a:pt x="189" y="60"/>
                  </a:cubicBezTo>
                  <a:cubicBezTo>
                    <a:pt x="172" y="79"/>
                    <a:pt x="178" y="103"/>
                    <a:pt x="167" y="113"/>
                  </a:cubicBezTo>
                  <a:cubicBezTo>
                    <a:pt x="156" y="123"/>
                    <a:pt x="132" y="106"/>
                    <a:pt x="122" y="120"/>
                  </a:cubicBezTo>
                  <a:cubicBezTo>
                    <a:pt x="112" y="134"/>
                    <a:pt x="117" y="171"/>
                    <a:pt x="107" y="195"/>
                  </a:cubicBezTo>
                  <a:cubicBezTo>
                    <a:pt x="97" y="219"/>
                    <a:pt x="80" y="252"/>
                    <a:pt x="62" y="263"/>
                  </a:cubicBezTo>
                  <a:cubicBezTo>
                    <a:pt x="44" y="274"/>
                    <a:pt x="0" y="264"/>
                    <a:pt x="2" y="263"/>
                  </a:cubicBezTo>
                  <a:cubicBezTo>
                    <a:pt x="4" y="262"/>
                    <a:pt x="65" y="243"/>
                    <a:pt x="77" y="255"/>
                  </a:cubicBezTo>
                  <a:cubicBezTo>
                    <a:pt x="89" y="267"/>
                    <a:pt x="83" y="302"/>
                    <a:pt x="77" y="33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58760" y="2483640"/>
              <a:ext cx="65520" cy="5760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233" y="0"/>
                  </a:moveTo>
                  <a:cubicBezTo>
                    <a:pt x="197" y="18"/>
                    <a:pt x="162" y="36"/>
                    <a:pt x="135" y="68"/>
                  </a:cubicBezTo>
                  <a:cubicBezTo>
                    <a:pt x="108" y="100"/>
                    <a:pt x="85" y="160"/>
                    <a:pt x="68" y="195"/>
                  </a:cubicBezTo>
                  <a:cubicBezTo>
                    <a:pt x="51" y="230"/>
                    <a:pt x="29" y="279"/>
                    <a:pt x="30" y="278"/>
                  </a:cubicBezTo>
                  <a:cubicBezTo>
                    <a:pt x="31" y="277"/>
                    <a:pt x="80" y="203"/>
                    <a:pt x="75" y="188"/>
                  </a:cubicBezTo>
                  <a:cubicBezTo>
                    <a:pt x="70" y="173"/>
                    <a:pt x="16" y="182"/>
                    <a:pt x="0" y="18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96920" y="2494440"/>
              <a:ext cx="50400" cy="40320"/>
            </a:xfrm>
            <a:custGeom>
              <a:avLst/>
              <a:gdLst/>
              <a:ahLst/>
              <a:rect l="l" t="t" r="r" b="b"/>
              <a:pathLst>
                <a:path w="180" h="195">
                  <a:moveTo>
                    <a:pt x="180" y="0"/>
                  </a:moveTo>
                  <a:cubicBezTo>
                    <a:pt x="151" y="14"/>
                    <a:pt x="122" y="28"/>
                    <a:pt x="105" y="52"/>
                  </a:cubicBezTo>
                  <a:cubicBezTo>
                    <a:pt x="88" y="76"/>
                    <a:pt x="93" y="118"/>
                    <a:pt x="75" y="142"/>
                  </a:cubicBezTo>
                  <a:cubicBezTo>
                    <a:pt x="57" y="166"/>
                    <a:pt x="28" y="180"/>
                    <a:pt x="0" y="19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8120" y="2503800"/>
              <a:ext cx="30600" cy="46440"/>
            </a:xfrm>
            <a:custGeom>
              <a:avLst/>
              <a:gdLst/>
              <a:ahLst/>
              <a:rect l="l" t="t" r="r" b="b"/>
              <a:pathLst>
                <a:path w="110" h="225">
                  <a:moveTo>
                    <a:pt x="67" y="0"/>
                  </a:moveTo>
                  <a:cubicBezTo>
                    <a:pt x="76" y="15"/>
                    <a:pt x="89" y="29"/>
                    <a:pt x="90" y="45"/>
                  </a:cubicBezTo>
                  <a:cubicBezTo>
                    <a:pt x="91" y="61"/>
                    <a:pt x="74" y="71"/>
                    <a:pt x="75" y="97"/>
                  </a:cubicBezTo>
                  <a:cubicBezTo>
                    <a:pt x="76" y="123"/>
                    <a:pt x="110" y="181"/>
                    <a:pt x="97" y="202"/>
                  </a:cubicBezTo>
                  <a:cubicBezTo>
                    <a:pt x="84" y="223"/>
                    <a:pt x="40" y="225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0040" y="2539440"/>
              <a:ext cx="118080" cy="21600"/>
            </a:xfrm>
            <a:custGeom>
              <a:avLst/>
              <a:gdLst/>
              <a:ahLst/>
              <a:rect l="l" t="t" r="r" b="b"/>
              <a:pathLst>
                <a:path w="420" h="105">
                  <a:moveTo>
                    <a:pt x="0" y="105"/>
                  </a:moveTo>
                  <a:cubicBezTo>
                    <a:pt x="22" y="88"/>
                    <a:pt x="44" y="72"/>
                    <a:pt x="67" y="60"/>
                  </a:cubicBezTo>
                  <a:cubicBezTo>
                    <a:pt x="90" y="48"/>
                    <a:pt x="109" y="35"/>
                    <a:pt x="135" y="30"/>
                  </a:cubicBezTo>
                  <a:cubicBezTo>
                    <a:pt x="161" y="25"/>
                    <a:pt x="195" y="30"/>
                    <a:pt x="225" y="30"/>
                  </a:cubicBezTo>
                  <a:cubicBezTo>
                    <a:pt x="255" y="30"/>
                    <a:pt x="283" y="35"/>
                    <a:pt x="315" y="30"/>
                  </a:cubicBezTo>
                  <a:cubicBezTo>
                    <a:pt x="347" y="25"/>
                    <a:pt x="398" y="9"/>
                    <a:pt x="420" y="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9560" y="2522520"/>
              <a:ext cx="22320" cy="1836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5" y="0"/>
                  </a:moveTo>
                  <a:cubicBezTo>
                    <a:pt x="2" y="18"/>
                    <a:pt x="0" y="37"/>
                    <a:pt x="12" y="52"/>
                  </a:cubicBezTo>
                  <a:cubicBezTo>
                    <a:pt x="24" y="67"/>
                    <a:pt x="68" y="84"/>
                    <a:pt x="80" y="9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3800" y="2550240"/>
              <a:ext cx="100440" cy="20160"/>
            </a:xfrm>
            <a:custGeom>
              <a:avLst/>
              <a:gdLst/>
              <a:ahLst/>
              <a:rect l="l" t="t" r="r" b="b"/>
              <a:pathLst>
                <a:path w="358" h="98">
                  <a:moveTo>
                    <a:pt x="6" y="98"/>
                  </a:moveTo>
                  <a:cubicBezTo>
                    <a:pt x="32" y="73"/>
                    <a:pt x="58" y="48"/>
                    <a:pt x="58" y="38"/>
                  </a:cubicBezTo>
                  <a:cubicBezTo>
                    <a:pt x="58" y="28"/>
                    <a:pt x="0" y="38"/>
                    <a:pt x="6" y="38"/>
                  </a:cubicBezTo>
                  <a:cubicBezTo>
                    <a:pt x="12" y="38"/>
                    <a:pt x="71" y="38"/>
                    <a:pt x="96" y="38"/>
                  </a:cubicBezTo>
                  <a:cubicBezTo>
                    <a:pt x="121" y="38"/>
                    <a:pt x="137" y="44"/>
                    <a:pt x="156" y="38"/>
                  </a:cubicBezTo>
                  <a:cubicBezTo>
                    <a:pt x="175" y="32"/>
                    <a:pt x="194" y="0"/>
                    <a:pt x="208" y="1"/>
                  </a:cubicBezTo>
                  <a:cubicBezTo>
                    <a:pt x="222" y="2"/>
                    <a:pt x="220" y="38"/>
                    <a:pt x="238" y="46"/>
                  </a:cubicBezTo>
                  <a:cubicBezTo>
                    <a:pt x="256" y="54"/>
                    <a:pt x="293" y="48"/>
                    <a:pt x="313" y="46"/>
                  </a:cubicBezTo>
                  <a:cubicBezTo>
                    <a:pt x="333" y="44"/>
                    <a:pt x="351" y="33"/>
                    <a:pt x="358" y="3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91960" y="2528640"/>
              <a:ext cx="15480" cy="24480"/>
            </a:xfrm>
            <a:custGeom>
              <a:avLst/>
              <a:gdLst/>
              <a:ahLst/>
              <a:rect l="l" t="t" r="r" b="b"/>
              <a:pathLst>
                <a:path w="56" h="120">
                  <a:moveTo>
                    <a:pt x="22" y="0"/>
                  </a:moveTo>
                  <a:cubicBezTo>
                    <a:pt x="39" y="35"/>
                    <a:pt x="56" y="70"/>
                    <a:pt x="52" y="90"/>
                  </a:cubicBezTo>
                  <a:cubicBezTo>
                    <a:pt x="48" y="110"/>
                    <a:pt x="11" y="114"/>
                    <a:pt x="0" y="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2640" y="2575080"/>
              <a:ext cx="12600" cy="360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0"/>
                  </a:moveTo>
                  <a:cubicBezTo>
                    <a:pt x="0" y="0"/>
                    <a:pt x="46" y="11"/>
                    <a:pt x="45" y="15"/>
                  </a:cubicBezTo>
                  <a:cubicBezTo>
                    <a:pt x="44" y="1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5680" y="2568960"/>
              <a:ext cx="44640" cy="10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0" y="52"/>
                  </a:moveTo>
                  <a:cubicBezTo>
                    <a:pt x="24" y="45"/>
                    <a:pt x="48" y="39"/>
                    <a:pt x="68" y="37"/>
                  </a:cubicBezTo>
                  <a:cubicBezTo>
                    <a:pt x="88" y="35"/>
                    <a:pt x="105" y="43"/>
                    <a:pt x="120" y="37"/>
                  </a:cubicBezTo>
                  <a:cubicBezTo>
                    <a:pt x="135" y="31"/>
                    <a:pt x="159" y="0"/>
                    <a:pt x="158" y="0"/>
                  </a:cubicBezTo>
                  <a:cubicBezTo>
                    <a:pt x="157" y="0"/>
                    <a:pt x="114" y="28"/>
                    <a:pt x="113" y="37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22120" y="2564280"/>
              <a:ext cx="31680" cy="16200"/>
            </a:xfrm>
            <a:custGeom>
              <a:avLst/>
              <a:gdLst/>
              <a:ahLst/>
              <a:rect l="l" t="t" r="r" b="b"/>
              <a:pathLst>
                <a:path w="113" h="80">
                  <a:moveTo>
                    <a:pt x="23" y="8"/>
                  </a:moveTo>
                  <a:cubicBezTo>
                    <a:pt x="46" y="13"/>
                    <a:pt x="70" y="19"/>
                    <a:pt x="68" y="30"/>
                  </a:cubicBezTo>
                  <a:cubicBezTo>
                    <a:pt x="66" y="41"/>
                    <a:pt x="0" y="80"/>
                    <a:pt x="8" y="75"/>
                  </a:cubicBezTo>
                  <a:cubicBezTo>
                    <a:pt x="16" y="70"/>
                    <a:pt x="64" y="35"/>
                    <a:pt x="113" y="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68560" y="2557800"/>
              <a:ext cx="48600" cy="20160"/>
            </a:xfrm>
            <a:custGeom>
              <a:avLst/>
              <a:gdLst/>
              <a:ahLst/>
              <a:rect l="l" t="t" r="r" b="b"/>
              <a:pathLst>
                <a:path w="173" h="99">
                  <a:moveTo>
                    <a:pt x="0" y="46"/>
                  </a:moveTo>
                  <a:cubicBezTo>
                    <a:pt x="32" y="53"/>
                    <a:pt x="65" y="61"/>
                    <a:pt x="90" y="54"/>
                  </a:cubicBezTo>
                  <a:cubicBezTo>
                    <a:pt x="115" y="47"/>
                    <a:pt x="151" y="2"/>
                    <a:pt x="150" y="1"/>
                  </a:cubicBezTo>
                  <a:cubicBezTo>
                    <a:pt x="149" y="0"/>
                    <a:pt x="94" y="45"/>
                    <a:pt x="98" y="61"/>
                  </a:cubicBezTo>
                  <a:cubicBezTo>
                    <a:pt x="102" y="77"/>
                    <a:pt x="137" y="88"/>
                    <a:pt x="173" y="99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1480" y="2564280"/>
              <a:ext cx="105480" cy="108360"/>
            </a:xfrm>
            <a:custGeom>
              <a:avLst/>
              <a:gdLst/>
              <a:ahLst/>
              <a:rect l="l" t="t" r="r" b="b"/>
              <a:pathLst>
                <a:path w="376" h="525">
                  <a:moveTo>
                    <a:pt x="67" y="0"/>
                  </a:moveTo>
                  <a:cubicBezTo>
                    <a:pt x="105" y="31"/>
                    <a:pt x="144" y="63"/>
                    <a:pt x="142" y="75"/>
                  </a:cubicBezTo>
                  <a:cubicBezTo>
                    <a:pt x="140" y="87"/>
                    <a:pt x="52" y="75"/>
                    <a:pt x="52" y="75"/>
                  </a:cubicBezTo>
                  <a:cubicBezTo>
                    <a:pt x="52" y="75"/>
                    <a:pt x="121" y="66"/>
                    <a:pt x="142" y="75"/>
                  </a:cubicBezTo>
                  <a:cubicBezTo>
                    <a:pt x="163" y="84"/>
                    <a:pt x="154" y="115"/>
                    <a:pt x="180" y="128"/>
                  </a:cubicBezTo>
                  <a:cubicBezTo>
                    <a:pt x="206" y="141"/>
                    <a:pt x="269" y="146"/>
                    <a:pt x="300" y="150"/>
                  </a:cubicBezTo>
                  <a:cubicBezTo>
                    <a:pt x="331" y="154"/>
                    <a:pt x="376" y="140"/>
                    <a:pt x="367" y="150"/>
                  </a:cubicBezTo>
                  <a:cubicBezTo>
                    <a:pt x="358" y="160"/>
                    <a:pt x="273" y="179"/>
                    <a:pt x="247" y="210"/>
                  </a:cubicBezTo>
                  <a:cubicBezTo>
                    <a:pt x="221" y="241"/>
                    <a:pt x="223" y="300"/>
                    <a:pt x="210" y="338"/>
                  </a:cubicBezTo>
                  <a:cubicBezTo>
                    <a:pt x="197" y="376"/>
                    <a:pt x="193" y="409"/>
                    <a:pt x="172" y="435"/>
                  </a:cubicBezTo>
                  <a:cubicBezTo>
                    <a:pt x="151" y="461"/>
                    <a:pt x="111" y="480"/>
                    <a:pt x="82" y="495"/>
                  </a:cubicBezTo>
                  <a:cubicBezTo>
                    <a:pt x="53" y="510"/>
                    <a:pt x="11" y="520"/>
                    <a:pt x="0" y="5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51480" y="2592000"/>
              <a:ext cx="73440" cy="32400"/>
            </a:xfrm>
            <a:custGeom>
              <a:avLst/>
              <a:gdLst/>
              <a:ahLst/>
              <a:rect l="l" t="t" r="r" b="b"/>
              <a:pathLst>
                <a:path w="262" h="158">
                  <a:moveTo>
                    <a:pt x="262" y="0"/>
                  </a:moveTo>
                  <a:cubicBezTo>
                    <a:pt x="195" y="18"/>
                    <a:pt x="128" y="37"/>
                    <a:pt x="97" y="60"/>
                  </a:cubicBezTo>
                  <a:cubicBezTo>
                    <a:pt x="66" y="83"/>
                    <a:pt x="91" y="119"/>
                    <a:pt x="75" y="135"/>
                  </a:cubicBezTo>
                  <a:cubicBezTo>
                    <a:pt x="59" y="151"/>
                    <a:pt x="12" y="154"/>
                    <a:pt x="0" y="15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43200" y="2629080"/>
              <a:ext cx="65160" cy="28080"/>
            </a:xfrm>
            <a:custGeom>
              <a:avLst/>
              <a:gdLst/>
              <a:ahLst/>
              <a:rect l="l" t="t" r="r" b="b"/>
              <a:pathLst>
                <a:path w="232" h="137">
                  <a:moveTo>
                    <a:pt x="232" y="0"/>
                  </a:moveTo>
                  <a:cubicBezTo>
                    <a:pt x="178" y="23"/>
                    <a:pt x="125" y="47"/>
                    <a:pt x="105" y="68"/>
                  </a:cubicBezTo>
                  <a:cubicBezTo>
                    <a:pt x="85" y="89"/>
                    <a:pt x="129" y="119"/>
                    <a:pt x="112" y="128"/>
                  </a:cubicBezTo>
                  <a:cubicBezTo>
                    <a:pt x="95" y="137"/>
                    <a:pt x="47" y="128"/>
                    <a:pt x="0" y="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25280" y="2598120"/>
              <a:ext cx="46080" cy="4500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65" y="0"/>
                  </a:moveTo>
                  <a:cubicBezTo>
                    <a:pt x="124" y="49"/>
                    <a:pt x="84" y="99"/>
                    <a:pt x="68" y="128"/>
                  </a:cubicBezTo>
                  <a:cubicBezTo>
                    <a:pt x="52" y="157"/>
                    <a:pt x="79" y="158"/>
                    <a:pt x="68" y="173"/>
                  </a:cubicBezTo>
                  <a:cubicBezTo>
                    <a:pt x="57" y="188"/>
                    <a:pt x="28" y="203"/>
                    <a:pt x="0" y="21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61640" y="2565720"/>
              <a:ext cx="60480" cy="869040"/>
            </a:xfrm>
            <a:custGeom>
              <a:avLst/>
              <a:gdLst/>
              <a:ahLst/>
              <a:rect l="l" t="t" r="r" b="b"/>
              <a:pathLst>
                <a:path w="215" h="4204">
                  <a:moveTo>
                    <a:pt x="20" y="112"/>
                  </a:moveTo>
                  <a:cubicBezTo>
                    <a:pt x="0" y="114"/>
                    <a:pt x="55" y="0"/>
                    <a:pt x="65" y="262"/>
                  </a:cubicBezTo>
                  <a:cubicBezTo>
                    <a:pt x="75" y="524"/>
                    <a:pt x="77" y="1307"/>
                    <a:pt x="80" y="1687"/>
                  </a:cubicBezTo>
                  <a:cubicBezTo>
                    <a:pt x="83" y="2067"/>
                    <a:pt x="80" y="2165"/>
                    <a:pt x="80" y="2542"/>
                  </a:cubicBezTo>
                  <a:cubicBezTo>
                    <a:pt x="80" y="2919"/>
                    <a:pt x="78" y="3700"/>
                    <a:pt x="80" y="3952"/>
                  </a:cubicBezTo>
                  <a:cubicBezTo>
                    <a:pt x="82" y="4204"/>
                    <a:pt x="77" y="4087"/>
                    <a:pt x="95" y="4057"/>
                  </a:cubicBezTo>
                  <a:cubicBezTo>
                    <a:pt x="113" y="4027"/>
                    <a:pt x="165" y="3902"/>
                    <a:pt x="185" y="3772"/>
                  </a:cubicBezTo>
                  <a:cubicBezTo>
                    <a:pt x="205" y="3642"/>
                    <a:pt x="215" y="3559"/>
                    <a:pt x="215" y="3277"/>
                  </a:cubicBezTo>
                  <a:cubicBezTo>
                    <a:pt x="215" y="2995"/>
                    <a:pt x="190" y="2469"/>
                    <a:pt x="185" y="2077"/>
                  </a:cubicBezTo>
                  <a:cubicBezTo>
                    <a:pt x="180" y="1685"/>
                    <a:pt x="185" y="1227"/>
                    <a:pt x="185" y="922"/>
                  </a:cubicBezTo>
                  <a:cubicBezTo>
                    <a:pt x="185" y="617"/>
                    <a:pt x="210" y="379"/>
                    <a:pt x="185" y="247"/>
                  </a:cubicBezTo>
                  <a:cubicBezTo>
                    <a:pt x="160" y="115"/>
                    <a:pt x="40" y="110"/>
                    <a:pt x="20" y="112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32240" y="2694240"/>
              <a:ext cx="347760" cy="694440"/>
            </a:xfrm>
            <a:custGeom>
              <a:avLst/>
              <a:gdLst/>
              <a:ahLst/>
              <a:rect l="l" t="t" r="r" b="b"/>
              <a:pathLst>
                <a:path w="1237" h="3360">
                  <a:moveTo>
                    <a:pt x="1237" y="0"/>
                  </a:moveTo>
                  <a:cubicBezTo>
                    <a:pt x="1193" y="89"/>
                    <a:pt x="1149" y="178"/>
                    <a:pt x="1057" y="240"/>
                  </a:cubicBezTo>
                  <a:cubicBezTo>
                    <a:pt x="965" y="302"/>
                    <a:pt x="807" y="312"/>
                    <a:pt x="682" y="375"/>
                  </a:cubicBezTo>
                  <a:cubicBezTo>
                    <a:pt x="557" y="438"/>
                    <a:pt x="409" y="398"/>
                    <a:pt x="307" y="615"/>
                  </a:cubicBezTo>
                  <a:cubicBezTo>
                    <a:pt x="205" y="832"/>
                    <a:pt x="107" y="1425"/>
                    <a:pt x="67" y="1680"/>
                  </a:cubicBezTo>
                  <a:cubicBezTo>
                    <a:pt x="27" y="1935"/>
                    <a:pt x="77" y="1965"/>
                    <a:pt x="67" y="2145"/>
                  </a:cubicBezTo>
                  <a:cubicBezTo>
                    <a:pt x="57" y="2325"/>
                    <a:pt x="0" y="2590"/>
                    <a:pt x="7" y="2760"/>
                  </a:cubicBezTo>
                  <a:cubicBezTo>
                    <a:pt x="14" y="2930"/>
                    <a:pt x="97" y="3065"/>
                    <a:pt x="112" y="3165"/>
                  </a:cubicBezTo>
                  <a:cubicBezTo>
                    <a:pt x="127" y="3265"/>
                    <a:pt x="112" y="3312"/>
                    <a:pt x="97" y="336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71840" y="2759400"/>
              <a:ext cx="194040" cy="595440"/>
            </a:xfrm>
            <a:custGeom>
              <a:avLst/>
              <a:gdLst/>
              <a:ahLst/>
              <a:rect l="l" t="t" r="r" b="b"/>
              <a:pathLst>
                <a:path w="690" h="2880">
                  <a:moveTo>
                    <a:pt x="690" y="0"/>
                  </a:moveTo>
                  <a:cubicBezTo>
                    <a:pt x="562" y="99"/>
                    <a:pt x="435" y="198"/>
                    <a:pt x="345" y="345"/>
                  </a:cubicBezTo>
                  <a:cubicBezTo>
                    <a:pt x="255" y="492"/>
                    <a:pt x="193" y="703"/>
                    <a:pt x="150" y="885"/>
                  </a:cubicBezTo>
                  <a:cubicBezTo>
                    <a:pt x="107" y="1067"/>
                    <a:pt x="100" y="1303"/>
                    <a:pt x="90" y="1440"/>
                  </a:cubicBezTo>
                  <a:cubicBezTo>
                    <a:pt x="80" y="1577"/>
                    <a:pt x="97" y="1590"/>
                    <a:pt x="90" y="1710"/>
                  </a:cubicBezTo>
                  <a:cubicBezTo>
                    <a:pt x="83" y="1830"/>
                    <a:pt x="60" y="2053"/>
                    <a:pt x="45" y="2160"/>
                  </a:cubicBezTo>
                  <a:cubicBezTo>
                    <a:pt x="30" y="2267"/>
                    <a:pt x="0" y="2278"/>
                    <a:pt x="0" y="2355"/>
                  </a:cubicBezTo>
                  <a:cubicBezTo>
                    <a:pt x="0" y="2432"/>
                    <a:pt x="38" y="2538"/>
                    <a:pt x="45" y="2625"/>
                  </a:cubicBezTo>
                  <a:cubicBezTo>
                    <a:pt x="52" y="2712"/>
                    <a:pt x="48" y="2796"/>
                    <a:pt x="45" y="288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22600" y="2855520"/>
              <a:ext cx="34200" cy="167400"/>
            </a:xfrm>
            <a:custGeom>
              <a:avLst/>
              <a:gdLst/>
              <a:ahLst/>
              <a:rect l="l" t="t" r="r" b="b"/>
              <a:pathLst>
                <a:path w="122" h="810">
                  <a:moveTo>
                    <a:pt x="105" y="0"/>
                  </a:moveTo>
                  <a:cubicBezTo>
                    <a:pt x="113" y="157"/>
                    <a:pt x="122" y="315"/>
                    <a:pt x="105" y="450"/>
                  </a:cubicBezTo>
                  <a:cubicBezTo>
                    <a:pt x="88" y="585"/>
                    <a:pt x="44" y="697"/>
                    <a:pt x="0" y="81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67160" y="2855520"/>
              <a:ext cx="39960" cy="176400"/>
            </a:xfrm>
            <a:custGeom>
              <a:avLst/>
              <a:gdLst/>
              <a:ahLst/>
              <a:rect l="l" t="t" r="r" b="b"/>
              <a:pathLst>
                <a:path w="142" h="855">
                  <a:moveTo>
                    <a:pt x="137" y="0"/>
                  </a:moveTo>
                  <a:cubicBezTo>
                    <a:pt x="139" y="101"/>
                    <a:pt x="142" y="203"/>
                    <a:pt x="122" y="315"/>
                  </a:cubicBezTo>
                  <a:cubicBezTo>
                    <a:pt x="102" y="427"/>
                    <a:pt x="34" y="585"/>
                    <a:pt x="17" y="675"/>
                  </a:cubicBezTo>
                  <a:cubicBezTo>
                    <a:pt x="0" y="765"/>
                    <a:pt x="8" y="810"/>
                    <a:pt x="17" y="8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3840" y="2700720"/>
              <a:ext cx="342360" cy="669600"/>
            </a:xfrm>
            <a:custGeom>
              <a:avLst/>
              <a:gdLst/>
              <a:ahLst/>
              <a:rect l="l" t="t" r="r" b="b"/>
              <a:pathLst>
                <a:path w="1218" h="3240">
                  <a:moveTo>
                    <a:pt x="0" y="0"/>
                  </a:moveTo>
                  <a:cubicBezTo>
                    <a:pt x="19" y="81"/>
                    <a:pt x="38" y="163"/>
                    <a:pt x="105" y="210"/>
                  </a:cubicBezTo>
                  <a:cubicBezTo>
                    <a:pt x="172" y="257"/>
                    <a:pt x="303" y="243"/>
                    <a:pt x="405" y="285"/>
                  </a:cubicBezTo>
                  <a:cubicBezTo>
                    <a:pt x="507" y="327"/>
                    <a:pt x="650" y="385"/>
                    <a:pt x="720" y="465"/>
                  </a:cubicBezTo>
                  <a:cubicBezTo>
                    <a:pt x="790" y="545"/>
                    <a:pt x="808" y="683"/>
                    <a:pt x="825" y="765"/>
                  </a:cubicBezTo>
                  <a:cubicBezTo>
                    <a:pt x="842" y="847"/>
                    <a:pt x="825" y="883"/>
                    <a:pt x="825" y="960"/>
                  </a:cubicBezTo>
                  <a:cubicBezTo>
                    <a:pt x="825" y="1037"/>
                    <a:pt x="825" y="1148"/>
                    <a:pt x="825" y="1230"/>
                  </a:cubicBezTo>
                  <a:cubicBezTo>
                    <a:pt x="825" y="1312"/>
                    <a:pt x="790" y="1348"/>
                    <a:pt x="825" y="1455"/>
                  </a:cubicBezTo>
                  <a:cubicBezTo>
                    <a:pt x="860" y="1562"/>
                    <a:pt x="975" y="1760"/>
                    <a:pt x="1035" y="1875"/>
                  </a:cubicBezTo>
                  <a:cubicBezTo>
                    <a:pt x="1095" y="1990"/>
                    <a:pt x="1155" y="2023"/>
                    <a:pt x="1185" y="2145"/>
                  </a:cubicBezTo>
                  <a:cubicBezTo>
                    <a:pt x="1215" y="2267"/>
                    <a:pt x="1218" y="2495"/>
                    <a:pt x="1215" y="2610"/>
                  </a:cubicBezTo>
                  <a:cubicBezTo>
                    <a:pt x="1212" y="2725"/>
                    <a:pt x="1193" y="2752"/>
                    <a:pt x="1170" y="2835"/>
                  </a:cubicBezTo>
                  <a:cubicBezTo>
                    <a:pt x="1147" y="2918"/>
                    <a:pt x="1097" y="3038"/>
                    <a:pt x="1080" y="3105"/>
                  </a:cubicBezTo>
                  <a:cubicBezTo>
                    <a:pt x="1063" y="3172"/>
                    <a:pt x="1064" y="3206"/>
                    <a:pt x="1065" y="32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13840" y="2697480"/>
              <a:ext cx="329040" cy="424800"/>
            </a:xfrm>
            <a:custGeom>
              <a:avLst/>
              <a:gdLst/>
              <a:ahLst/>
              <a:rect l="l" t="t" r="r" b="b"/>
              <a:pathLst>
                <a:path w="1170" h="2055">
                  <a:moveTo>
                    <a:pt x="0" y="0"/>
                  </a:moveTo>
                  <a:cubicBezTo>
                    <a:pt x="92" y="89"/>
                    <a:pt x="185" y="178"/>
                    <a:pt x="240" y="225"/>
                  </a:cubicBezTo>
                  <a:cubicBezTo>
                    <a:pt x="295" y="272"/>
                    <a:pt x="218" y="230"/>
                    <a:pt x="330" y="285"/>
                  </a:cubicBezTo>
                  <a:cubicBezTo>
                    <a:pt x="442" y="340"/>
                    <a:pt x="795" y="430"/>
                    <a:pt x="915" y="555"/>
                  </a:cubicBezTo>
                  <a:cubicBezTo>
                    <a:pt x="1035" y="680"/>
                    <a:pt x="1015" y="865"/>
                    <a:pt x="1050" y="1035"/>
                  </a:cubicBezTo>
                  <a:cubicBezTo>
                    <a:pt x="1085" y="1205"/>
                    <a:pt x="1110" y="1443"/>
                    <a:pt x="1125" y="1575"/>
                  </a:cubicBezTo>
                  <a:cubicBezTo>
                    <a:pt x="1140" y="1707"/>
                    <a:pt x="1132" y="1750"/>
                    <a:pt x="1140" y="1830"/>
                  </a:cubicBezTo>
                  <a:cubicBezTo>
                    <a:pt x="1148" y="1910"/>
                    <a:pt x="1160" y="2005"/>
                    <a:pt x="1170" y="20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41720" y="2858760"/>
              <a:ext cx="60120" cy="382320"/>
            </a:xfrm>
            <a:custGeom>
              <a:avLst/>
              <a:gdLst/>
              <a:ahLst/>
              <a:rect l="l" t="t" r="r" b="b"/>
              <a:pathLst>
                <a:path w="215" h="1850">
                  <a:moveTo>
                    <a:pt x="0" y="0"/>
                  </a:moveTo>
                  <a:cubicBezTo>
                    <a:pt x="75" y="151"/>
                    <a:pt x="150" y="303"/>
                    <a:pt x="180" y="435"/>
                  </a:cubicBezTo>
                  <a:cubicBezTo>
                    <a:pt x="210" y="567"/>
                    <a:pt x="180" y="685"/>
                    <a:pt x="180" y="795"/>
                  </a:cubicBezTo>
                  <a:cubicBezTo>
                    <a:pt x="180" y="905"/>
                    <a:pt x="175" y="940"/>
                    <a:pt x="180" y="1095"/>
                  </a:cubicBezTo>
                  <a:cubicBezTo>
                    <a:pt x="185" y="1250"/>
                    <a:pt x="205" y="1600"/>
                    <a:pt x="210" y="1725"/>
                  </a:cubicBezTo>
                  <a:cubicBezTo>
                    <a:pt x="215" y="1850"/>
                    <a:pt x="212" y="1847"/>
                    <a:pt x="210" y="184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99240" y="2790720"/>
              <a:ext cx="30600" cy="89640"/>
            </a:xfrm>
            <a:custGeom>
              <a:avLst/>
              <a:gdLst/>
              <a:ahLst/>
              <a:rect l="l" t="t" r="r" b="b"/>
              <a:pathLst>
                <a:path w="110" h="435">
                  <a:moveTo>
                    <a:pt x="0" y="0"/>
                  </a:moveTo>
                  <a:cubicBezTo>
                    <a:pt x="50" y="106"/>
                    <a:pt x="100" y="213"/>
                    <a:pt x="105" y="285"/>
                  </a:cubicBezTo>
                  <a:cubicBezTo>
                    <a:pt x="110" y="357"/>
                    <a:pt x="70" y="396"/>
                    <a:pt x="30" y="43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49320" y="2750400"/>
              <a:ext cx="126360" cy="58680"/>
            </a:xfrm>
            <a:custGeom>
              <a:avLst/>
              <a:gdLst/>
              <a:ahLst/>
              <a:rect l="l" t="t" r="r" b="b"/>
              <a:pathLst>
                <a:path w="450" h="285">
                  <a:moveTo>
                    <a:pt x="450" y="0"/>
                  </a:moveTo>
                  <a:cubicBezTo>
                    <a:pt x="412" y="29"/>
                    <a:pt x="375" y="58"/>
                    <a:pt x="300" y="105"/>
                  </a:cubicBezTo>
                  <a:cubicBezTo>
                    <a:pt x="225" y="152"/>
                    <a:pt x="112" y="218"/>
                    <a:pt x="0" y="28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49320" y="2781360"/>
              <a:ext cx="130680" cy="46440"/>
            </a:xfrm>
            <a:custGeom>
              <a:avLst/>
              <a:gdLst/>
              <a:ahLst/>
              <a:rect l="l" t="t" r="r" b="b"/>
              <a:pathLst>
                <a:path w="465" h="225">
                  <a:moveTo>
                    <a:pt x="465" y="0"/>
                  </a:moveTo>
                  <a:cubicBezTo>
                    <a:pt x="399" y="56"/>
                    <a:pt x="333" y="112"/>
                    <a:pt x="255" y="150"/>
                  </a:cubicBezTo>
                  <a:cubicBezTo>
                    <a:pt x="177" y="188"/>
                    <a:pt x="47" y="210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32400" y="2809080"/>
              <a:ext cx="143280" cy="52560"/>
            </a:xfrm>
            <a:custGeom>
              <a:avLst/>
              <a:gdLst/>
              <a:ahLst/>
              <a:rect l="l" t="t" r="r" b="b"/>
              <a:pathLst>
                <a:path w="510" h="255">
                  <a:moveTo>
                    <a:pt x="510" y="0"/>
                  </a:moveTo>
                  <a:cubicBezTo>
                    <a:pt x="432" y="45"/>
                    <a:pt x="355" y="90"/>
                    <a:pt x="285" y="120"/>
                  </a:cubicBezTo>
                  <a:cubicBezTo>
                    <a:pt x="215" y="150"/>
                    <a:pt x="137" y="157"/>
                    <a:pt x="90" y="180"/>
                  </a:cubicBezTo>
                  <a:cubicBezTo>
                    <a:pt x="43" y="203"/>
                    <a:pt x="21" y="229"/>
                    <a:pt x="0" y="2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53640" y="2821680"/>
              <a:ext cx="126360" cy="46440"/>
            </a:xfrm>
            <a:custGeom>
              <a:avLst/>
              <a:gdLst/>
              <a:ahLst/>
              <a:rect l="l" t="t" r="r" b="b"/>
              <a:pathLst>
                <a:path w="450" h="225">
                  <a:moveTo>
                    <a:pt x="450" y="0"/>
                  </a:moveTo>
                  <a:cubicBezTo>
                    <a:pt x="337" y="71"/>
                    <a:pt x="225" y="143"/>
                    <a:pt x="150" y="180"/>
                  </a:cubicBezTo>
                  <a:cubicBezTo>
                    <a:pt x="75" y="217"/>
                    <a:pt x="30" y="213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28080" y="2864880"/>
              <a:ext cx="147600" cy="40320"/>
            </a:xfrm>
            <a:custGeom>
              <a:avLst/>
              <a:gdLst/>
              <a:ahLst/>
              <a:rect l="l" t="t" r="r" b="b"/>
              <a:pathLst>
                <a:path w="525" h="195">
                  <a:moveTo>
                    <a:pt x="525" y="0"/>
                  </a:moveTo>
                  <a:cubicBezTo>
                    <a:pt x="441" y="36"/>
                    <a:pt x="358" y="73"/>
                    <a:pt x="270" y="105"/>
                  </a:cubicBezTo>
                  <a:cubicBezTo>
                    <a:pt x="182" y="137"/>
                    <a:pt x="91" y="166"/>
                    <a:pt x="0" y="19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32400" y="2886840"/>
              <a:ext cx="147600" cy="43200"/>
            </a:xfrm>
            <a:custGeom>
              <a:avLst/>
              <a:gdLst/>
              <a:ahLst/>
              <a:rect l="l" t="t" r="r" b="b"/>
              <a:pathLst>
                <a:path w="525" h="210">
                  <a:moveTo>
                    <a:pt x="525" y="0"/>
                  </a:moveTo>
                  <a:cubicBezTo>
                    <a:pt x="475" y="36"/>
                    <a:pt x="425" y="72"/>
                    <a:pt x="375" y="90"/>
                  </a:cubicBezTo>
                  <a:cubicBezTo>
                    <a:pt x="325" y="108"/>
                    <a:pt x="287" y="85"/>
                    <a:pt x="225" y="105"/>
                  </a:cubicBezTo>
                  <a:cubicBezTo>
                    <a:pt x="163" y="125"/>
                    <a:pt x="45" y="193"/>
                    <a:pt x="0" y="21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22120" y="2753280"/>
              <a:ext cx="130680" cy="55800"/>
            </a:xfrm>
            <a:custGeom>
              <a:avLst/>
              <a:gdLst/>
              <a:ahLst/>
              <a:rect l="l" t="t" r="r" b="b"/>
              <a:pathLst>
                <a:path w="465" h="270">
                  <a:moveTo>
                    <a:pt x="0" y="0"/>
                  </a:moveTo>
                  <a:cubicBezTo>
                    <a:pt x="104" y="60"/>
                    <a:pt x="208" y="120"/>
                    <a:pt x="285" y="165"/>
                  </a:cubicBezTo>
                  <a:cubicBezTo>
                    <a:pt x="362" y="210"/>
                    <a:pt x="413" y="240"/>
                    <a:pt x="465" y="27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17800" y="2765520"/>
              <a:ext cx="135000" cy="65160"/>
            </a:xfrm>
            <a:custGeom>
              <a:avLst/>
              <a:gdLst/>
              <a:ahLst/>
              <a:rect l="l" t="t" r="r" b="b"/>
              <a:pathLst>
                <a:path w="480" h="315">
                  <a:moveTo>
                    <a:pt x="0" y="0"/>
                  </a:moveTo>
                  <a:cubicBezTo>
                    <a:pt x="37" y="58"/>
                    <a:pt x="75" y="117"/>
                    <a:pt x="120" y="150"/>
                  </a:cubicBezTo>
                  <a:cubicBezTo>
                    <a:pt x="165" y="183"/>
                    <a:pt x="210" y="167"/>
                    <a:pt x="270" y="195"/>
                  </a:cubicBezTo>
                  <a:cubicBezTo>
                    <a:pt x="330" y="223"/>
                    <a:pt x="443" y="290"/>
                    <a:pt x="480" y="31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17800" y="2796840"/>
              <a:ext cx="151920" cy="68040"/>
            </a:xfrm>
            <a:custGeom>
              <a:avLst/>
              <a:gdLst/>
              <a:ahLst/>
              <a:rect l="l" t="t" r="r" b="b"/>
              <a:pathLst>
                <a:path w="540" h="330">
                  <a:moveTo>
                    <a:pt x="0" y="0"/>
                  </a:moveTo>
                  <a:cubicBezTo>
                    <a:pt x="26" y="48"/>
                    <a:pt x="53" y="97"/>
                    <a:pt x="120" y="135"/>
                  </a:cubicBezTo>
                  <a:cubicBezTo>
                    <a:pt x="187" y="173"/>
                    <a:pt x="335" y="193"/>
                    <a:pt x="405" y="225"/>
                  </a:cubicBezTo>
                  <a:cubicBezTo>
                    <a:pt x="475" y="257"/>
                    <a:pt x="507" y="293"/>
                    <a:pt x="540" y="33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13840" y="2827800"/>
              <a:ext cx="155880" cy="55800"/>
            </a:xfrm>
            <a:custGeom>
              <a:avLst/>
              <a:gdLst/>
              <a:ahLst/>
              <a:rect l="l" t="t" r="r" b="b"/>
              <a:pathLst>
                <a:path w="555" h="270">
                  <a:moveTo>
                    <a:pt x="0" y="0"/>
                  </a:moveTo>
                  <a:cubicBezTo>
                    <a:pt x="54" y="30"/>
                    <a:pt x="108" y="60"/>
                    <a:pt x="165" y="90"/>
                  </a:cubicBezTo>
                  <a:cubicBezTo>
                    <a:pt x="222" y="120"/>
                    <a:pt x="280" y="150"/>
                    <a:pt x="345" y="180"/>
                  </a:cubicBezTo>
                  <a:cubicBezTo>
                    <a:pt x="410" y="210"/>
                    <a:pt x="482" y="240"/>
                    <a:pt x="555" y="27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17800" y="2852640"/>
              <a:ext cx="164520" cy="61920"/>
            </a:xfrm>
            <a:custGeom>
              <a:avLst/>
              <a:gdLst/>
              <a:ahLst/>
              <a:rect l="l" t="t" r="r" b="b"/>
              <a:pathLst>
                <a:path w="585" h="300">
                  <a:moveTo>
                    <a:pt x="0" y="0"/>
                  </a:moveTo>
                  <a:cubicBezTo>
                    <a:pt x="32" y="44"/>
                    <a:pt x="65" y="88"/>
                    <a:pt x="120" y="120"/>
                  </a:cubicBezTo>
                  <a:cubicBezTo>
                    <a:pt x="175" y="152"/>
                    <a:pt x="253" y="165"/>
                    <a:pt x="330" y="195"/>
                  </a:cubicBezTo>
                  <a:cubicBezTo>
                    <a:pt x="407" y="225"/>
                    <a:pt x="496" y="262"/>
                    <a:pt x="585" y="3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9520" y="2883600"/>
              <a:ext cx="172800" cy="58680"/>
            </a:xfrm>
            <a:custGeom>
              <a:avLst/>
              <a:gdLst/>
              <a:ahLst/>
              <a:rect l="l" t="t" r="r" b="b"/>
              <a:pathLst>
                <a:path w="615" h="285">
                  <a:moveTo>
                    <a:pt x="0" y="0"/>
                  </a:moveTo>
                  <a:cubicBezTo>
                    <a:pt x="104" y="61"/>
                    <a:pt x="208" y="123"/>
                    <a:pt x="285" y="150"/>
                  </a:cubicBezTo>
                  <a:cubicBezTo>
                    <a:pt x="362" y="177"/>
                    <a:pt x="410" y="143"/>
                    <a:pt x="465" y="165"/>
                  </a:cubicBezTo>
                  <a:cubicBezTo>
                    <a:pt x="520" y="187"/>
                    <a:pt x="567" y="236"/>
                    <a:pt x="615" y="28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42200" y="2635560"/>
              <a:ext cx="42120" cy="3384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150" y="0"/>
                  </a:moveTo>
                  <a:cubicBezTo>
                    <a:pt x="91" y="70"/>
                    <a:pt x="32" y="140"/>
                    <a:pt x="0" y="16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54800" y="2660400"/>
              <a:ext cx="29520" cy="2160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cubicBezTo>
                    <a:pt x="65" y="41"/>
                    <a:pt x="25" y="83"/>
                    <a:pt x="0" y="10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13840" y="2647800"/>
              <a:ext cx="25200" cy="1548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0" y="0"/>
                  </a:moveTo>
                  <a:cubicBezTo>
                    <a:pt x="32" y="31"/>
                    <a:pt x="65" y="63"/>
                    <a:pt x="90" y="7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7800" y="2666520"/>
              <a:ext cx="16560" cy="1836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0"/>
                  </a:moveTo>
                  <a:cubicBezTo>
                    <a:pt x="25" y="36"/>
                    <a:pt x="50" y="73"/>
                    <a:pt x="60" y="9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11160" y="2948760"/>
              <a:ext cx="168480" cy="438120"/>
            </a:xfrm>
            <a:custGeom>
              <a:avLst/>
              <a:gdLst/>
              <a:ahLst/>
              <a:rect l="l" t="t" r="r" b="b"/>
              <a:pathLst>
                <a:path w="600" h="2120">
                  <a:moveTo>
                    <a:pt x="600" y="0"/>
                  </a:moveTo>
                  <a:cubicBezTo>
                    <a:pt x="473" y="68"/>
                    <a:pt x="347" y="137"/>
                    <a:pt x="280" y="280"/>
                  </a:cubicBezTo>
                  <a:cubicBezTo>
                    <a:pt x="213" y="423"/>
                    <a:pt x="230" y="680"/>
                    <a:pt x="200" y="860"/>
                  </a:cubicBezTo>
                  <a:cubicBezTo>
                    <a:pt x="170" y="1040"/>
                    <a:pt x="117" y="1173"/>
                    <a:pt x="100" y="1360"/>
                  </a:cubicBezTo>
                  <a:cubicBezTo>
                    <a:pt x="83" y="1547"/>
                    <a:pt x="117" y="1853"/>
                    <a:pt x="100" y="1980"/>
                  </a:cubicBezTo>
                  <a:cubicBezTo>
                    <a:pt x="83" y="2107"/>
                    <a:pt x="27" y="2097"/>
                    <a:pt x="0" y="2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75960" y="3027240"/>
              <a:ext cx="109440" cy="334800"/>
            </a:xfrm>
            <a:custGeom>
              <a:avLst/>
              <a:gdLst/>
              <a:ahLst/>
              <a:rect l="l" t="t" r="r" b="b"/>
              <a:pathLst>
                <a:path w="330" h="1540">
                  <a:moveTo>
                    <a:pt x="330" y="0"/>
                  </a:moveTo>
                  <a:cubicBezTo>
                    <a:pt x="296" y="123"/>
                    <a:pt x="263" y="247"/>
                    <a:pt x="210" y="420"/>
                  </a:cubicBezTo>
                  <a:cubicBezTo>
                    <a:pt x="157" y="593"/>
                    <a:pt x="20" y="873"/>
                    <a:pt x="10" y="1040"/>
                  </a:cubicBezTo>
                  <a:cubicBezTo>
                    <a:pt x="0" y="1207"/>
                    <a:pt x="137" y="1337"/>
                    <a:pt x="150" y="1420"/>
                  </a:cubicBezTo>
                  <a:cubicBezTo>
                    <a:pt x="163" y="1503"/>
                    <a:pt x="126" y="1521"/>
                    <a:pt x="90" y="15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9240" y="2952720"/>
              <a:ext cx="157320" cy="421560"/>
            </a:xfrm>
            <a:custGeom>
              <a:avLst/>
              <a:gdLst/>
              <a:ahLst/>
              <a:rect l="l" t="t" r="r" b="b"/>
              <a:pathLst>
                <a:path w="560" h="2040">
                  <a:moveTo>
                    <a:pt x="0" y="0"/>
                  </a:moveTo>
                  <a:cubicBezTo>
                    <a:pt x="140" y="15"/>
                    <a:pt x="280" y="30"/>
                    <a:pt x="340" y="160"/>
                  </a:cubicBezTo>
                  <a:cubicBezTo>
                    <a:pt x="400" y="290"/>
                    <a:pt x="350" y="597"/>
                    <a:pt x="360" y="780"/>
                  </a:cubicBezTo>
                  <a:cubicBezTo>
                    <a:pt x="370" y="963"/>
                    <a:pt x="367" y="1050"/>
                    <a:pt x="400" y="1260"/>
                  </a:cubicBezTo>
                  <a:cubicBezTo>
                    <a:pt x="433" y="1470"/>
                    <a:pt x="496" y="1755"/>
                    <a:pt x="560" y="20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9240" y="3035520"/>
              <a:ext cx="90000" cy="347040"/>
            </a:xfrm>
            <a:custGeom>
              <a:avLst/>
              <a:gdLst/>
              <a:ahLst/>
              <a:rect l="l" t="t" r="r" b="b"/>
              <a:pathLst>
                <a:path w="320" h="1680">
                  <a:moveTo>
                    <a:pt x="0" y="0"/>
                  </a:moveTo>
                  <a:cubicBezTo>
                    <a:pt x="93" y="180"/>
                    <a:pt x="187" y="360"/>
                    <a:pt x="220" y="580"/>
                  </a:cubicBezTo>
                  <a:cubicBezTo>
                    <a:pt x="253" y="800"/>
                    <a:pt x="183" y="1137"/>
                    <a:pt x="200" y="1320"/>
                  </a:cubicBezTo>
                  <a:cubicBezTo>
                    <a:pt x="217" y="1503"/>
                    <a:pt x="268" y="1591"/>
                    <a:pt x="320" y="168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8000" y="838080"/>
            <a:ext cx="4222800" cy="594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KARYOT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nucle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membrane-bound organel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mall riboso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ost cells are 1 -10 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 in siz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olved 3.5 billion years ag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nd only in Archaebacteria and Eubacteria Kingdo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00600" y="838080"/>
            <a:ext cx="4046400" cy="594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UKARYOT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nucle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any organel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rger riboso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ells can be between 2 - 1,000 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 in siz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olved 1.5 billion years ag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cludes Protista, Fungi, Plantae and Animalia Kingdo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370640" y="1145880"/>
            <a:ext cx="1726200" cy="1007280"/>
            <a:chOff x="7370640" y="1145880"/>
            <a:chExt cx="1726200" cy="1007280"/>
          </a:xfrm>
        </p:grpSpPr>
        <p:grpSp>
          <p:nvGrpSpPr>
            <p:cNvPr id="553" name=""/>
            <p:cNvGrpSpPr/>
            <p:nvPr/>
          </p:nvGrpSpPr>
          <p:grpSpPr>
            <a:xfrm>
              <a:off x="7370640" y="1145880"/>
              <a:ext cx="1648800" cy="1007280"/>
              <a:chOff x="7370640" y="1145880"/>
              <a:chExt cx="1648800" cy="1007280"/>
            </a:xfrm>
          </p:grpSpPr>
          <p:sp>
            <p:nvSpPr>
              <p:cNvPr id="554" name=""/>
              <p:cNvSpPr/>
              <p:nvPr/>
            </p:nvSpPr>
            <p:spPr>
              <a:xfrm rot="16402200">
                <a:off x="7857360" y="739440"/>
                <a:ext cx="465480" cy="135720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6402200">
                <a:off x="7797240" y="906480"/>
                <a:ext cx="795240" cy="160488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09520" y="1176120"/>
              <a:ext cx="1567080" cy="941760"/>
              <a:chOff x="7409520" y="1176120"/>
              <a:chExt cx="1567080" cy="941760"/>
            </a:xfrm>
          </p:grpSpPr>
          <p:sp>
            <p:nvSpPr>
              <p:cNvPr id="557" name=""/>
              <p:cNvSpPr/>
              <p:nvPr/>
            </p:nvSpPr>
            <p:spPr>
              <a:xfrm rot="16402200">
                <a:off x="7876080" y="785520"/>
                <a:ext cx="434520" cy="129060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402200">
                <a:off x="7821720" y="939240"/>
                <a:ext cx="742320" cy="15260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8509680" y="1425960"/>
              <a:ext cx="587160" cy="320760"/>
              <a:chOff x="8509680" y="1425960"/>
              <a:chExt cx="587160" cy="320760"/>
            </a:xfrm>
          </p:grpSpPr>
          <p:sp>
            <p:nvSpPr>
              <p:cNvPr id="560" name=""/>
              <p:cNvSpPr/>
              <p:nvPr/>
            </p:nvSpPr>
            <p:spPr>
              <a:xfrm rot="17877600">
                <a:off x="8626320" y="1426320"/>
                <a:ext cx="142920" cy="35028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 rot="6019800">
                <a:off x="8700120" y="136512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 rot="6019800">
                <a:off x="8723520" y="1357560"/>
                <a:ext cx="186480" cy="43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 rot="6019800">
                <a:off x="8748000" y="134460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 rot="6019800">
                <a:off x="8771400" y="1337040"/>
                <a:ext cx="1857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402200">
                <a:off x="8713800" y="1553400"/>
                <a:ext cx="66600" cy="6660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16402200">
              <a:off x="7634880" y="1488960"/>
              <a:ext cx="347760" cy="57456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402200">
              <a:off x="8048160" y="1451880"/>
              <a:ext cx="364680" cy="36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6402200">
              <a:off x="8097480" y="1494360"/>
              <a:ext cx="266400" cy="26748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6402200">
              <a:off x="8718840" y="180936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402200">
              <a:off x="7984080" y="196308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402200">
              <a:off x="7700040" y="137916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402200">
              <a:off x="8428320" y="133308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700400" y="1463400"/>
              <a:ext cx="277920" cy="212040"/>
              <a:chOff x="7700400" y="1463400"/>
              <a:chExt cx="277920" cy="212040"/>
            </a:xfrm>
          </p:grpSpPr>
          <p:sp>
            <p:nvSpPr>
              <p:cNvPr id="574" name=""/>
              <p:cNvSpPr/>
              <p:nvPr/>
            </p:nvSpPr>
            <p:spPr>
              <a:xfrm rot="14702400">
                <a:off x="7780680" y="1443240"/>
                <a:ext cx="116640" cy="25200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402200">
                <a:off x="7763400" y="1481040"/>
                <a:ext cx="154080" cy="16560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438760" y="1722600"/>
              <a:ext cx="277920" cy="212040"/>
              <a:chOff x="8438760" y="1722600"/>
              <a:chExt cx="277920" cy="212040"/>
            </a:xfrm>
          </p:grpSpPr>
          <p:sp>
            <p:nvSpPr>
              <p:cNvPr id="577" name=""/>
              <p:cNvSpPr/>
              <p:nvPr/>
            </p:nvSpPr>
            <p:spPr>
              <a:xfrm rot="14702400">
                <a:off x="8519040" y="1702440"/>
                <a:ext cx="116640" cy="25200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6402200">
                <a:off x="8501760" y="1740240"/>
                <a:ext cx="154080" cy="16560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7996320" y="1161000"/>
              <a:ext cx="586800" cy="321120"/>
              <a:chOff x="7996320" y="1161000"/>
              <a:chExt cx="586800" cy="321120"/>
            </a:xfrm>
          </p:grpSpPr>
          <p:sp>
            <p:nvSpPr>
              <p:cNvPr id="580" name=""/>
              <p:cNvSpPr/>
              <p:nvPr/>
            </p:nvSpPr>
            <p:spPr>
              <a:xfrm rot="17877600">
                <a:off x="8112960" y="1161720"/>
                <a:ext cx="142920" cy="35028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 rot="6019800">
                <a:off x="8186400" y="110052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 rot="6019800">
                <a:off x="8210160" y="1092960"/>
                <a:ext cx="186480" cy="43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 rot="6019800">
                <a:off x="8234640" y="108000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 rot="6019800">
                <a:off x="8257680" y="1072080"/>
                <a:ext cx="1857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402200">
                <a:off x="8200080" y="1288800"/>
                <a:ext cx="66600" cy="6660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 rot="16402200">
              <a:off x="7522560" y="1455840"/>
              <a:ext cx="130680" cy="24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8085240" y="1809000"/>
              <a:ext cx="316080" cy="213120"/>
              <a:chOff x="8085240" y="1809000"/>
              <a:chExt cx="316080" cy="213120"/>
            </a:xfrm>
          </p:grpSpPr>
          <p:sp>
            <p:nvSpPr>
              <p:cNvPr id="588" name=""/>
              <p:cNvSpPr/>
              <p:nvPr/>
            </p:nvSpPr>
            <p:spPr>
              <a:xfrm rot="16402200">
                <a:off x="8218080" y="1781640"/>
                <a:ext cx="66600" cy="266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402200">
                <a:off x="8222040" y="1747800"/>
                <a:ext cx="66600" cy="200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402200">
                <a:off x="8209800" y="1823040"/>
                <a:ext cx="66600" cy="312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2841480" y="1348920"/>
            <a:ext cx="1764000" cy="1306440"/>
            <a:chOff x="2841480" y="1348920"/>
            <a:chExt cx="1764000" cy="1306440"/>
          </a:xfrm>
        </p:grpSpPr>
        <p:grpSp>
          <p:nvGrpSpPr>
            <p:cNvPr id="592" name=""/>
            <p:cNvGrpSpPr/>
            <p:nvPr/>
          </p:nvGrpSpPr>
          <p:grpSpPr>
            <a:xfrm>
              <a:off x="2841480" y="1348920"/>
              <a:ext cx="1527480" cy="546840"/>
              <a:chOff x="2841480" y="1348920"/>
              <a:chExt cx="1527480" cy="546840"/>
            </a:xfrm>
          </p:grpSpPr>
          <p:sp>
            <p:nvSpPr>
              <p:cNvPr id="593" name=""/>
              <p:cNvSpPr/>
              <p:nvPr/>
            </p:nvSpPr>
            <p:spPr>
              <a:xfrm flipH="1" flipV="1">
                <a:off x="2864880" y="1385280"/>
                <a:ext cx="148320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2987640" y="1481400"/>
                <a:ext cx="121068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3439440" y="1791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3030480" y="1788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2982240" y="1772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2963520" y="1737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>
                <a:off x="2907360" y="16930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2922120" y="16164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3830400" y="1781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3782880" y="1770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3735000" y="1772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653640" y="1783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3489480" y="18136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3616560" y="1501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3464640" y="1470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3358440" y="14821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2940840" y="1512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4034160" y="1800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4065480" y="18108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901320" y="1470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911760" y="1505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3963960" y="1475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3953520" y="1514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3984480" y="14842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057560" y="149112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96800" y="14936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4184280" y="1591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215240" y="1626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4221720" y="1665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240080" y="17143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4154760" y="1577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4211280" y="15469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176000" y="1545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148640" y="1509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4121640" y="14842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3236040" y="18226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3662280" y="14821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3593520" y="1809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2997000" y="1746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2965320" y="1508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2841120" y="1348560"/>
                <a:ext cx="152748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 flipV="1">
              <a:off x="4309560" y="159912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777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: Prokaryot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16002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karyotes, which includes all bacteria, are the simplest cellular organisms. They have genetic material but no nucleu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6099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ypical bacteria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4052880" cy="31669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5520" y="60404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4027320" y="2705040"/>
            <a:ext cx="5116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s: Eukaryot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495680" cy="4724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ukaryotic cells contain a membrane-bound nucleus and numerous membrane -enclosed organelles (e.g., mitochondria, lysosomes, Golgi apparatus) not found in prokaryote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4606920" y="1673280"/>
            <a:ext cx="4537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846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 Types of Cell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8320" y="1118880"/>
            <a:ext cx="38098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14520" y="111888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061080" y="4972680"/>
            <a:ext cx="2345760" cy="1367280"/>
            <a:chOff x="3061080" y="4972680"/>
            <a:chExt cx="2345760" cy="1367280"/>
          </a:xfrm>
        </p:grpSpPr>
        <p:grpSp>
          <p:nvGrpSpPr>
            <p:cNvPr id="648" name=""/>
            <p:cNvGrpSpPr/>
            <p:nvPr/>
          </p:nvGrpSpPr>
          <p:grpSpPr>
            <a:xfrm>
              <a:off x="3061080" y="4972680"/>
              <a:ext cx="2241000" cy="1367280"/>
              <a:chOff x="3061080" y="4972680"/>
              <a:chExt cx="2241000" cy="1367280"/>
            </a:xfrm>
          </p:grpSpPr>
          <p:sp>
            <p:nvSpPr>
              <p:cNvPr id="649" name=""/>
              <p:cNvSpPr/>
              <p:nvPr/>
            </p:nvSpPr>
            <p:spPr>
              <a:xfrm rot="16402200">
                <a:off x="3722760" y="4419720"/>
                <a:ext cx="631800" cy="184464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6402200">
                <a:off x="3641760" y="4646520"/>
                <a:ext cx="1079280" cy="21812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114360" y="5014440"/>
              <a:ext cx="2129760" cy="1278000"/>
              <a:chOff x="3114360" y="5014440"/>
              <a:chExt cx="2129760" cy="1278000"/>
            </a:xfrm>
          </p:grpSpPr>
          <p:sp>
            <p:nvSpPr>
              <p:cNvPr id="652" name=""/>
              <p:cNvSpPr/>
              <p:nvPr/>
            </p:nvSpPr>
            <p:spPr>
              <a:xfrm rot="16402200">
                <a:off x="3748320" y="4483080"/>
                <a:ext cx="589680" cy="175392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402200">
                <a:off x="3675240" y="4691520"/>
                <a:ext cx="1007280" cy="207396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609080" y="5351760"/>
              <a:ext cx="797760" cy="437040"/>
              <a:chOff x="4609080" y="5351760"/>
              <a:chExt cx="797760" cy="437040"/>
            </a:xfrm>
          </p:grpSpPr>
          <p:sp>
            <p:nvSpPr>
              <p:cNvPr id="655" name=""/>
              <p:cNvSpPr/>
              <p:nvPr/>
            </p:nvSpPr>
            <p:spPr>
              <a:xfrm rot="17877600">
                <a:off x="4767480" y="535320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 rot="6019800">
                <a:off x="4867200" y="5270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 rot="6019800">
                <a:off x="4899600" y="52599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 rot="6019800">
                <a:off x="4932360" y="52430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 rot="6019800">
                <a:off x="4964760" y="52318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402200">
                <a:off x="4885920" y="552528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rot="16402200">
              <a:off x="3420360" y="5437800"/>
              <a:ext cx="472320" cy="78084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402200">
              <a:off x="3982320" y="5387400"/>
              <a:ext cx="495360" cy="50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402200">
              <a:off x="4048560" y="5445720"/>
              <a:ext cx="361800" cy="3636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402200">
              <a:off x="4893120" y="587304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402200">
              <a:off x="3894840" y="608148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402200">
              <a:off x="3508920" y="52887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402200">
              <a:off x="4498920" y="522648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508920" y="5402880"/>
              <a:ext cx="377640" cy="288720"/>
              <a:chOff x="3508920" y="5402880"/>
              <a:chExt cx="377640" cy="288720"/>
            </a:xfrm>
          </p:grpSpPr>
          <p:sp>
            <p:nvSpPr>
              <p:cNvPr id="669" name=""/>
              <p:cNvSpPr/>
              <p:nvPr/>
            </p:nvSpPr>
            <p:spPr>
              <a:xfrm rot="14702400">
                <a:off x="3618000" y="537588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402200">
                <a:off x="3594960" y="542736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512600" y="5754240"/>
              <a:ext cx="377640" cy="288720"/>
              <a:chOff x="4512600" y="5754240"/>
              <a:chExt cx="377640" cy="288720"/>
            </a:xfrm>
          </p:grpSpPr>
          <p:sp>
            <p:nvSpPr>
              <p:cNvPr id="672" name=""/>
              <p:cNvSpPr/>
              <p:nvPr/>
            </p:nvSpPr>
            <p:spPr>
              <a:xfrm rot="14702400">
                <a:off x="4621680" y="572724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402200">
                <a:off x="4598280" y="577908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911040" y="4992480"/>
              <a:ext cx="797760" cy="437040"/>
              <a:chOff x="3911040" y="4992480"/>
              <a:chExt cx="797760" cy="437040"/>
            </a:xfrm>
          </p:grpSpPr>
          <p:sp>
            <p:nvSpPr>
              <p:cNvPr id="675" name=""/>
              <p:cNvSpPr/>
              <p:nvPr/>
            </p:nvSpPr>
            <p:spPr>
              <a:xfrm rot="17877600">
                <a:off x="4069440" y="499392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 rot="6019800">
                <a:off x="4169160" y="4911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6019800">
                <a:off x="4201560" y="49006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 rot="6019800">
                <a:off x="4234320" y="4883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 rot="6019800">
                <a:off x="4266720" y="487260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402200">
                <a:off x="4188240" y="516600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 rot="16402200">
              <a:off x="3267720" y="5392800"/>
              <a:ext cx="17784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4032360" y="5872320"/>
              <a:ext cx="430200" cy="289800"/>
              <a:chOff x="4032360" y="5872320"/>
              <a:chExt cx="430200" cy="289800"/>
            </a:xfrm>
          </p:grpSpPr>
          <p:sp>
            <p:nvSpPr>
              <p:cNvPr id="683" name=""/>
              <p:cNvSpPr/>
              <p:nvPr/>
            </p:nvSpPr>
            <p:spPr>
              <a:xfrm rot="16402200">
                <a:off x="4213080" y="5835240"/>
                <a:ext cx="90720" cy="362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6402200">
                <a:off x="4218840" y="5789160"/>
                <a:ext cx="90720" cy="273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6402200">
                <a:off x="4201920" y="5891400"/>
                <a:ext cx="90720" cy="425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3303720" y="4632480"/>
            <a:ext cx="1763640" cy="1306440"/>
            <a:chOff x="3303720" y="4632480"/>
            <a:chExt cx="1763640" cy="1306440"/>
          </a:xfrm>
        </p:grpSpPr>
        <p:grpSp>
          <p:nvGrpSpPr>
            <p:cNvPr id="687" name=""/>
            <p:cNvGrpSpPr/>
            <p:nvPr/>
          </p:nvGrpSpPr>
          <p:grpSpPr>
            <a:xfrm>
              <a:off x="3540240" y="5392080"/>
              <a:ext cx="1527120" cy="546840"/>
              <a:chOff x="3540240" y="5392080"/>
              <a:chExt cx="1527120" cy="54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3561120" y="5420160"/>
                <a:ext cx="148284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710520" y="5476680"/>
                <a:ext cx="121032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55000" y="5481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863960" y="5483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12200" y="5499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30920" y="5534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987080" y="5578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972320" y="56548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064400" y="5490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11920" y="5501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59440" y="5499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241160" y="5488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04960" y="54576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78240" y="577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30160" y="5801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36360" y="57891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53600" y="5759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60640" y="5472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29320" y="54604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93480" y="5801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83040" y="5766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930840" y="5796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41280" y="5757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10320" y="57870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37240" y="578016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97640" y="57776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10520" y="568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79560" y="5645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73080" y="5606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654720" y="5557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40040" y="5694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683520" y="5724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18800" y="5726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46160" y="57621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73160" y="57870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658400" y="54486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232520" y="57891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300920" y="5462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897440" y="5525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29120" y="5763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540240" y="5392080"/>
                <a:ext cx="152712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3303720" y="463248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281760" y="17827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46240" y="3755880"/>
            <a:ext cx="27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tists, fungi, plants,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68280" y="393696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nly in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61280" y="327168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23000" y="22622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mall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68640" y="22604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arger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89760" y="32702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er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37920" y="2749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05000" y="27496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14680" y="1784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5800" y="17478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5800" y="22525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669280" y="27590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5800" y="27590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69280" y="17478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67480" y="3772080"/>
            <a:ext cx="27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ists, fungi, plants,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4720" y="37720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in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98080" y="326880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2-1000</a:t>
            </a:r>
            <a:r>
              <a:rPr b="1" lang="en-US" sz="24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5320" y="326880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mall 1-10</a:t>
            </a:r>
            <a:r>
              <a:rPr b="1" lang="en-US" sz="24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68920" y="22525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161400" y="5018760"/>
            <a:ext cx="2345760" cy="1367280"/>
            <a:chOff x="6161400" y="5018760"/>
            <a:chExt cx="2345760" cy="1367280"/>
          </a:xfrm>
        </p:grpSpPr>
        <p:grpSp>
          <p:nvGrpSpPr>
            <p:cNvPr id="751" name=""/>
            <p:cNvGrpSpPr/>
            <p:nvPr/>
          </p:nvGrpSpPr>
          <p:grpSpPr>
            <a:xfrm>
              <a:off x="6161400" y="5018760"/>
              <a:ext cx="2241000" cy="1367280"/>
              <a:chOff x="6161400" y="5018760"/>
              <a:chExt cx="2241000" cy="1367280"/>
            </a:xfrm>
          </p:grpSpPr>
          <p:sp>
            <p:nvSpPr>
              <p:cNvPr id="752" name=""/>
              <p:cNvSpPr/>
              <p:nvPr/>
            </p:nvSpPr>
            <p:spPr>
              <a:xfrm rot="16402200">
                <a:off x="6823080" y="4465800"/>
                <a:ext cx="631800" cy="184464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6402200">
                <a:off x="6742080" y="4692600"/>
                <a:ext cx="1079280" cy="21812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6214680" y="5060520"/>
              <a:ext cx="2129760" cy="1278000"/>
              <a:chOff x="6214680" y="5060520"/>
              <a:chExt cx="2129760" cy="1278000"/>
            </a:xfrm>
          </p:grpSpPr>
          <p:sp>
            <p:nvSpPr>
              <p:cNvPr id="755" name=""/>
              <p:cNvSpPr/>
              <p:nvPr/>
            </p:nvSpPr>
            <p:spPr>
              <a:xfrm rot="16402200">
                <a:off x="6848640" y="4529160"/>
                <a:ext cx="589680" cy="175392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402200">
                <a:off x="6775560" y="4737600"/>
                <a:ext cx="1007280" cy="207396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09400" y="5397840"/>
              <a:ext cx="797760" cy="437040"/>
              <a:chOff x="7709400" y="5397840"/>
              <a:chExt cx="797760" cy="437040"/>
            </a:xfrm>
          </p:grpSpPr>
          <p:sp>
            <p:nvSpPr>
              <p:cNvPr id="758" name=""/>
              <p:cNvSpPr/>
              <p:nvPr/>
            </p:nvSpPr>
            <p:spPr>
              <a:xfrm rot="17877600">
                <a:off x="7867800" y="539928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 rot="6019800">
                <a:off x="7967520" y="5316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 rot="6019800">
                <a:off x="7999920" y="53060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 rot="6019800">
                <a:off x="8032680" y="528912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 rot="6019800">
                <a:off x="8065080" y="52779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402200">
                <a:off x="7986240" y="557136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16402200">
              <a:off x="6520680" y="5483880"/>
              <a:ext cx="472320" cy="78084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6402200">
              <a:off x="7082640" y="5433480"/>
              <a:ext cx="495360" cy="50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6402200">
              <a:off x="7148880" y="5491800"/>
              <a:ext cx="361800" cy="3636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402200">
              <a:off x="7993440" y="591912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6402200">
              <a:off x="6995160" y="61275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402200">
              <a:off x="6609240" y="533484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6402200">
              <a:off x="7599240" y="52725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609240" y="5448960"/>
              <a:ext cx="377640" cy="288720"/>
              <a:chOff x="6609240" y="5448960"/>
              <a:chExt cx="377640" cy="288720"/>
            </a:xfrm>
          </p:grpSpPr>
          <p:sp>
            <p:nvSpPr>
              <p:cNvPr id="772" name=""/>
              <p:cNvSpPr/>
              <p:nvPr/>
            </p:nvSpPr>
            <p:spPr>
              <a:xfrm rot="14702400">
                <a:off x="6718320" y="542196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402200">
                <a:off x="6695280" y="547344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612920" y="5800320"/>
              <a:ext cx="377640" cy="288720"/>
              <a:chOff x="7612920" y="5800320"/>
              <a:chExt cx="377640" cy="288720"/>
            </a:xfrm>
          </p:grpSpPr>
          <p:sp>
            <p:nvSpPr>
              <p:cNvPr id="775" name=""/>
              <p:cNvSpPr/>
              <p:nvPr/>
            </p:nvSpPr>
            <p:spPr>
              <a:xfrm rot="14702400">
                <a:off x="7722000" y="577332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402200">
                <a:off x="7698600" y="582516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7011360" y="5038560"/>
              <a:ext cx="797760" cy="437040"/>
              <a:chOff x="7011360" y="5038560"/>
              <a:chExt cx="797760" cy="437040"/>
            </a:xfrm>
          </p:grpSpPr>
          <p:sp>
            <p:nvSpPr>
              <p:cNvPr id="778" name=""/>
              <p:cNvSpPr/>
              <p:nvPr/>
            </p:nvSpPr>
            <p:spPr>
              <a:xfrm rot="17877600">
                <a:off x="7169760" y="504000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 rot="6019800">
                <a:off x="7269480" y="495792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 rot="6019800">
                <a:off x="7301880" y="4946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6019800">
                <a:off x="7334640" y="4929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 rot="6019800">
                <a:off x="7367040" y="49186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402200">
                <a:off x="7288560" y="521208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rot="16402200">
              <a:off x="6368040" y="5438880"/>
              <a:ext cx="17784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132680" y="5918400"/>
              <a:ext cx="430200" cy="289800"/>
              <a:chOff x="7132680" y="5918400"/>
              <a:chExt cx="430200" cy="289800"/>
            </a:xfrm>
          </p:grpSpPr>
          <p:sp>
            <p:nvSpPr>
              <p:cNvPr id="786" name=""/>
              <p:cNvSpPr/>
              <p:nvPr/>
            </p:nvSpPr>
            <p:spPr>
              <a:xfrm rot="16402200">
                <a:off x="7313400" y="5881320"/>
                <a:ext cx="90720" cy="362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402200">
                <a:off x="7319160" y="5835240"/>
                <a:ext cx="90720" cy="273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402200">
                <a:off x="7302240" y="5937480"/>
                <a:ext cx="90720" cy="425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9" name=""/>
          <p:cNvGrpSpPr/>
          <p:nvPr/>
        </p:nvGrpSpPr>
        <p:grpSpPr>
          <a:xfrm>
            <a:off x="638280" y="4819680"/>
            <a:ext cx="1763640" cy="1306440"/>
            <a:chOff x="638280" y="4819680"/>
            <a:chExt cx="1763640" cy="1306440"/>
          </a:xfrm>
        </p:grpSpPr>
        <p:grpSp>
          <p:nvGrpSpPr>
            <p:cNvPr id="790" name=""/>
            <p:cNvGrpSpPr/>
            <p:nvPr/>
          </p:nvGrpSpPr>
          <p:grpSpPr>
            <a:xfrm>
              <a:off x="874800" y="5579280"/>
              <a:ext cx="1527120" cy="546840"/>
              <a:chOff x="874800" y="5579280"/>
              <a:chExt cx="1527120" cy="546840"/>
            </a:xfrm>
          </p:grpSpPr>
          <p:sp>
            <p:nvSpPr>
              <p:cNvPr id="791" name=""/>
              <p:cNvSpPr/>
              <p:nvPr/>
            </p:nvSpPr>
            <p:spPr>
              <a:xfrm>
                <a:off x="895680" y="5607360"/>
                <a:ext cx="148284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45080" y="5663880"/>
                <a:ext cx="121032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789560" y="5668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198520" y="5670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246760" y="56869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65480" y="5721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321640" y="57654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06880" y="58420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98960" y="56775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46480" y="56890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94000" y="56869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75720" y="5675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39520" y="56448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12800" y="5958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64720" y="5988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0920" y="5976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88160" y="5946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95200" y="5659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63880" y="56476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28040" y="5988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17600" y="5953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5400" y="59835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75840" y="59443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44880" y="5974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71800" y="596736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132200" y="59648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45080" y="5868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014120" y="58330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07640" y="5793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89280" y="5744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074600" y="5881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18080" y="59115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053360" y="5913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80720" y="5949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07720" y="5974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92960" y="56358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567080" y="5976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635480" y="5649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32000" y="5712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3680" y="595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74800" y="5579280"/>
                <a:ext cx="152712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38280" y="481968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33000" y="132840"/>
            <a:ext cx="84582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at Are the Parts of Cell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0960" y="1290240"/>
            <a:ext cx="40845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oth prokaryotic and eukaryotic cells have some things in commo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25520" y="1290600"/>
            <a:ext cx="4084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l cells ha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uclear materia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87360" y="4227480"/>
            <a:ext cx="3914640" cy="1979640"/>
            <a:chOff x="387360" y="4227480"/>
            <a:chExt cx="3914640" cy="1979640"/>
          </a:xfrm>
        </p:grpSpPr>
        <p:sp>
          <p:nvSpPr>
            <p:cNvPr id="837" name=""/>
            <p:cNvSpPr/>
            <p:nvPr/>
          </p:nvSpPr>
          <p:spPr>
            <a:xfrm>
              <a:off x="1011240" y="5110200"/>
              <a:ext cx="3290760" cy="1096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06640" y="5180040"/>
              <a:ext cx="3108240" cy="93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82760" y="5340240"/>
              <a:ext cx="2479680" cy="623880"/>
            </a:xfrm>
            <a:custGeom>
              <a:avLst/>
              <a:gdLst/>
              <a:ahLst/>
              <a:rect l="l" t="t" r="r" b="b"/>
              <a:pathLst>
                <a:path w="3584" h="876">
                  <a:moveTo>
                    <a:pt x="135" y="468"/>
                  </a:moveTo>
                  <a:cubicBezTo>
                    <a:pt x="113" y="462"/>
                    <a:pt x="64" y="455"/>
                    <a:pt x="49" y="431"/>
                  </a:cubicBezTo>
                  <a:cubicBezTo>
                    <a:pt x="35" y="409"/>
                    <a:pt x="24" y="357"/>
                    <a:pt x="24" y="357"/>
                  </a:cubicBezTo>
                  <a:cubicBezTo>
                    <a:pt x="44" y="183"/>
                    <a:pt x="15" y="205"/>
                    <a:pt x="197" y="221"/>
                  </a:cubicBezTo>
                  <a:cubicBezTo>
                    <a:pt x="226" y="266"/>
                    <a:pt x="253" y="318"/>
                    <a:pt x="271" y="369"/>
                  </a:cubicBezTo>
                  <a:cubicBezTo>
                    <a:pt x="273" y="382"/>
                    <a:pt x="333" y="670"/>
                    <a:pt x="246" y="541"/>
                  </a:cubicBezTo>
                  <a:cubicBezTo>
                    <a:pt x="230" y="493"/>
                    <a:pt x="225" y="443"/>
                    <a:pt x="209" y="394"/>
                  </a:cubicBezTo>
                  <a:cubicBezTo>
                    <a:pt x="213" y="348"/>
                    <a:pt x="209" y="271"/>
                    <a:pt x="234" y="221"/>
                  </a:cubicBezTo>
                  <a:cubicBezTo>
                    <a:pt x="241" y="208"/>
                    <a:pt x="246" y="193"/>
                    <a:pt x="258" y="185"/>
                  </a:cubicBezTo>
                  <a:cubicBezTo>
                    <a:pt x="280" y="171"/>
                    <a:pt x="332" y="160"/>
                    <a:pt x="332" y="160"/>
                  </a:cubicBezTo>
                  <a:cubicBezTo>
                    <a:pt x="373" y="164"/>
                    <a:pt x="416" y="159"/>
                    <a:pt x="455" y="172"/>
                  </a:cubicBezTo>
                  <a:cubicBezTo>
                    <a:pt x="469" y="177"/>
                    <a:pt x="479" y="194"/>
                    <a:pt x="480" y="209"/>
                  </a:cubicBezTo>
                  <a:cubicBezTo>
                    <a:pt x="491" y="522"/>
                    <a:pt x="561" y="486"/>
                    <a:pt x="431" y="529"/>
                  </a:cubicBezTo>
                  <a:cubicBezTo>
                    <a:pt x="394" y="525"/>
                    <a:pt x="339" y="549"/>
                    <a:pt x="320" y="517"/>
                  </a:cubicBezTo>
                  <a:cubicBezTo>
                    <a:pt x="293" y="471"/>
                    <a:pt x="323" y="410"/>
                    <a:pt x="332" y="357"/>
                  </a:cubicBezTo>
                  <a:cubicBezTo>
                    <a:pt x="349" y="263"/>
                    <a:pt x="487" y="145"/>
                    <a:pt x="578" y="123"/>
                  </a:cubicBezTo>
                  <a:cubicBezTo>
                    <a:pt x="721" y="136"/>
                    <a:pt x="709" y="128"/>
                    <a:pt x="812" y="197"/>
                  </a:cubicBezTo>
                  <a:cubicBezTo>
                    <a:pt x="827" y="244"/>
                    <a:pt x="849" y="284"/>
                    <a:pt x="861" y="332"/>
                  </a:cubicBezTo>
                  <a:cubicBezTo>
                    <a:pt x="857" y="394"/>
                    <a:pt x="855" y="456"/>
                    <a:pt x="849" y="517"/>
                  </a:cubicBezTo>
                  <a:cubicBezTo>
                    <a:pt x="834" y="662"/>
                    <a:pt x="673" y="654"/>
                    <a:pt x="566" y="689"/>
                  </a:cubicBezTo>
                  <a:cubicBezTo>
                    <a:pt x="513" y="685"/>
                    <a:pt x="456" y="695"/>
                    <a:pt x="406" y="677"/>
                  </a:cubicBezTo>
                  <a:cubicBezTo>
                    <a:pt x="390" y="671"/>
                    <a:pt x="394" y="645"/>
                    <a:pt x="394" y="628"/>
                  </a:cubicBezTo>
                  <a:cubicBezTo>
                    <a:pt x="394" y="547"/>
                    <a:pt x="396" y="555"/>
                    <a:pt x="431" y="505"/>
                  </a:cubicBezTo>
                  <a:cubicBezTo>
                    <a:pt x="457" y="426"/>
                    <a:pt x="503" y="393"/>
                    <a:pt x="578" y="369"/>
                  </a:cubicBezTo>
                  <a:cubicBezTo>
                    <a:pt x="599" y="373"/>
                    <a:pt x="636" y="360"/>
                    <a:pt x="640" y="381"/>
                  </a:cubicBezTo>
                  <a:cubicBezTo>
                    <a:pt x="669" y="542"/>
                    <a:pt x="675" y="642"/>
                    <a:pt x="554" y="701"/>
                  </a:cubicBezTo>
                  <a:cubicBezTo>
                    <a:pt x="472" y="697"/>
                    <a:pt x="389" y="698"/>
                    <a:pt x="307" y="689"/>
                  </a:cubicBezTo>
                  <a:cubicBezTo>
                    <a:pt x="274" y="686"/>
                    <a:pt x="209" y="665"/>
                    <a:pt x="209" y="665"/>
                  </a:cubicBezTo>
                  <a:cubicBezTo>
                    <a:pt x="223" y="565"/>
                    <a:pt x="227" y="552"/>
                    <a:pt x="283" y="468"/>
                  </a:cubicBezTo>
                  <a:cubicBezTo>
                    <a:pt x="294" y="451"/>
                    <a:pt x="318" y="446"/>
                    <a:pt x="332" y="431"/>
                  </a:cubicBezTo>
                  <a:cubicBezTo>
                    <a:pt x="399" y="363"/>
                    <a:pt x="339" y="378"/>
                    <a:pt x="443" y="308"/>
                  </a:cubicBezTo>
                  <a:cubicBezTo>
                    <a:pt x="491" y="275"/>
                    <a:pt x="515" y="254"/>
                    <a:pt x="566" y="234"/>
                  </a:cubicBezTo>
                  <a:cubicBezTo>
                    <a:pt x="590" y="224"/>
                    <a:pt x="640" y="209"/>
                    <a:pt x="640" y="209"/>
                  </a:cubicBezTo>
                  <a:cubicBezTo>
                    <a:pt x="878" y="218"/>
                    <a:pt x="959" y="153"/>
                    <a:pt x="1021" y="345"/>
                  </a:cubicBezTo>
                  <a:cubicBezTo>
                    <a:pt x="1009" y="575"/>
                    <a:pt x="1067" y="604"/>
                    <a:pt x="874" y="578"/>
                  </a:cubicBezTo>
                  <a:cubicBezTo>
                    <a:pt x="847" y="502"/>
                    <a:pt x="839" y="499"/>
                    <a:pt x="898" y="381"/>
                  </a:cubicBezTo>
                  <a:cubicBezTo>
                    <a:pt x="912" y="352"/>
                    <a:pt x="949" y="343"/>
                    <a:pt x="972" y="320"/>
                  </a:cubicBezTo>
                  <a:cubicBezTo>
                    <a:pt x="987" y="306"/>
                    <a:pt x="994" y="285"/>
                    <a:pt x="1009" y="271"/>
                  </a:cubicBezTo>
                  <a:cubicBezTo>
                    <a:pt x="1031" y="251"/>
                    <a:pt x="1083" y="221"/>
                    <a:pt x="1083" y="221"/>
                  </a:cubicBezTo>
                  <a:cubicBezTo>
                    <a:pt x="1136" y="141"/>
                    <a:pt x="1173" y="175"/>
                    <a:pt x="1243" y="221"/>
                  </a:cubicBezTo>
                  <a:cubicBezTo>
                    <a:pt x="1279" y="332"/>
                    <a:pt x="1280" y="559"/>
                    <a:pt x="1144" y="603"/>
                  </a:cubicBezTo>
                  <a:cubicBezTo>
                    <a:pt x="1083" y="599"/>
                    <a:pt x="1007" y="631"/>
                    <a:pt x="960" y="591"/>
                  </a:cubicBezTo>
                  <a:cubicBezTo>
                    <a:pt x="926" y="561"/>
                    <a:pt x="960" y="499"/>
                    <a:pt x="972" y="455"/>
                  </a:cubicBezTo>
                  <a:cubicBezTo>
                    <a:pt x="977" y="438"/>
                    <a:pt x="998" y="431"/>
                    <a:pt x="1009" y="418"/>
                  </a:cubicBezTo>
                  <a:cubicBezTo>
                    <a:pt x="1056" y="362"/>
                    <a:pt x="1111" y="320"/>
                    <a:pt x="1181" y="295"/>
                  </a:cubicBezTo>
                  <a:cubicBezTo>
                    <a:pt x="1247" y="317"/>
                    <a:pt x="1293" y="326"/>
                    <a:pt x="1317" y="394"/>
                  </a:cubicBezTo>
                  <a:cubicBezTo>
                    <a:pt x="1335" y="522"/>
                    <a:pt x="1325" y="630"/>
                    <a:pt x="1280" y="751"/>
                  </a:cubicBezTo>
                  <a:cubicBezTo>
                    <a:pt x="1275" y="763"/>
                    <a:pt x="1276" y="779"/>
                    <a:pt x="1267" y="788"/>
                  </a:cubicBezTo>
                  <a:cubicBezTo>
                    <a:pt x="1230" y="825"/>
                    <a:pt x="1171" y="856"/>
                    <a:pt x="1120" y="874"/>
                  </a:cubicBezTo>
                  <a:cubicBezTo>
                    <a:pt x="1041" y="864"/>
                    <a:pt x="997" y="876"/>
                    <a:pt x="972" y="800"/>
                  </a:cubicBezTo>
                  <a:cubicBezTo>
                    <a:pt x="980" y="751"/>
                    <a:pt x="979" y="699"/>
                    <a:pt x="997" y="652"/>
                  </a:cubicBezTo>
                  <a:cubicBezTo>
                    <a:pt x="1005" y="630"/>
                    <a:pt x="1031" y="620"/>
                    <a:pt x="1046" y="603"/>
                  </a:cubicBezTo>
                  <a:cubicBezTo>
                    <a:pt x="1094" y="548"/>
                    <a:pt x="1133" y="498"/>
                    <a:pt x="1206" y="480"/>
                  </a:cubicBezTo>
                  <a:cubicBezTo>
                    <a:pt x="1218" y="472"/>
                    <a:pt x="1229" y="460"/>
                    <a:pt x="1243" y="455"/>
                  </a:cubicBezTo>
                  <a:cubicBezTo>
                    <a:pt x="1275" y="444"/>
                    <a:pt x="1341" y="431"/>
                    <a:pt x="1341" y="431"/>
                  </a:cubicBezTo>
                  <a:cubicBezTo>
                    <a:pt x="1416" y="449"/>
                    <a:pt x="1386" y="427"/>
                    <a:pt x="1415" y="517"/>
                  </a:cubicBezTo>
                  <a:cubicBezTo>
                    <a:pt x="1419" y="529"/>
                    <a:pt x="1423" y="542"/>
                    <a:pt x="1427" y="554"/>
                  </a:cubicBezTo>
                  <a:cubicBezTo>
                    <a:pt x="1431" y="566"/>
                    <a:pt x="1440" y="591"/>
                    <a:pt x="1440" y="591"/>
                  </a:cubicBezTo>
                  <a:cubicBezTo>
                    <a:pt x="1429" y="687"/>
                    <a:pt x="1427" y="754"/>
                    <a:pt x="1329" y="788"/>
                  </a:cubicBezTo>
                  <a:cubicBezTo>
                    <a:pt x="1292" y="784"/>
                    <a:pt x="1250" y="794"/>
                    <a:pt x="1218" y="775"/>
                  </a:cubicBezTo>
                  <a:cubicBezTo>
                    <a:pt x="1200" y="764"/>
                    <a:pt x="1206" y="735"/>
                    <a:pt x="1206" y="714"/>
                  </a:cubicBezTo>
                  <a:cubicBezTo>
                    <a:pt x="1206" y="640"/>
                    <a:pt x="1209" y="566"/>
                    <a:pt x="1218" y="492"/>
                  </a:cubicBezTo>
                  <a:cubicBezTo>
                    <a:pt x="1222" y="459"/>
                    <a:pt x="1235" y="427"/>
                    <a:pt x="1243" y="394"/>
                  </a:cubicBezTo>
                  <a:cubicBezTo>
                    <a:pt x="1256" y="342"/>
                    <a:pt x="1276" y="236"/>
                    <a:pt x="1317" y="209"/>
                  </a:cubicBezTo>
                  <a:cubicBezTo>
                    <a:pt x="1368" y="176"/>
                    <a:pt x="1340" y="189"/>
                    <a:pt x="1403" y="172"/>
                  </a:cubicBezTo>
                  <a:cubicBezTo>
                    <a:pt x="1456" y="176"/>
                    <a:pt x="1514" y="165"/>
                    <a:pt x="1563" y="185"/>
                  </a:cubicBezTo>
                  <a:cubicBezTo>
                    <a:pt x="1590" y="196"/>
                    <a:pt x="1612" y="258"/>
                    <a:pt x="1612" y="258"/>
                  </a:cubicBezTo>
                  <a:cubicBezTo>
                    <a:pt x="1634" y="372"/>
                    <a:pt x="1667" y="533"/>
                    <a:pt x="1563" y="603"/>
                  </a:cubicBezTo>
                  <a:cubicBezTo>
                    <a:pt x="1542" y="599"/>
                    <a:pt x="1517" y="605"/>
                    <a:pt x="1501" y="591"/>
                  </a:cubicBezTo>
                  <a:cubicBezTo>
                    <a:pt x="1478" y="572"/>
                    <a:pt x="1486" y="533"/>
                    <a:pt x="1477" y="505"/>
                  </a:cubicBezTo>
                  <a:cubicBezTo>
                    <a:pt x="1486" y="396"/>
                    <a:pt x="1475" y="329"/>
                    <a:pt x="1538" y="246"/>
                  </a:cubicBezTo>
                  <a:cubicBezTo>
                    <a:pt x="1556" y="194"/>
                    <a:pt x="1592" y="181"/>
                    <a:pt x="1637" y="148"/>
                  </a:cubicBezTo>
                  <a:cubicBezTo>
                    <a:pt x="1719" y="156"/>
                    <a:pt x="1803" y="151"/>
                    <a:pt x="1883" y="172"/>
                  </a:cubicBezTo>
                  <a:cubicBezTo>
                    <a:pt x="1903" y="177"/>
                    <a:pt x="1909" y="204"/>
                    <a:pt x="1920" y="221"/>
                  </a:cubicBezTo>
                  <a:cubicBezTo>
                    <a:pt x="1957" y="280"/>
                    <a:pt x="1968" y="351"/>
                    <a:pt x="1981" y="418"/>
                  </a:cubicBezTo>
                  <a:cubicBezTo>
                    <a:pt x="1977" y="480"/>
                    <a:pt x="1985" y="543"/>
                    <a:pt x="1969" y="603"/>
                  </a:cubicBezTo>
                  <a:cubicBezTo>
                    <a:pt x="1964" y="623"/>
                    <a:pt x="1940" y="638"/>
                    <a:pt x="1920" y="640"/>
                  </a:cubicBezTo>
                  <a:cubicBezTo>
                    <a:pt x="1855" y="647"/>
                    <a:pt x="1789" y="632"/>
                    <a:pt x="1723" y="628"/>
                  </a:cubicBezTo>
                  <a:cubicBezTo>
                    <a:pt x="1675" y="487"/>
                    <a:pt x="1667" y="336"/>
                    <a:pt x="1735" y="197"/>
                  </a:cubicBezTo>
                  <a:cubicBezTo>
                    <a:pt x="1758" y="149"/>
                    <a:pt x="1767" y="129"/>
                    <a:pt x="1821" y="111"/>
                  </a:cubicBezTo>
                  <a:cubicBezTo>
                    <a:pt x="1969" y="119"/>
                    <a:pt x="2029" y="92"/>
                    <a:pt x="2129" y="160"/>
                  </a:cubicBezTo>
                  <a:cubicBezTo>
                    <a:pt x="2207" y="275"/>
                    <a:pt x="2225" y="464"/>
                    <a:pt x="2067" y="505"/>
                  </a:cubicBezTo>
                  <a:cubicBezTo>
                    <a:pt x="2030" y="501"/>
                    <a:pt x="1973" y="525"/>
                    <a:pt x="1957" y="492"/>
                  </a:cubicBezTo>
                  <a:cubicBezTo>
                    <a:pt x="1941" y="460"/>
                    <a:pt x="1993" y="249"/>
                    <a:pt x="2043" y="209"/>
                  </a:cubicBezTo>
                  <a:cubicBezTo>
                    <a:pt x="2053" y="201"/>
                    <a:pt x="2068" y="201"/>
                    <a:pt x="2080" y="197"/>
                  </a:cubicBezTo>
                  <a:cubicBezTo>
                    <a:pt x="2170" y="201"/>
                    <a:pt x="2261" y="198"/>
                    <a:pt x="2351" y="209"/>
                  </a:cubicBezTo>
                  <a:cubicBezTo>
                    <a:pt x="2397" y="215"/>
                    <a:pt x="2420" y="283"/>
                    <a:pt x="2449" y="308"/>
                  </a:cubicBezTo>
                  <a:cubicBezTo>
                    <a:pt x="2530" y="378"/>
                    <a:pt x="2507" y="329"/>
                    <a:pt x="2560" y="394"/>
                  </a:cubicBezTo>
                  <a:cubicBezTo>
                    <a:pt x="2595" y="437"/>
                    <a:pt x="2619" y="477"/>
                    <a:pt x="2671" y="505"/>
                  </a:cubicBezTo>
                  <a:cubicBezTo>
                    <a:pt x="2717" y="530"/>
                    <a:pt x="2770" y="537"/>
                    <a:pt x="2818" y="554"/>
                  </a:cubicBezTo>
                  <a:cubicBezTo>
                    <a:pt x="2986" y="547"/>
                    <a:pt x="3158" y="568"/>
                    <a:pt x="3311" y="492"/>
                  </a:cubicBezTo>
                  <a:cubicBezTo>
                    <a:pt x="3327" y="459"/>
                    <a:pt x="3344" y="427"/>
                    <a:pt x="3360" y="394"/>
                  </a:cubicBezTo>
                  <a:cubicBezTo>
                    <a:pt x="3363" y="388"/>
                    <a:pt x="3367" y="237"/>
                    <a:pt x="3323" y="209"/>
                  </a:cubicBezTo>
                  <a:cubicBezTo>
                    <a:pt x="3283" y="184"/>
                    <a:pt x="3147" y="145"/>
                    <a:pt x="3101" y="135"/>
                  </a:cubicBezTo>
                  <a:cubicBezTo>
                    <a:pt x="3031" y="139"/>
                    <a:pt x="2961" y="135"/>
                    <a:pt x="2892" y="148"/>
                  </a:cubicBezTo>
                  <a:cubicBezTo>
                    <a:pt x="2836" y="158"/>
                    <a:pt x="2815" y="216"/>
                    <a:pt x="2744" y="234"/>
                  </a:cubicBezTo>
                  <a:cubicBezTo>
                    <a:pt x="2658" y="321"/>
                    <a:pt x="2702" y="293"/>
                    <a:pt x="2621" y="332"/>
                  </a:cubicBezTo>
                  <a:cubicBezTo>
                    <a:pt x="2609" y="344"/>
                    <a:pt x="2595" y="355"/>
                    <a:pt x="2584" y="369"/>
                  </a:cubicBezTo>
                  <a:cubicBezTo>
                    <a:pt x="2566" y="392"/>
                    <a:pt x="2560" y="426"/>
                    <a:pt x="2535" y="443"/>
                  </a:cubicBezTo>
                  <a:cubicBezTo>
                    <a:pt x="2438" y="508"/>
                    <a:pt x="2360" y="597"/>
                    <a:pt x="2264" y="665"/>
                  </a:cubicBezTo>
                  <a:cubicBezTo>
                    <a:pt x="2245" y="679"/>
                    <a:pt x="2224" y="690"/>
                    <a:pt x="2203" y="701"/>
                  </a:cubicBezTo>
                  <a:cubicBezTo>
                    <a:pt x="2170" y="719"/>
                    <a:pt x="2104" y="751"/>
                    <a:pt x="2104" y="751"/>
                  </a:cubicBezTo>
                  <a:cubicBezTo>
                    <a:pt x="2075" y="747"/>
                    <a:pt x="2044" y="751"/>
                    <a:pt x="2018" y="738"/>
                  </a:cubicBezTo>
                  <a:cubicBezTo>
                    <a:pt x="2006" y="732"/>
                    <a:pt x="2006" y="714"/>
                    <a:pt x="2006" y="701"/>
                  </a:cubicBezTo>
                  <a:cubicBezTo>
                    <a:pt x="2006" y="601"/>
                    <a:pt x="1988" y="480"/>
                    <a:pt x="2031" y="381"/>
                  </a:cubicBezTo>
                  <a:cubicBezTo>
                    <a:pt x="2050" y="337"/>
                    <a:pt x="2049" y="327"/>
                    <a:pt x="2092" y="308"/>
                  </a:cubicBezTo>
                  <a:cubicBezTo>
                    <a:pt x="2116" y="297"/>
                    <a:pt x="2166" y="283"/>
                    <a:pt x="2166" y="283"/>
                  </a:cubicBezTo>
                  <a:cubicBezTo>
                    <a:pt x="2393" y="300"/>
                    <a:pt x="2367" y="244"/>
                    <a:pt x="2314" y="566"/>
                  </a:cubicBezTo>
                  <a:cubicBezTo>
                    <a:pt x="2311" y="586"/>
                    <a:pt x="2233" y="605"/>
                    <a:pt x="2203" y="615"/>
                  </a:cubicBezTo>
                  <a:cubicBezTo>
                    <a:pt x="2151" y="632"/>
                    <a:pt x="2114" y="674"/>
                    <a:pt x="2067" y="701"/>
                  </a:cubicBezTo>
                  <a:cubicBezTo>
                    <a:pt x="2017" y="729"/>
                    <a:pt x="1976" y="739"/>
                    <a:pt x="1920" y="751"/>
                  </a:cubicBezTo>
                  <a:cubicBezTo>
                    <a:pt x="1813" y="743"/>
                    <a:pt x="1705" y="744"/>
                    <a:pt x="1600" y="726"/>
                  </a:cubicBezTo>
                  <a:cubicBezTo>
                    <a:pt x="1583" y="723"/>
                    <a:pt x="1565" y="706"/>
                    <a:pt x="1563" y="689"/>
                  </a:cubicBezTo>
                  <a:cubicBezTo>
                    <a:pt x="1553" y="596"/>
                    <a:pt x="1585" y="609"/>
                    <a:pt x="1637" y="578"/>
                  </a:cubicBezTo>
                  <a:cubicBezTo>
                    <a:pt x="1746" y="513"/>
                    <a:pt x="1715" y="532"/>
                    <a:pt x="1846" y="505"/>
                  </a:cubicBezTo>
                  <a:cubicBezTo>
                    <a:pt x="1962" y="481"/>
                    <a:pt x="2041" y="405"/>
                    <a:pt x="2141" y="345"/>
                  </a:cubicBezTo>
                  <a:cubicBezTo>
                    <a:pt x="2428" y="175"/>
                    <a:pt x="2080" y="401"/>
                    <a:pt x="2314" y="246"/>
                  </a:cubicBezTo>
                  <a:cubicBezTo>
                    <a:pt x="2357" y="217"/>
                    <a:pt x="2426" y="206"/>
                    <a:pt x="2474" y="185"/>
                  </a:cubicBezTo>
                  <a:cubicBezTo>
                    <a:pt x="2525" y="163"/>
                    <a:pt x="2555" y="136"/>
                    <a:pt x="2609" y="123"/>
                  </a:cubicBezTo>
                  <a:cubicBezTo>
                    <a:pt x="2625" y="115"/>
                    <a:pt x="2641" y="105"/>
                    <a:pt x="2658" y="98"/>
                  </a:cubicBezTo>
                  <a:cubicBezTo>
                    <a:pt x="2682" y="88"/>
                    <a:pt x="2732" y="74"/>
                    <a:pt x="2732" y="74"/>
                  </a:cubicBezTo>
                  <a:cubicBezTo>
                    <a:pt x="2807" y="84"/>
                    <a:pt x="2867" y="94"/>
                    <a:pt x="2929" y="135"/>
                  </a:cubicBezTo>
                  <a:cubicBezTo>
                    <a:pt x="2925" y="147"/>
                    <a:pt x="2928" y="166"/>
                    <a:pt x="2917" y="172"/>
                  </a:cubicBezTo>
                  <a:cubicBezTo>
                    <a:pt x="2887" y="189"/>
                    <a:pt x="2818" y="197"/>
                    <a:pt x="2818" y="197"/>
                  </a:cubicBezTo>
                  <a:cubicBezTo>
                    <a:pt x="2779" y="222"/>
                    <a:pt x="2740" y="250"/>
                    <a:pt x="2720" y="295"/>
                  </a:cubicBezTo>
                  <a:cubicBezTo>
                    <a:pt x="2709" y="319"/>
                    <a:pt x="2703" y="344"/>
                    <a:pt x="2695" y="369"/>
                  </a:cubicBezTo>
                  <a:cubicBezTo>
                    <a:pt x="2691" y="381"/>
                    <a:pt x="2683" y="406"/>
                    <a:pt x="2683" y="406"/>
                  </a:cubicBezTo>
                  <a:cubicBezTo>
                    <a:pt x="2698" y="601"/>
                    <a:pt x="2657" y="528"/>
                    <a:pt x="2769" y="640"/>
                  </a:cubicBezTo>
                  <a:cubicBezTo>
                    <a:pt x="2783" y="654"/>
                    <a:pt x="2803" y="663"/>
                    <a:pt x="2818" y="677"/>
                  </a:cubicBezTo>
                  <a:cubicBezTo>
                    <a:pt x="2844" y="700"/>
                    <a:pt x="2892" y="751"/>
                    <a:pt x="2892" y="751"/>
                  </a:cubicBezTo>
                  <a:cubicBezTo>
                    <a:pt x="2842" y="767"/>
                    <a:pt x="2804" y="801"/>
                    <a:pt x="2757" y="825"/>
                  </a:cubicBezTo>
                  <a:cubicBezTo>
                    <a:pt x="2698" y="819"/>
                    <a:pt x="2640" y="831"/>
                    <a:pt x="2597" y="788"/>
                  </a:cubicBezTo>
                  <a:cubicBezTo>
                    <a:pt x="2582" y="773"/>
                    <a:pt x="2570" y="756"/>
                    <a:pt x="2560" y="738"/>
                  </a:cubicBezTo>
                  <a:cubicBezTo>
                    <a:pt x="2542" y="706"/>
                    <a:pt x="2511" y="640"/>
                    <a:pt x="2511" y="640"/>
                  </a:cubicBezTo>
                  <a:cubicBezTo>
                    <a:pt x="2524" y="507"/>
                    <a:pt x="2516" y="489"/>
                    <a:pt x="2621" y="418"/>
                  </a:cubicBezTo>
                  <a:cubicBezTo>
                    <a:pt x="2679" y="422"/>
                    <a:pt x="2737" y="421"/>
                    <a:pt x="2794" y="431"/>
                  </a:cubicBezTo>
                  <a:cubicBezTo>
                    <a:pt x="2842" y="439"/>
                    <a:pt x="2832" y="470"/>
                    <a:pt x="2843" y="505"/>
                  </a:cubicBezTo>
                  <a:cubicBezTo>
                    <a:pt x="2874" y="600"/>
                    <a:pt x="2910" y="744"/>
                    <a:pt x="2978" y="812"/>
                  </a:cubicBezTo>
                  <a:cubicBezTo>
                    <a:pt x="3151" y="781"/>
                    <a:pt x="3093" y="812"/>
                    <a:pt x="3175" y="701"/>
                  </a:cubicBezTo>
                  <a:cubicBezTo>
                    <a:pt x="3193" y="594"/>
                    <a:pt x="3205" y="553"/>
                    <a:pt x="3175" y="418"/>
                  </a:cubicBezTo>
                  <a:cubicBezTo>
                    <a:pt x="3174" y="414"/>
                    <a:pt x="3114" y="400"/>
                    <a:pt x="3089" y="394"/>
                  </a:cubicBezTo>
                  <a:cubicBezTo>
                    <a:pt x="3040" y="398"/>
                    <a:pt x="2989" y="394"/>
                    <a:pt x="2941" y="406"/>
                  </a:cubicBezTo>
                  <a:cubicBezTo>
                    <a:pt x="2885" y="420"/>
                    <a:pt x="2901" y="457"/>
                    <a:pt x="2855" y="480"/>
                  </a:cubicBezTo>
                  <a:cubicBezTo>
                    <a:pt x="2825" y="495"/>
                    <a:pt x="2789" y="494"/>
                    <a:pt x="2757" y="505"/>
                  </a:cubicBezTo>
                  <a:cubicBezTo>
                    <a:pt x="2621" y="492"/>
                    <a:pt x="2515" y="477"/>
                    <a:pt x="2437" y="357"/>
                  </a:cubicBezTo>
                  <a:cubicBezTo>
                    <a:pt x="2398" y="211"/>
                    <a:pt x="2438" y="82"/>
                    <a:pt x="2560" y="0"/>
                  </a:cubicBezTo>
                  <a:cubicBezTo>
                    <a:pt x="2605" y="4"/>
                    <a:pt x="2651" y="2"/>
                    <a:pt x="2695" y="12"/>
                  </a:cubicBezTo>
                  <a:cubicBezTo>
                    <a:pt x="2710" y="15"/>
                    <a:pt x="2719" y="30"/>
                    <a:pt x="2732" y="37"/>
                  </a:cubicBezTo>
                  <a:cubicBezTo>
                    <a:pt x="2813" y="83"/>
                    <a:pt x="2883" y="143"/>
                    <a:pt x="2966" y="185"/>
                  </a:cubicBezTo>
                  <a:cubicBezTo>
                    <a:pt x="3040" y="159"/>
                    <a:pt x="2970" y="192"/>
                    <a:pt x="3027" y="135"/>
                  </a:cubicBezTo>
                  <a:cubicBezTo>
                    <a:pt x="3064" y="98"/>
                    <a:pt x="3117" y="72"/>
                    <a:pt x="3163" y="49"/>
                  </a:cubicBezTo>
                  <a:cubicBezTo>
                    <a:pt x="3196" y="53"/>
                    <a:pt x="3229" y="52"/>
                    <a:pt x="3261" y="61"/>
                  </a:cubicBezTo>
                  <a:cubicBezTo>
                    <a:pt x="3300" y="72"/>
                    <a:pt x="3310" y="110"/>
                    <a:pt x="3335" y="135"/>
                  </a:cubicBezTo>
                  <a:cubicBezTo>
                    <a:pt x="3346" y="146"/>
                    <a:pt x="3361" y="150"/>
                    <a:pt x="3372" y="160"/>
                  </a:cubicBezTo>
                  <a:cubicBezTo>
                    <a:pt x="3411" y="192"/>
                    <a:pt x="3435" y="235"/>
                    <a:pt x="3471" y="271"/>
                  </a:cubicBezTo>
                  <a:cubicBezTo>
                    <a:pt x="3488" y="323"/>
                    <a:pt x="3518" y="365"/>
                    <a:pt x="3532" y="418"/>
                  </a:cubicBezTo>
                  <a:cubicBezTo>
                    <a:pt x="3541" y="451"/>
                    <a:pt x="3549" y="484"/>
                    <a:pt x="3557" y="517"/>
                  </a:cubicBezTo>
                  <a:cubicBezTo>
                    <a:pt x="3561" y="533"/>
                    <a:pt x="3569" y="566"/>
                    <a:pt x="3569" y="566"/>
                  </a:cubicBezTo>
                  <a:cubicBezTo>
                    <a:pt x="3565" y="587"/>
                    <a:pt x="3571" y="612"/>
                    <a:pt x="3557" y="628"/>
                  </a:cubicBezTo>
                  <a:cubicBezTo>
                    <a:pt x="3527" y="664"/>
                    <a:pt x="3482" y="627"/>
                    <a:pt x="3458" y="615"/>
                  </a:cubicBezTo>
                  <a:cubicBezTo>
                    <a:pt x="3448" y="576"/>
                    <a:pt x="3414" y="507"/>
                    <a:pt x="3446" y="468"/>
                  </a:cubicBezTo>
                  <a:cubicBezTo>
                    <a:pt x="3457" y="455"/>
                    <a:pt x="3479" y="459"/>
                    <a:pt x="3495" y="455"/>
                  </a:cubicBezTo>
                  <a:cubicBezTo>
                    <a:pt x="3520" y="459"/>
                    <a:pt x="3562" y="444"/>
                    <a:pt x="3569" y="468"/>
                  </a:cubicBezTo>
                  <a:cubicBezTo>
                    <a:pt x="3584" y="520"/>
                    <a:pt x="3553" y="575"/>
                    <a:pt x="3544" y="628"/>
                  </a:cubicBezTo>
                  <a:cubicBezTo>
                    <a:pt x="3530" y="709"/>
                    <a:pt x="3480" y="834"/>
                    <a:pt x="3397" y="861"/>
                  </a:cubicBezTo>
                  <a:cubicBezTo>
                    <a:pt x="3302" y="846"/>
                    <a:pt x="3308" y="853"/>
                    <a:pt x="3286" y="763"/>
                  </a:cubicBezTo>
                  <a:cubicBezTo>
                    <a:pt x="3290" y="718"/>
                    <a:pt x="3287" y="672"/>
                    <a:pt x="3298" y="628"/>
                  </a:cubicBezTo>
                  <a:cubicBezTo>
                    <a:pt x="3319" y="548"/>
                    <a:pt x="3370" y="510"/>
                    <a:pt x="3409" y="443"/>
                  </a:cubicBezTo>
                  <a:cubicBezTo>
                    <a:pt x="3450" y="373"/>
                    <a:pt x="3451" y="365"/>
                    <a:pt x="3471" y="308"/>
                  </a:cubicBezTo>
                  <a:cubicBezTo>
                    <a:pt x="3450" y="247"/>
                    <a:pt x="3433" y="249"/>
                    <a:pt x="3372" y="234"/>
                  </a:cubicBezTo>
                  <a:cubicBezTo>
                    <a:pt x="3286" y="238"/>
                    <a:pt x="3198" y="226"/>
                    <a:pt x="3114" y="246"/>
                  </a:cubicBezTo>
                  <a:cubicBezTo>
                    <a:pt x="3074" y="256"/>
                    <a:pt x="3048" y="295"/>
                    <a:pt x="3015" y="320"/>
                  </a:cubicBezTo>
                  <a:cubicBezTo>
                    <a:pt x="3005" y="328"/>
                    <a:pt x="2990" y="326"/>
                    <a:pt x="2978" y="332"/>
                  </a:cubicBezTo>
                  <a:cubicBezTo>
                    <a:pt x="2940" y="351"/>
                    <a:pt x="2903" y="372"/>
                    <a:pt x="2867" y="394"/>
                  </a:cubicBezTo>
                  <a:cubicBezTo>
                    <a:pt x="2796" y="438"/>
                    <a:pt x="2734" y="492"/>
                    <a:pt x="2658" y="529"/>
                  </a:cubicBezTo>
                  <a:cubicBezTo>
                    <a:pt x="2646" y="525"/>
                    <a:pt x="2628" y="528"/>
                    <a:pt x="2621" y="517"/>
                  </a:cubicBezTo>
                  <a:cubicBezTo>
                    <a:pt x="2601" y="486"/>
                    <a:pt x="2610" y="376"/>
                    <a:pt x="2621" y="357"/>
                  </a:cubicBezTo>
                  <a:cubicBezTo>
                    <a:pt x="2647" y="312"/>
                    <a:pt x="2770" y="275"/>
                    <a:pt x="2818" y="258"/>
                  </a:cubicBezTo>
                  <a:cubicBezTo>
                    <a:pt x="2884" y="272"/>
                    <a:pt x="2908" y="280"/>
                    <a:pt x="2929" y="345"/>
                  </a:cubicBezTo>
                  <a:cubicBezTo>
                    <a:pt x="2925" y="390"/>
                    <a:pt x="2926" y="436"/>
                    <a:pt x="2917" y="480"/>
                  </a:cubicBezTo>
                  <a:cubicBezTo>
                    <a:pt x="2908" y="526"/>
                    <a:pt x="2845" y="582"/>
                    <a:pt x="2818" y="603"/>
                  </a:cubicBezTo>
                  <a:cubicBezTo>
                    <a:pt x="2713" y="688"/>
                    <a:pt x="2630" y="717"/>
                    <a:pt x="2498" y="738"/>
                  </a:cubicBezTo>
                  <a:cubicBezTo>
                    <a:pt x="2270" y="728"/>
                    <a:pt x="2232" y="754"/>
                    <a:pt x="2080" y="640"/>
                  </a:cubicBezTo>
                  <a:cubicBezTo>
                    <a:pt x="2019" y="520"/>
                    <a:pt x="2095" y="657"/>
                    <a:pt x="2018" y="554"/>
                  </a:cubicBezTo>
                  <a:cubicBezTo>
                    <a:pt x="1980" y="504"/>
                    <a:pt x="1967" y="445"/>
                    <a:pt x="1932" y="394"/>
                  </a:cubicBezTo>
                  <a:cubicBezTo>
                    <a:pt x="1918" y="336"/>
                    <a:pt x="1888" y="244"/>
                    <a:pt x="1944" y="197"/>
                  </a:cubicBezTo>
                  <a:cubicBezTo>
                    <a:pt x="1976" y="170"/>
                    <a:pt x="2026" y="213"/>
                    <a:pt x="2067" y="221"/>
                  </a:cubicBezTo>
                  <a:cubicBezTo>
                    <a:pt x="2084" y="287"/>
                    <a:pt x="2093" y="426"/>
                    <a:pt x="2055" y="480"/>
                  </a:cubicBezTo>
                  <a:cubicBezTo>
                    <a:pt x="2035" y="509"/>
                    <a:pt x="2002" y="526"/>
                    <a:pt x="1981" y="554"/>
                  </a:cubicBezTo>
                  <a:cubicBezTo>
                    <a:pt x="1969" y="570"/>
                    <a:pt x="1960" y="590"/>
                    <a:pt x="1944" y="603"/>
                  </a:cubicBezTo>
                  <a:cubicBezTo>
                    <a:pt x="1911" y="632"/>
                    <a:pt x="1868" y="649"/>
                    <a:pt x="1834" y="677"/>
                  </a:cubicBezTo>
                  <a:cubicBezTo>
                    <a:pt x="1652" y="665"/>
                    <a:pt x="1504" y="708"/>
                    <a:pt x="1366" y="615"/>
                  </a:cubicBezTo>
                  <a:cubicBezTo>
                    <a:pt x="1334" y="521"/>
                    <a:pt x="1346" y="567"/>
                    <a:pt x="1329" y="480"/>
                  </a:cubicBezTo>
                  <a:cubicBezTo>
                    <a:pt x="1336" y="377"/>
                    <a:pt x="1314" y="281"/>
                    <a:pt x="1403" y="221"/>
                  </a:cubicBezTo>
                  <a:cubicBezTo>
                    <a:pt x="1440" y="225"/>
                    <a:pt x="1481" y="217"/>
                    <a:pt x="1514" y="234"/>
                  </a:cubicBezTo>
                  <a:cubicBezTo>
                    <a:pt x="1529" y="242"/>
                    <a:pt x="1520" y="267"/>
                    <a:pt x="1526" y="283"/>
                  </a:cubicBezTo>
                  <a:cubicBezTo>
                    <a:pt x="1532" y="300"/>
                    <a:pt x="1543" y="316"/>
                    <a:pt x="1551" y="332"/>
                  </a:cubicBezTo>
                  <a:cubicBezTo>
                    <a:pt x="1532" y="480"/>
                    <a:pt x="1563" y="564"/>
                    <a:pt x="1427" y="615"/>
                  </a:cubicBezTo>
                  <a:cubicBezTo>
                    <a:pt x="1411" y="621"/>
                    <a:pt x="1394" y="624"/>
                    <a:pt x="1378" y="628"/>
                  </a:cubicBezTo>
                  <a:cubicBezTo>
                    <a:pt x="1248" y="712"/>
                    <a:pt x="1056" y="657"/>
                    <a:pt x="923" y="652"/>
                  </a:cubicBezTo>
                  <a:cubicBezTo>
                    <a:pt x="876" y="637"/>
                    <a:pt x="833" y="620"/>
                    <a:pt x="787" y="603"/>
                  </a:cubicBezTo>
                  <a:cubicBezTo>
                    <a:pt x="742" y="586"/>
                    <a:pt x="741" y="598"/>
                    <a:pt x="701" y="578"/>
                  </a:cubicBezTo>
                  <a:cubicBezTo>
                    <a:pt x="637" y="546"/>
                    <a:pt x="568" y="525"/>
                    <a:pt x="504" y="492"/>
                  </a:cubicBezTo>
                  <a:cubicBezTo>
                    <a:pt x="395" y="436"/>
                    <a:pt x="486" y="469"/>
                    <a:pt x="406" y="443"/>
                  </a:cubicBezTo>
                  <a:cubicBezTo>
                    <a:pt x="309" y="379"/>
                    <a:pt x="206" y="327"/>
                    <a:pt x="98" y="283"/>
                  </a:cubicBezTo>
                  <a:cubicBezTo>
                    <a:pt x="63" y="248"/>
                    <a:pt x="28" y="226"/>
                    <a:pt x="0" y="185"/>
                  </a:cubicBezTo>
                  <a:cubicBezTo>
                    <a:pt x="90" y="153"/>
                    <a:pt x="28" y="171"/>
                    <a:pt x="209" y="160"/>
                  </a:cubicBezTo>
                  <a:cubicBezTo>
                    <a:pt x="279" y="156"/>
                    <a:pt x="348" y="152"/>
                    <a:pt x="418" y="148"/>
                  </a:cubicBezTo>
                  <a:cubicBezTo>
                    <a:pt x="484" y="144"/>
                    <a:pt x="549" y="139"/>
                    <a:pt x="615" y="135"/>
                  </a:cubicBezTo>
                  <a:cubicBezTo>
                    <a:pt x="685" y="89"/>
                    <a:pt x="717" y="95"/>
                    <a:pt x="812" y="86"/>
                  </a:cubicBezTo>
                  <a:cubicBezTo>
                    <a:pt x="866" y="91"/>
                    <a:pt x="930" y="78"/>
                    <a:pt x="972" y="111"/>
                  </a:cubicBezTo>
                  <a:cubicBezTo>
                    <a:pt x="1087" y="201"/>
                    <a:pt x="1064" y="226"/>
                    <a:pt x="1206" y="283"/>
                  </a:cubicBezTo>
                  <a:cubicBezTo>
                    <a:pt x="1247" y="279"/>
                    <a:pt x="1289" y="280"/>
                    <a:pt x="1329" y="271"/>
                  </a:cubicBezTo>
                  <a:cubicBezTo>
                    <a:pt x="1361" y="264"/>
                    <a:pt x="1384" y="233"/>
                    <a:pt x="1415" y="221"/>
                  </a:cubicBezTo>
                  <a:cubicBezTo>
                    <a:pt x="1439" y="211"/>
                    <a:pt x="1489" y="197"/>
                    <a:pt x="1489" y="197"/>
                  </a:cubicBezTo>
                  <a:cubicBezTo>
                    <a:pt x="1551" y="201"/>
                    <a:pt x="1614" y="194"/>
                    <a:pt x="1674" y="209"/>
                  </a:cubicBezTo>
                  <a:cubicBezTo>
                    <a:pt x="1687" y="212"/>
                    <a:pt x="1684" y="233"/>
                    <a:pt x="1686" y="246"/>
                  </a:cubicBezTo>
                  <a:cubicBezTo>
                    <a:pt x="1692" y="291"/>
                    <a:pt x="1692" y="336"/>
                    <a:pt x="1698" y="381"/>
                  </a:cubicBezTo>
                  <a:cubicBezTo>
                    <a:pt x="1707" y="442"/>
                    <a:pt x="1750" y="485"/>
                    <a:pt x="1797" y="517"/>
                  </a:cubicBezTo>
                  <a:cubicBezTo>
                    <a:pt x="1817" y="509"/>
                    <a:pt x="1845" y="510"/>
                    <a:pt x="1858" y="492"/>
                  </a:cubicBezTo>
                  <a:cubicBezTo>
                    <a:pt x="1893" y="442"/>
                    <a:pt x="1877" y="362"/>
                    <a:pt x="1907" y="308"/>
                  </a:cubicBezTo>
                  <a:cubicBezTo>
                    <a:pt x="1922" y="282"/>
                    <a:pt x="1940" y="259"/>
                    <a:pt x="1957" y="234"/>
                  </a:cubicBezTo>
                  <a:cubicBezTo>
                    <a:pt x="1972" y="212"/>
                    <a:pt x="2031" y="209"/>
                    <a:pt x="2031" y="209"/>
                  </a:cubicBezTo>
                  <a:cubicBezTo>
                    <a:pt x="2167" y="217"/>
                    <a:pt x="2208" y="198"/>
                    <a:pt x="2301" y="258"/>
                  </a:cubicBezTo>
                  <a:cubicBezTo>
                    <a:pt x="2311" y="288"/>
                    <a:pt x="2328" y="315"/>
                    <a:pt x="2338" y="345"/>
                  </a:cubicBezTo>
                  <a:cubicBezTo>
                    <a:pt x="2358" y="405"/>
                    <a:pt x="2372" y="480"/>
                    <a:pt x="2387" y="541"/>
                  </a:cubicBezTo>
                  <a:cubicBezTo>
                    <a:pt x="2391" y="558"/>
                    <a:pt x="2390" y="577"/>
                    <a:pt x="2400" y="591"/>
                  </a:cubicBezTo>
                  <a:cubicBezTo>
                    <a:pt x="2416" y="616"/>
                    <a:pt x="2433" y="640"/>
                    <a:pt x="2449" y="665"/>
                  </a:cubicBezTo>
                  <a:cubicBezTo>
                    <a:pt x="2456" y="675"/>
                    <a:pt x="2530" y="712"/>
                    <a:pt x="2535" y="714"/>
                  </a:cubicBezTo>
                  <a:cubicBezTo>
                    <a:pt x="2595" y="734"/>
                    <a:pt x="2659" y="743"/>
                    <a:pt x="2720" y="763"/>
                  </a:cubicBezTo>
                  <a:cubicBezTo>
                    <a:pt x="2730" y="761"/>
                    <a:pt x="2810" y="753"/>
                    <a:pt x="2831" y="738"/>
                  </a:cubicBezTo>
                  <a:cubicBezTo>
                    <a:pt x="2850" y="724"/>
                    <a:pt x="2862" y="704"/>
                    <a:pt x="2880" y="689"/>
                  </a:cubicBezTo>
                  <a:cubicBezTo>
                    <a:pt x="2953" y="627"/>
                    <a:pt x="2915" y="714"/>
                    <a:pt x="3027" y="578"/>
                  </a:cubicBezTo>
                  <a:cubicBezTo>
                    <a:pt x="3086" y="505"/>
                    <a:pt x="3055" y="532"/>
                    <a:pt x="3114" y="492"/>
                  </a:cubicBezTo>
                  <a:cubicBezTo>
                    <a:pt x="3138" y="417"/>
                    <a:pt x="3132" y="395"/>
                    <a:pt x="3212" y="369"/>
                  </a:cubicBezTo>
                  <a:cubicBezTo>
                    <a:pt x="3286" y="381"/>
                    <a:pt x="3309" y="380"/>
                    <a:pt x="3360" y="431"/>
                  </a:cubicBezTo>
                  <a:cubicBezTo>
                    <a:pt x="3383" y="503"/>
                    <a:pt x="3353" y="437"/>
                    <a:pt x="3409" y="492"/>
                  </a:cubicBezTo>
                  <a:cubicBezTo>
                    <a:pt x="3439" y="521"/>
                    <a:pt x="3465" y="565"/>
                    <a:pt x="3483" y="60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08440" y="534816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46520" y="5353200"/>
              <a:ext cx="284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44800" y="5383080"/>
              <a:ext cx="28800" cy="320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82960" y="545004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97440" y="553248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0" y="5676840"/>
              <a:ext cx="302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06720" y="536580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05000" y="538812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01840" y="5383080"/>
              <a:ext cx="30240" cy="320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68520" y="53625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05120" y="5303880"/>
              <a:ext cx="302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44840" y="58975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57680" y="5954760"/>
              <a:ext cx="284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3320" y="59324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9040" y="587520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90560" y="5330880"/>
              <a:ext cx="2880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25760" y="5310360"/>
              <a:ext cx="2988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62000" y="59547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40040" y="588816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33480" y="59450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55800" y="58705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92440" y="59277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43040" y="59151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2040" y="591012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82760" y="57261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19040" y="566100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06440" y="558648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68280" y="54943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57531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27320" y="580860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00040" y="581328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55840" y="588024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11280" y="59277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24240" y="52880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52680" y="5932440"/>
              <a:ext cx="284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92360" y="53132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14920" y="543240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8280" y="58831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360" y="4227480"/>
              <a:ext cx="671400" cy="1440000"/>
            </a:xfrm>
            <a:custGeom>
              <a:avLst/>
              <a:gdLst/>
              <a:ahLst/>
              <a:rect l="l" t="t" r="r" b="b"/>
              <a:pathLst>
                <a:path w="423" h="907">
                  <a:moveTo>
                    <a:pt x="404" y="907"/>
                  </a:moveTo>
                  <a:cubicBezTo>
                    <a:pt x="349" y="902"/>
                    <a:pt x="294" y="897"/>
                    <a:pt x="260" y="878"/>
                  </a:cubicBezTo>
                  <a:cubicBezTo>
                    <a:pt x="226" y="859"/>
                    <a:pt x="209" y="842"/>
                    <a:pt x="202" y="792"/>
                  </a:cubicBezTo>
                  <a:cubicBezTo>
                    <a:pt x="195" y="742"/>
                    <a:pt x="194" y="629"/>
                    <a:pt x="216" y="576"/>
                  </a:cubicBezTo>
                  <a:cubicBezTo>
                    <a:pt x="238" y="523"/>
                    <a:pt x="298" y="518"/>
                    <a:pt x="332" y="475"/>
                  </a:cubicBezTo>
                  <a:cubicBezTo>
                    <a:pt x="366" y="432"/>
                    <a:pt x="423" y="365"/>
                    <a:pt x="418" y="317"/>
                  </a:cubicBezTo>
                  <a:cubicBezTo>
                    <a:pt x="413" y="269"/>
                    <a:pt x="358" y="216"/>
                    <a:pt x="303" y="187"/>
                  </a:cubicBezTo>
                  <a:cubicBezTo>
                    <a:pt x="248" y="158"/>
                    <a:pt x="137" y="175"/>
                    <a:pt x="87" y="144"/>
                  </a:cubicBezTo>
                  <a:cubicBezTo>
                    <a:pt x="37" y="113"/>
                    <a:pt x="18" y="56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267160" y="4429080"/>
            <a:ext cx="3393360" cy="1906560"/>
            <a:chOff x="5267160" y="4429080"/>
            <a:chExt cx="3393360" cy="1906560"/>
          </a:xfrm>
        </p:grpSpPr>
        <p:sp>
          <p:nvSpPr>
            <p:cNvPr id="880" name=""/>
            <p:cNvSpPr/>
            <p:nvPr/>
          </p:nvSpPr>
          <p:spPr>
            <a:xfrm>
              <a:off x="5267160" y="4429080"/>
              <a:ext cx="3189600" cy="1906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84880" y="4556160"/>
              <a:ext cx="2962080" cy="16574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7693920" y="5043240"/>
              <a:ext cx="966600" cy="529560"/>
              <a:chOff x="7693920" y="5043240"/>
              <a:chExt cx="966600" cy="529560"/>
            </a:xfrm>
          </p:grpSpPr>
          <p:sp>
            <p:nvSpPr>
              <p:cNvPr id="883" name=""/>
              <p:cNvSpPr/>
              <p:nvPr/>
            </p:nvSpPr>
            <p:spPr>
              <a:xfrm rot="17877600">
                <a:off x="7885800" y="5045400"/>
                <a:ext cx="2350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 rot="6019800">
                <a:off x="8006760" y="494460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 rot="6019800">
                <a:off x="8045280" y="493164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 rot="6019800">
                <a:off x="8084880" y="491112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 rot="6019800">
                <a:off x="8124840" y="489708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6541560" y="4974480"/>
              <a:ext cx="796320" cy="785880"/>
              <a:chOff x="6541560" y="4974480"/>
              <a:chExt cx="796320" cy="785880"/>
            </a:xfrm>
          </p:grpSpPr>
          <p:sp>
            <p:nvSpPr>
              <p:cNvPr id="889" name=""/>
              <p:cNvSpPr/>
              <p:nvPr/>
            </p:nvSpPr>
            <p:spPr>
              <a:xfrm rot="16402200">
                <a:off x="6567840" y="4990320"/>
                <a:ext cx="743040" cy="7538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402200">
                <a:off x="6665040" y="5075280"/>
                <a:ext cx="544680" cy="546120"/>
              </a:xfrm>
              <a:custGeom>
                <a:avLst/>
                <a:gdLst/>
                <a:ahLst/>
                <a:rect l="l" t="t" r="r" b="b"/>
                <a:pathLst>
                  <a:path w="470" h="423">
                    <a:moveTo>
                      <a:pt x="88" y="93"/>
                    </a:moveTo>
                    <a:cubicBezTo>
                      <a:pt x="131" y="107"/>
                      <a:pt x="135" y="89"/>
                      <a:pt x="178" y="103"/>
                    </a:cubicBezTo>
                    <a:cubicBezTo>
                      <a:pt x="214" y="157"/>
                      <a:pt x="201" y="218"/>
                      <a:pt x="238" y="273"/>
                    </a:cubicBezTo>
                    <a:cubicBezTo>
                      <a:pt x="271" y="270"/>
                      <a:pt x="306" y="274"/>
                      <a:pt x="338" y="263"/>
                    </a:cubicBezTo>
                    <a:cubicBezTo>
                      <a:pt x="393" y="245"/>
                      <a:pt x="338" y="186"/>
                      <a:pt x="318" y="173"/>
                    </a:cubicBezTo>
                    <a:cubicBezTo>
                      <a:pt x="254" y="180"/>
                      <a:pt x="208" y="163"/>
                      <a:pt x="188" y="223"/>
                    </a:cubicBezTo>
                    <a:cubicBezTo>
                      <a:pt x="155" y="220"/>
                      <a:pt x="117" y="229"/>
                      <a:pt x="88" y="213"/>
                    </a:cubicBezTo>
                    <a:cubicBezTo>
                      <a:pt x="76" y="206"/>
                      <a:pt x="87" y="181"/>
                      <a:pt x="98" y="173"/>
                    </a:cubicBezTo>
                    <a:cubicBezTo>
                      <a:pt x="106" y="167"/>
                      <a:pt x="118" y="180"/>
                      <a:pt x="128" y="183"/>
                    </a:cubicBezTo>
                    <a:cubicBezTo>
                      <a:pt x="118" y="235"/>
                      <a:pt x="128" y="256"/>
                      <a:pt x="78" y="273"/>
                    </a:cubicBezTo>
                    <a:cubicBezTo>
                      <a:pt x="68" y="283"/>
                      <a:pt x="60" y="295"/>
                      <a:pt x="48" y="303"/>
                    </a:cubicBezTo>
                    <a:cubicBezTo>
                      <a:pt x="2" y="333"/>
                      <a:pt x="27" y="286"/>
                      <a:pt x="8" y="343"/>
                    </a:cubicBezTo>
                    <a:cubicBezTo>
                      <a:pt x="11" y="366"/>
                      <a:pt x="0" y="398"/>
                      <a:pt x="18" y="413"/>
                    </a:cubicBezTo>
                    <a:cubicBezTo>
                      <a:pt x="28" y="421"/>
                      <a:pt x="90" y="399"/>
                      <a:pt x="108" y="393"/>
                    </a:cubicBezTo>
                    <a:cubicBezTo>
                      <a:pt x="118" y="383"/>
                      <a:pt x="131" y="375"/>
                      <a:pt x="138" y="363"/>
                    </a:cubicBezTo>
                    <a:cubicBezTo>
                      <a:pt x="148" y="345"/>
                      <a:pt x="158" y="303"/>
                      <a:pt x="158" y="303"/>
                    </a:cubicBezTo>
                    <a:cubicBezTo>
                      <a:pt x="148" y="296"/>
                      <a:pt x="140" y="281"/>
                      <a:pt x="128" y="283"/>
                    </a:cubicBezTo>
                    <a:cubicBezTo>
                      <a:pt x="95" y="290"/>
                      <a:pt x="111" y="354"/>
                      <a:pt x="118" y="363"/>
                    </a:cubicBezTo>
                    <a:cubicBezTo>
                      <a:pt x="148" y="401"/>
                      <a:pt x="205" y="412"/>
                      <a:pt x="248" y="423"/>
                    </a:cubicBezTo>
                    <a:cubicBezTo>
                      <a:pt x="261" y="420"/>
                      <a:pt x="277" y="421"/>
                      <a:pt x="288" y="413"/>
                    </a:cubicBezTo>
                    <a:cubicBezTo>
                      <a:pt x="321" y="391"/>
                      <a:pt x="303" y="353"/>
                      <a:pt x="318" y="323"/>
                    </a:cubicBezTo>
                    <a:cubicBezTo>
                      <a:pt x="326" y="307"/>
                      <a:pt x="364" y="298"/>
                      <a:pt x="378" y="293"/>
                    </a:cubicBezTo>
                    <a:cubicBezTo>
                      <a:pt x="470" y="155"/>
                      <a:pt x="357" y="35"/>
                      <a:pt x="228" y="3"/>
                    </a:cubicBezTo>
                    <a:cubicBezTo>
                      <a:pt x="215" y="6"/>
                      <a:pt x="193" y="0"/>
                      <a:pt x="188" y="13"/>
                    </a:cubicBezTo>
                    <a:cubicBezTo>
                      <a:pt x="167" y="63"/>
                      <a:pt x="201" y="75"/>
                      <a:pt x="228" y="93"/>
                    </a:cubicBezTo>
                    <a:cubicBezTo>
                      <a:pt x="245" y="90"/>
                      <a:pt x="263" y="90"/>
                      <a:pt x="278" y="83"/>
                    </a:cubicBezTo>
                    <a:cubicBezTo>
                      <a:pt x="300" y="73"/>
                      <a:pt x="338" y="43"/>
                      <a:pt x="338" y="43"/>
                    </a:cubicBezTo>
                    <a:cubicBezTo>
                      <a:pt x="376" y="56"/>
                      <a:pt x="385" y="81"/>
                      <a:pt x="418" y="103"/>
                    </a:cubicBezTo>
                    <a:cubicBezTo>
                      <a:pt x="453" y="155"/>
                      <a:pt x="458" y="211"/>
                      <a:pt x="468" y="273"/>
                    </a:cubicBezTo>
                    <a:cubicBezTo>
                      <a:pt x="453" y="319"/>
                      <a:pt x="447" y="329"/>
                      <a:pt x="398" y="313"/>
                    </a:cubicBezTo>
                    <a:cubicBezTo>
                      <a:pt x="405" y="286"/>
                      <a:pt x="411" y="260"/>
                      <a:pt x="418" y="233"/>
                    </a:cubicBezTo>
                    <a:cubicBezTo>
                      <a:pt x="438" y="154"/>
                      <a:pt x="267" y="147"/>
                      <a:pt x="228" y="143"/>
                    </a:cubicBezTo>
                    <a:cubicBezTo>
                      <a:pt x="215" y="140"/>
                      <a:pt x="201" y="137"/>
                      <a:pt x="188" y="133"/>
                    </a:cubicBezTo>
                    <a:cubicBezTo>
                      <a:pt x="168" y="127"/>
                      <a:pt x="128" y="113"/>
                      <a:pt x="128" y="113"/>
                    </a:cubicBezTo>
                    <a:cubicBezTo>
                      <a:pt x="61" y="120"/>
                      <a:pt x="1" y="103"/>
                      <a:pt x="28" y="183"/>
                    </a:cubicBezTo>
                    <a:cubicBezTo>
                      <a:pt x="31" y="173"/>
                      <a:pt x="38" y="164"/>
                      <a:pt x="38" y="153"/>
                    </a:cubicBezTo>
                    <a:cubicBezTo>
                      <a:pt x="38" y="142"/>
                      <a:pt x="28" y="123"/>
                      <a:pt x="28" y="123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16680" y="4545720"/>
              <a:ext cx="567000" cy="432720"/>
              <a:chOff x="6016680" y="4545720"/>
              <a:chExt cx="567000" cy="432720"/>
            </a:xfrm>
          </p:grpSpPr>
          <p:sp>
            <p:nvSpPr>
              <p:cNvPr id="892" name=""/>
              <p:cNvSpPr/>
              <p:nvPr/>
            </p:nvSpPr>
            <p:spPr>
              <a:xfrm rot="14702400">
                <a:off x="6180840" y="4504680"/>
                <a:ext cx="237960" cy="51444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402200">
                <a:off x="6145560" y="458352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7410600" y="5645880"/>
              <a:ext cx="566640" cy="432720"/>
              <a:chOff x="7410600" y="5645880"/>
              <a:chExt cx="566640" cy="432720"/>
            </a:xfrm>
          </p:grpSpPr>
          <p:sp>
            <p:nvSpPr>
              <p:cNvPr id="895" name=""/>
              <p:cNvSpPr/>
              <p:nvPr/>
            </p:nvSpPr>
            <p:spPr>
              <a:xfrm rot="14702400">
                <a:off x="7574760" y="5605200"/>
                <a:ext cx="237960" cy="51408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402200">
                <a:off x="7539480" y="5683680"/>
                <a:ext cx="314280" cy="33768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7054200" y="4524120"/>
              <a:ext cx="965160" cy="526680"/>
              <a:chOff x="7054200" y="4524120"/>
              <a:chExt cx="965160" cy="526680"/>
            </a:xfrm>
          </p:grpSpPr>
          <p:sp>
            <p:nvSpPr>
              <p:cNvPr id="898" name=""/>
              <p:cNvSpPr/>
              <p:nvPr/>
            </p:nvSpPr>
            <p:spPr>
              <a:xfrm rot="17877600">
                <a:off x="7246440" y="4524120"/>
                <a:ext cx="2332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 rot="6019800">
                <a:off x="7368120" y="4423680"/>
                <a:ext cx="305280" cy="72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 rot="6019800">
                <a:off x="7407000" y="4410720"/>
                <a:ext cx="30456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 rot="6019800">
                <a:off x="7447680" y="4390560"/>
                <a:ext cx="30240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 rot="6019800">
                <a:off x="7486920" y="4376880"/>
                <a:ext cx="302400" cy="71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6610680" y="5729040"/>
              <a:ext cx="644040" cy="301320"/>
              <a:chOff x="6610680" y="5729040"/>
              <a:chExt cx="644040" cy="301320"/>
            </a:xfrm>
          </p:grpSpPr>
          <p:sp>
            <p:nvSpPr>
              <p:cNvPr id="904" name=""/>
              <p:cNvSpPr/>
              <p:nvPr/>
            </p:nvSpPr>
            <p:spPr>
              <a:xfrm rot="16402200">
                <a:off x="6901560" y="5605920"/>
                <a:ext cx="91080" cy="544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402200">
                <a:off x="6906600" y="5581440"/>
                <a:ext cx="91080" cy="410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6402200">
                <a:off x="6886800" y="5646240"/>
                <a:ext cx="91080" cy="639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8109000" y="6046920"/>
              <a:ext cx="46080" cy="4752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00880" y="4665600"/>
              <a:ext cx="2627280" cy="1428840"/>
              <a:chOff x="5600880" y="4665600"/>
              <a:chExt cx="2627280" cy="1428840"/>
            </a:xfrm>
          </p:grpSpPr>
          <p:sp>
            <p:nvSpPr>
              <p:cNvPr id="909" name=""/>
              <p:cNvSpPr/>
              <p:nvPr/>
            </p:nvSpPr>
            <p:spPr>
              <a:xfrm>
                <a:off x="7794720" y="60469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353280" y="518004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81600" y="488484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6040" y="478008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91520" y="559908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991640" y="569448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8320" y="49323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81560" y="505620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182080" y="562752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124840" y="48085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229520" y="57801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124840" y="512280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91520" y="52563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600960" y="48085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00880" y="4732200"/>
                <a:ext cx="4572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040" y="541800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15240" y="471312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743960" y="50371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934240" y="4732200"/>
                <a:ext cx="4572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43880" y="466560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67400" y="50371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5415840" y="4819320"/>
              <a:ext cx="965160" cy="526680"/>
              <a:chOff x="5415840" y="4819320"/>
              <a:chExt cx="965160" cy="526680"/>
            </a:xfrm>
          </p:grpSpPr>
          <p:sp>
            <p:nvSpPr>
              <p:cNvPr id="931" name=""/>
              <p:cNvSpPr/>
              <p:nvPr/>
            </p:nvSpPr>
            <p:spPr>
              <a:xfrm rot="17877600">
                <a:off x="5608080" y="4819320"/>
                <a:ext cx="2332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 rot="6019800">
                <a:off x="5729760" y="4718880"/>
                <a:ext cx="305280" cy="72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 rot="6019800">
                <a:off x="5768640" y="4705920"/>
                <a:ext cx="30456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 rot="6019800">
                <a:off x="5809320" y="4685760"/>
                <a:ext cx="30240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 rot="6019800">
                <a:off x="5848560" y="4672080"/>
                <a:ext cx="302400" cy="71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5427720" y="5164200"/>
              <a:ext cx="1173240" cy="1014480"/>
            </a:xfrm>
            <a:custGeom>
              <a:avLst/>
              <a:gdLst/>
              <a:ahLst/>
              <a:rect l="l" t="t" r="r" b="b"/>
              <a:pathLst>
                <a:path w="739" h="639">
                  <a:moveTo>
                    <a:pt x="21" y="13"/>
                  </a:moveTo>
                  <a:cubicBezTo>
                    <a:pt x="35" y="0"/>
                    <a:pt x="72" y="12"/>
                    <a:pt x="93" y="25"/>
                  </a:cubicBezTo>
                  <a:cubicBezTo>
                    <a:pt x="114" y="38"/>
                    <a:pt x="115" y="77"/>
                    <a:pt x="147" y="91"/>
                  </a:cubicBezTo>
                  <a:cubicBezTo>
                    <a:pt x="179" y="105"/>
                    <a:pt x="246" y="111"/>
                    <a:pt x="285" y="109"/>
                  </a:cubicBezTo>
                  <a:cubicBezTo>
                    <a:pt x="324" y="107"/>
                    <a:pt x="344" y="87"/>
                    <a:pt x="381" y="79"/>
                  </a:cubicBezTo>
                  <a:cubicBezTo>
                    <a:pt x="418" y="71"/>
                    <a:pt x="460" y="54"/>
                    <a:pt x="507" y="61"/>
                  </a:cubicBezTo>
                  <a:cubicBezTo>
                    <a:pt x="554" y="68"/>
                    <a:pt x="626" y="90"/>
                    <a:pt x="663" y="121"/>
                  </a:cubicBezTo>
                  <a:cubicBezTo>
                    <a:pt x="700" y="152"/>
                    <a:pt x="719" y="197"/>
                    <a:pt x="729" y="247"/>
                  </a:cubicBezTo>
                  <a:cubicBezTo>
                    <a:pt x="739" y="297"/>
                    <a:pt x="728" y="373"/>
                    <a:pt x="723" y="421"/>
                  </a:cubicBezTo>
                  <a:cubicBezTo>
                    <a:pt x="718" y="469"/>
                    <a:pt x="722" y="501"/>
                    <a:pt x="699" y="535"/>
                  </a:cubicBezTo>
                  <a:cubicBezTo>
                    <a:pt x="676" y="569"/>
                    <a:pt x="626" y="611"/>
                    <a:pt x="585" y="625"/>
                  </a:cubicBezTo>
                  <a:cubicBezTo>
                    <a:pt x="544" y="639"/>
                    <a:pt x="508" y="620"/>
                    <a:pt x="453" y="619"/>
                  </a:cubicBezTo>
                  <a:cubicBezTo>
                    <a:pt x="398" y="618"/>
                    <a:pt x="307" y="619"/>
                    <a:pt x="255" y="619"/>
                  </a:cubicBezTo>
                  <a:cubicBezTo>
                    <a:pt x="203" y="619"/>
                    <a:pt x="179" y="639"/>
                    <a:pt x="141" y="619"/>
                  </a:cubicBezTo>
                  <a:cubicBezTo>
                    <a:pt x="103" y="599"/>
                    <a:pt x="50" y="551"/>
                    <a:pt x="27" y="499"/>
                  </a:cubicBezTo>
                  <a:cubicBezTo>
                    <a:pt x="4" y="447"/>
                    <a:pt x="6" y="373"/>
                    <a:pt x="3" y="307"/>
                  </a:cubicBezTo>
                  <a:cubicBezTo>
                    <a:pt x="0" y="241"/>
                    <a:pt x="6" y="152"/>
                    <a:pt x="9" y="103"/>
                  </a:cubicBezTo>
                  <a:cubicBezTo>
                    <a:pt x="12" y="54"/>
                    <a:pt x="7" y="26"/>
                    <a:pt x="21" y="13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047760" y="4010040"/>
            <a:ext cx="2570400" cy="1427040"/>
            <a:chOff x="3047760" y="4010040"/>
            <a:chExt cx="2570400" cy="1427040"/>
          </a:xfrm>
        </p:grpSpPr>
        <p:sp>
          <p:nvSpPr>
            <p:cNvPr id="938" name=""/>
            <p:cNvSpPr/>
            <p:nvPr/>
          </p:nvSpPr>
          <p:spPr>
            <a:xfrm flipH="1">
              <a:off x="4102200" y="4519440"/>
              <a:ext cx="576000" cy="91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4702320" y="4539960"/>
              <a:ext cx="915840" cy="322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47760" y="4010040"/>
              <a:ext cx="1645200" cy="45972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008160" y="4010040"/>
            <a:ext cx="2581200" cy="1427040"/>
            <a:chOff x="3008160" y="4010040"/>
            <a:chExt cx="2581200" cy="1427040"/>
          </a:xfrm>
        </p:grpSpPr>
        <p:sp>
          <p:nvSpPr>
            <p:cNvPr id="942" name=""/>
            <p:cNvSpPr/>
            <p:nvPr/>
          </p:nvSpPr>
          <p:spPr>
            <a:xfrm flipH="1">
              <a:off x="3911760" y="4519440"/>
              <a:ext cx="738000" cy="917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4673160" y="4539960"/>
              <a:ext cx="916200" cy="19836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08160" y="4010040"/>
              <a:ext cx="1692360" cy="459720"/>
            </a:xfrm>
            <a:prstGeom prst="rect">
              <a:avLst/>
            </a:prstGeom>
            <a:noFill/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ibos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57840" y="4010040"/>
            <a:ext cx="4631760" cy="1455840"/>
            <a:chOff x="2157840" y="4010040"/>
            <a:chExt cx="4631760" cy="1455840"/>
          </a:xfrm>
        </p:grpSpPr>
        <p:sp>
          <p:nvSpPr>
            <p:cNvPr id="946" name=""/>
            <p:cNvSpPr/>
            <p:nvPr/>
          </p:nvSpPr>
          <p:spPr>
            <a:xfrm flipH="1">
              <a:off x="3730320" y="4519440"/>
              <a:ext cx="919080" cy="946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4673520" y="4539960"/>
              <a:ext cx="2116080" cy="5792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57840" y="4010040"/>
              <a:ext cx="2526120" cy="459720"/>
            </a:xfrm>
            <a:prstGeom prst="rect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clear mater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392200" y="4010040"/>
            <a:ext cx="3006360" cy="1160280"/>
            <a:chOff x="2392200" y="4010040"/>
            <a:chExt cx="3006360" cy="1160280"/>
          </a:xfrm>
        </p:grpSpPr>
        <p:sp>
          <p:nvSpPr>
            <p:cNvPr id="950" name=""/>
            <p:cNvSpPr/>
            <p:nvPr/>
          </p:nvSpPr>
          <p:spPr>
            <a:xfrm flipH="1">
              <a:off x="4140000" y="4529160"/>
              <a:ext cx="509400" cy="641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4673160" y="4549680"/>
              <a:ext cx="725400" cy="13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92200" y="4010040"/>
              <a:ext cx="2324880" cy="459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 membr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9" dur="1" fill="hold"/>
                                  <p:tgtEl>
                                    <p:spTgt spid="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93880" y="298440"/>
            <a:ext cx="7470720" cy="628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446120" y="835200"/>
            <a:ext cx="4397040" cy="5398920"/>
            <a:chOff x="1446120" y="835200"/>
            <a:chExt cx="4397040" cy="5398920"/>
          </a:xfrm>
        </p:grpSpPr>
        <p:grpSp>
          <p:nvGrpSpPr>
            <p:cNvPr id="955" name=""/>
            <p:cNvGrpSpPr/>
            <p:nvPr/>
          </p:nvGrpSpPr>
          <p:grpSpPr>
            <a:xfrm>
              <a:off x="1446120" y="835200"/>
              <a:ext cx="4397040" cy="5398920"/>
              <a:chOff x="1446120" y="835200"/>
              <a:chExt cx="4397040" cy="539892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612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6556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1531800" y="922320"/>
              <a:ext cx="4235760" cy="5240520"/>
            </a:xfrm>
            <a:custGeom>
              <a:avLst/>
              <a:gdLst>
                <a:gd name="textAreaLeft" fmla="*/ 206640 w 4235760"/>
                <a:gd name="textAreaRight" fmla="*/ 4029120 w 4235760"/>
                <a:gd name="textAreaTop" fmla="*/ 206640 h 5240520"/>
                <a:gd name="textAreaBottom" fmla="*/ 5033880 h 5240520"/>
              </a:gdLst>
              <a:ahLst/>
              <a:rect l="textAreaLeft" t="textAreaTop" r="textAreaRight" b="textAreaBottom"/>
              <a:pathLst>
                <a:path w="21600" h="26723">
                  <a:moveTo>
                    <a:pt x="3600" y="0"/>
                  </a:moveTo>
                  <a:arcTo wR="3600" hR="3600" stAng="16200000" swAng="-5400000"/>
                  <a:lnTo>
                    <a:pt x="0" y="23123"/>
                  </a:lnTo>
                  <a:arcTo wR="3600" hR="3600" stAng="10800000" swAng="-5400000"/>
                  <a:lnTo>
                    <a:pt x="18000" y="267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3519360" y="4390920"/>
              <a:ext cx="1939320" cy="1806480"/>
              <a:chOff x="3519360" y="4390920"/>
              <a:chExt cx="1939320" cy="1806480"/>
            </a:xfrm>
          </p:grpSpPr>
          <p:sp>
            <p:nvSpPr>
              <p:cNvPr id="960" name=""/>
              <p:cNvSpPr/>
              <p:nvPr/>
            </p:nvSpPr>
            <p:spPr>
              <a:xfrm rot="217200">
                <a:off x="3850200" y="4438800"/>
                <a:ext cx="1566000" cy="1397520"/>
              </a:xfrm>
              <a:custGeom>
                <a:avLst/>
                <a:gdLst/>
                <a:ahLst/>
                <a:rect l="l" t="t" r="r" b="b"/>
                <a:pathLst>
                  <a:path w="1235" h="1103">
                    <a:moveTo>
                      <a:pt x="674" y="124"/>
                    </a:moveTo>
                    <a:cubicBezTo>
                      <a:pt x="680" y="105"/>
                      <a:pt x="685" y="89"/>
                      <a:pt x="692" y="73"/>
                    </a:cubicBezTo>
                    <a:cubicBezTo>
                      <a:pt x="699" y="57"/>
                      <a:pt x="701" y="35"/>
                      <a:pt x="716" y="25"/>
                    </a:cubicBezTo>
                    <a:cubicBezTo>
                      <a:pt x="731" y="15"/>
                      <a:pt x="769" y="0"/>
                      <a:pt x="785" y="10"/>
                    </a:cubicBezTo>
                    <a:cubicBezTo>
                      <a:pt x="801" y="20"/>
                      <a:pt x="821" y="45"/>
                      <a:pt x="815" y="88"/>
                    </a:cubicBezTo>
                    <a:cubicBezTo>
                      <a:pt x="809" y="131"/>
                      <a:pt x="765" y="211"/>
                      <a:pt x="752" y="268"/>
                    </a:cubicBezTo>
                    <a:cubicBezTo>
                      <a:pt x="739" y="325"/>
                      <a:pt x="728" y="393"/>
                      <a:pt x="734" y="433"/>
                    </a:cubicBezTo>
                    <a:cubicBezTo>
                      <a:pt x="740" y="473"/>
                      <a:pt x="768" y="514"/>
                      <a:pt x="791" y="508"/>
                    </a:cubicBezTo>
                    <a:cubicBezTo>
                      <a:pt x="814" y="502"/>
                      <a:pt x="859" y="450"/>
                      <a:pt x="872" y="394"/>
                    </a:cubicBezTo>
                    <a:cubicBezTo>
                      <a:pt x="885" y="338"/>
                      <a:pt x="863" y="233"/>
                      <a:pt x="866" y="172"/>
                    </a:cubicBezTo>
                    <a:cubicBezTo>
                      <a:pt x="869" y="111"/>
                      <a:pt x="874" y="47"/>
                      <a:pt x="893" y="25"/>
                    </a:cubicBezTo>
                    <a:cubicBezTo>
                      <a:pt x="912" y="3"/>
                      <a:pt x="965" y="8"/>
                      <a:pt x="983" y="37"/>
                    </a:cubicBezTo>
                    <a:cubicBezTo>
                      <a:pt x="1001" y="66"/>
                      <a:pt x="997" y="142"/>
                      <a:pt x="1004" y="199"/>
                    </a:cubicBezTo>
                    <a:cubicBezTo>
                      <a:pt x="1011" y="256"/>
                      <a:pt x="1009" y="348"/>
                      <a:pt x="1022" y="379"/>
                    </a:cubicBezTo>
                    <a:cubicBezTo>
                      <a:pt x="1035" y="410"/>
                      <a:pt x="1071" y="407"/>
                      <a:pt x="1085" y="388"/>
                    </a:cubicBezTo>
                    <a:cubicBezTo>
                      <a:pt x="1099" y="369"/>
                      <a:pt x="1094" y="292"/>
                      <a:pt x="1106" y="265"/>
                    </a:cubicBezTo>
                    <a:cubicBezTo>
                      <a:pt x="1118" y="238"/>
                      <a:pt x="1140" y="219"/>
                      <a:pt x="1160" y="223"/>
                    </a:cubicBezTo>
                    <a:cubicBezTo>
                      <a:pt x="1180" y="227"/>
                      <a:pt x="1217" y="248"/>
                      <a:pt x="1226" y="289"/>
                    </a:cubicBezTo>
                    <a:cubicBezTo>
                      <a:pt x="1235" y="330"/>
                      <a:pt x="1231" y="397"/>
                      <a:pt x="1214" y="469"/>
                    </a:cubicBezTo>
                    <a:cubicBezTo>
                      <a:pt x="1197" y="541"/>
                      <a:pt x="1159" y="667"/>
                      <a:pt x="1121" y="724"/>
                    </a:cubicBezTo>
                    <a:cubicBezTo>
                      <a:pt x="1083" y="781"/>
                      <a:pt x="1014" y="812"/>
                      <a:pt x="983" y="814"/>
                    </a:cubicBezTo>
                    <a:cubicBezTo>
                      <a:pt x="952" y="816"/>
                      <a:pt x="930" y="773"/>
                      <a:pt x="932" y="736"/>
                    </a:cubicBezTo>
                    <a:cubicBezTo>
                      <a:pt x="934" y="699"/>
                      <a:pt x="989" y="621"/>
                      <a:pt x="995" y="592"/>
                    </a:cubicBezTo>
                    <a:cubicBezTo>
                      <a:pt x="1001" y="563"/>
                      <a:pt x="978" y="561"/>
                      <a:pt x="968" y="562"/>
                    </a:cubicBezTo>
                    <a:cubicBezTo>
                      <a:pt x="958" y="563"/>
                      <a:pt x="946" y="574"/>
                      <a:pt x="932" y="601"/>
                    </a:cubicBezTo>
                    <a:cubicBezTo>
                      <a:pt x="918" y="628"/>
                      <a:pt x="907" y="674"/>
                      <a:pt x="884" y="724"/>
                    </a:cubicBezTo>
                    <a:cubicBezTo>
                      <a:pt x="861" y="774"/>
                      <a:pt x="819" y="847"/>
                      <a:pt x="794" y="901"/>
                    </a:cubicBezTo>
                    <a:cubicBezTo>
                      <a:pt x="769" y="955"/>
                      <a:pt x="760" y="1014"/>
                      <a:pt x="731" y="1048"/>
                    </a:cubicBezTo>
                    <a:cubicBezTo>
                      <a:pt x="702" y="1082"/>
                      <a:pt x="649" y="1101"/>
                      <a:pt x="623" y="1102"/>
                    </a:cubicBezTo>
                    <a:cubicBezTo>
                      <a:pt x="597" y="1103"/>
                      <a:pt x="578" y="1079"/>
                      <a:pt x="572" y="1057"/>
                    </a:cubicBezTo>
                    <a:cubicBezTo>
                      <a:pt x="566" y="1035"/>
                      <a:pt x="566" y="1022"/>
                      <a:pt x="587" y="970"/>
                    </a:cubicBezTo>
                    <a:cubicBezTo>
                      <a:pt x="608" y="918"/>
                      <a:pt x="691" y="793"/>
                      <a:pt x="698" y="745"/>
                    </a:cubicBezTo>
                    <a:cubicBezTo>
                      <a:pt x="705" y="697"/>
                      <a:pt x="651" y="680"/>
                      <a:pt x="632" y="682"/>
                    </a:cubicBezTo>
                    <a:cubicBezTo>
                      <a:pt x="613" y="684"/>
                      <a:pt x="590" y="725"/>
                      <a:pt x="581" y="760"/>
                    </a:cubicBezTo>
                    <a:cubicBezTo>
                      <a:pt x="572" y="795"/>
                      <a:pt x="580" y="859"/>
                      <a:pt x="575" y="892"/>
                    </a:cubicBezTo>
                    <a:cubicBezTo>
                      <a:pt x="570" y="925"/>
                      <a:pt x="567" y="948"/>
                      <a:pt x="551" y="961"/>
                    </a:cubicBezTo>
                    <a:cubicBezTo>
                      <a:pt x="535" y="974"/>
                      <a:pt x="509" y="972"/>
                      <a:pt x="482" y="967"/>
                    </a:cubicBezTo>
                    <a:cubicBezTo>
                      <a:pt x="455" y="962"/>
                      <a:pt x="416" y="930"/>
                      <a:pt x="389" y="931"/>
                    </a:cubicBezTo>
                    <a:cubicBezTo>
                      <a:pt x="362" y="932"/>
                      <a:pt x="352" y="956"/>
                      <a:pt x="320" y="976"/>
                    </a:cubicBezTo>
                    <a:cubicBezTo>
                      <a:pt x="288" y="996"/>
                      <a:pt x="225" y="1051"/>
                      <a:pt x="194" y="1051"/>
                    </a:cubicBezTo>
                    <a:cubicBezTo>
                      <a:pt x="163" y="1051"/>
                      <a:pt x="125" y="1015"/>
                      <a:pt x="131" y="979"/>
                    </a:cubicBezTo>
                    <a:cubicBezTo>
                      <a:pt x="137" y="943"/>
                      <a:pt x="200" y="871"/>
                      <a:pt x="230" y="832"/>
                    </a:cubicBezTo>
                    <a:cubicBezTo>
                      <a:pt x="260" y="793"/>
                      <a:pt x="303" y="764"/>
                      <a:pt x="311" y="742"/>
                    </a:cubicBezTo>
                    <a:cubicBezTo>
                      <a:pt x="319" y="720"/>
                      <a:pt x="302" y="702"/>
                      <a:pt x="278" y="700"/>
                    </a:cubicBezTo>
                    <a:cubicBezTo>
                      <a:pt x="254" y="698"/>
                      <a:pt x="205" y="713"/>
                      <a:pt x="167" y="727"/>
                    </a:cubicBezTo>
                    <a:cubicBezTo>
                      <a:pt x="129" y="741"/>
                      <a:pt x="76" y="790"/>
                      <a:pt x="50" y="784"/>
                    </a:cubicBezTo>
                    <a:cubicBezTo>
                      <a:pt x="24" y="778"/>
                      <a:pt x="0" y="714"/>
                      <a:pt x="8" y="688"/>
                    </a:cubicBezTo>
                    <a:cubicBezTo>
                      <a:pt x="16" y="662"/>
                      <a:pt x="95" y="623"/>
                      <a:pt x="101" y="625"/>
                    </a:cubicBezTo>
                    <a:cubicBezTo>
                      <a:pt x="107" y="627"/>
                      <a:pt x="47" y="687"/>
                      <a:pt x="47" y="703"/>
                    </a:cubicBezTo>
                    <a:cubicBezTo>
                      <a:pt x="47" y="719"/>
                      <a:pt x="78" y="728"/>
                      <a:pt x="101" y="724"/>
                    </a:cubicBezTo>
                    <a:cubicBezTo>
                      <a:pt x="124" y="720"/>
                      <a:pt x="162" y="691"/>
                      <a:pt x="188" y="679"/>
                    </a:cubicBezTo>
                    <a:cubicBezTo>
                      <a:pt x="214" y="667"/>
                      <a:pt x="232" y="645"/>
                      <a:pt x="260" y="649"/>
                    </a:cubicBezTo>
                    <a:cubicBezTo>
                      <a:pt x="288" y="653"/>
                      <a:pt x="348" y="673"/>
                      <a:pt x="356" y="703"/>
                    </a:cubicBezTo>
                    <a:cubicBezTo>
                      <a:pt x="364" y="733"/>
                      <a:pt x="332" y="793"/>
                      <a:pt x="308" y="829"/>
                    </a:cubicBezTo>
                    <a:cubicBezTo>
                      <a:pt x="284" y="865"/>
                      <a:pt x="228" y="892"/>
                      <a:pt x="209" y="919"/>
                    </a:cubicBezTo>
                    <a:cubicBezTo>
                      <a:pt x="190" y="946"/>
                      <a:pt x="178" y="989"/>
                      <a:pt x="191" y="994"/>
                    </a:cubicBezTo>
                    <a:cubicBezTo>
                      <a:pt x="204" y="999"/>
                      <a:pt x="259" y="968"/>
                      <a:pt x="290" y="949"/>
                    </a:cubicBezTo>
                    <a:cubicBezTo>
                      <a:pt x="321" y="930"/>
                      <a:pt x="343" y="883"/>
                      <a:pt x="380" y="880"/>
                    </a:cubicBezTo>
                    <a:cubicBezTo>
                      <a:pt x="417" y="877"/>
                      <a:pt x="489" y="941"/>
                      <a:pt x="515" y="928"/>
                    </a:cubicBezTo>
                    <a:cubicBezTo>
                      <a:pt x="541" y="915"/>
                      <a:pt x="528" y="842"/>
                      <a:pt x="536" y="799"/>
                    </a:cubicBezTo>
                    <a:cubicBezTo>
                      <a:pt x="544" y="756"/>
                      <a:pt x="538" y="697"/>
                      <a:pt x="563" y="670"/>
                    </a:cubicBezTo>
                    <a:cubicBezTo>
                      <a:pt x="588" y="643"/>
                      <a:pt x="653" y="625"/>
                      <a:pt x="683" y="640"/>
                    </a:cubicBezTo>
                    <a:cubicBezTo>
                      <a:pt x="713" y="655"/>
                      <a:pt x="749" y="712"/>
                      <a:pt x="743" y="760"/>
                    </a:cubicBezTo>
                    <a:cubicBezTo>
                      <a:pt x="737" y="808"/>
                      <a:pt x="671" y="880"/>
                      <a:pt x="650" y="928"/>
                    </a:cubicBezTo>
                    <a:cubicBezTo>
                      <a:pt x="629" y="976"/>
                      <a:pt x="611" y="1038"/>
                      <a:pt x="620" y="1048"/>
                    </a:cubicBezTo>
                    <a:cubicBezTo>
                      <a:pt x="629" y="1058"/>
                      <a:pt x="678" y="1022"/>
                      <a:pt x="704" y="985"/>
                    </a:cubicBezTo>
                    <a:cubicBezTo>
                      <a:pt x="730" y="948"/>
                      <a:pt x="751" y="879"/>
                      <a:pt x="776" y="826"/>
                    </a:cubicBezTo>
                    <a:cubicBezTo>
                      <a:pt x="801" y="773"/>
                      <a:pt x="831" y="714"/>
                      <a:pt x="854" y="667"/>
                    </a:cubicBezTo>
                    <a:cubicBezTo>
                      <a:pt x="877" y="620"/>
                      <a:pt x="887" y="568"/>
                      <a:pt x="911" y="541"/>
                    </a:cubicBezTo>
                    <a:cubicBezTo>
                      <a:pt x="935" y="514"/>
                      <a:pt x="976" y="498"/>
                      <a:pt x="998" y="505"/>
                    </a:cubicBezTo>
                    <a:cubicBezTo>
                      <a:pt x="1020" y="512"/>
                      <a:pt x="1047" y="549"/>
                      <a:pt x="1046" y="583"/>
                    </a:cubicBezTo>
                    <a:cubicBezTo>
                      <a:pt x="1045" y="617"/>
                      <a:pt x="998" y="679"/>
                      <a:pt x="989" y="709"/>
                    </a:cubicBezTo>
                    <a:cubicBezTo>
                      <a:pt x="980" y="739"/>
                      <a:pt x="973" y="773"/>
                      <a:pt x="992" y="763"/>
                    </a:cubicBezTo>
                    <a:cubicBezTo>
                      <a:pt x="1011" y="753"/>
                      <a:pt x="1076" y="694"/>
                      <a:pt x="1106" y="649"/>
                    </a:cubicBezTo>
                    <a:cubicBezTo>
                      <a:pt x="1136" y="604"/>
                      <a:pt x="1161" y="540"/>
                      <a:pt x="1175" y="490"/>
                    </a:cubicBezTo>
                    <a:cubicBezTo>
                      <a:pt x="1189" y="440"/>
                      <a:pt x="1193" y="382"/>
                      <a:pt x="1190" y="349"/>
                    </a:cubicBezTo>
                    <a:cubicBezTo>
                      <a:pt x="1187" y="316"/>
                      <a:pt x="1172" y="276"/>
                      <a:pt x="1157" y="292"/>
                    </a:cubicBezTo>
                    <a:cubicBezTo>
                      <a:pt x="1142" y="308"/>
                      <a:pt x="1127" y="430"/>
                      <a:pt x="1100" y="448"/>
                    </a:cubicBezTo>
                    <a:cubicBezTo>
                      <a:pt x="1073" y="466"/>
                      <a:pt x="1017" y="440"/>
                      <a:pt x="995" y="403"/>
                    </a:cubicBezTo>
                    <a:cubicBezTo>
                      <a:pt x="973" y="366"/>
                      <a:pt x="974" y="276"/>
                      <a:pt x="968" y="226"/>
                    </a:cubicBezTo>
                    <a:cubicBezTo>
                      <a:pt x="962" y="176"/>
                      <a:pt x="969" y="128"/>
                      <a:pt x="962" y="103"/>
                    </a:cubicBezTo>
                    <a:cubicBezTo>
                      <a:pt x="955" y="78"/>
                      <a:pt x="932" y="61"/>
                      <a:pt x="923" y="76"/>
                    </a:cubicBezTo>
                    <a:cubicBezTo>
                      <a:pt x="914" y="91"/>
                      <a:pt x="909" y="144"/>
                      <a:pt x="908" y="196"/>
                    </a:cubicBezTo>
                    <a:cubicBezTo>
                      <a:pt x="907" y="248"/>
                      <a:pt x="929" y="334"/>
                      <a:pt x="920" y="388"/>
                    </a:cubicBezTo>
                    <a:cubicBezTo>
                      <a:pt x="911" y="442"/>
                      <a:pt x="886" y="497"/>
                      <a:pt x="854" y="520"/>
                    </a:cubicBezTo>
                    <a:cubicBezTo>
                      <a:pt x="822" y="543"/>
                      <a:pt x="751" y="562"/>
                      <a:pt x="725" y="529"/>
                    </a:cubicBezTo>
                    <a:cubicBezTo>
                      <a:pt x="699" y="496"/>
                      <a:pt x="695" y="384"/>
                      <a:pt x="698" y="325"/>
                    </a:cubicBezTo>
                    <a:cubicBezTo>
                      <a:pt x="701" y="266"/>
                      <a:pt x="732" y="212"/>
                      <a:pt x="746" y="172"/>
                    </a:cubicBezTo>
                    <a:cubicBezTo>
                      <a:pt x="760" y="132"/>
                      <a:pt x="783" y="100"/>
                      <a:pt x="782" y="85"/>
                    </a:cubicBezTo>
                    <a:cubicBezTo>
                      <a:pt x="781" y="70"/>
                      <a:pt x="752" y="64"/>
                      <a:pt x="740" y="79"/>
                    </a:cubicBezTo>
                    <a:cubicBezTo>
                      <a:pt x="728" y="94"/>
                      <a:pt x="724" y="156"/>
                      <a:pt x="710" y="175"/>
                    </a:cubicBezTo>
                    <a:cubicBezTo>
                      <a:pt x="696" y="194"/>
                      <a:pt x="661" y="199"/>
                      <a:pt x="656" y="190"/>
                    </a:cubicBezTo>
                    <a:cubicBezTo>
                      <a:pt x="651" y="181"/>
                      <a:pt x="668" y="143"/>
                      <a:pt x="674" y="124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722840" y="5006520"/>
                <a:ext cx="494640" cy="277200"/>
              </a:xfrm>
              <a:custGeom>
                <a:avLst/>
                <a:gdLst/>
                <a:ahLst/>
                <a:rect l="l" t="t" r="r" b="b"/>
                <a:pathLst>
                  <a:path w="390" h="219">
                    <a:moveTo>
                      <a:pt x="390" y="0"/>
                    </a:moveTo>
                    <a:cubicBezTo>
                      <a:pt x="316" y="31"/>
                      <a:pt x="242" y="63"/>
                      <a:pt x="177" y="99"/>
                    </a:cubicBezTo>
                    <a:cubicBezTo>
                      <a:pt x="112" y="135"/>
                      <a:pt x="56" y="177"/>
                      <a:pt x="0" y="2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12720" y="5112720"/>
                <a:ext cx="673200" cy="383760"/>
              </a:xfrm>
              <a:custGeom>
                <a:avLst/>
                <a:gdLst/>
                <a:ahLst/>
                <a:rect l="l" t="t" r="r" b="b"/>
                <a:pathLst>
                  <a:path w="531" h="303">
                    <a:moveTo>
                      <a:pt x="531" y="0"/>
                    </a:moveTo>
                    <a:cubicBezTo>
                      <a:pt x="473" y="28"/>
                      <a:pt x="416" y="57"/>
                      <a:pt x="327" y="108"/>
                    </a:cubicBezTo>
                    <a:cubicBezTo>
                      <a:pt x="238" y="159"/>
                      <a:pt x="119" y="231"/>
                      <a:pt x="0" y="30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755600" y="5492880"/>
                <a:ext cx="399240" cy="23904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315" y="0"/>
                    </a:moveTo>
                    <a:cubicBezTo>
                      <a:pt x="217" y="63"/>
                      <a:pt x="120" y="127"/>
                      <a:pt x="67" y="158"/>
                    </a:cubicBezTo>
                    <a:cubicBezTo>
                      <a:pt x="14" y="189"/>
                      <a:pt x="7" y="188"/>
                      <a:pt x="0" y="1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7000" y="5626080"/>
                <a:ext cx="853560" cy="571320"/>
              </a:xfrm>
              <a:custGeom>
                <a:avLst/>
                <a:gdLst/>
                <a:ahLst/>
                <a:rect l="l" t="t" r="r" b="b"/>
                <a:pathLst>
                  <a:path w="673" h="451">
                    <a:moveTo>
                      <a:pt x="673" y="158"/>
                    </a:moveTo>
                    <a:cubicBezTo>
                      <a:pt x="601" y="202"/>
                      <a:pt x="530" y="247"/>
                      <a:pt x="440" y="293"/>
                    </a:cubicBezTo>
                    <a:cubicBezTo>
                      <a:pt x="350" y="339"/>
                      <a:pt x="198" y="419"/>
                      <a:pt x="133" y="435"/>
                    </a:cubicBezTo>
                    <a:cubicBezTo>
                      <a:pt x="68" y="451"/>
                      <a:pt x="62" y="419"/>
                      <a:pt x="50" y="390"/>
                    </a:cubicBezTo>
                    <a:cubicBezTo>
                      <a:pt x="38" y="361"/>
                      <a:pt x="0" y="314"/>
                      <a:pt x="58" y="263"/>
                    </a:cubicBezTo>
                    <a:cubicBezTo>
                      <a:pt x="116" y="212"/>
                      <a:pt x="313" y="127"/>
                      <a:pt x="395" y="83"/>
                    </a:cubicBezTo>
                    <a:cubicBezTo>
                      <a:pt x="477" y="39"/>
                      <a:pt x="515" y="19"/>
                      <a:pt x="553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25560" y="5549760"/>
                <a:ext cx="483120" cy="439920"/>
              </a:xfrm>
              <a:custGeom>
                <a:avLst/>
                <a:gdLst/>
                <a:ahLst/>
                <a:rect l="l" t="t" r="r" b="b"/>
                <a:pathLst>
                  <a:path w="381" h="347">
                    <a:moveTo>
                      <a:pt x="381" y="150"/>
                    </a:moveTo>
                    <a:cubicBezTo>
                      <a:pt x="297" y="213"/>
                      <a:pt x="204" y="277"/>
                      <a:pt x="148" y="308"/>
                    </a:cubicBezTo>
                    <a:cubicBezTo>
                      <a:pt x="92" y="339"/>
                      <a:pt x="67" y="347"/>
                      <a:pt x="43" y="338"/>
                    </a:cubicBezTo>
                    <a:cubicBezTo>
                      <a:pt x="19" y="329"/>
                      <a:pt x="0" y="284"/>
                      <a:pt x="5" y="255"/>
                    </a:cubicBezTo>
                    <a:cubicBezTo>
                      <a:pt x="10" y="226"/>
                      <a:pt x="18" y="208"/>
                      <a:pt x="73" y="165"/>
                    </a:cubicBezTo>
                    <a:cubicBezTo>
                      <a:pt x="128" y="122"/>
                      <a:pt x="233" y="54"/>
                      <a:pt x="33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718080" y="5949360"/>
                <a:ext cx="200160" cy="9216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cubicBezTo>
                      <a:pt x="13" y="51"/>
                      <a:pt x="27" y="73"/>
                      <a:pt x="53" y="68"/>
                    </a:cubicBezTo>
                    <a:cubicBezTo>
                      <a:pt x="79" y="63"/>
                      <a:pt x="118" y="31"/>
                      <a:pt x="15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19360" y="5303160"/>
                <a:ext cx="579240" cy="493920"/>
              </a:xfrm>
              <a:custGeom>
                <a:avLst/>
                <a:gdLst/>
                <a:ahLst/>
                <a:rect l="l" t="t" r="r" b="b"/>
                <a:pathLst>
                  <a:path w="457" h="390">
                    <a:moveTo>
                      <a:pt x="457" y="0"/>
                    </a:moveTo>
                    <a:cubicBezTo>
                      <a:pt x="343" y="68"/>
                      <a:pt x="230" y="137"/>
                      <a:pt x="157" y="180"/>
                    </a:cubicBezTo>
                    <a:cubicBezTo>
                      <a:pt x="84" y="223"/>
                      <a:pt x="44" y="228"/>
                      <a:pt x="22" y="255"/>
                    </a:cubicBezTo>
                    <a:cubicBezTo>
                      <a:pt x="0" y="282"/>
                      <a:pt x="5" y="323"/>
                      <a:pt x="22" y="345"/>
                    </a:cubicBezTo>
                    <a:cubicBezTo>
                      <a:pt x="39" y="367"/>
                      <a:pt x="102" y="383"/>
                      <a:pt x="127" y="39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735440" y="5159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620240" y="4950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458960" y="5397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955040" y="54446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31240" y="5824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392720" y="571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602240" y="53776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849560" y="5415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61124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239080" y="50850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199480" y="5198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621320" y="5160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449960" y="5113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000760" y="5036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09040" y="52750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67200" y="523584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15440" y="55310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49720" y="49809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36360" y="507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40400" y="5635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345920" y="54360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830480" y="49708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9160" y="4808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878720" y="4931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2496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11640" y="56754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155840" y="551196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13480" y="55324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964320" y="570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888000" y="5444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012560" y="54082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069800" y="5321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955320" y="55692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06920" y="56160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736080" y="58644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639600" y="570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35160" y="607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03560" y="5806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936600" y="5977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68520" y="5169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449960" y="52063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70200" y="55576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92960" y="59288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860280" y="57477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117680" y="5728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087440" y="59871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106520" y="58921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30720" y="588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306680" y="57870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92320" y="53118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372920" y="5168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344840" y="52927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73880" y="5710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491480" y="911160"/>
              <a:ext cx="4235400" cy="5186520"/>
              <a:chOff x="1491480" y="911160"/>
              <a:chExt cx="4235400" cy="518652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1901880" y="1228680"/>
                <a:ext cx="861840" cy="704520"/>
                <a:chOff x="1901880" y="1228680"/>
                <a:chExt cx="861840" cy="70452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901880" y="1243800"/>
                  <a:ext cx="861840" cy="68940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942560" y="1228680"/>
                  <a:ext cx="780120" cy="60696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990440" y="1275480"/>
                  <a:ext cx="651240" cy="52236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3548160" y="911160"/>
                <a:ext cx="1020240" cy="444600"/>
                <a:chOff x="3548160" y="911160"/>
                <a:chExt cx="1020240" cy="444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3563280" y="91116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572280" y="1080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68320" y="949320"/>
                  <a:ext cx="99216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75880" y="104292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575880" y="106560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800520" y="1046520"/>
                  <a:ext cx="37620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548160" y="1024920"/>
                  <a:ext cx="87588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826800" y="1208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845880" y="9277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2871720" y="1473120"/>
                <a:ext cx="582840" cy="598320"/>
                <a:chOff x="2871720" y="1473120"/>
                <a:chExt cx="582840" cy="5983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2871720" y="1547640"/>
                  <a:ext cx="576360" cy="52380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48040" y="1473120"/>
                  <a:ext cx="506520" cy="47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001320" y="1522440"/>
                  <a:ext cx="402480" cy="37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050640" y="1568160"/>
                  <a:ext cx="311040" cy="291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100320" y="1621440"/>
                  <a:ext cx="200520" cy="18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142440" y="1663200"/>
                  <a:ext cx="109080" cy="10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172680" y="1689840"/>
                  <a:ext cx="54720" cy="50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3597480" y="1350720"/>
                <a:ext cx="1344960" cy="1156680"/>
                <a:chOff x="3597480" y="1350720"/>
                <a:chExt cx="1344960" cy="1156680"/>
              </a:xfrm>
            </p:grpSpPr>
            <p:sp>
              <p:nvSpPr>
                <p:cNvPr id="1045" name=""/>
                <p:cNvSpPr/>
                <p:nvPr/>
              </p:nvSpPr>
              <p:spPr>
                <a:xfrm rot="406800">
                  <a:off x="3653280" y="1419840"/>
                  <a:ext cx="1233360" cy="1018080"/>
                </a:xfrm>
                <a:custGeom>
                  <a:avLst/>
                  <a:gdLst/>
                  <a:ahLst/>
                  <a:rect l="l" t="t" r="r" b="b"/>
                  <a:pathLst>
                    <a:path w="889" h="739">
                      <a:moveTo>
                        <a:pt x="319" y="700"/>
                      </a:moveTo>
                      <a:cubicBezTo>
                        <a:pt x="323" y="690"/>
                        <a:pt x="291" y="699"/>
                        <a:pt x="292" y="691"/>
                      </a:cubicBezTo>
                      <a:cubicBezTo>
                        <a:pt x="293" y="683"/>
                        <a:pt x="302" y="667"/>
                        <a:pt x="328" y="649"/>
                      </a:cubicBezTo>
                      <a:cubicBezTo>
                        <a:pt x="354" y="631"/>
                        <a:pt x="415" y="604"/>
                        <a:pt x="448" y="583"/>
                      </a:cubicBezTo>
                      <a:cubicBezTo>
                        <a:pt x="481" y="562"/>
                        <a:pt x="509" y="548"/>
                        <a:pt x="526" y="520"/>
                      </a:cubicBezTo>
                      <a:cubicBezTo>
                        <a:pt x="543" y="492"/>
                        <a:pt x="557" y="440"/>
                        <a:pt x="550" y="415"/>
                      </a:cubicBezTo>
                      <a:cubicBezTo>
                        <a:pt x="543" y="390"/>
                        <a:pt x="514" y="370"/>
                        <a:pt x="484" y="370"/>
                      </a:cubicBezTo>
                      <a:cubicBezTo>
                        <a:pt x="454" y="370"/>
                        <a:pt x="400" y="391"/>
                        <a:pt x="370" y="415"/>
                      </a:cubicBezTo>
                      <a:cubicBezTo>
                        <a:pt x="340" y="439"/>
                        <a:pt x="322" y="487"/>
                        <a:pt x="301" y="517"/>
                      </a:cubicBezTo>
                      <a:cubicBezTo>
                        <a:pt x="280" y="547"/>
                        <a:pt x="265" y="581"/>
                        <a:pt x="244" y="598"/>
                      </a:cubicBezTo>
                      <a:cubicBezTo>
                        <a:pt x="223" y="615"/>
                        <a:pt x="177" y="629"/>
                        <a:pt x="172" y="622"/>
                      </a:cubicBezTo>
                      <a:cubicBezTo>
                        <a:pt x="167" y="615"/>
                        <a:pt x="192" y="579"/>
                        <a:pt x="211" y="556"/>
                      </a:cubicBezTo>
                      <a:cubicBezTo>
                        <a:pt x="230" y="533"/>
                        <a:pt x="268" y="503"/>
                        <a:pt x="289" y="484"/>
                      </a:cubicBezTo>
                      <a:cubicBezTo>
                        <a:pt x="310" y="465"/>
                        <a:pt x="326" y="463"/>
                        <a:pt x="334" y="445"/>
                      </a:cubicBezTo>
                      <a:cubicBezTo>
                        <a:pt x="342" y="427"/>
                        <a:pt x="341" y="393"/>
                        <a:pt x="334" y="379"/>
                      </a:cubicBezTo>
                      <a:cubicBezTo>
                        <a:pt x="327" y="365"/>
                        <a:pt x="312" y="357"/>
                        <a:pt x="292" y="358"/>
                      </a:cubicBezTo>
                      <a:cubicBezTo>
                        <a:pt x="272" y="359"/>
                        <a:pt x="241" y="369"/>
                        <a:pt x="214" y="388"/>
                      </a:cubicBezTo>
                      <a:cubicBezTo>
                        <a:pt x="187" y="407"/>
                        <a:pt x="155" y="454"/>
                        <a:pt x="127" y="475"/>
                      </a:cubicBezTo>
                      <a:cubicBezTo>
                        <a:pt x="99" y="496"/>
                        <a:pt x="56" y="517"/>
                        <a:pt x="49" y="511"/>
                      </a:cubicBezTo>
                      <a:cubicBezTo>
                        <a:pt x="42" y="505"/>
                        <a:pt x="62" y="462"/>
                        <a:pt x="85" y="439"/>
                      </a:cubicBezTo>
                      <a:cubicBezTo>
                        <a:pt x="108" y="416"/>
                        <a:pt x="152" y="395"/>
                        <a:pt x="187" y="373"/>
                      </a:cubicBezTo>
                      <a:cubicBezTo>
                        <a:pt x="222" y="351"/>
                        <a:pt x="275" y="332"/>
                        <a:pt x="298" y="307"/>
                      </a:cubicBezTo>
                      <a:cubicBezTo>
                        <a:pt x="321" y="282"/>
                        <a:pt x="321" y="246"/>
                        <a:pt x="322" y="226"/>
                      </a:cubicBezTo>
                      <a:cubicBezTo>
                        <a:pt x="323" y="206"/>
                        <a:pt x="320" y="188"/>
                        <a:pt x="301" y="187"/>
                      </a:cubicBezTo>
                      <a:cubicBezTo>
                        <a:pt x="282" y="186"/>
                        <a:pt x="234" y="215"/>
                        <a:pt x="208" y="220"/>
                      </a:cubicBezTo>
                      <a:cubicBezTo>
                        <a:pt x="182" y="225"/>
                        <a:pt x="142" y="231"/>
                        <a:pt x="142" y="220"/>
                      </a:cubicBezTo>
                      <a:cubicBezTo>
                        <a:pt x="142" y="209"/>
                        <a:pt x="179" y="169"/>
                        <a:pt x="211" y="151"/>
                      </a:cubicBezTo>
                      <a:cubicBezTo>
                        <a:pt x="243" y="133"/>
                        <a:pt x="299" y="108"/>
                        <a:pt x="334" y="109"/>
                      </a:cubicBezTo>
                      <a:cubicBezTo>
                        <a:pt x="369" y="110"/>
                        <a:pt x="419" y="134"/>
                        <a:pt x="424" y="160"/>
                      </a:cubicBezTo>
                      <a:cubicBezTo>
                        <a:pt x="429" y="186"/>
                        <a:pt x="379" y="234"/>
                        <a:pt x="367" y="265"/>
                      </a:cubicBezTo>
                      <a:cubicBezTo>
                        <a:pt x="355" y="296"/>
                        <a:pt x="349" y="326"/>
                        <a:pt x="355" y="346"/>
                      </a:cubicBezTo>
                      <a:cubicBezTo>
                        <a:pt x="361" y="366"/>
                        <a:pt x="378" y="385"/>
                        <a:pt x="400" y="385"/>
                      </a:cubicBezTo>
                      <a:cubicBezTo>
                        <a:pt x="422" y="385"/>
                        <a:pt x="462" y="374"/>
                        <a:pt x="490" y="343"/>
                      </a:cubicBezTo>
                      <a:cubicBezTo>
                        <a:pt x="518" y="312"/>
                        <a:pt x="550" y="237"/>
                        <a:pt x="571" y="199"/>
                      </a:cubicBezTo>
                      <a:cubicBezTo>
                        <a:pt x="592" y="161"/>
                        <a:pt x="597" y="137"/>
                        <a:pt x="619" y="112"/>
                      </a:cubicBezTo>
                      <a:cubicBezTo>
                        <a:pt x="641" y="87"/>
                        <a:pt x="675" y="59"/>
                        <a:pt x="703" y="49"/>
                      </a:cubicBezTo>
                      <a:cubicBezTo>
                        <a:pt x="731" y="39"/>
                        <a:pt x="789" y="40"/>
                        <a:pt x="784" y="55"/>
                      </a:cubicBezTo>
                      <a:cubicBezTo>
                        <a:pt x="779" y="70"/>
                        <a:pt x="705" y="112"/>
                        <a:pt x="673" y="139"/>
                      </a:cubicBezTo>
                      <a:cubicBezTo>
                        <a:pt x="641" y="166"/>
                        <a:pt x="598" y="196"/>
                        <a:pt x="589" y="220"/>
                      </a:cubicBezTo>
                      <a:cubicBezTo>
                        <a:pt x="580" y="244"/>
                        <a:pt x="597" y="276"/>
                        <a:pt x="616" y="286"/>
                      </a:cubicBezTo>
                      <a:cubicBezTo>
                        <a:pt x="635" y="296"/>
                        <a:pt x="679" y="277"/>
                        <a:pt x="700" y="280"/>
                      </a:cubicBezTo>
                      <a:cubicBezTo>
                        <a:pt x="721" y="283"/>
                        <a:pt x="745" y="299"/>
                        <a:pt x="742" y="304"/>
                      </a:cubicBezTo>
                      <a:cubicBezTo>
                        <a:pt x="739" y="309"/>
                        <a:pt x="705" y="306"/>
                        <a:pt x="682" y="313"/>
                      </a:cubicBezTo>
                      <a:cubicBezTo>
                        <a:pt x="659" y="320"/>
                        <a:pt x="617" y="325"/>
                        <a:pt x="601" y="346"/>
                      </a:cubicBezTo>
                      <a:cubicBezTo>
                        <a:pt x="585" y="367"/>
                        <a:pt x="574" y="416"/>
                        <a:pt x="586" y="439"/>
                      </a:cubicBezTo>
                      <a:cubicBezTo>
                        <a:pt x="598" y="462"/>
                        <a:pt x="645" y="490"/>
                        <a:pt x="676" y="487"/>
                      </a:cubicBezTo>
                      <a:cubicBezTo>
                        <a:pt x="707" y="484"/>
                        <a:pt x="746" y="428"/>
                        <a:pt x="772" y="418"/>
                      </a:cubicBezTo>
                      <a:cubicBezTo>
                        <a:pt x="798" y="408"/>
                        <a:pt x="827" y="416"/>
                        <a:pt x="835" y="427"/>
                      </a:cubicBezTo>
                      <a:cubicBezTo>
                        <a:pt x="843" y="438"/>
                        <a:pt x="835" y="466"/>
                        <a:pt x="823" y="484"/>
                      </a:cubicBezTo>
                      <a:cubicBezTo>
                        <a:pt x="811" y="502"/>
                        <a:pt x="780" y="522"/>
                        <a:pt x="763" y="535"/>
                      </a:cubicBezTo>
                      <a:cubicBezTo>
                        <a:pt x="746" y="548"/>
                        <a:pt x="721" y="557"/>
                        <a:pt x="721" y="562"/>
                      </a:cubicBezTo>
                      <a:cubicBezTo>
                        <a:pt x="721" y="567"/>
                        <a:pt x="748" y="573"/>
                        <a:pt x="766" y="568"/>
                      </a:cubicBezTo>
                      <a:cubicBezTo>
                        <a:pt x="784" y="563"/>
                        <a:pt x="811" y="550"/>
                        <a:pt x="829" y="529"/>
                      </a:cubicBezTo>
                      <a:cubicBezTo>
                        <a:pt x="847" y="508"/>
                        <a:pt x="871" y="465"/>
                        <a:pt x="877" y="442"/>
                      </a:cubicBezTo>
                      <a:cubicBezTo>
                        <a:pt x="883" y="419"/>
                        <a:pt x="889" y="396"/>
                        <a:pt x="868" y="388"/>
                      </a:cubicBezTo>
                      <a:cubicBezTo>
                        <a:pt x="847" y="380"/>
                        <a:pt x="788" y="381"/>
                        <a:pt x="751" y="391"/>
                      </a:cubicBezTo>
                      <a:cubicBezTo>
                        <a:pt x="714" y="401"/>
                        <a:pt x="666" y="447"/>
                        <a:pt x="643" y="448"/>
                      </a:cubicBezTo>
                      <a:cubicBezTo>
                        <a:pt x="620" y="449"/>
                        <a:pt x="605" y="411"/>
                        <a:pt x="613" y="394"/>
                      </a:cubicBezTo>
                      <a:cubicBezTo>
                        <a:pt x="621" y="377"/>
                        <a:pt x="668" y="356"/>
                        <a:pt x="694" y="346"/>
                      </a:cubicBezTo>
                      <a:cubicBezTo>
                        <a:pt x="720" y="336"/>
                        <a:pt x="757" y="345"/>
                        <a:pt x="772" y="334"/>
                      </a:cubicBezTo>
                      <a:cubicBezTo>
                        <a:pt x="787" y="323"/>
                        <a:pt x="789" y="293"/>
                        <a:pt x="784" y="277"/>
                      </a:cubicBezTo>
                      <a:cubicBezTo>
                        <a:pt x="779" y="261"/>
                        <a:pt x="757" y="244"/>
                        <a:pt x="742" y="238"/>
                      </a:cubicBezTo>
                      <a:cubicBezTo>
                        <a:pt x="727" y="232"/>
                        <a:pt x="712" y="242"/>
                        <a:pt x="694" y="241"/>
                      </a:cubicBezTo>
                      <a:cubicBezTo>
                        <a:pt x="676" y="240"/>
                        <a:pt x="632" y="244"/>
                        <a:pt x="631" y="232"/>
                      </a:cubicBezTo>
                      <a:cubicBezTo>
                        <a:pt x="630" y="220"/>
                        <a:pt x="663" y="188"/>
                        <a:pt x="688" y="169"/>
                      </a:cubicBezTo>
                      <a:cubicBezTo>
                        <a:pt x="713" y="150"/>
                        <a:pt x="759" y="139"/>
                        <a:pt x="784" y="118"/>
                      </a:cubicBezTo>
                      <a:cubicBezTo>
                        <a:pt x="809" y="97"/>
                        <a:pt x="836" y="61"/>
                        <a:pt x="838" y="43"/>
                      </a:cubicBezTo>
                      <a:cubicBezTo>
                        <a:pt x="840" y="25"/>
                        <a:pt x="817" y="14"/>
                        <a:pt x="793" y="10"/>
                      </a:cubicBezTo>
                      <a:cubicBezTo>
                        <a:pt x="769" y="6"/>
                        <a:pt x="727" y="0"/>
                        <a:pt x="691" y="16"/>
                      </a:cubicBezTo>
                      <a:cubicBezTo>
                        <a:pt x="655" y="32"/>
                        <a:pt x="606" y="69"/>
                        <a:pt x="577" y="106"/>
                      </a:cubicBezTo>
                      <a:cubicBezTo>
                        <a:pt x="548" y="143"/>
                        <a:pt x="534" y="206"/>
                        <a:pt x="514" y="241"/>
                      </a:cubicBezTo>
                      <a:cubicBezTo>
                        <a:pt x="494" y="276"/>
                        <a:pt x="475" y="301"/>
                        <a:pt x="457" y="316"/>
                      </a:cubicBezTo>
                      <a:cubicBezTo>
                        <a:pt x="439" y="331"/>
                        <a:pt x="410" y="347"/>
                        <a:pt x="406" y="334"/>
                      </a:cubicBezTo>
                      <a:cubicBezTo>
                        <a:pt x="402" y="321"/>
                        <a:pt x="422" y="264"/>
                        <a:pt x="433" y="235"/>
                      </a:cubicBezTo>
                      <a:cubicBezTo>
                        <a:pt x="444" y="206"/>
                        <a:pt x="473" y="183"/>
                        <a:pt x="472" y="160"/>
                      </a:cubicBezTo>
                      <a:cubicBezTo>
                        <a:pt x="471" y="137"/>
                        <a:pt x="459" y="111"/>
                        <a:pt x="430" y="97"/>
                      </a:cubicBezTo>
                      <a:cubicBezTo>
                        <a:pt x="401" y="83"/>
                        <a:pt x="348" y="66"/>
                        <a:pt x="301" y="76"/>
                      </a:cubicBezTo>
                      <a:cubicBezTo>
                        <a:pt x="254" y="86"/>
                        <a:pt x="177" y="128"/>
                        <a:pt x="145" y="157"/>
                      </a:cubicBezTo>
                      <a:cubicBezTo>
                        <a:pt x="113" y="186"/>
                        <a:pt x="99" y="237"/>
                        <a:pt x="109" y="253"/>
                      </a:cubicBezTo>
                      <a:cubicBezTo>
                        <a:pt x="119" y="269"/>
                        <a:pt x="181" y="259"/>
                        <a:pt x="208" y="256"/>
                      </a:cubicBezTo>
                      <a:cubicBezTo>
                        <a:pt x="235" y="253"/>
                        <a:pt x="267" y="228"/>
                        <a:pt x="271" y="235"/>
                      </a:cubicBezTo>
                      <a:cubicBezTo>
                        <a:pt x="275" y="242"/>
                        <a:pt x="256" y="280"/>
                        <a:pt x="235" y="301"/>
                      </a:cubicBezTo>
                      <a:cubicBezTo>
                        <a:pt x="214" y="322"/>
                        <a:pt x="178" y="338"/>
                        <a:pt x="145" y="361"/>
                      </a:cubicBezTo>
                      <a:cubicBezTo>
                        <a:pt x="112" y="384"/>
                        <a:pt x="56" y="413"/>
                        <a:pt x="34" y="439"/>
                      </a:cubicBezTo>
                      <a:cubicBezTo>
                        <a:pt x="12" y="465"/>
                        <a:pt x="0" y="502"/>
                        <a:pt x="10" y="520"/>
                      </a:cubicBezTo>
                      <a:cubicBezTo>
                        <a:pt x="20" y="538"/>
                        <a:pt x="65" y="563"/>
                        <a:pt x="97" y="550"/>
                      </a:cubicBezTo>
                      <a:cubicBezTo>
                        <a:pt x="129" y="537"/>
                        <a:pt x="179" y="467"/>
                        <a:pt x="205" y="442"/>
                      </a:cubicBezTo>
                      <a:cubicBezTo>
                        <a:pt x="231" y="417"/>
                        <a:pt x="238" y="402"/>
                        <a:pt x="256" y="397"/>
                      </a:cubicBezTo>
                      <a:cubicBezTo>
                        <a:pt x="274" y="392"/>
                        <a:pt x="321" y="395"/>
                        <a:pt x="316" y="409"/>
                      </a:cubicBezTo>
                      <a:cubicBezTo>
                        <a:pt x="311" y="423"/>
                        <a:pt x="257" y="454"/>
                        <a:pt x="229" y="481"/>
                      </a:cubicBezTo>
                      <a:cubicBezTo>
                        <a:pt x="201" y="508"/>
                        <a:pt x="157" y="539"/>
                        <a:pt x="145" y="571"/>
                      </a:cubicBezTo>
                      <a:cubicBezTo>
                        <a:pt x="133" y="603"/>
                        <a:pt x="134" y="662"/>
                        <a:pt x="154" y="670"/>
                      </a:cubicBezTo>
                      <a:cubicBezTo>
                        <a:pt x="174" y="678"/>
                        <a:pt x="229" y="653"/>
                        <a:pt x="265" y="619"/>
                      </a:cubicBezTo>
                      <a:cubicBezTo>
                        <a:pt x="301" y="585"/>
                        <a:pt x="339" y="499"/>
                        <a:pt x="373" y="466"/>
                      </a:cubicBezTo>
                      <a:cubicBezTo>
                        <a:pt x="407" y="433"/>
                        <a:pt x="447" y="415"/>
                        <a:pt x="469" y="418"/>
                      </a:cubicBezTo>
                      <a:cubicBezTo>
                        <a:pt x="491" y="421"/>
                        <a:pt x="510" y="461"/>
                        <a:pt x="508" y="481"/>
                      </a:cubicBezTo>
                      <a:cubicBezTo>
                        <a:pt x="506" y="501"/>
                        <a:pt x="480" y="521"/>
                        <a:pt x="454" y="538"/>
                      </a:cubicBezTo>
                      <a:cubicBezTo>
                        <a:pt x="428" y="555"/>
                        <a:pt x="386" y="562"/>
                        <a:pt x="355" y="583"/>
                      </a:cubicBezTo>
                      <a:cubicBezTo>
                        <a:pt x="324" y="604"/>
                        <a:pt x="277" y="639"/>
                        <a:pt x="265" y="664"/>
                      </a:cubicBezTo>
                      <a:cubicBezTo>
                        <a:pt x="253" y="689"/>
                        <a:pt x="271" y="727"/>
                        <a:pt x="280" y="733"/>
                      </a:cubicBezTo>
                      <a:cubicBezTo>
                        <a:pt x="289" y="739"/>
                        <a:pt x="311" y="707"/>
                        <a:pt x="319" y="7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rot="406800">
                  <a:off x="4396320" y="1751040"/>
                  <a:ext cx="87480" cy="214920"/>
                </a:xfrm>
                <a:custGeom>
                  <a:avLst/>
                  <a:gdLst/>
                  <a:ahLst/>
                  <a:rect l="l" t="t" r="r" b="b"/>
                  <a:pathLst>
                    <a:path w="63" h="156">
                      <a:moveTo>
                        <a:pt x="63" y="0"/>
                      </a:moveTo>
                      <a:cubicBezTo>
                        <a:pt x="55" y="18"/>
                        <a:pt x="26" y="79"/>
                        <a:pt x="15" y="105"/>
                      </a:cubicBezTo>
                      <a:cubicBezTo>
                        <a:pt x="4" y="131"/>
                        <a:pt x="3" y="143"/>
                        <a:pt x="0" y="15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rot="406800">
                  <a:off x="3761640" y="1690200"/>
                  <a:ext cx="54000" cy="222840"/>
                </a:xfrm>
                <a:custGeom>
                  <a:avLst/>
                  <a:gdLst/>
                  <a:ahLst/>
                  <a:rect l="l" t="t" r="r" b="b"/>
                  <a:pathLst>
                    <a:path w="39" h="162">
                      <a:moveTo>
                        <a:pt x="39" y="0"/>
                      </a:moveTo>
                      <a:cubicBezTo>
                        <a:pt x="35" y="16"/>
                        <a:pt x="21" y="72"/>
                        <a:pt x="15" y="99"/>
                      </a:cubicBezTo>
                      <a:cubicBezTo>
                        <a:pt x="9" y="126"/>
                        <a:pt x="5" y="142"/>
                        <a:pt x="0" y="1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rot="406800">
                  <a:off x="3616560" y="2040840"/>
                  <a:ext cx="20520" cy="136440"/>
                </a:xfrm>
                <a:custGeom>
                  <a:avLst/>
                  <a:gdLst/>
                  <a:ahLst/>
                  <a:rect l="l" t="t" r="r" b="b"/>
                  <a:pathLst>
                    <a:path w="15" h="99">
                      <a:moveTo>
                        <a:pt x="15" y="0"/>
                      </a:moveTo>
                      <a:cubicBezTo>
                        <a:pt x="13" y="16"/>
                        <a:pt x="3" y="79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rot="406800">
                  <a:off x="3764520" y="2233800"/>
                  <a:ext cx="24840" cy="214920"/>
                </a:xfrm>
                <a:custGeom>
                  <a:avLst/>
                  <a:gdLst/>
                  <a:ahLst/>
                  <a:rect l="l" t="t" r="r" b="b"/>
                  <a:pathLst>
                    <a:path w="18" h="156">
                      <a:moveTo>
                        <a:pt x="18" y="0"/>
                      </a:moveTo>
                      <a:cubicBezTo>
                        <a:pt x="16" y="20"/>
                        <a:pt x="6" y="97"/>
                        <a:pt x="3" y="123"/>
                      </a:cubicBezTo>
                      <a:cubicBezTo>
                        <a:pt x="0" y="149"/>
                        <a:pt x="0" y="150"/>
                        <a:pt x="0" y="1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rot="406800">
                  <a:off x="4092840" y="1776240"/>
                  <a:ext cx="12240" cy="123840"/>
                </a:xfrm>
                <a:custGeom>
                  <a:avLst/>
                  <a:gdLst/>
                  <a:ahLst/>
                  <a:rect l="l" t="t" r="r" b="b"/>
                  <a:pathLst>
                    <a:path w="9" h="90">
                      <a:moveTo>
                        <a:pt x="9" y="0"/>
                      </a:moveTo>
                      <a:cubicBezTo>
                        <a:pt x="7" y="14"/>
                        <a:pt x="2" y="71"/>
                        <a:pt x="0" y="9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406800">
                  <a:off x="4355640" y="2100240"/>
                  <a:ext cx="32760" cy="136440"/>
                </a:xfrm>
                <a:custGeom>
                  <a:avLst/>
                  <a:gdLst/>
                  <a:ahLst/>
                  <a:rect l="l" t="t" r="r" b="b"/>
                  <a:pathLst>
                    <a:path w="24" h="99">
                      <a:moveTo>
                        <a:pt x="24" y="0"/>
                      </a:moveTo>
                      <a:cubicBezTo>
                        <a:pt x="21" y="7"/>
                        <a:pt x="19" y="14"/>
                        <a:pt x="15" y="30"/>
                      </a:cubicBezTo>
                      <a:cubicBezTo>
                        <a:pt x="11" y="46"/>
                        <a:pt x="5" y="72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4305240" y="3660840"/>
                <a:ext cx="870120" cy="1270080"/>
                <a:chOff x="4305240" y="3660840"/>
                <a:chExt cx="870120" cy="1270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4305240" y="3660840"/>
                  <a:ext cx="865080" cy="1270080"/>
                </a:xfrm>
                <a:custGeom>
                  <a:avLst/>
                  <a:gdLst/>
                  <a:ahLst/>
                  <a:rect l="l" t="t" r="r" b="b"/>
                  <a:pathLst>
                    <a:path w="683" h="1002">
                      <a:moveTo>
                        <a:pt x="549" y="52"/>
                      </a:moveTo>
                      <a:cubicBezTo>
                        <a:pt x="508" y="31"/>
                        <a:pt x="409" y="0"/>
                        <a:pt x="339" y="13"/>
                      </a:cubicBezTo>
                      <a:cubicBezTo>
                        <a:pt x="269" y="26"/>
                        <a:pt x="182" y="65"/>
                        <a:pt x="129" y="130"/>
                      </a:cubicBezTo>
                      <a:cubicBezTo>
                        <a:pt x="76" y="195"/>
                        <a:pt x="36" y="307"/>
                        <a:pt x="18" y="406"/>
                      </a:cubicBezTo>
                      <a:cubicBezTo>
                        <a:pt x="0" y="505"/>
                        <a:pt x="0" y="639"/>
                        <a:pt x="21" y="727"/>
                      </a:cubicBezTo>
                      <a:cubicBezTo>
                        <a:pt x="42" y="815"/>
                        <a:pt x="92" y="892"/>
                        <a:pt x="147" y="937"/>
                      </a:cubicBezTo>
                      <a:cubicBezTo>
                        <a:pt x="202" y="982"/>
                        <a:pt x="292" y="993"/>
                        <a:pt x="354" y="997"/>
                      </a:cubicBezTo>
                      <a:cubicBezTo>
                        <a:pt x="416" y="1001"/>
                        <a:pt x="463" y="1002"/>
                        <a:pt x="516" y="961"/>
                      </a:cubicBezTo>
                      <a:cubicBezTo>
                        <a:pt x="569" y="920"/>
                        <a:pt x="661" y="887"/>
                        <a:pt x="672" y="751"/>
                      </a:cubicBezTo>
                      <a:cubicBezTo>
                        <a:pt x="683" y="615"/>
                        <a:pt x="605" y="258"/>
                        <a:pt x="585" y="142"/>
                      </a:cubicBezTo>
                      <a:cubicBezTo>
                        <a:pt x="565" y="26"/>
                        <a:pt x="571" y="72"/>
                        <a:pt x="549" y="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510080" y="3962520"/>
                  <a:ext cx="338040" cy="677880"/>
                </a:xfrm>
                <a:custGeom>
                  <a:avLst/>
                  <a:gdLst/>
                  <a:ahLst/>
                  <a:rect l="l" t="t" r="r" b="b"/>
                  <a:pathLst>
                    <a:path w="267" h="535">
                      <a:moveTo>
                        <a:pt x="168" y="0"/>
                      </a:moveTo>
                      <a:cubicBezTo>
                        <a:pt x="136" y="1"/>
                        <a:pt x="63" y="75"/>
                        <a:pt x="36" y="120"/>
                      </a:cubicBezTo>
                      <a:cubicBezTo>
                        <a:pt x="9" y="165"/>
                        <a:pt x="6" y="231"/>
                        <a:pt x="3" y="273"/>
                      </a:cubicBezTo>
                      <a:cubicBezTo>
                        <a:pt x="0" y="315"/>
                        <a:pt x="6" y="339"/>
                        <a:pt x="18" y="372"/>
                      </a:cubicBezTo>
                      <a:cubicBezTo>
                        <a:pt x="30" y="405"/>
                        <a:pt x="46" y="448"/>
                        <a:pt x="78" y="471"/>
                      </a:cubicBezTo>
                      <a:cubicBezTo>
                        <a:pt x="110" y="494"/>
                        <a:pt x="179" y="535"/>
                        <a:pt x="210" y="513"/>
                      </a:cubicBezTo>
                      <a:cubicBezTo>
                        <a:pt x="241" y="491"/>
                        <a:pt x="261" y="408"/>
                        <a:pt x="264" y="342"/>
                      </a:cubicBezTo>
                      <a:cubicBezTo>
                        <a:pt x="267" y="276"/>
                        <a:pt x="244" y="171"/>
                        <a:pt x="228" y="114"/>
                      </a:cubicBezTo>
                      <a:cubicBezTo>
                        <a:pt x="212" y="57"/>
                        <a:pt x="191" y="3"/>
                        <a:pt x="168" y="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07480" y="3776040"/>
                  <a:ext cx="592920" cy="1029240"/>
                </a:xfrm>
                <a:custGeom>
                  <a:avLst/>
                  <a:gdLst/>
                  <a:ahLst/>
                  <a:rect l="l" t="t" r="r" b="b"/>
                  <a:pathLst>
                    <a:path w="468" h="812">
                      <a:moveTo>
                        <a:pt x="321" y="12"/>
                      </a:moveTo>
                      <a:cubicBezTo>
                        <a:pt x="294" y="0"/>
                        <a:pt x="229" y="16"/>
                        <a:pt x="186" y="45"/>
                      </a:cubicBezTo>
                      <a:cubicBezTo>
                        <a:pt x="143" y="74"/>
                        <a:pt x="90" y="125"/>
                        <a:pt x="60" y="189"/>
                      </a:cubicBezTo>
                      <a:cubicBezTo>
                        <a:pt x="30" y="253"/>
                        <a:pt x="6" y="355"/>
                        <a:pt x="3" y="432"/>
                      </a:cubicBezTo>
                      <a:cubicBezTo>
                        <a:pt x="0" y="509"/>
                        <a:pt x="22" y="599"/>
                        <a:pt x="42" y="651"/>
                      </a:cubicBezTo>
                      <a:cubicBezTo>
                        <a:pt x="62" y="703"/>
                        <a:pt x="87" y="718"/>
                        <a:pt x="123" y="744"/>
                      </a:cubicBezTo>
                      <a:cubicBezTo>
                        <a:pt x="159" y="770"/>
                        <a:pt x="206" y="812"/>
                        <a:pt x="258" y="810"/>
                      </a:cubicBezTo>
                      <a:cubicBezTo>
                        <a:pt x="310" y="808"/>
                        <a:pt x="408" y="810"/>
                        <a:pt x="438" y="732"/>
                      </a:cubicBezTo>
                      <a:cubicBezTo>
                        <a:pt x="468" y="654"/>
                        <a:pt x="448" y="442"/>
                        <a:pt x="438" y="339"/>
                      </a:cubicBezTo>
                      <a:cubicBezTo>
                        <a:pt x="428" y="236"/>
                        <a:pt x="397" y="168"/>
                        <a:pt x="378" y="114"/>
                      </a:cubicBezTo>
                      <a:cubicBezTo>
                        <a:pt x="359" y="60"/>
                        <a:pt x="333" y="33"/>
                        <a:pt x="321" y="12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919400" y="3715200"/>
                  <a:ext cx="255960" cy="1074600"/>
                </a:xfrm>
                <a:custGeom>
                  <a:avLst/>
                  <a:gdLst/>
                  <a:ahLst/>
                  <a:rect l="l" t="t" r="r" b="b"/>
                  <a:pathLst>
                    <a:path w="202" h="848">
                      <a:moveTo>
                        <a:pt x="34" y="0"/>
                      </a:moveTo>
                      <a:cubicBezTo>
                        <a:pt x="25" y="2"/>
                        <a:pt x="2" y="5"/>
                        <a:pt x="1" y="24"/>
                      </a:cubicBezTo>
                      <a:cubicBezTo>
                        <a:pt x="0" y="43"/>
                        <a:pt x="13" y="76"/>
                        <a:pt x="28" y="114"/>
                      </a:cubicBezTo>
                      <a:cubicBezTo>
                        <a:pt x="43" y="152"/>
                        <a:pt x="77" y="189"/>
                        <a:pt x="91" y="255"/>
                      </a:cubicBezTo>
                      <a:cubicBezTo>
                        <a:pt x="105" y="321"/>
                        <a:pt x="116" y="435"/>
                        <a:pt x="115" y="510"/>
                      </a:cubicBezTo>
                      <a:cubicBezTo>
                        <a:pt x="114" y="585"/>
                        <a:pt x="91" y="657"/>
                        <a:pt x="85" y="705"/>
                      </a:cubicBezTo>
                      <a:cubicBezTo>
                        <a:pt x="79" y="753"/>
                        <a:pt x="65" y="787"/>
                        <a:pt x="79" y="801"/>
                      </a:cubicBezTo>
                      <a:cubicBezTo>
                        <a:pt x="93" y="815"/>
                        <a:pt x="149" y="848"/>
                        <a:pt x="169" y="789"/>
                      </a:cubicBezTo>
                      <a:cubicBezTo>
                        <a:pt x="189" y="730"/>
                        <a:pt x="202" y="547"/>
                        <a:pt x="202" y="447"/>
                      </a:cubicBezTo>
                      <a:cubicBezTo>
                        <a:pt x="202" y="347"/>
                        <a:pt x="181" y="250"/>
                        <a:pt x="166" y="186"/>
                      </a:cubicBezTo>
                      <a:cubicBezTo>
                        <a:pt x="151" y="122"/>
                        <a:pt x="128" y="88"/>
                        <a:pt x="112" y="60"/>
                      </a:cubicBezTo>
                      <a:cubicBezTo>
                        <a:pt x="96" y="32"/>
                        <a:pt x="83" y="25"/>
                        <a:pt x="70" y="15"/>
                      </a:cubicBezTo>
                      <a:cubicBezTo>
                        <a:pt x="57" y="5"/>
                        <a:pt x="41" y="3"/>
                        <a:pt x="3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962240" y="3760560"/>
                  <a:ext cx="178560" cy="964440"/>
                </a:xfrm>
                <a:custGeom>
                  <a:avLst/>
                  <a:gdLst/>
                  <a:ahLst/>
                  <a:rect l="l" t="t" r="r" b="b"/>
                  <a:pathLst>
                    <a:path w="141" h="761">
                      <a:moveTo>
                        <a:pt x="23" y="0"/>
                      </a:moveTo>
                      <a:cubicBezTo>
                        <a:pt x="18" y="2"/>
                        <a:pt x="0" y="5"/>
                        <a:pt x="6" y="22"/>
                      </a:cubicBezTo>
                      <a:cubicBezTo>
                        <a:pt x="12" y="39"/>
                        <a:pt x="42" y="69"/>
                        <a:pt x="57" y="105"/>
                      </a:cubicBezTo>
                      <a:cubicBezTo>
                        <a:pt x="72" y="141"/>
                        <a:pt x="86" y="190"/>
                        <a:pt x="96" y="237"/>
                      </a:cubicBezTo>
                      <a:cubicBezTo>
                        <a:pt x="106" y="284"/>
                        <a:pt x="115" y="345"/>
                        <a:pt x="117" y="387"/>
                      </a:cubicBezTo>
                      <a:cubicBezTo>
                        <a:pt x="119" y="429"/>
                        <a:pt x="115" y="445"/>
                        <a:pt x="111" y="489"/>
                      </a:cubicBezTo>
                      <a:cubicBezTo>
                        <a:pt x="107" y="533"/>
                        <a:pt x="94" y="613"/>
                        <a:pt x="90" y="654"/>
                      </a:cubicBezTo>
                      <a:cubicBezTo>
                        <a:pt x="86" y="695"/>
                        <a:pt x="81" y="726"/>
                        <a:pt x="84" y="735"/>
                      </a:cubicBezTo>
                      <a:cubicBezTo>
                        <a:pt x="87" y="744"/>
                        <a:pt x="99" y="761"/>
                        <a:pt x="108" y="708"/>
                      </a:cubicBezTo>
                      <a:cubicBezTo>
                        <a:pt x="117" y="655"/>
                        <a:pt x="141" y="506"/>
                        <a:pt x="141" y="417"/>
                      </a:cubicBezTo>
                      <a:cubicBezTo>
                        <a:pt x="141" y="328"/>
                        <a:pt x="121" y="231"/>
                        <a:pt x="108" y="171"/>
                      </a:cubicBezTo>
                      <a:cubicBezTo>
                        <a:pt x="95" y="111"/>
                        <a:pt x="76" y="81"/>
                        <a:pt x="65" y="55"/>
                      </a:cubicBezTo>
                      <a:cubicBezTo>
                        <a:pt x="54" y="29"/>
                        <a:pt x="49" y="23"/>
                        <a:pt x="42" y="14"/>
                      </a:cubicBezTo>
                      <a:cubicBezTo>
                        <a:pt x="35" y="5"/>
                        <a:pt x="27" y="3"/>
                        <a:pt x="2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780080" y="3788640"/>
                  <a:ext cx="259560" cy="1000080"/>
                </a:xfrm>
                <a:custGeom>
                  <a:avLst/>
                  <a:gdLst/>
                  <a:ahLst/>
                  <a:rect l="l" t="t" r="r" b="b"/>
                  <a:pathLst>
                    <a:path w="205" h="789">
                      <a:moveTo>
                        <a:pt x="30" y="2"/>
                      </a:moveTo>
                      <a:cubicBezTo>
                        <a:pt x="17" y="4"/>
                        <a:pt x="0" y="22"/>
                        <a:pt x="0" y="44"/>
                      </a:cubicBezTo>
                      <a:cubicBezTo>
                        <a:pt x="0" y="66"/>
                        <a:pt x="17" y="105"/>
                        <a:pt x="30" y="134"/>
                      </a:cubicBezTo>
                      <a:cubicBezTo>
                        <a:pt x="43" y="163"/>
                        <a:pt x="66" y="182"/>
                        <a:pt x="81" y="218"/>
                      </a:cubicBezTo>
                      <a:cubicBezTo>
                        <a:pt x="96" y="254"/>
                        <a:pt x="115" y="300"/>
                        <a:pt x="120" y="353"/>
                      </a:cubicBezTo>
                      <a:cubicBezTo>
                        <a:pt x="125" y="406"/>
                        <a:pt x="120" y="488"/>
                        <a:pt x="111" y="539"/>
                      </a:cubicBezTo>
                      <a:cubicBezTo>
                        <a:pt x="102" y="590"/>
                        <a:pt x="77" y="626"/>
                        <a:pt x="66" y="659"/>
                      </a:cubicBezTo>
                      <a:cubicBezTo>
                        <a:pt x="55" y="692"/>
                        <a:pt x="35" y="718"/>
                        <a:pt x="42" y="737"/>
                      </a:cubicBezTo>
                      <a:cubicBezTo>
                        <a:pt x="49" y="756"/>
                        <a:pt x="83" y="789"/>
                        <a:pt x="105" y="773"/>
                      </a:cubicBezTo>
                      <a:cubicBezTo>
                        <a:pt x="127" y="757"/>
                        <a:pt x="158" y="705"/>
                        <a:pt x="174" y="638"/>
                      </a:cubicBezTo>
                      <a:cubicBezTo>
                        <a:pt x="190" y="571"/>
                        <a:pt x="205" y="456"/>
                        <a:pt x="201" y="371"/>
                      </a:cubicBezTo>
                      <a:cubicBezTo>
                        <a:pt x="197" y="286"/>
                        <a:pt x="167" y="185"/>
                        <a:pt x="147" y="128"/>
                      </a:cubicBezTo>
                      <a:cubicBezTo>
                        <a:pt x="127" y="71"/>
                        <a:pt x="98" y="49"/>
                        <a:pt x="81" y="29"/>
                      </a:cubicBezTo>
                      <a:cubicBezTo>
                        <a:pt x="64" y="9"/>
                        <a:pt x="43" y="0"/>
                        <a:pt x="3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828320" y="3863520"/>
                  <a:ext cx="178560" cy="880560"/>
                </a:xfrm>
                <a:custGeom>
                  <a:avLst/>
                  <a:gdLst/>
                  <a:ahLst/>
                  <a:rect l="l" t="t" r="r" b="b"/>
                  <a:pathLst>
                    <a:path w="141" h="695">
                      <a:moveTo>
                        <a:pt x="4" y="0"/>
                      </a:moveTo>
                      <a:cubicBezTo>
                        <a:pt x="0" y="1"/>
                        <a:pt x="14" y="20"/>
                        <a:pt x="22" y="39"/>
                      </a:cubicBezTo>
                      <a:cubicBezTo>
                        <a:pt x="30" y="58"/>
                        <a:pt x="44" y="91"/>
                        <a:pt x="55" y="117"/>
                      </a:cubicBezTo>
                      <a:cubicBezTo>
                        <a:pt x="66" y="143"/>
                        <a:pt x="81" y="162"/>
                        <a:pt x="91" y="195"/>
                      </a:cubicBezTo>
                      <a:cubicBezTo>
                        <a:pt x="101" y="228"/>
                        <a:pt x="110" y="268"/>
                        <a:pt x="112" y="315"/>
                      </a:cubicBezTo>
                      <a:cubicBezTo>
                        <a:pt x="114" y="362"/>
                        <a:pt x="113" y="435"/>
                        <a:pt x="106" y="480"/>
                      </a:cubicBezTo>
                      <a:cubicBezTo>
                        <a:pt x="99" y="525"/>
                        <a:pt x="79" y="555"/>
                        <a:pt x="68" y="585"/>
                      </a:cubicBezTo>
                      <a:cubicBezTo>
                        <a:pt x="57" y="615"/>
                        <a:pt x="41" y="645"/>
                        <a:pt x="40" y="660"/>
                      </a:cubicBezTo>
                      <a:cubicBezTo>
                        <a:pt x="39" y="675"/>
                        <a:pt x="53" y="695"/>
                        <a:pt x="64" y="678"/>
                      </a:cubicBezTo>
                      <a:cubicBezTo>
                        <a:pt x="75" y="661"/>
                        <a:pt x="94" y="616"/>
                        <a:pt x="106" y="558"/>
                      </a:cubicBezTo>
                      <a:cubicBezTo>
                        <a:pt x="118" y="500"/>
                        <a:pt x="141" y="401"/>
                        <a:pt x="139" y="327"/>
                      </a:cubicBezTo>
                      <a:cubicBezTo>
                        <a:pt x="137" y="253"/>
                        <a:pt x="107" y="163"/>
                        <a:pt x="91" y="114"/>
                      </a:cubicBezTo>
                      <a:cubicBezTo>
                        <a:pt x="75" y="65"/>
                        <a:pt x="60" y="49"/>
                        <a:pt x="46" y="30"/>
                      </a:cubicBezTo>
                      <a:cubicBezTo>
                        <a:pt x="32" y="11"/>
                        <a:pt x="13" y="6"/>
                        <a:pt x="4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677480" y="3948480"/>
                  <a:ext cx="220320" cy="676800"/>
                </a:xfrm>
                <a:custGeom>
                  <a:avLst/>
                  <a:gdLst/>
                  <a:ahLst/>
                  <a:rect l="l" t="t" r="r" b="b"/>
                  <a:pathLst>
                    <a:path w="174" h="534">
                      <a:moveTo>
                        <a:pt x="15" y="23"/>
                      </a:moveTo>
                      <a:cubicBezTo>
                        <a:pt x="21" y="13"/>
                        <a:pt x="32" y="0"/>
                        <a:pt x="45" y="8"/>
                      </a:cubicBezTo>
                      <a:cubicBezTo>
                        <a:pt x="58" y="16"/>
                        <a:pt x="78" y="41"/>
                        <a:pt x="96" y="68"/>
                      </a:cubicBezTo>
                      <a:cubicBezTo>
                        <a:pt x="114" y="95"/>
                        <a:pt x="138" y="131"/>
                        <a:pt x="150" y="170"/>
                      </a:cubicBezTo>
                      <a:cubicBezTo>
                        <a:pt x="162" y="209"/>
                        <a:pt x="174" y="250"/>
                        <a:pt x="171" y="302"/>
                      </a:cubicBezTo>
                      <a:cubicBezTo>
                        <a:pt x="168" y="354"/>
                        <a:pt x="146" y="444"/>
                        <a:pt x="129" y="482"/>
                      </a:cubicBezTo>
                      <a:cubicBezTo>
                        <a:pt x="112" y="520"/>
                        <a:pt x="82" y="526"/>
                        <a:pt x="69" y="530"/>
                      </a:cubicBezTo>
                      <a:cubicBezTo>
                        <a:pt x="56" y="534"/>
                        <a:pt x="50" y="523"/>
                        <a:pt x="48" y="509"/>
                      </a:cubicBezTo>
                      <a:cubicBezTo>
                        <a:pt x="46" y="495"/>
                        <a:pt x="49" y="477"/>
                        <a:pt x="57" y="446"/>
                      </a:cubicBezTo>
                      <a:cubicBezTo>
                        <a:pt x="65" y="415"/>
                        <a:pt x="94" y="368"/>
                        <a:pt x="96" y="323"/>
                      </a:cubicBezTo>
                      <a:cubicBezTo>
                        <a:pt x="98" y="278"/>
                        <a:pt x="86" y="218"/>
                        <a:pt x="72" y="176"/>
                      </a:cubicBezTo>
                      <a:cubicBezTo>
                        <a:pt x="58" y="134"/>
                        <a:pt x="18" y="94"/>
                        <a:pt x="9" y="68"/>
                      </a:cubicBezTo>
                      <a:cubicBezTo>
                        <a:pt x="0" y="42"/>
                        <a:pt x="9" y="33"/>
                        <a:pt x="15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719240" y="4001400"/>
                  <a:ext cx="140400" cy="585720"/>
                </a:xfrm>
                <a:custGeom>
                  <a:avLst/>
                  <a:gdLst/>
                  <a:ahLst/>
                  <a:rect l="l" t="t" r="r" b="b"/>
                  <a:pathLst>
                    <a:path w="111" h="462">
                      <a:moveTo>
                        <a:pt x="3" y="11"/>
                      </a:moveTo>
                      <a:cubicBezTo>
                        <a:pt x="0" y="2"/>
                        <a:pt x="14" y="0"/>
                        <a:pt x="21" y="5"/>
                      </a:cubicBezTo>
                      <a:cubicBezTo>
                        <a:pt x="28" y="10"/>
                        <a:pt x="36" y="22"/>
                        <a:pt x="48" y="44"/>
                      </a:cubicBezTo>
                      <a:cubicBezTo>
                        <a:pt x="60" y="66"/>
                        <a:pt x="85" y="104"/>
                        <a:pt x="95" y="139"/>
                      </a:cubicBezTo>
                      <a:cubicBezTo>
                        <a:pt x="105" y="174"/>
                        <a:pt x="111" y="210"/>
                        <a:pt x="109" y="256"/>
                      </a:cubicBezTo>
                      <a:cubicBezTo>
                        <a:pt x="107" y="302"/>
                        <a:pt x="93" y="382"/>
                        <a:pt x="82" y="416"/>
                      </a:cubicBezTo>
                      <a:cubicBezTo>
                        <a:pt x="70" y="450"/>
                        <a:pt x="48" y="454"/>
                        <a:pt x="42" y="458"/>
                      </a:cubicBezTo>
                      <a:cubicBezTo>
                        <a:pt x="36" y="462"/>
                        <a:pt x="41" y="450"/>
                        <a:pt x="45" y="440"/>
                      </a:cubicBezTo>
                      <a:cubicBezTo>
                        <a:pt x="49" y="430"/>
                        <a:pt x="62" y="420"/>
                        <a:pt x="69" y="395"/>
                      </a:cubicBezTo>
                      <a:cubicBezTo>
                        <a:pt x="76" y="370"/>
                        <a:pt x="88" y="329"/>
                        <a:pt x="90" y="287"/>
                      </a:cubicBezTo>
                      <a:cubicBezTo>
                        <a:pt x="92" y="245"/>
                        <a:pt x="89" y="181"/>
                        <a:pt x="81" y="143"/>
                      </a:cubicBezTo>
                      <a:cubicBezTo>
                        <a:pt x="73" y="105"/>
                        <a:pt x="52" y="81"/>
                        <a:pt x="39" y="59"/>
                      </a:cubicBezTo>
                      <a:cubicBezTo>
                        <a:pt x="26" y="37"/>
                        <a:pt x="5" y="22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1981080" y="1893960"/>
                <a:ext cx="2705040" cy="3331800"/>
                <a:chOff x="1981080" y="1893960"/>
                <a:chExt cx="2705040" cy="33318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1981080" y="1893960"/>
                  <a:ext cx="2639520" cy="3310560"/>
                </a:xfrm>
                <a:custGeom>
                  <a:avLst/>
                  <a:gdLst/>
                  <a:ahLst/>
                  <a:rect l="l" t="t" r="r" b="b"/>
                  <a:pathLst>
                    <a:path w="2067" h="2582">
                      <a:moveTo>
                        <a:pt x="43" y="1153"/>
                      </a:moveTo>
                      <a:cubicBezTo>
                        <a:pt x="1" y="984"/>
                        <a:pt x="0" y="830"/>
                        <a:pt x="21" y="673"/>
                      </a:cubicBezTo>
                      <a:cubicBezTo>
                        <a:pt x="42" y="516"/>
                        <a:pt x="87" y="314"/>
                        <a:pt x="171" y="208"/>
                      </a:cubicBezTo>
                      <a:cubicBezTo>
                        <a:pt x="255" y="102"/>
                        <a:pt x="399" y="62"/>
                        <a:pt x="523" y="35"/>
                      </a:cubicBezTo>
                      <a:cubicBezTo>
                        <a:pt x="647" y="8"/>
                        <a:pt x="772" y="0"/>
                        <a:pt x="913" y="43"/>
                      </a:cubicBezTo>
                      <a:cubicBezTo>
                        <a:pt x="1054" y="86"/>
                        <a:pt x="1283" y="212"/>
                        <a:pt x="1371" y="290"/>
                      </a:cubicBezTo>
                      <a:cubicBezTo>
                        <a:pt x="1459" y="368"/>
                        <a:pt x="1439" y="417"/>
                        <a:pt x="1438" y="508"/>
                      </a:cubicBezTo>
                      <a:cubicBezTo>
                        <a:pt x="1437" y="599"/>
                        <a:pt x="1348" y="722"/>
                        <a:pt x="1363" y="838"/>
                      </a:cubicBezTo>
                      <a:cubicBezTo>
                        <a:pt x="1378" y="954"/>
                        <a:pt x="1463" y="1123"/>
                        <a:pt x="1528" y="1205"/>
                      </a:cubicBezTo>
                      <a:cubicBezTo>
                        <a:pt x="1593" y="1287"/>
                        <a:pt x="1682" y="1291"/>
                        <a:pt x="1753" y="1333"/>
                      </a:cubicBezTo>
                      <a:cubicBezTo>
                        <a:pt x="1824" y="1375"/>
                        <a:pt x="1905" y="1353"/>
                        <a:pt x="1956" y="1460"/>
                      </a:cubicBezTo>
                      <a:cubicBezTo>
                        <a:pt x="2007" y="1567"/>
                        <a:pt x="2060" y="1819"/>
                        <a:pt x="2061" y="1978"/>
                      </a:cubicBezTo>
                      <a:cubicBezTo>
                        <a:pt x="2062" y="2137"/>
                        <a:pt x="2067" y="2318"/>
                        <a:pt x="1963" y="2413"/>
                      </a:cubicBezTo>
                      <a:cubicBezTo>
                        <a:pt x="1859" y="2508"/>
                        <a:pt x="1631" y="2582"/>
                        <a:pt x="1438" y="2548"/>
                      </a:cubicBezTo>
                      <a:cubicBezTo>
                        <a:pt x="1245" y="2514"/>
                        <a:pt x="995" y="2354"/>
                        <a:pt x="801" y="2210"/>
                      </a:cubicBezTo>
                      <a:cubicBezTo>
                        <a:pt x="607" y="2066"/>
                        <a:pt x="403" y="1865"/>
                        <a:pt x="276" y="1685"/>
                      </a:cubicBezTo>
                      <a:cubicBezTo>
                        <a:pt x="149" y="1505"/>
                        <a:pt x="85" y="1322"/>
                        <a:pt x="43" y="11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060640" y="1914120"/>
                  <a:ext cx="2625480" cy="3311640"/>
                </a:xfrm>
                <a:custGeom>
                  <a:avLst/>
                  <a:gdLst/>
                  <a:ahLst/>
                  <a:rect l="l" t="t" r="r" b="b"/>
                  <a:pathLst>
                    <a:path w="2071" h="2613">
                      <a:moveTo>
                        <a:pt x="47" y="1184"/>
                      </a:moveTo>
                      <a:cubicBezTo>
                        <a:pt x="5" y="1015"/>
                        <a:pt x="0" y="869"/>
                        <a:pt x="25" y="704"/>
                      </a:cubicBezTo>
                      <a:cubicBezTo>
                        <a:pt x="50" y="539"/>
                        <a:pt x="112" y="305"/>
                        <a:pt x="198" y="192"/>
                      </a:cubicBezTo>
                      <a:cubicBezTo>
                        <a:pt x="284" y="79"/>
                        <a:pt x="424" y="51"/>
                        <a:pt x="543" y="27"/>
                      </a:cubicBezTo>
                      <a:cubicBezTo>
                        <a:pt x="662" y="3"/>
                        <a:pt x="771" y="0"/>
                        <a:pt x="910" y="49"/>
                      </a:cubicBezTo>
                      <a:cubicBezTo>
                        <a:pt x="1049" y="98"/>
                        <a:pt x="1286" y="261"/>
                        <a:pt x="1375" y="321"/>
                      </a:cubicBezTo>
                      <a:cubicBezTo>
                        <a:pt x="1464" y="381"/>
                        <a:pt x="1443" y="372"/>
                        <a:pt x="1443" y="409"/>
                      </a:cubicBezTo>
                      <a:cubicBezTo>
                        <a:pt x="1443" y="446"/>
                        <a:pt x="1391" y="468"/>
                        <a:pt x="1375" y="544"/>
                      </a:cubicBezTo>
                      <a:cubicBezTo>
                        <a:pt x="1359" y="620"/>
                        <a:pt x="1324" y="756"/>
                        <a:pt x="1345" y="867"/>
                      </a:cubicBezTo>
                      <a:cubicBezTo>
                        <a:pt x="1366" y="978"/>
                        <a:pt x="1428" y="1128"/>
                        <a:pt x="1503" y="1212"/>
                      </a:cubicBezTo>
                      <a:cubicBezTo>
                        <a:pt x="1578" y="1296"/>
                        <a:pt x="1730" y="1340"/>
                        <a:pt x="1795" y="1369"/>
                      </a:cubicBezTo>
                      <a:cubicBezTo>
                        <a:pt x="1860" y="1398"/>
                        <a:pt x="1866" y="1364"/>
                        <a:pt x="1893" y="1384"/>
                      </a:cubicBezTo>
                      <a:cubicBezTo>
                        <a:pt x="1920" y="1404"/>
                        <a:pt x="1931" y="1387"/>
                        <a:pt x="1960" y="1491"/>
                      </a:cubicBezTo>
                      <a:cubicBezTo>
                        <a:pt x="1989" y="1595"/>
                        <a:pt x="2064" y="1850"/>
                        <a:pt x="2065" y="2009"/>
                      </a:cubicBezTo>
                      <a:cubicBezTo>
                        <a:pt x="2066" y="2168"/>
                        <a:pt x="2071" y="2349"/>
                        <a:pt x="1967" y="2444"/>
                      </a:cubicBezTo>
                      <a:cubicBezTo>
                        <a:pt x="1863" y="2539"/>
                        <a:pt x="1635" y="2613"/>
                        <a:pt x="1442" y="2579"/>
                      </a:cubicBezTo>
                      <a:cubicBezTo>
                        <a:pt x="1249" y="2545"/>
                        <a:pt x="999" y="2385"/>
                        <a:pt x="805" y="2241"/>
                      </a:cubicBezTo>
                      <a:cubicBezTo>
                        <a:pt x="611" y="2097"/>
                        <a:pt x="407" y="1896"/>
                        <a:pt x="280" y="1716"/>
                      </a:cubicBezTo>
                      <a:cubicBezTo>
                        <a:pt x="153" y="1536"/>
                        <a:pt x="89" y="1353"/>
                        <a:pt x="47" y="11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3714840" y="2144880"/>
                <a:ext cx="1420560" cy="1527120"/>
              </a:xfrm>
              <a:custGeom>
                <a:avLst/>
                <a:gdLst/>
                <a:ahLst/>
                <a:rect l="l" t="t" r="r" b="b"/>
                <a:pathLst>
                  <a:path w="1121" h="1205">
                    <a:moveTo>
                      <a:pt x="811" y="152"/>
                    </a:moveTo>
                    <a:cubicBezTo>
                      <a:pt x="785" y="131"/>
                      <a:pt x="701" y="46"/>
                      <a:pt x="649" y="23"/>
                    </a:cubicBezTo>
                    <a:cubicBezTo>
                      <a:pt x="597" y="0"/>
                      <a:pt x="561" y="2"/>
                      <a:pt x="499" y="14"/>
                    </a:cubicBezTo>
                    <a:cubicBezTo>
                      <a:pt x="437" y="26"/>
                      <a:pt x="348" y="46"/>
                      <a:pt x="277" y="98"/>
                    </a:cubicBezTo>
                    <a:cubicBezTo>
                      <a:pt x="206" y="150"/>
                      <a:pt x="117" y="242"/>
                      <a:pt x="73" y="329"/>
                    </a:cubicBezTo>
                    <a:cubicBezTo>
                      <a:pt x="29" y="416"/>
                      <a:pt x="0" y="510"/>
                      <a:pt x="10" y="623"/>
                    </a:cubicBezTo>
                    <a:cubicBezTo>
                      <a:pt x="20" y="736"/>
                      <a:pt x="44" y="914"/>
                      <a:pt x="136" y="1010"/>
                    </a:cubicBezTo>
                    <a:cubicBezTo>
                      <a:pt x="228" y="1106"/>
                      <a:pt x="429" y="1193"/>
                      <a:pt x="562" y="1199"/>
                    </a:cubicBezTo>
                    <a:cubicBezTo>
                      <a:pt x="695" y="1205"/>
                      <a:pt x="846" y="1136"/>
                      <a:pt x="937" y="1049"/>
                    </a:cubicBezTo>
                    <a:cubicBezTo>
                      <a:pt x="1028" y="962"/>
                      <a:pt x="1095" y="768"/>
                      <a:pt x="1108" y="680"/>
                    </a:cubicBezTo>
                    <a:cubicBezTo>
                      <a:pt x="1121" y="592"/>
                      <a:pt x="1046" y="577"/>
                      <a:pt x="1015" y="524"/>
                    </a:cubicBezTo>
                    <a:cubicBezTo>
                      <a:pt x="984" y="471"/>
                      <a:pt x="957" y="423"/>
                      <a:pt x="922" y="362"/>
                    </a:cubicBezTo>
                    <a:cubicBezTo>
                      <a:pt x="887" y="301"/>
                      <a:pt x="832" y="200"/>
                      <a:pt x="808" y="15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962520" y="2158920"/>
                <a:ext cx="1184040" cy="127152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008600" y="2193840"/>
                <a:ext cx="1099800" cy="118908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248000" y="2511360"/>
                <a:ext cx="459000" cy="479520"/>
              </a:xfrm>
              <a:custGeom>
                <a:avLst/>
                <a:gdLst/>
                <a:ahLst/>
                <a:rect l="l" t="t" r="r" b="b"/>
                <a:pathLst>
                  <a:path w="362" h="378">
                    <a:moveTo>
                      <a:pt x="331" y="84"/>
                    </a:moveTo>
                    <a:cubicBezTo>
                      <a:pt x="345" y="106"/>
                      <a:pt x="356" y="134"/>
                      <a:pt x="359" y="164"/>
                    </a:cubicBezTo>
                    <a:cubicBezTo>
                      <a:pt x="362" y="194"/>
                      <a:pt x="357" y="233"/>
                      <a:pt x="347" y="262"/>
                    </a:cubicBezTo>
                    <a:cubicBezTo>
                      <a:pt x="337" y="292"/>
                      <a:pt x="321" y="322"/>
                      <a:pt x="298" y="341"/>
                    </a:cubicBezTo>
                    <a:cubicBezTo>
                      <a:pt x="274" y="360"/>
                      <a:pt x="241" y="374"/>
                      <a:pt x="207" y="376"/>
                    </a:cubicBezTo>
                    <a:cubicBezTo>
                      <a:pt x="174" y="378"/>
                      <a:pt x="129" y="369"/>
                      <a:pt x="98" y="353"/>
                    </a:cubicBezTo>
                    <a:cubicBezTo>
                      <a:pt x="67" y="337"/>
                      <a:pt x="35" y="304"/>
                      <a:pt x="19" y="279"/>
                    </a:cubicBezTo>
                    <a:cubicBezTo>
                      <a:pt x="3" y="254"/>
                      <a:pt x="0" y="230"/>
                      <a:pt x="1" y="201"/>
                    </a:cubicBezTo>
                    <a:cubicBezTo>
                      <a:pt x="2" y="172"/>
                      <a:pt x="13" y="130"/>
                      <a:pt x="28" y="102"/>
                    </a:cubicBezTo>
                    <a:cubicBezTo>
                      <a:pt x="43" y="74"/>
                      <a:pt x="70" y="47"/>
                      <a:pt x="94" y="30"/>
                    </a:cubicBezTo>
                    <a:cubicBezTo>
                      <a:pt x="118" y="13"/>
                      <a:pt x="145" y="0"/>
                      <a:pt x="175" y="0"/>
                    </a:cubicBezTo>
                    <a:cubicBezTo>
                      <a:pt x="205" y="0"/>
                      <a:pt x="248" y="16"/>
                      <a:pt x="274" y="30"/>
                    </a:cubicBezTo>
                    <a:cubicBezTo>
                      <a:pt x="300" y="44"/>
                      <a:pt x="317" y="62"/>
                      <a:pt x="331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808080"/>
                  </a:gs>
                  <a:gs pos="100000">
                    <a:srgbClr val="3333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9" name=""/>
              <p:cNvGrpSpPr/>
              <p:nvPr/>
            </p:nvGrpSpPr>
            <p:grpSpPr>
              <a:xfrm>
                <a:off x="1491480" y="3841560"/>
                <a:ext cx="843120" cy="1098000"/>
                <a:chOff x="1491480" y="3841560"/>
                <a:chExt cx="843120" cy="1098000"/>
              </a:xfrm>
            </p:grpSpPr>
            <p:sp>
              <p:nvSpPr>
                <p:cNvPr id="1070" name=""/>
                <p:cNvSpPr/>
                <p:nvPr/>
              </p:nvSpPr>
              <p:spPr>
                <a:xfrm rot="3823800">
                  <a:off x="1410120" y="4168080"/>
                  <a:ext cx="1005120" cy="44424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3823800">
                  <a:off x="1360440" y="43045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3823800">
                  <a:off x="1481400" y="4245480"/>
                  <a:ext cx="992520" cy="22248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3823800">
                  <a:off x="1440360" y="4313520"/>
                  <a:ext cx="984960" cy="14004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3823800">
                  <a:off x="1413000" y="4321800"/>
                  <a:ext cx="988920" cy="15300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3823800">
                  <a:off x="1693440" y="423612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3823800">
                  <a:off x="1459800" y="42231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3823800">
                  <a:off x="1531800" y="443160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3823800">
                  <a:off x="1809720" y="432036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5037120" y="2539440"/>
                <a:ext cx="689760" cy="1086120"/>
                <a:chOff x="5037120" y="2539440"/>
                <a:chExt cx="689760" cy="1086120"/>
              </a:xfrm>
            </p:grpSpPr>
            <p:sp>
              <p:nvSpPr>
                <p:cNvPr id="1080" name=""/>
                <p:cNvSpPr/>
                <p:nvPr/>
              </p:nvSpPr>
              <p:spPr>
                <a:xfrm rot="17101200">
                  <a:off x="4879080" y="286020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7101200">
                  <a:off x="4947480" y="2979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7101200">
                  <a:off x="4815000" y="2953440"/>
                  <a:ext cx="99252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7101200">
                  <a:off x="4870440" y="300456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7101200">
                  <a:off x="4896720" y="300384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101200">
                  <a:off x="5170320" y="307224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7101200">
                  <a:off x="4901400" y="30675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7101200">
                  <a:off x="5237640" y="3017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7101200">
                  <a:off x="4968360" y="29473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1747440" y="4802040"/>
                <a:ext cx="1068480" cy="1102320"/>
                <a:chOff x="1747440" y="4802040"/>
                <a:chExt cx="1068480" cy="1102320"/>
              </a:xfrm>
            </p:grpSpPr>
            <p:sp>
              <p:nvSpPr>
                <p:cNvPr id="1090" name=""/>
                <p:cNvSpPr/>
                <p:nvPr/>
              </p:nvSpPr>
              <p:spPr>
                <a:xfrm flipV="1" rot="14071200">
                  <a:off x="1847160" y="5008320"/>
                  <a:ext cx="862200" cy="68976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7528800">
                  <a:off x="1951200" y="5001840"/>
                  <a:ext cx="781200" cy="60732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 rot="14071200">
                  <a:off x="2024280" y="5027040"/>
                  <a:ext cx="651960" cy="52200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940120" y="5162400"/>
                <a:ext cx="580680" cy="596880"/>
                <a:chOff x="2940120" y="5162400"/>
                <a:chExt cx="580680" cy="5968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2940120" y="5236920"/>
                  <a:ext cx="574560" cy="52236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016080" y="5162400"/>
                  <a:ext cx="504720" cy="47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069000" y="5211360"/>
                  <a:ext cx="401040" cy="376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118680" y="5257080"/>
                  <a:ext cx="309960" cy="290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168000" y="5310000"/>
                  <a:ext cx="199800" cy="188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209760" y="5352120"/>
                  <a:ext cx="108720" cy="10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240000" y="5378400"/>
                  <a:ext cx="54360" cy="50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5591160" y="45975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543640" y="4844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952880" y="57294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135400" y="572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10080" y="5292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438880" y="507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76880" y="45784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869000" y="5967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10280" y="5568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583160" y="59389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02040" y="5757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19840" y="5948280"/>
                <a:ext cx="536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419720" y="2108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944960" y="17748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019840" y="1623960"/>
                <a:ext cx="536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35360" y="18320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568520" y="20224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830840" y="167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821120" y="17748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14648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73480" y="1604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51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02200" y="1889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070520" y="1784520"/>
                <a:ext cx="536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267080" y="20606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0240" y="1862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70360" y="2319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40400" y="156672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97280" y="207000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718080" y="21654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146480" y="21272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83200" y="205092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02240" y="208908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738440" y="18511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587600" y="17096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19360" y="21384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79760" y="1328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757520" y="20318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584520" y="2022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845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554360" y="16113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9880" y="15858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7516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70200" y="162252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27440" y="14508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992400" y="159372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641760" y="217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21240" y="21178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59200" y="2031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965400" y="1938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13120" y="17845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763800" y="19652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7640" y="1746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01960" y="173664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35120" y="2370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828880" y="5965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940040" y="57704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511280" y="53802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77040" y="3733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87600" y="467676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05480" y="3951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558880" y="4994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558880" y="47196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909880" y="48690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89200" y="51325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17720" y="5040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354640" y="388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765520" y="480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8280" y="5234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65360" y="511956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36720" y="49975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46280" y="54547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487760" y="6041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17640" y="5454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545080" y="52531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674720" y="49212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56437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86400" y="5491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"/>
          <p:cNvSpPr/>
          <p:nvPr/>
        </p:nvSpPr>
        <p:spPr>
          <a:xfrm>
            <a:off x="6227640" y="1030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28720" y="2268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227640" y="56563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27640" y="2952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228360" y="3819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28000" y="5197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227640" y="612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228360" y="4410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0440" y="228600"/>
            <a:ext cx="7265880" cy="69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289120" y="-360"/>
            <a:ext cx="3886200" cy="74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rts of Cell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5653080" y="4624560"/>
            <a:ext cx="628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643720" y="5854680"/>
            <a:ext cx="63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005440" y="6353280"/>
            <a:ext cx="123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487600" y="5419800"/>
            <a:ext cx="374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3997440" y="4033800"/>
            <a:ext cx="2239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528880" y="315756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0"/>
            <a:ext cx="5027760" cy="106668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mi-liquid material that fill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99720" y="61945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. 1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865760" y="2487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528880" y="124452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ontrols most cell processes, contains hereditary information (D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0"/>
            <a:ext cx="5027760" cy="304812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loropla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apture energy from sunlight and convert it into chemical energy (food), (photosynthesis occurs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0"/>
            <a:ext cx="5027760" cy="155412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cu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ac-like structure that stores water, salts, food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0"/>
            <a:ext cx="5027760" cy="106668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boso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anufacture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onvert chemical energy stored in food into ATP (cellular respiration occurs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regulates what enters and leaves the cell, protection and sup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0"/>
            <a:ext cx="5027760" cy="1585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w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outer layer in plant cells, support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3" dur="1" fill="hold"/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861840" y="252360"/>
            <a:ext cx="7471080" cy="6399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0440" y="228600"/>
            <a:ext cx="8226360" cy="69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95960" y="1030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97040" y="2268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195960" y="56563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95960" y="2952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96680" y="3819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196320" y="5197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95960" y="612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196680" y="4410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446120" y="835200"/>
            <a:ext cx="4397040" cy="5398920"/>
            <a:chOff x="1446120" y="835200"/>
            <a:chExt cx="4397040" cy="5398920"/>
          </a:xfrm>
        </p:grpSpPr>
        <p:grpSp>
          <p:nvGrpSpPr>
            <p:cNvPr id="1217" name=""/>
            <p:cNvGrpSpPr/>
            <p:nvPr/>
          </p:nvGrpSpPr>
          <p:grpSpPr>
            <a:xfrm>
              <a:off x="1446120" y="835200"/>
              <a:ext cx="4397040" cy="5398920"/>
              <a:chOff x="1446120" y="835200"/>
              <a:chExt cx="4397040" cy="5398920"/>
            </a:xfrm>
          </p:grpSpPr>
          <p:sp>
            <p:nvSpPr>
              <p:cNvPr id="1218" name=""/>
              <p:cNvSpPr/>
              <p:nvPr/>
            </p:nvSpPr>
            <p:spPr>
              <a:xfrm>
                <a:off x="144612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6556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1531800" y="922320"/>
              <a:ext cx="4235760" cy="5240520"/>
            </a:xfrm>
            <a:custGeom>
              <a:avLst/>
              <a:gdLst>
                <a:gd name="textAreaLeft" fmla="*/ 206640 w 4235760"/>
                <a:gd name="textAreaRight" fmla="*/ 4029120 w 4235760"/>
                <a:gd name="textAreaTop" fmla="*/ 206640 h 5240520"/>
                <a:gd name="textAreaBottom" fmla="*/ 5033880 h 5240520"/>
              </a:gdLst>
              <a:ahLst/>
              <a:rect l="textAreaLeft" t="textAreaTop" r="textAreaRight" b="textAreaBottom"/>
              <a:pathLst>
                <a:path w="21600" h="26723">
                  <a:moveTo>
                    <a:pt x="3600" y="0"/>
                  </a:moveTo>
                  <a:arcTo wR="3600" hR="3600" stAng="16200000" swAng="-5400000"/>
                  <a:lnTo>
                    <a:pt x="0" y="23123"/>
                  </a:lnTo>
                  <a:arcTo wR="3600" hR="3600" stAng="10800000" swAng="-5400000"/>
                  <a:lnTo>
                    <a:pt x="18000" y="267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519360" y="4390920"/>
              <a:ext cx="1939320" cy="1806480"/>
              <a:chOff x="3519360" y="4390920"/>
              <a:chExt cx="1939320" cy="1806480"/>
            </a:xfrm>
          </p:grpSpPr>
          <p:sp>
            <p:nvSpPr>
              <p:cNvPr id="1222" name=""/>
              <p:cNvSpPr/>
              <p:nvPr/>
            </p:nvSpPr>
            <p:spPr>
              <a:xfrm rot="217200">
                <a:off x="3850200" y="4438800"/>
                <a:ext cx="1566000" cy="1397520"/>
              </a:xfrm>
              <a:custGeom>
                <a:avLst/>
                <a:gdLst/>
                <a:ahLst/>
                <a:rect l="l" t="t" r="r" b="b"/>
                <a:pathLst>
                  <a:path w="1235" h="1103">
                    <a:moveTo>
                      <a:pt x="674" y="124"/>
                    </a:moveTo>
                    <a:cubicBezTo>
                      <a:pt x="680" y="105"/>
                      <a:pt x="685" y="89"/>
                      <a:pt x="692" y="73"/>
                    </a:cubicBezTo>
                    <a:cubicBezTo>
                      <a:pt x="699" y="57"/>
                      <a:pt x="701" y="35"/>
                      <a:pt x="716" y="25"/>
                    </a:cubicBezTo>
                    <a:cubicBezTo>
                      <a:pt x="731" y="15"/>
                      <a:pt x="769" y="0"/>
                      <a:pt x="785" y="10"/>
                    </a:cubicBezTo>
                    <a:cubicBezTo>
                      <a:pt x="801" y="20"/>
                      <a:pt x="821" y="45"/>
                      <a:pt x="815" y="88"/>
                    </a:cubicBezTo>
                    <a:cubicBezTo>
                      <a:pt x="809" y="131"/>
                      <a:pt x="765" y="211"/>
                      <a:pt x="752" y="268"/>
                    </a:cubicBezTo>
                    <a:cubicBezTo>
                      <a:pt x="739" y="325"/>
                      <a:pt x="728" y="393"/>
                      <a:pt x="734" y="433"/>
                    </a:cubicBezTo>
                    <a:cubicBezTo>
                      <a:pt x="740" y="473"/>
                      <a:pt x="768" y="514"/>
                      <a:pt x="791" y="508"/>
                    </a:cubicBezTo>
                    <a:cubicBezTo>
                      <a:pt x="814" y="502"/>
                      <a:pt x="859" y="450"/>
                      <a:pt x="872" y="394"/>
                    </a:cubicBezTo>
                    <a:cubicBezTo>
                      <a:pt x="885" y="338"/>
                      <a:pt x="863" y="233"/>
                      <a:pt x="866" y="172"/>
                    </a:cubicBezTo>
                    <a:cubicBezTo>
                      <a:pt x="869" y="111"/>
                      <a:pt x="874" y="47"/>
                      <a:pt x="893" y="25"/>
                    </a:cubicBezTo>
                    <a:cubicBezTo>
                      <a:pt x="912" y="3"/>
                      <a:pt x="965" y="8"/>
                      <a:pt x="983" y="37"/>
                    </a:cubicBezTo>
                    <a:cubicBezTo>
                      <a:pt x="1001" y="66"/>
                      <a:pt x="997" y="142"/>
                      <a:pt x="1004" y="199"/>
                    </a:cubicBezTo>
                    <a:cubicBezTo>
                      <a:pt x="1011" y="256"/>
                      <a:pt x="1009" y="348"/>
                      <a:pt x="1022" y="379"/>
                    </a:cubicBezTo>
                    <a:cubicBezTo>
                      <a:pt x="1035" y="410"/>
                      <a:pt x="1071" y="407"/>
                      <a:pt x="1085" y="388"/>
                    </a:cubicBezTo>
                    <a:cubicBezTo>
                      <a:pt x="1099" y="369"/>
                      <a:pt x="1094" y="292"/>
                      <a:pt x="1106" y="265"/>
                    </a:cubicBezTo>
                    <a:cubicBezTo>
                      <a:pt x="1118" y="238"/>
                      <a:pt x="1140" y="219"/>
                      <a:pt x="1160" y="223"/>
                    </a:cubicBezTo>
                    <a:cubicBezTo>
                      <a:pt x="1180" y="227"/>
                      <a:pt x="1217" y="248"/>
                      <a:pt x="1226" y="289"/>
                    </a:cubicBezTo>
                    <a:cubicBezTo>
                      <a:pt x="1235" y="330"/>
                      <a:pt x="1231" y="397"/>
                      <a:pt x="1214" y="469"/>
                    </a:cubicBezTo>
                    <a:cubicBezTo>
                      <a:pt x="1197" y="541"/>
                      <a:pt x="1159" y="667"/>
                      <a:pt x="1121" y="724"/>
                    </a:cubicBezTo>
                    <a:cubicBezTo>
                      <a:pt x="1083" y="781"/>
                      <a:pt x="1014" y="812"/>
                      <a:pt x="983" y="814"/>
                    </a:cubicBezTo>
                    <a:cubicBezTo>
                      <a:pt x="952" y="816"/>
                      <a:pt x="930" y="773"/>
                      <a:pt x="932" y="736"/>
                    </a:cubicBezTo>
                    <a:cubicBezTo>
                      <a:pt x="934" y="699"/>
                      <a:pt x="989" y="621"/>
                      <a:pt x="995" y="592"/>
                    </a:cubicBezTo>
                    <a:cubicBezTo>
                      <a:pt x="1001" y="563"/>
                      <a:pt x="978" y="561"/>
                      <a:pt x="968" y="562"/>
                    </a:cubicBezTo>
                    <a:cubicBezTo>
                      <a:pt x="958" y="563"/>
                      <a:pt x="946" y="574"/>
                      <a:pt x="932" y="601"/>
                    </a:cubicBezTo>
                    <a:cubicBezTo>
                      <a:pt x="918" y="628"/>
                      <a:pt x="907" y="674"/>
                      <a:pt x="884" y="724"/>
                    </a:cubicBezTo>
                    <a:cubicBezTo>
                      <a:pt x="861" y="774"/>
                      <a:pt x="819" y="847"/>
                      <a:pt x="794" y="901"/>
                    </a:cubicBezTo>
                    <a:cubicBezTo>
                      <a:pt x="769" y="955"/>
                      <a:pt x="760" y="1014"/>
                      <a:pt x="731" y="1048"/>
                    </a:cubicBezTo>
                    <a:cubicBezTo>
                      <a:pt x="702" y="1082"/>
                      <a:pt x="649" y="1101"/>
                      <a:pt x="623" y="1102"/>
                    </a:cubicBezTo>
                    <a:cubicBezTo>
                      <a:pt x="597" y="1103"/>
                      <a:pt x="578" y="1079"/>
                      <a:pt x="572" y="1057"/>
                    </a:cubicBezTo>
                    <a:cubicBezTo>
                      <a:pt x="566" y="1035"/>
                      <a:pt x="566" y="1022"/>
                      <a:pt x="587" y="970"/>
                    </a:cubicBezTo>
                    <a:cubicBezTo>
                      <a:pt x="608" y="918"/>
                      <a:pt x="691" y="793"/>
                      <a:pt x="698" y="745"/>
                    </a:cubicBezTo>
                    <a:cubicBezTo>
                      <a:pt x="705" y="697"/>
                      <a:pt x="651" y="680"/>
                      <a:pt x="632" y="682"/>
                    </a:cubicBezTo>
                    <a:cubicBezTo>
                      <a:pt x="613" y="684"/>
                      <a:pt x="590" y="725"/>
                      <a:pt x="581" y="760"/>
                    </a:cubicBezTo>
                    <a:cubicBezTo>
                      <a:pt x="572" y="795"/>
                      <a:pt x="580" y="859"/>
                      <a:pt x="575" y="892"/>
                    </a:cubicBezTo>
                    <a:cubicBezTo>
                      <a:pt x="570" y="925"/>
                      <a:pt x="567" y="948"/>
                      <a:pt x="551" y="961"/>
                    </a:cubicBezTo>
                    <a:cubicBezTo>
                      <a:pt x="535" y="974"/>
                      <a:pt x="509" y="972"/>
                      <a:pt x="482" y="967"/>
                    </a:cubicBezTo>
                    <a:cubicBezTo>
                      <a:pt x="455" y="962"/>
                      <a:pt x="416" y="930"/>
                      <a:pt x="389" y="931"/>
                    </a:cubicBezTo>
                    <a:cubicBezTo>
                      <a:pt x="362" y="932"/>
                      <a:pt x="352" y="956"/>
                      <a:pt x="320" y="976"/>
                    </a:cubicBezTo>
                    <a:cubicBezTo>
                      <a:pt x="288" y="996"/>
                      <a:pt x="225" y="1051"/>
                      <a:pt x="194" y="1051"/>
                    </a:cubicBezTo>
                    <a:cubicBezTo>
                      <a:pt x="163" y="1051"/>
                      <a:pt x="125" y="1015"/>
                      <a:pt x="131" y="979"/>
                    </a:cubicBezTo>
                    <a:cubicBezTo>
                      <a:pt x="137" y="943"/>
                      <a:pt x="200" y="871"/>
                      <a:pt x="230" y="832"/>
                    </a:cubicBezTo>
                    <a:cubicBezTo>
                      <a:pt x="260" y="793"/>
                      <a:pt x="303" y="764"/>
                      <a:pt x="311" y="742"/>
                    </a:cubicBezTo>
                    <a:cubicBezTo>
                      <a:pt x="319" y="720"/>
                      <a:pt x="302" y="702"/>
                      <a:pt x="278" y="700"/>
                    </a:cubicBezTo>
                    <a:cubicBezTo>
                      <a:pt x="254" y="698"/>
                      <a:pt x="205" y="713"/>
                      <a:pt x="167" y="727"/>
                    </a:cubicBezTo>
                    <a:cubicBezTo>
                      <a:pt x="129" y="741"/>
                      <a:pt x="76" y="790"/>
                      <a:pt x="50" y="784"/>
                    </a:cubicBezTo>
                    <a:cubicBezTo>
                      <a:pt x="24" y="778"/>
                      <a:pt x="0" y="714"/>
                      <a:pt x="8" y="688"/>
                    </a:cubicBezTo>
                    <a:cubicBezTo>
                      <a:pt x="16" y="662"/>
                      <a:pt x="95" y="623"/>
                      <a:pt x="101" y="625"/>
                    </a:cubicBezTo>
                    <a:cubicBezTo>
                      <a:pt x="107" y="627"/>
                      <a:pt x="47" y="687"/>
                      <a:pt x="47" y="703"/>
                    </a:cubicBezTo>
                    <a:cubicBezTo>
                      <a:pt x="47" y="719"/>
                      <a:pt x="78" y="728"/>
                      <a:pt x="101" y="724"/>
                    </a:cubicBezTo>
                    <a:cubicBezTo>
                      <a:pt x="124" y="720"/>
                      <a:pt x="162" y="691"/>
                      <a:pt x="188" y="679"/>
                    </a:cubicBezTo>
                    <a:cubicBezTo>
                      <a:pt x="214" y="667"/>
                      <a:pt x="232" y="645"/>
                      <a:pt x="260" y="649"/>
                    </a:cubicBezTo>
                    <a:cubicBezTo>
                      <a:pt x="288" y="653"/>
                      <a:pt x="348" y="673"/>
                      <a:pt x="356" y="703"/>
                    </a:cubicBezTo>
                    <a:cubicBezTo>
                      <a:pt x="364" y="733"/>
                      <a:pt x="332" y="793"/>
                      <a:pt x="308" y="829"/>
                    </a:cubicBezTo>
                    <a:cubicBezTo>
                      <a:pt x="284" y="865"/>
                      <a:pt x="228" y="892"/>
                      <a:pt x="209" y="919"/>
                    </a:cubicBezTo>
                    <a:cubicBezTo>
                      <a:pt x="190" y="946"/>
                      <a:pt x="178" y="989"/>
                      <a:pt x="191" y="994"/>
                    </a:cubicBezTo>
                    <a:cubicBezTo>
                      <a:pt x="204" y="999"/>
                      <a:pt x="259" y="968"/>
                      <a:pt x="290" y="949"/>
                    </a:cubicBezTo>
                    <a:cubicBezTo>
                      <a:pt x="321" y="930"/>
                      <a:pt x="343" y="883"/>
                      <a:pt x="380" y="880"/>
                    </a:cubicBezTo>
                    <a:cubicBezTo>
                      <a:pt x="417" y="877"/>
                      <a:pt x="489" y="941"/>
                      <a:pt x="515" y="928"/>
                    </a:cubicBezTo>
                    <a:cubicBezTo>
                      <a:pt x="541" y="915"/>
                      <a:pt x="528" y="842"/>
                      <a:pt x="536" y="799"/>
                    </a:cubicBezTo>
                    <a:cubicBezTo>
                      <a:pt x="544" y="756"/>
                      <a:pt x="538" y="697"/>
                      <a:pt x="563" y="670"/>
                    </a:cubicBezTo>
                    <a:cubicBezTo>
                      <a:pt x="588" y="643"/>
                      <a:pt x="653" y="625"/>
                      <a:pt x="683" y="640"/>
                    </a:cubicBezTo>
                    <a:cubicBezTo>
                      <a:pt x="713" y="655"/>
                      <a:pt x="749" y="712"/>
                      <a:pt x="743" y="760"/>
                    </a:cubicBezTo>
                    <a:cubicBezTo>
                      <a:pt x="737" y="808"/>
                      <a:pt x="671" y="880"/>
                      <a:pt x="650" y="928"/>
                    </a:cubicBezTo>
                    <a:cubicBezTo>
                      <a:pt x="629" y="976"/>
                      <a:pt x="611" y="1038"/>
                      <a:pt x="620" y="1048"/>
                    </a:cubicBezTo>
                    <a:cubicBezTo>
                      <a:pt x="629" y="1058"/>
                      <a:pt x="678" y="1022"/>
                      <a:pt x="704" y="985"/>
                    </a:cubicBezTo>
                    <a:cubicBezTo>
                      <a:pt x="730" y="948"/>
                      <a:pt x="751" y="879"/>
                      <a:pt x="776" y="826"/>
                    </a:cubicBezTo>
                    <a:cubicBezTo>
                      <a:pt x="801" y="773"/>
                      <a:pt x="831" y="714"/>
                      <a:pt x="854" y="667"/>
                    </a:cubicBezTo>
                    <a:cubicBezTo>
                      <a:pt x="877" y="620"/>
                      <a:pt x="887" y="568"/>
                      <a:pt x="911" y="541"/>
                    </a:cubicBezTo>
                    <a:cubicBezTo>
                      <a:pt x="935" y="514"/>
                      <a:pt x="976" y="498"/>
                      <a:pt x="998" y="505"/>
                    </a:cubicBezTo>
                    <a:cubicBezTo>
                      <a:pt x="1020" y="512"/>
                      <a:pt x="1047" y="549"/>
                      <a:pt x="1046" y="583"/>
                    </a:cubicBezTo>
                    <a:cubicBezTo>
                      <a:pt x="1045" y="617"/>
                      <a:pt x="998" y="679"/>
                      <a:pt x="989" y="709"/>
                    </a:cubicBezTo>
                    <a:cubicBezTo>
                      <a:pt x="980" y="739"/>
                      <a:pt x="973" y="773"/>
                      <a:pt x="992" y="763"/>
                    </a:cubicBezTo>
                    <a:cubicBezTo>
                      <a:pt x="1011" y="753"/>
                      <a:pt x="1076" y="694"/>
                      <a:pt x="1106" y="649"/>
                    </a:cubicBezTo>
                    <a:cubicBezTo>
                      <a:pt x="1136" y="604"/>
                      <a:pt x="1161" y="540"/>
                      <a:pt x="1175" y="490"/>
                    </a:cubicBezTo>
                    <a:cubicBezTo>
                      <a:pt x="1189" y="440"/>
                      <a:pt x="1193" y="382"/>
                      <a:pt x="1190" y="349"/>
                    </a:cubicBezTo>
                    <a:cubicBezTo>
                      <a:pt x="1187" y="316"/>
                      <a:pt x="1172" y="276"/>
                      <a:pt x="1157" y="292"/>
                    </a:cubicBezTo>
                    <a:cubicBezTo>
                      <a:pt x="1142" y="308"/>
                      <a:pt x="1127" y="430"/>
                      <a:pt x="1100" y="448"/>
                    </a:cubicBezTo>
                    <a:cubicBezTo>
                      <a:pt x="1073" y="466"/>
                      <a:pt x="1017" y="440"/>
                      <a:pt x="995" y="403"/>
                    </a:cubicBezTo>
                    <a:cubicBezTo>
                      <a:pt x="973" y="366"/>
                      <a:pt x="974" y="276"/>
                      <a:pt x="968" y="226"/>
                    </a:cubicBezTo>
                    <a:cubicBezTo>
                      <a:pt x="962" y="176"/>
                      <a:pt x="969" y="128"/>
                      <a:pt x="962" y="103"/>
                    </a:cubicBezTo>
                    <a:cubicBezTo>
                      <a:pt x="955" y="78"/>
                      <a:pt x="932" y="61"/>
                      <a:pt x="923" y="76"/>
                    </a:cubicBezTo>
                    <a:cubicBezTo>
                      <a:pt x="914" y="91"/>
                      <a:pt x="909" y="144"/>
                      <a:pt x="908" y="196"/>
                    </a:cubicBezTo>
                    <a:cubicBezTo>
                      <a:pt x="907" y="248"/>
                      <a:pt x="929" y="334"/>
                      <a:pt x="920" y="388"/>
                    </a:cubicBezTo>
                    <a:cubicBezTo>
                      <a:pt x="911" y="442"/>
                      <a:pt x="886" y="497"/>
                      <a:pt x="854" y="520"/>
                    </a:cubicBezTo>
                    <a:cubicBezTo>
                      <a:pt x="822" y="543"/>
                      <a:pt x="751" y="562"/>
                      <a:pt x="725" y="529"/>
                    </a:cubicBezTo>
                    <a:cubicBezTo>
                      <a:pt x="699" y="496"/>
                      <a:pt x="695" y="384"/>
                      <a:pt x="698" y="325"/>
                    </a:cubicBezTo>
                    <a:cubicBezTo>
                      <a:pt x="701" y="266"/>
                      <a:pt x="732" y="212"/>
                      <a:pt x="746" y="172"/>
                    </a:cubicBezTo>
                    <a:cubicBezTo>
                      <a:pt x="760" y="132"/>
                      <a:pt x="783" y="100"/>
                      <a:pt x="782" y="85"/>
                    </a:cubicBezTo>
                    <a:cubicBezTo>
                      <a:pt x="781" y="70"/>
                      <a:pt x="752" y="64"/>
                      <a:pt x="740" y="79"/>
                    </a:cubicBezTo>
                    <a:cubicBezTo>
                      <a:pt x="728" y="94"/>
                      <a:pt x="724" y="156"/>
                      <a:pt x="710" y="175"/>
                    </a:cubicBezTo>
                    <a:cubicBezTo>
                      <a:pt x="696" y="194"/>
                      <a:pt x="661" y="199"/>
                      <a:pt x="656" y="190"/>
                    </a:cubicBezTo>
                    <a:cubicBezTo>
                      <a:pt x="651" y="181"/>
                      <a:pt x="668" y="143"/>
                      <a:pt x="674" y="124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2840" y="5006520"/>
                <a:ext cx="494640" cy="277200"/>
              </a:xfrm>
              <a:custGeom>
                <a:avLst/>
                <a:gdLst/>
                <a:ahLst/>
                <a:rect l="l" t="t" r="r" b="b"/>
                <a:pathLst>
                  <a:path w="390" h="219">
                    <a:moveTo>
                      <a:pt x="390" y="0"/>
                    </a:moveTo>
                    <a:cubicBezTo>
                      <a:pt x="316" y="31"/>
                      <a:pt x="242" y="63"/>
                      <a:pt x="177" y="99"/>
                    </a:cubicBezTo>
                    <a:cubicBezTo>
                      <a:pt x="112" y="135"/>
                      <a:pt x="56" y="177"/>
                      <a:pt x="0" y="2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212720" y="5112720"/>
                <a:ext cx="673200" cy="383760"/>
              </a:xfrm>
              <a:custGeom>
                <a:avLst/>
                <a:gdLst/>
                <a:ahLst/>
                <a:rect l="l" t="t" r="r" b="b"/>
                <a:pathLst>
                  <a:path w="531" h="303">
                    <a:moveTo>
                      <a:pt x="531" y="0"/>
                    </a:moveTo>
                    <a:cubicBezTo>
                      <a:pt x="473" y="28"/>
                      <a:pt x="416" y="57"/>
                      <a:pt x="327" y="108"/>
                    </a:cubicBezTo>
                    <a:cubicBezTo>
                      <a:pt x="238" y="159"/>
                      <a:pt x="119" y="231"/>
                      <a:pt x="0" y="30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55600" y="5492880"/>
                <a:ext cx="399240" cy="23904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315" y="0"/>
                    </a:moveTo>
                    <a:cubicBezTo>
                      <a:pt x="217" y="63"/>
                      <a:pt x="120" y="127"/>
                      <a:pt x="67" y="158"/>
                    </a:cubicBezTo>
                    <a:cubicBezTo>
                      <a:pt x="14" y="189"/>
                      <a:pt x="7" y="188"/>
                      <a:pt x="0" y="1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07000" y="5626080"/>
                <a:ext cx="853560" cy="571320"/>
              </a:xfrm>
              <a:custGeom>
                <a:avLst/>
                <a:gdLst/>
                <a:ahLst/>
                <a:rect l="l" t="t" r="r" b="b"/>
                <a:pathLst>
                  <a:path w="673" h="451">
                    <a:moveTo>
                      <a:pt x="673" y="158"/>
                    </a:moveTo>
                    <a:cubicBezTo>
                      <a:pt x="601" y="202"/>
                      <a:pt x="530" y="247"/>
                      <a:pt x="440" y="293"/>
                    </a:cubicBezTo>
                    <a:cubicBezTo>
                      <a:pt x="350" y="339"/>
                      <a:pt x="198" y="419"/>
                      <a:pt x="133" y="435"/>
                    </a:cubicBezTo>
                    <a:cubicBezTo>
                      <a:pt x="68" y="451"/>
                      <a:pt x="62" y="419"/>
                      <a:pt x="50" y="390"/>
                    </a:cubicBezTo>
                    <a:cubicBezTo>
                      <a:pt x="38" y="361"/>
                      <a:pt x="0" y="314"/>
                      <a:pt x="58" y="263"/>
                    </a:cubicBezTo>
                    <a:cubicBezTo>
                      <a:pt x="116" y="212"/>
                      <a:pt x="313" y="127"/>
                      <a:pt x="395" y="83"/>
                    </a:cubicBezTo>
                    <a:cubicBezTo>
                      <a:pt x="477" y="39"/>
                      <a:pt x="515" y="19"/>
                      <a:pt x="553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625560" y="5549760"/>
                <a:ext cx="483120" cy="439920"/>
              </a:xfrm>
              <a:custGeom>
                <a:avLst/>
                <a:gdLst/>
                <a:ahLst/>
                <a:rect l="l" t="t" r="r" b="b"/>
                <a:pathLst>
                  <a:path w="381" h="347">
                    <a:moveTo>
                      <a:pt x="381" y="150"/>
                    </a:moveTo>
                    <a:cubicBezTo>
                      <a:pt x="297" y="213"/>
                      <a:pt x="204" y="277"/>
                      <a:pt x="148" y="308"/>
                    </a:cubicBezTo>
                    <a:cubicBezTo>
                      <a:pt x="92" y="339"/>
                      <a:pt x="67" y="347"/>
                      <a:pt x="43" y="338"/>
                    </a:cubicBezTo>
                    <a:cubicBezTo>
                      <a:pt x="19" y="329"/>
                      <a:pt x="0" y="284"/>
                      <a:pt x="5" y="255"/>
                    </a:cubicBezTo>
                    <a:cubicBezTo>
                      <a:pt x="10" y="226"/>
                      <a:pt x="18" y="208"/>
                      <a:pt x="73" y="165"/>
                    </a:cubicBezTo>
                    <a:cubicBezTo>
                      <a:pt x="128" y="122"/>
                      <a:pt x="233" y="54"/>
                      <a:pt x="33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18080" y="5949360"/>
                <a:ext cx="200160" cy="9216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cubicBezTo>
                      <a:pt x="13" y="51"/>
                      <a:pt x="27" y="73"/>
                      <a:pt x="53" y="68"/>
                    </a:cubicBezTo>
                    <a:cubicBezTo>
                      <a:pt x="79" y="63"/>
                      <a:pt x="118" y="31"/>
                      <a:pt x="15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19360" y="5303160"/>
                <a:ext cx="579240" cy="493920"/>
              </a:xfrm>
              <a:custGeom>
                <a:avLst/>
                <a:gdLst/>
                <a:ahLst/>
                <a:rect l="l" t="t" r="r" b="b"/>
                <a:pathLst>
                  <a:path w="457" h="390">
                    <a:moveTo>
                      <a:pt x="457" y="0"/>
                    </a:moveTo>
                    <a:cubicBezTo>
                      <a:pt x="343" y="68"/>
                      <a:pt x="230" y="137"/>
                      <a:pt x="157" y="180"/>
                    </a:cubicBezTo>
                    <a:cubicBezTo>
                      <a:pt x="84" y="223"/>
                      <a:pt x="44" y="228"/>
                      <a:pt x="22" y="255"/>
                    </a:cubicBezTo>
                    <a:cubicBezTo>
                      <a:pt x="0" y="282"/>
                      <a:pt x="5" y="323"/>
                      <a:pt x="22" y="345"/>
                    </a:cubicBezTo>
                    <a:cubicBezTo>
                      <a:pt x="39" y="367"/>
                      <a:pt x="102" y="383"/>
                      <a:pt x="127" y="39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35440" y="5159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620240" y="4950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458960" y="5397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5040" y="54446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431240" y="5824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392720" y="571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602240" y="53776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49560" y="5415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61124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239080" y="50850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99480" y="5198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621320" y="5160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49960" y="5113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00760" y="5036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09040" y="52750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867200" y="523584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15440" y="55310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49720" y="49809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36360" y="507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40400" y="5635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345920" y="54360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30480" y="49708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69160" y="4808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878720" y="4931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2496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211640" y="56754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155840" y="551196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13480" y="55324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64320" y="570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88000" y="5444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012560" y="54082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069800" y="5321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955320" y="55692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706920" y="56160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736080" y="58644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639600" y="570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935160" y="607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003560" y="5806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936600" y="5977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268520" y="5169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449960" y="52063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670200" y="55576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92960" y="59288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60280" y="57477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117680" y="5728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087440" y="59871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106520" y="58921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230720" y="588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306680" y="57870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792320" y="53118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372920" y="5168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344840" y="52927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773880" y="5710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1491480" y="911160"/>
              <a:ext cx="4235400" cy="5186520"/>
              <a:chOff x="1491480" y="911160"/>
              <a:chExt cx="4235400" cy="5186520"/>
            </a:xfrm>
          </p:grpSpPr>
          <p:grpSp>
            <p:nvGrpSpPr>
              <p:cNvPr id="1284" name=""/>
              <p:cNvGrpSpPr/>
              <p:nvPr/>
            </p:nvGrpSpPr>
            <p:grpSpPr>
              <a:xfrm>
                <a:off x="1901880" y="1228680"/>
                <a:ext cx="861840" cy="704520"/>
                <a:chOff x="1901880" y="1228680"/>
                <a:chExt cx="861840" cy="704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1901880" y="1243800"/>
                  <a:ext cx="861840" cy="68940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942560" y="1228680"/>
                  <a:ext cx="780120" cy="60696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990440" y="1275480"/>
                  <a:ext cx="651240" cy="52236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3548160" y="911160"/>
                <a:ext cx="1020240" cy="444600"/>
                <a:chOff x="3548160" y="911160"/>
                <a:chExt cx="1020240" cy="44460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3563280" y="91116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572280" y="1080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568320" y="949320"/>
                  <a:ext cx="99216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575880" y="104292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575880" y="106560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800520" y="1046520"/>
                  <a:ext cx="37620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548160" y="1024920"/>
                  <a:ext cx="87588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826800" y="1208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845880" y="9277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2871720" y="1473120"/>
                <a:ext cx="582840" cy="598320"/>
                <a:chOff x="2871720" y="1473120"/>
                <a:chExt cx="582840" cy="5983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2871720" y="1547640"/>
                  <a:ext cx="576360" cy="52380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948040" y="1473120"/>
                  <a:ext cx="506520" cy="47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3001320" y="1522440"/>
                  <a:ext cx="402480" cy="37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050640" y="1568160"/>
                  <a:ext cx="311040" cy="291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100320" y="1621440"/>
                  <a:ext cx="200520" cy="18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142440" y="1663200"/>
                  <a:ext cx="109080" cy="10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172680" y="1689840"/>
                  <a:ext cx="54720" cy="50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3597480" y="1350720"/>
                <a:ext cx="1344960" cy="1156680"/>
                <a:chOff x="3597480" y="1350720"/>
                <a:chExt cx="1344960" cy="1156680"/>
              </a:xfrm>
            </p:grpSpPr>
            <p:sp>
              <p:nvSpPr>
                <p:cNvPr id="1307" name=""/>
                <p:cNvSpPr/>
                <p:nvPr/>
              </p:nvSpPr>
              <p:spPr>
                <a:xfrm rot="406800">
                  <a:off x="3653280" y="1419840"/>
                  <a:ext cx="1233360" cy="1018080"/>
                </a:xfrm>
                <a:custGeom>
                  <a:avLst/>
                  <a:gdLst/>
                  <a:ahLst/>
                  <a:rect l="l" t="t" r="r" b="b"/>
                  <a:pathLst>
                    <a:path w="889" h="739">
                      <a:moveTo>
                        <a:pt x="319" y="700"/>
                      </a:moveTo>
                      <a:cubicBezTo>
                        <a:pt x="323" y="690"/>
                        <a:pt x="291" y="699"/>
                        <a:pt x="292" y="691"/>
                      </a:cubicBezTo>
                      <a:cubicBezTo>
                        <a:pt x="293" y="683"/>
                        <a:pt x="302" y="667"/>
                        <a:pt x="328" y="649"/>
                      </a:cubicBezTo>
                      <a:cubicBezTo>
                        <a:pt x="354" y="631"/>
                        <a:pt x="415" y="604"/>
                        <a:pt x="448" y="583"/>
                      </a:cubicBezTo>
                      <a:cubicBezTo>
                        <a:pt x="481" y="562"/>
                        <a:pt x="509" y="548"/>
                        <a:pt x="526" y="520"/>
                      </a:cubicBezTo>
                      <a:cubicBezTo>
                        <a:pt x="543" y="492"/>
                        <a:pt x="557" y="440"/>
                        <a:pt x="550" y="415"/>
                      </a:cubicBezTo>
                      <a:cubicBezTo>
                        <a:pt x="543" y="390"/>
                        <a:pt x="514" y="370"/>
                        <a:pt x="484" y="370"/>
                      </a:cubicBezTo>
                      <a:cubicBezTo>
                        <a:pt x="454" y="370"/>
                        <a:pt x="400" y="391"/>
                        <a:pt x="370" y="415"/>
                      </a:cubicBezTo>
                      <a:cubicBezTo>
                        <a:pt x="340" y="439"/>
                        <a:pt x="322" y="487"/>
                        <a:pt x="301" y="517"/>
                      </a:cubicBezTo>
                      <a:cubicBezTo>
                        <a:pt x="280" y="547"/>
                        <a:pt x="265" y="581"/>
                        <a:pt x="244" y="598"/>
                      </a:cubicBezTo>
                      <a:cubicBezTo>
                        <a:pt x="223" y="615"/>
                        <a:pt x="177" y="629"/>
                        <a:pt x="172" y="622"/>
                      </a:cubicBezTo>
                      <a:cubicBezTo>
                        <a:pt x="167" y="615"/>
                        <a:pt x="192" y="579"/>
                        <a:pt x="211" y="556"/>
                      </a:cubicBezTo>
                      <a:cubicBezTo>
                        <a:pt x="230" y="533"/>
                        <a:pt x="268" y="503"/>
                        <a:pt x="289" y="484"/>
                      </a:cubicBezTo>
                      <a:cubicBezTo>
                        <a:pt x="310" y="465"/>
                        <a:pt x="326" y="463"/>
                        <a:pt x="334" y="445"/>
                      </a:cubicBezTo>
                      <a:cubicBezTo>
                        <a:pt x="342" y="427"/>
                        <a:pt x="341" y="393"/>
                        <a:pt x="334" y="379"/>
                      </a:cubicBezTo>
                      <a:cubicBezTo>
                        <a:pt x="327" y="365"/>
                        <a:pt x="312" y="357"/>
                        <a:pt x="292" y="358"/>
                      </a:cubicBezTo>
                      <a:cubicBezTo>
                        <a:pt x="272" y="359"/>
                        <a:pt x="241" y="369"/>
                        <a:pt x="214" y="388"/>
                      </a:cubicBezTo>
                      <a:cubicBezTo>
                        <a:pt x="187" y="407"/>
                        <a:pt x="155" y="454"/>
                        <a:pt x="127" y="475"/>
                      </a:cubicBezTo>
                      <a:cubicBezTo>
                        <a:pt x="99" y="496"/>
                        <a:pt x="56" y="517"/>
                        <a:pt x="49" y="511"/>
                      </a:cubicBezTo>
                      <a:cubicBezTo>
                        <a:pt x="42" y="505"/>
                        <a:pt x="62" y="462"/>
                        <a:pt x="85" y="439"/>
                      </a:cubicBezTo>
                      <a:cubicBezTo>
                        <a:pt x="108" y="416"/>
                        <a:pt x="152" y="395"/>
                        <a:pt x="187" y="373"/>
                      </a:cubicBezTo>
                      <a:cubicBezTo>
                        <a:pt x="222" y="351"/>
                        <a:pt x="275" y="332"/>
                        <a:pt x="298" y="307"/>
                      </a:cubicBezTo>
                      <a:cubicBezTo>
                        <a:pt x="321" y="282"/>
                        <a:pt x="321" y="246"/>
                        <a:pt x="322" y="226"/>
                      </a:cubicBezTo>
                      <a:cubicBezTo>
                        <a:pt x="323" y="206"/>
                        <a:pt x="320" y="188"/>
                        <a:pt x="301" y="187"/>
                      </a:cubicBezTo>
                      <a:cubicBezTo>
                        <a:pt x="282" y="186"/>
                        <a:pt x="234" y="215"/>
                        <a:pt x="208" y="220"/>
                      </a:cubicBezTo>
                      <a:cubicBezTo>
                        <a:pt x="182" y="225"/>
                        <a:pt x="142" y="231"/>
                        <a:pt x="142" y="220"/>
                      </a:cubicBezTo>
                      <a:cubicBezTo>
                        <a:pt x="142" y="209"/>
                        <a:pt x="179" y="169"/>
                        <a:pt x="211" y="151"/>
                      </a:cubicBezTo>
                      <a:cubicBezTo>
                        <a:pt x="243" y="133"/>
                        <a:pt x="299" y="108"/>
                        <a:pt x="334" y="109"/>
                      </a:cubicBezTo>
                      <a:cubicBezTo>
                        <a:pt x="369" y="110"/>
                        <a:pt x="419" y="134"/>
                        <a:pt x="424" y="160"/>
                      </a:cubicBezTo>
                      <a:cubicBezTo>
                        <a:pt x="429" y="186"/>
                        <a:pt x="379" y="234"/>
                        <a:pt x="367" y="265"/>
                      </a:cubicBezTo>
                      <a:cubicBezTo>
                        <a:pt x="355" y="296"/>
                        <a:pt x="349" y="326"/>
                        <a:pt x="355" y="346"/>
                      </a:cubicBezTo>
                      <a:cubicBezTo>
                        <a:pt x="361" y="366"/>
                        <a:pt x="378" y="385"/>
                        <a:pt x="400" y="385"/>
                      </a:cubicBezTo>
                      <a:cubicBezTo>
                        <a:pt x="422" y="385"/>
                        <a:pt x="462" y="374"/>
                        <a:pt x="490" y="343"/>
                      </a:cubicBezTo>
                      <a:cubicBezTo>
                        <a:pt x="518" y="312"/>
                        <a:pt x="550" y="237"/>
                        <a:pt x="571" y="199"/>
                      </a:cubicBezTo>
                      <a:cubicBezTo>
                        <a:pt x="592" y="161"/>
                        <a:pt x="597" y="137"/>
                        <a:pt x="619" y="112"/>
                      </a:cubicBezTo>
                      <a:cubicBezTo>
                        <a:pt x="641" y="87"/>
                        <a:pt x="675" y="59"/>
                        <a:pt x="703" y="49"/>
                      </a:cubicBezTo>
                      <a:cubicBezTo>
                        <a:pt x="731" y="39"/>
                        <a:pt x="789" y="40"/>
                        <a:pt x="784" y="55"/>
                      </a:cubicBezTo>
                      <a:cubicBezTo>
                        <a:pt x="779" y="70"/>
                        <a:pt x="705" y="112"/>
                        <a:pt x="673" y="139"/>
                      </a:cubicBezTo>
                      <a:cubicBezTo>
                        <a:pt x="641" y="166"/>
                        <a:pt x="598" y="196"/>
                        <a:pt x="589" y="220"/>
                      </a:cubicBezTo>
                      <a:cubicBezTo>
                        <a:pt x="580" y="244"/>
                        <a:pt x="597" y="276"/>
                        <a:pt x="616" y="286"/>
                      </a:cubicBezTo>
                      <a:cubicBezTo>
                        <a:pt x="635" y="296"/>
                        <a:pt x="679" y="277"/>
                        <a:pt x="700" y="280"/>
                      </a:cubicBezTo>
                      <a:cubicBezTo>
                        <a:pt x="721" y="283"/>
                        <a:pt x="745" y="299"/>
                        <a:pt x="742" y="304"/>
                      </a:cubicBezTo>
                      <a:cubicBezTo>
                        <a:pt x="739" y="309"/>
                        <a:pt x="705" y="306"/>
                        <a:pt x="682" y="313"/>
                      </a:cubicBezTo>
                      <a:cubicBezTo>
                        <a:pt x="659" y="320"/>
                        <a:pt x="617" y="325"/>
                        <a:pt x="601" y="346"/>
                      </a:cubicBezTo>
                      <a:cubicBezTo>
                        <a:pt x="585" y="367"/>
                        <a:pt x="574" y="416"/>
                        <a:pt x="586" y="439"/>
                      </a:cubicBezTo>
                      <a:cubicBezTo>
                        <a:pt x="598" y="462"/>
                        <a:pt x="645" y="490"/>
                        <a:pt x="676" y="487"/>
                      </a:cubicBezTo>
                      <a:cubicBezTo>
                        <a:pt x="707" y="484"/>
                        <a:pt x="746" y="428"/>
                        <a:pt x="772" y="418"/>
                      </a:cubicBezTo>
                      <a:cubicBezTo>
                        <a:pt x="798" y="408"/>
                        <a:pt x="827" y="416"/>
                        <a:pt x="835" y="427"/>
                      </a:cubicBezTo>
                      <a:cubicBezTo>
                        <a:pt x="843" y="438"/>
                        <a:pt x="835" y="466"/>
                        <a:pt x="823" y="484"/>
                      </a:cubicBezTo>
                      <a:cubicBezTo>
                        <a:pt x="811" y="502"/>
                        <a:pt x="780" y="522"/>
                        <a:pt x="763" y="535"/>
                      </a:cubicBezTo>
                      <a:cubicBezTo>
                        <a:pt x="746" y="548"/>
                        <a:pt x="721" y="557"/>
                        <a:pt x="721" y="562"/>
                      </a:cubicBezTo>
                      <a:cubicBezTo>
                        <a:pt x="721" y="567"/>
                        <a:pt x="748" y="573"/>
                        <a:pt x="766" y="568"/>
                      </a:cubicBezTo>
                      <a:cubicBezTo>
                        <a:pt x="784" y="563"/>
                        <a:pt x="811" y="550"/>
                        <a:pt x="829" y="529"/>
                      </a:cubicBezTo>
                      <a:cubicBezTo>
                        <a:pt x="847" y="508"/>
                        <a:pt x="871" y="465"/>
                        <a:pt x="877" y="442"/>
                      </a:cubicBezTo>
                      <a:cubicBezTo>
                        <a:pt x="883" y="419"/>
                        <a:pt x="889" y="396"/>
                        <a:pt x="868" y="388"/>
                      </a:cubicBezTo>
                      <a:cubicBezTo>
                        <a:pt x="847" y="380"/>
                        <a:pt x="788" y="381"/>
                        <a:pt x="751" y="391"/>
                      </a:cubicBezTo>
                      <a:cubicBezTo>
                        <a:pt x="714" y="401"/>
                        <a:pt x="666" y="447"/>
                        <a:pt x="643" y="448"/>
                      </a:cubicBezTo>
                      <a:cubicBezTo>
                        <a:pt x="620" y="449"/>
                        <a:pt x="605" y="411"/>
                        <a:pt x="613" y="394"/>
                      </a:cubicBezTo>
                      <a:cubicBezTo>
                        <a:pt x="621" y="377"/>
                        <a:pt x="668" y="356"/>
                        <a:pt x="694" y="346"/>
                      </a:cubicBezTo>
                      <a:cubicBezTo>
                        <a:pt x="720" y="336"/>
                        <a:pt x="757" y="345"/>
                        <a:pt x="772" y="334"/>
                      </a:cubicBezTo>
                      <a:cubicBezTo>
                        <a:pt x="787" y="323"/>
                        <a:pt x="789" y="293"/>
                        <a:pt x="784" y="277"/>
                      </a:cubicBezTo>
                      <a:cubicBezTo>
                        <a:pt x="779" y="261"/>
                        <a:pt x="757" y="244"/>
                        <a:pt x="742" y="238"/>
                      </a:cubicBezTo>
                      <a:cubicBezTo>
                        <a:pt x="727" y="232"/>
                        <a:pt x="712" y="242"/>
                        <a:pt x="694" y="241"/>
                      </a:cubicBezTo>
                      <a:cubicBezTo>
                        <a:pt x="676" y="240"/>
                        <a:pt x="632" y="244"/>
                        <a:pt x="631" y="232"/>
                      </a:cubicBezTo>
                      <a:cubicBezTo>
                        <a:pt x="630" y="220"/>
                        <a:pt x="663" y="188"/>
                        <a:pt x="688" y="169"/>
                      </a:cubicBezTo>
                      <a:cubicBezTo>
                        <a:pt x="713" y="150"/>
                        <a:pt x="759" y="139"/>
                        <a:pt x="784" y="118"/>
                      </a:cubicBezTo>
                      <a:cubicBezTo>
                        <a:pt x="809" y="97"/>
                        <a:pt x="836" y="61"/>
                        <a:pt x="838" y="43"/>
                      </a:cubicBezTo>
                      <a:cubicBezTo>
                        <a:pt x="840" y="25"/>
                        <a:pt x="817" y="14"/>
                        <a:pt x="793" y="10"/>
                      </a:cubicBezTo>
                      <a:cubicBezTo>
                        <a:pt x="769" y="6"/>
                        <a:pt x="727" y="0"/>
                        <a:pt x="691" y="16"/>
                      </a:cubicBezTo>
                      <a:cubicBezTo>
                        <a:pt x="655" y="32"/>
                        <a:pt x="606" y="69"/>
                        <a:pt x="577" y="106"/>
                      </a:cubicBezTo>
                      <a:cubicBezTo>
                        <a:pt x="548" y="143"/>
                        <a:pt x="534" y="206"/>
                        <a:pt x="514" y="241"/>
                      </a:cubicBezTo>
                      <a:cubicBezTo>
                        <a:pt x="494" y="276"/>
                        <a:pt x="475" y="301"/>
                        <a:pt x="457" y="316"/>
                      </a:cubicBezTo>
                      <a:cubicBezTo>
                        <a:pt x="439" y="331"/>
                        <a:pt x="410" y="347"/>
                        <a:pt x="406" y="334"/>
                      </a:cubicBezTo>
                      <a:cubicBezTo>
                        <a:pt x="402" y="321"/>
                        <a:pt x="422" y="264"/>
                        <a:pt x="433" y="235"/>
                      </a:cubicBezTo>
                      <a:cubicBezTo>
                        <a:pt x="444" y="206"/>
                        <a:pt x="473" y="183"/>
                        <a:pt x="472" y="160"/>
                      </a:cubicBezTo>
                      <a:cubicBezTo>
                        <a:pt x="471" y="137"/>
                        <a:pt x="459" y="111"/>
                        <a:pt x="430" y="97"/>
                      </a:cubicBezTo>
                      <a:cubicBezTo>
                        <a:pt x="401" y="83"/>
                        <a:pt x="348" y="66"/>
                        <a:pt x="301" y="76"/>
                      </a:cubicBezTo>
                      <a:cubicBezTo>
                        <a:pt x="254" y="86"/>
                        <a:pt x="177" y="128"/>
                        <a:pt x="145" y="157"/>
                      </a:cubicBezTo>
                      <a:cubicBezTo>
                        <a:pt x="113" y="186"/>
                        <a:pt x="99" y="237"/>
                        <a:pt x="109" y="253"/>
                      </a:cubicBezTo>
                      <a:cubicBezTo>
                        <a:pt x="119" y="269"/>
                        <a:pt x="181" y="259"/>
                        <a:pt x="208" y="256"/>
                      </a:cubicBezTo>
                      <a:cubicBezTo>
                        <a:pt x="235" y="253"/>
                        <a:pt x="267" y="228"/>
                        <a:pt x="271" y="235"/>
                      </a:cubicBezTo>
                      <a:cubicBezTo>
                        <a:pt x="275" y="242"/>
                        <a:pt x="256" y="280"/>
                        <a:pt x="235" y="301"/>
                      </a:cubicBezTo>
                      <a:cubicBezTo>
                        <a:pt x="214" y="322"/>
                        <a:pt x="178" y="338"/>
                        <a:pt x="145" y="361"/>
                      </a:cubicBezTo>
                      <a:cubicBezTo>
                        <a:pt x="112" y="384"/>
                        <a:pt x="56" y="413"/>
                        <a:pt x="34" y="439"/>
                      </a:cubicBezTo>
                      <a:cubicBezTo>
                        <a:pt x="12" y="465"/>
                        <a:pt x="0" y="502"/>
                        <a:pt x="10" y="520"/>
                      </a:cubicBezTo>
                      <a:cubicBezTo>
                        <a:pt x="20" y="538"/>
                        <a:pt x="65" y="563"/>
                        <a:pt x="97" y="550"/>
                      </a:cubicBezTo>
                      <a:cubicBezTo>
                        <a:pt x="129" y="537"/>
                        <a:pt x="179" y="467"/>
                        <a:pt x="205" y="442"/>
                      </a:cubicBezTo>
                      <a:cubicBezTo>
                        <a:pt x="231" y="417"/>
                        <a:pt x="238" y="402"/>
                        <a:pt x="256" y="397"/>
                      </a:cubicBezTo>
                      <a:cubicBezTo>
                        <a:pt x="274" y="392"/>
                        <a:pt x="321" y="395"/>
                        <a:pt x="316" y="409"/>
                      </a:cubicBezTo>
                      <a:cubicBezTo>
                        <a:pt x="311" y="423"/>
                        <a:pt x="257" y="454"/>
                        <a:pt x="229" y="481"/>
                      </a:cubicBezTo>
                      <a:cubicBezTo>
                        <a:pt x="201" y="508"/>
                        <a:pt x="157" y="539"/>
                        <a:pt x="145" y="571"/>
                      </a:cubicBezTo>
                      <a:cubicBezTo>
                        <a:pt x="133" y="603"/>
                        <a:pt x="134" y="662"/>
                        <a:pt x="154" y="670"/>
                      </a:cubicBezTo>
                      <a:cubicBezTo>
                        <a:pt x="174" y="678"/>
                        <a:pt x="229" y="653"/>
                        <a:pt x="265" y="619"/>
                      </a:cubicBezTo>
                      <a:cubicBezTo>
                        <a:pt x="301" y="585"/>
                        <a:pt x="339" y="499"/>
                        <a:pt x="373" y="466"/>
                      </a:cubicBezTo>
                      <a:cubicBezTo>
                        <a:pt x="407" y="433"/>
                        <a:pt x="447" y="415"/>
                        <a:pt x="469" y="418"/>
                      </a:cubicBezTo>
                      <a:cubicBezTo>
                        <a:pt x="491" y="421"/>
                        <a:pt x="510" y="461"/>
                        <a:pt x="508" y="481"/>
                      </a:cubicBezTo>
                      <a:cubicBezTo>
                        <a:pt x="506" y="501"/>
                        <a:pt x="480" y="521"/>
                        <a:pt x="454" y="538"/>
                      </a:cubicBezTo>
                      <a:cubicBezTo>
                        <a:pt x="428" y="555"/>
                        <a:pt x="386" y="562"/>
                        <a:pt x="355" y="583"/>
                      </a:cubicBezTo>
                      <a:cubicBezTo>
                        <a:pt x="324" y="604"/>
                        <a:pt x="277" y="639"/>
                        <a:pt x="265" y="664"/>
                      </a:cubicBezTo>
                      <a:cubicBezTo>
                        <a:pt x="253" y="689"/>
                        <a:pt x="271" y="727"/>
                        <a:pt x="280" y="733"/>
                      </a:cubicBezTo>
                      <a:cubicBezTo>
                        <a:pt x="289" y="739"/>
                        <a:pt x="311" y="707"/>
                        <a:pt x="319" y="7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406800">
                  <a:off x="4396320" y="1751040"/>
                  <a:ext cx="87480" cy="214920"/>
                </a:xfrm>
                <a:custGeom>
                  <a:avLst/>
                  <a:gdLst/>
                  <a:ahLst/>
                  <a:rect l="l" t="t" r="r" b="b"/>
                  <a:pathLst>
                    <a:path w="63" h="156">
                      <a:moveTo>
                        <a:pt x="63" y="0"/>
                      </a:moveTo>
                      <a:cubicBezTo>
                        <a:pt x="55" y="18"/>
                        <a:pt x="26" y="79"/>
                        <a:pt x="15" y="105"/>
                      </a:cubicBezTo>
                      <a:cubicBezTo>
                        <a:pt x="4" y="131"/>
                        <a:pt x="3" y="143"/>
                        <a:pt x="0" y="15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406800">
                  <a:off x="3761640" y="1690200"/>
                  <a:ext cx="54000" cy="222840"/>
                </a:xfrm>
                <a:custGeom>
                  <a:avLst/>
                  <a:gdLst/>
                  <a:ahLst/>
                  <a:rect l="l" t="t" r="r" b="b"/>
                  <a:pathLst>
                    <a:path w="39" h="162">
                      <a:moveTo>
                        <a:pt x="39" y="0"/>
                      </a:moveTo>
                      <a:cubicBezTo>
                        <a:pt x="35" y="16"/>
                        <a:pt x="21" y="72"/>
                        <a:pt x="15" y="99"/>
                      </a:cubicBezTo>
                      <a:cubicBezTo>
                        <a:pt x="9" y="126"/>
                        <a:pt x="5" y="142"/>
                        <a:pt x="0" y="1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406800">
                  <a:off x="3616560" y="2040840"/>
                  <a:ext cx="20520" cy="136440"/>
                </a:xfrm>
                <a:custGeom>
                  <a:avLst/>
                  <a:gdLst/>
                  <a:ahLst/>
                  <a:rect l="l" t="t" r="r" b="b"/>
                  <a:pathLst>
                    <a:path w="15" h="99">
                      <a:moveTo>
                        <a:pt x="15" y="0"/>
                      </a:moveTo>
                      <a:cubicBezTo>
                        <a:pt x="13" y="16"/>
                        <a:pt x="3" y="79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406800">
                  <a:off x="3764520" y="2233800"/>
                  <a:ext cx="24840" cy="214920"/>
                </a:xfrm>
                <a:custGeom>
                  <a:avLst/>
                  <a:gdLst/>
                  <a:ahLst/>
                  <a:rect l="l" t="t" r="r" b="b"/>
                  <a:pathLst>
                    <a:path w="18" h="156">
                      <a:moveTo>
                        <a:pt x="18" y="0"/>
                      </a:moveTo>
                      <a:cubicBezTo>
                        <a:pt x="16" y="20"/>
                        <a:pt x="6" y="97"/>
                        <a:pt x="3" y="123"/>
                      </a:cubicBezTo>
                      <a:cubicBezTo>
                        <a:pt x="0" y="149"/>
                        <a:pt x="0" y="150"/>
                        <a:pt x="0" y="1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406800">
                  <a:off x="4092840" y="1776240"/>
                  <a:ext cx="12240" cy="123840"/>
                </a:xfrm>
                <a:custGeom>
                  <a:avLst/>
                  <a:gdLst/>
                  <a:ahLst/>
                  <a:rect l="l" t="t" r="r" b="b"/>
                  <a:pathLst>
                    <a:path w="9" h="90">
                      <a:moveTo>
                        <a:pt x="9" y="0"/>
                      </a:moveTo>
                      <a:cubicBezTo>
                        <a:pt x="7" y="14"/>
                        <a:pt x="2" y="71"/>
                        <a:pt x="0" y="9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406800">
                  <a:off x="4355640" y="2100240"/>
                  <a:ext cx="32760" cy="136440"/>
                </a:xfrm>
                <a:custGeom>
                  <a:avLst/>
                  <a:gdLst/>
                  <a:ahLst/>
                  <a:rect l="l" t="t" r="r" b="b"/>
                  <a:pathLst>
                    <a:path w="24" h="99">
                      <a:moveTo>
                        <a:pt x="24" y="0"/>
                      </a:moveTo>
                      <a:cubicBezTo>
                        <a:pt x="21" y="7"/>
                        <a:pt x="19" y="14"/>
                        <a:pt x="15" y="30"/>
                      </a:cubicBezTo>
                      <a:cubicBezTo>
                        <a:pt x="11" y="46"/>
                        <a:pt x="5" y="72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4305240" y="3660840"/>
                <a:ext cx="870120" cy="1270080"/>
                <a:chOff x="4305240" y="3660840"/>
                <a:chExt cx="870120" cy="127008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305240" y="3660840"/>
                  <a:ext cx="865080" cy="1270080"/>
                </a:xfrm>
                <a:custGeom>
                  <a:avLst/>
                  <a:gdLst/>
                  <a:ahLst/>
                  <a:rect l="l" t="t" r="r" b="b"/>
                  <a:pathLst>
                    <a:path w="683" h="1002">
                      <a:moveTo>
                        <a:pt x="549" y="52"/>
                      </a:moveTo>
                      <a:cubicBezTo>
                        <a:pt x="508" y="31"/>
                        <a:pt x="409" y="0"/>
                        <a:pt x="339" y="13"/>
                      </a:cubicBezTo>
                      <a:cubicBezTo>
                        <a:pt x="269" y="26"/>
                        <a:pt x="182" y="65"/>
                        <a:pt x="129" y="130"/>
                      </a:cubicBezTo>
                      <a:cubicBezTo>
                        <a:pt x="76" y="195"/>
                        <a:pt x="36" y="307"/>
                        <a:pt x="18" y="406"/>
                      </a:cubicBezTo>
                      <a:cubicBezTo>
                        <a:pt x="0" y="505"/>
                        <a:pt x="0" y="639"/>
                        <a:pt x="21" y="727"/>
                      </a:cubicBezTo>
                      <a:cubicBezTo>
                        <a:pt x="42" y="815"/>
                        <a:pt x="92" y="892"/>
                        <a:pt x="147" y="937"/>
                      </a:cubicBezTo>
                      <a:cubicBezTo>
                        <a:pt x="202" y="982"/>
                        <a:pt x="292" y="993"/>
                        <a:pt x="354" y="997"/>
                      </a:cubicBezTo>
                      <a:cubicBezTo>
                        <a:pt x="416" y="1001"/>
                        <a:pt x="463" y="1002"/>
                        <a:pt x="516" y="961"/>
                      </a:cubicBezTo>
                      <a:cubicBezTo>
                        <a:pt x="569" y="920"/>
                        <a:pt x="661" y="887"/>
                        <a:pt x="672" y="751"/>
                      </a:cubicBezTo>
                      <a:cubicBezTo>
                        <a:pt x="683" y="615"/>
                        <a:pt x="605" y="258"/>
                        <a:pt x="585" y="142"/>
                      </a:cubicBezTo>
                      <a:cubicBezTo>
                        <a:pt x="565" y="26"/>
                        <a:pt x="571" y="72"/>
                        <a:pt x="549" y="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510080" y="3962520"/>
                  <a:ext cx="338040" cy="677880"/>
                </a:xfrm>
                <a:custGeom>
                  <a:avLst/>
                  <a:gdLst/>
                  <a:ahLst/>
                  <a:rect l="l" t="t" r="r" b="b"/>
                  <a:pathLst>
                    <a:path w="267" h="535">
                      <a:moveTo>
                        <a:pt x="168" y="0"/>
                      </a:moveTo>
                      <a:cubicBezTo>
                        <a:pt x="136" y="1"/>
                        <a:pt x="63" y="75"/>
                        <a:pt x="36" y="120"/>
                      </a:cubicBezTo>
                      <a:cubicBezTo>
                        <a:pt x="9" y="165"/>
                        <a:pt x="6" y="231"/>
                        <a:pt x="3" y="273"/>
                      </a:cubicBezTo>
                      <a:cubicBezTo>
                        <a:pt x="0" y="315"/>
                        <a:pt x="6" y="339"/>
                        <a:pt x="18" y="372"/>
                      </a:cubicBezTo>
                      <a:cubicBezTo>
                        <a:pt x="30" y="405"/>
                        <a:pt x="46" y="448"/>
                        <a:pt x="78" y="471"/>
                      </a:cubicBezTo>
                      <a:cubicBezTo>
                        <a:pt x="110" y="494"/>
                        <a:pt x="179" y="535"/>
                        <a:pt x="210" y="513"/>
                      </a:cubicBezTo>
                      <a:cubicBezTo>
                        <a:pt x="241" y="491"/>
                        <a:pt x="261" y="408"/>
                        <a:pt x="264" y="342"/>
                      </a:cubicBezTo>
                      <a:cubicBezTo>
                        <a:pt x="267" y="276"/>
                        <a:pt x="244" y="171"/>
                        <a:pt x="228" y="114"/>
                      </a:cubicBezTo>
                      <a:cubicBezTo>
                        <a:pt x="212" y="57"/>
                        <a:pt x="191" y="3"/>
                        <a:pt x="168" y="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07480" y="3776040"/>
                  <a:ext cx="592920" cy="1029240"/>
                </a:xfrm>
                <a:custGeom>
                  <a:avLst/>
                  <a:gdLst/>
                  <a:ahLst/>
                  <a:rect l="l" t="t" r="r" b="b"/>
                  <a:pathLst>
                    <a:path w="468" h="812">
                      <a:moveTo>
                        <a:pt x="321" y="12"/>
                      </a:moveTo>
                      <a:cubicBezTo>
                        <a:pt x="294" y="0"/>
                        <a:pt x="229" y="16"/>
                        <a:pt x="186" y="45"/>
                      </a:cubicBezTo>
                      <a:cubicBezTo>
                        <a:pt x="143" y="74"/>
                        <a:pt x="90" y="125"/>
                        <a:pt x="60" y="189"/>
                      </a:cubicBezTo>
                      <a:cubicBezTo>
                        <a:pt x="30" y="253"/>
                        <a:pt x="6" y="355"/>
                        <a:pt x="3" y="432"/>
                      </a:cubicBezTo>
                      <a:cubicBezTo>
                        <a:pt x="0" y="509"/>
                        <a:pt x="22" y="599"/>
                        <a:pt x="42" y="651"/>
                      </a:cubicBezTo>
                      <a:cubicBezTo>
                        <a:pt x="62" y="703"/>
                        <a:pt x="87" y="718"/>
                        <a:pt x="123" y="744"/>
                      </a:cubicBezTo>
                      <a:cubicBezTo>
                        <a:pt x="159" y="770"/>
                        <a:pt x="206" y="812"/>
                        <a:pt x="258" y="810"/>
                      </a:cubicBezTo>
                      <a:cubicBezTo>
                        <a:pt x="310" y="808"/>
                        <a:pt x="408" y="810"/>
                        <a:pt x="438" y="732"/>
                      </a:cubicBezTo>
                      <a:cubicBezTo>
                        <a:pt x="468" y="654"/>
                        <a:pt x="448" y="442"/>
                        <a:pt x="438" y="339"/>
                      </a:cubicBezTo>
                      <a:cubicBezTo>
                        <a:pt x="428" y="236"/>
                        <a:pt x="397" y="168"/>
                        <a:pt x="378" y="114"/>
                      </a:cubicBezTo>
                      <a:cubicBezTo>
                        <a:pt x="359" y="60"/>
                        <a:pt x="333" y="33"/>
                        <a:pt x="321" y="12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919400" y="3715200"/>
                  <a:ext cx="255960" cy="1074600"/>
                </a:xfrm>
                <a:custGeom>
                  <a:avLst/>
                  <a:gdLst/>
                  <a:ahLst/>
                  <a:rect l="l" t="t" r="r" b="b"/>
                  <a:pathLst>
                    <a:path w="202" h="848">
                      <a:moveTo>
                        <a:pt x="34" y="0"/>
                      </a:moveTo>
                      <a:cubicBezTo>
                        <a:pt x="25" y="2"/>
                        <a:pt x="2" y="5"/>
                        <a:pt x="1" y="24"/>
                      </a:cubicBezTo>
                      <a:cubicBezTo>
                        <a:pt x="0" y="43"/>
                        <a:pt x="13" y="76"/>
                        <a:pt x="28" y="114"/>
                      </a:cubicBezTo>
                      <a:cubicBezTo>
                        <a:pt x="43" y="152"/>
                        <a:pt x="77" y="189"/>
                        <a:pt x="91" y="255"/>
                      </a:cubicBezTo>
                      <a:cubicBezTo>
                        <a:pt x="105" y="321"/>
                        <a:pt x="116" y="435"/>
                        <a:pt x="115" y="510"/>
                      </a:cubicBezTo>
                      <a:cubicBezTo>
                        <a:pt x="114" y="585"/>
                        <a:pt x="91" y="657"/>
                        <a:pt x="85" y="705"/>
                      </a:cubicBezTo>
                      <a:cubicBezTo>
                        <a:pt x="79" y="753"/>
                        <a:pt x="65" y="787"/>
                        <a:pt x="79" y="801"/>
                      </a:cubicBezTo>
                      <a:cubicBezTo>
                        <a:pt x="93" y="815"/>
                        <a:pt x="149" y="848"/>
                        <a:pt x="169" y="789"/>
                      </a:cubicBezTo>
                      <a:cubicBezTo>
                        <a:pt x="189" y="730"/>
                        <a:pt x="202" y="547"/>
                        <a:pt x="202" y="447"/>
                      </a:cubicBezTo>
                      <a:cubicBezTo>
                        <a:pt x="202" y="347"/>
                        <a:pt x="181" y="250"/>
                        <a:pt x="166" y="186"/>
                      </a:cubicBezTo>
                      <a:cubicBezTo>
                        <a:pt x="151" y="122"/>
                        <a:pt x="128" y="88"/>
                        <a:pt x="112" y="60"/>
                      </a:cubicBezTo>
                      <a:cubicBezTo>
                        <a:pt x="96" y="32"/>
                        <a:pt x="83" y="25"/>
                        <a:pt x="70" y="15"/>
                      </a:cubicBezTo>
                      <a:cubicBezTo>
                        <a:pt x="57" y="5"/>
                        <a:pt x="41" y="3"/>
                        <a:pt x="3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962240" y="3760560"/>
                  <a:ext cx="178560" cy="964440"/>
                </a:xfrm>
                <a:custGeom>
                  <a:avLst/>
                  <a:gdLst/>
                  <a:ahLst/>
                  <a:rect l="l" t="t" r="r" b="b"/>
                  <a:pathLst>
                    <a:path w="141" h="761">
                      <a:moveTo>
                        <a:pt x="23" y="0"/>
                      </a:moveTo>
                      <a:cubicBezTo>
                        <a:pt x="18" y="2"/>
                        <a:pt x="0" y="5"/>
                        <a:pt x="6" y="22"/>
                      </a:cubicBezTo>
                      <a:cubicBezTo>
                        <a:pt x="12" y="39"/>
                        <a:pt x="42" y="69"/>
                        <a:pt x="57" y="105"/>
                      </a:cubicBezTo>
                      <a:cubicBezTo>
                        <a:pt x="72" y="141"/>
                        <a:pt x="86" y="190"/>
                        <a:pt x="96" y="237"/>
                      </a:cubicBezTo>
                      <a:cubicBezTo>
                        <a:pt x="106" y="284"/>
                        <a:pt x="115" y="345"/>
                        <a:pt x="117" y="387"/>
                      </a:cubicBezTo>
                      <a:cubicBezTo>
                        <a:pt x="119" y="429"/>
                        <a:pt x="115" y="445"/>
                        <a:pt x="111" y="489"/>
                      </a:cubicBezTo>
                      <a:cubicBezTo>
                        <a:pt x="107" y="533"/>
                        <a:pt x="94" y="613"/>
                        <a:pt x="90" y="654"/>
                      </a:cubicBezTo>
                      <a:cubicBezTo>
                        <a:pt x="86" y="695"/>
                        <a:pt x="81" y="726"/>
                        <a:pt x="84" y="735"/>
                      </a:cubicBezTo>
                      <a:cubicBezTo>
                        <a:pt x="87" y="744"/>
                        <a:pt x="99" y="761"/>
                        <a:pt x="108" y="708"/>
                      </a:cubicBezTo>
                      <a:cubicBezTo>
                        <a:pt x="117" y="655"/>
                        <a:pt x="141" y="506"/>
                        <a:pt x="141" y="417"/>
                      </a:cubicBezTo>
                      <a:cubicBezTo>
                        <a:pt x="141" y="328"/>
                        <a:pt x="121" y="231"/>
                        <a:pt x="108" y="171"/>
                      </a:cubicBezTo>
                      <a:cubicBezTo>
                        <a:pt x="95" y="111"/>
                        <a:pt x="76" y="81"/>
                        <a:pt x="65" y="55"/>
                      </a:cubicBezTo>
                      <a:cubicBezTo>
                        <a:pt x="54" y="29"/>
                        <a:pt x="49" y="23"/>
                        <a:pt x="42" y="14"/>
                      </a:cubicBezTo>
                      <a:cubicBezTo>
                        <a:pt x="35" y="5"/>
                        <a:pt x="27" y="3"/>
                        <a:pt x="2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780080" y="3788640"/>
                  <a:ext cx="259560" cy="1000080"/>
                </a:xfrm>
                <a:custGeom>
                  <a:avLst/>
                  <a:gdLst/>
                  <a:ahLst/>
                  <a:rect l="l" t="t" r="r" b="b"/>
                  <a:pathLst>
                    <a:path w="205" h="789">
                      <a:moveTo>
                        <a:pt x="30" y="2"/>
                      </a:moveTo>
                      <a:cubicBezTo>
                        <a:pt x="17" y="4"/>
                        <a:pt x="0" y="22"/>
                        <a:pt x="0" y="44"/>
                      </a:cubicBezTo>
                      <a:cubicBezTo>
                        <a:pt x="0" y="66"/>
                        <a:pt x="17" y="105"/>
                        <a:pt x="30" y="134"/>
                      </a:cubicBezTo>
                      <a:cubicBezTo>
                        <a:pt x="43" y="163"/>
                        <a:pt x="66" y="182"/>
                        <a:pt x="81" y="218"/>
                      </a:cubicBezTo>
                      <a:cubicBezTo>
                        <a:pt x="96" y="254"/>
                        <a:pt x="115" y="300"/>
                        <a:pt x="120" y="353"/>
                      </a:cubicBezTo>
                      <a:cubicBezTo>
                        <a:pt x="125" y="406"/>
                        <a:pt x="120" y="488"/>
                        <a:pt x="111" y="539"/>
                      </a:cubicBezTo>
                      <a:cubicBezTo>
                        <a:pt x="102" y="590"/>
                        <a:pt x="77" y="626"/>
                        <a:pt x="66" y="659"/>
                      </a:cubicBezTo>
                      <a:cubicBezTo>
                        <a:pt x="55" y="692"/>
                        <a:pt x="35" y="718"/>
                        <a:pt x="42" y="737"/>
                      </a:cubicBezTo>
                      <a:cubicBezTo>
                        <a:pt x="49" y="756"/>
                        <a:pt x="83" y="789"/>
                        <a:pt x="105" y="773"/>
                      </a:cubicBezTo>
                      <a:cubicBezTo>
                        <a:pt x="127" y="757"/>
                        <a:pt x="158" y="705"/>
                        <a:pt x="174" y="638"/>
                      </a:cubicBezTo>
                      <a:cubicBezTo>
                        <a:pt x="190" y="571"/>
                        <a:pt x="205" y="456"/>
                        <a:pt x="201" y="371"/>
                      </a:cubicBezTo>
                      <a:cubicBezTo>
                        <a:pt x="197" y="286"/>
                        <a:pt x="167" y="185"/>
                        <a:pt x="147" y="128"/>
                      </a:cubicBezTo>
                      <a:cubicBezTo>
                        <a:pt x="127" y="71"/>
                        <a:pt x="98" y="49"/>
                        <a:pt x="81" y="29"/>
                      </a:cubicBezTo>
                      <a:cubicBezTo>
                        <a:pt x="64" y="9"/>
                        <a:pt x="43" y="0"/>
                        <a:pt x="3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828320" y="3863520"/>
                  <a:ext cx="178560" cy="880560"/>
                </a:xfrm>
                <a:custGeom>
                  <a:avLst/>
                  <a:gdLst/>
                  <a:ahLst/>
                  <a:rect l="l" t="t" r="r" b="b"/>
                  <a:pathLst>
                    <a:path w="141" h="695">
                      <a:moveTo>
                        <a:pt x="4" y="0"/>
                      </a:moveTo>
                      <a:cubicBezTo>
                        <a:pt x="0" y="1"/>
                        <a:pt x="14" y="20"/>
                        <a:pt x="22" y="39"/>
                      </a:cubicBezTo>
                      <a:cubicBezTo>
                        <a:pt x="30" y="58"/>
                        <a:pt x="44" y="91"/>
                        <a:pt x="55" y="117"/>
                      </a:cubicBezTo>
                      <a:cubicBezTo>
                        <a:pt x="66" y="143"/>
                        <a:pt x="81" y="162"/>
                        <a:pt x="91" y="195"/>
                      </a:cubicBezTo>
                      <a:cubicBezTo>
                        <a:pt x="101" y="228"/>
                        <a:pt x="110" y="268"/>
                        <a:pt x="112" y="315"/>
                      </a:cubicBezTo>
                      <a:cubicBezTo>
                        <a:pt x="114" y="362"/>
                        <a:pt x="113" y="435"/>
                        <a:pt x="106" y="480"/>
                      </a:cubicBezTo>
                      <a:cubicBezTo>
                        <a:pt x="99" y="525"/>
                        <a:pt x="79" y="555"/>
                        <a:pt x="68" y="585"/>
                      </a:cubicBezTo>
                      <a:cubicBezTo>
                        <a:pt x="57" y="615"/>
                        <a:pt x="41" y="645"/>
                        <a:pt x="40" y="660"/>
                      </a:cubicBezTo>
                      <a:cubicBezTo>
                        <a:pt x="39" y="675"/>
                        <a:pt x="53" y="695"/>
                        <a:pt x="64" y="678"/>
                      </a:cubicBezTo>
                      <a:cubicBezTo>
                        <a:pt x="75" y="661"/>
                        <a:pt x="94" y="616"/>
                        <a:pt x="106" y="558"/>
                      </a:cubicBezTo>
                      <a:cubicBezTo>
                        <a:pt x="118" y="500"/>
                        <a:pt x="141" y="401"/>
                        <a:pt x="139" y="327"/>
                      </a:cubicBezTo>
                      <a:cubicBezTo>
                        <a:pt x="137" y="253"/>
                        <a:pt x="107" y="163"/>
                        <a:pt x="91" y="114"/>
                      </a:cubicBezTo>
                      <a:cubicBezTo>
                        <a:pt x="75" y="65"/>
                        <a:pt x="60" y="49"/>
                        <a:pt x="46" y="30"/>
                      </a:cubicBezTo>
                      <a:cubicBezTo>
                        <a:pt x="32" y="11"/>
                        <a:pt x="13" y="6"/>
                        <a:pt x="4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677480" y="3948480"/>
                  <a:ext cx="220320" cy="676800"/>
                </a:xfrm>
                <a:custGeom>
                  <a:avLst/>
                  <a:gdLst/>
                  <a:ahLst/>
                  <a:rect l="l" t="t" r="r" b="b"/>
                  <a:pathLst>
                    <a:path w="174" h="534">
                      <a:moveTo>
                        <a:pt x="15" y="23"/>
                      </a:moveTo>
                      <a:cubicBezTo>
                        <a:pt x="21" y="13"/>
                        <a:pt x="32" y="0"/>
                        <a:pt x="45" y="8"/>
                      </a:cubicBezTo>
                      <a:cubicBezTo>
                        <a:pt x="58" y="16"/>
                        <a:pt x="78" y="41"/>
                        <a:pt x="96" y="68"/>
                      </a:cubicBezTo>
                      <a:cubicBezTo>
                        <a:pt x="114" y="95"/>
                        <a:pt x="138" y="131"/>
                        <a:pt x="150" y="170"/>
                      </a:cubicBezTo>
                      <a:cubicBezTo>
                        <a:pt x="162" y="209"/>
                        <a:pt x="174" y="250"/>
                        <a:pt x="171" y="302"/>
                      </a:cubicBezTo>
                      <a:cubicBezTo>
                        <a:pt x="168" y="354"/>
                        <a:pt x="146" y="444"/>
                        <a:pt x="129" y="482"/>
                      </a:cubicBezTo>
                      <a:cubicBezTo>
                        <a:pt x="112" y="520"/>
                        <a:pt x="82" y="526"/>
                        <a:pt x="69" y="530"/>
                      </a:cubicBezTo>
                      <a:cubicBezTo>
                        <a:pt x="56" y="534"/>
                        <a:pt x="50" y="523"/>
                        <a:pt x="48" y="509"/>
                      </a:cubicBezTo>
                      <a:cubicBezTo>
                        <a:pt x="46" y="495"/>
                        <a:pt x="49" y="477"/>
                        <a:pt x="57" y="446"/>
                      </a:cubicBezTo>
                      <a:cubicBezTo>
                        <a:pt x="65" y="415"/>
                        <a:pt x="94" y="368"/>
                        <a:pt x="96" y="323"/>
                      </a:cubicBezTo>
                      <a:cubicBezTo>
                        <a:pt x="98" y="278"/>
                        <a:pt x="86" y="218"/>
                        <a:pt x="72" y="176"/>
                      </a:cubicBezTo>
                      <a:cubicBezTo>
                        <a:pt x="58" y="134"/>
                        <a:pt x="18" y="94"/>
                        <a:pt x="9" y="68"/>
                      </a:cubicBezTo>
                      <a:cubicBezTo>
                        <a:pt x="0" y="42"/>
                        <a:pt x="9" y="33"/>
                        <a:pt x="15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719240" y="4001400"/>
                  <a:ext cx="140400" cy="585720"/>
                </a:xfrm>
                <a:custGeom>
                  <a:avLst/>
                  <a:gdLst/>
                  <a:ahLst/>
                  <a:rect l="l" t="t" r="r" b="b"/>
                  <a:pathLst>
                    <a:path w="111" h="462">
                      <a:moveTo>
                        <a:pt x="3" y="11"/>
                      </a:moveTo>
                      <a:cubicBezTo>
                        <a:pt x="0" y="2"/>
                        <a:pt x="14" y="0"/>
                        <a:pt x="21" y="5"/>
                      </a:cubicBezTo>
                      <a:cubicBezTo>
                        <a:pt x="28" y="10"/>
                        <a:pt x="36" y="22"/>
                        <a:pt x="48" y="44"/>
                      </a:cubicBezTo>
                      <a:cubicBezTo>
                        <a:pt x="60" y="66"/>
                        <a:pt x="85" y="104"/>
                        <a:pt x="95" y="139"/>
                      </a:cubicBezTo>
                      <a:cubicBezTo>
                        <a:pt x="105" y="174"/>
                        <a:pt x="111" y="210"/>
                        <a:pt x="109" y="256"/>
                      </a:cubicBezTo>
                      <a:cubicBezTo>
                        <a:pt x="107" y="302"/>
                        <a:pt x="93" y="382"/>
                        <a:pt x="82" y="416"/>
                      </a:cubicBezTo>
                      <a:cubicBezTo>
                        <a:pt x="70" y="450"/>
                        <a:pt x="48" y="454"/>
                        <a:pt x="42" y="458"/>
                      </a:cubicBezTo>
                      <a:cubicBezTo>
                        <a:pt x="36" y="462"/>
                        <a:pt x="41" y="450"/>
                        <a:pt x="45" y="440"/>
                      </a:cubicBezTo>
                      <a:cubicBezTo>
                        <a:pt x="49" y="430"/>
                        <a:pt x="62" y="420"/>
                        <a:pt x="69" y="395"/>
                      </a:cubicBezTo>
                      <a:cubicBezTo>
                        <a:pt x="76" y="370"/>
                        <a:pt x="88" y="329"/>
                        <a:pt x="90" y="287"/>
                      </a:cubicBezTo>
                      <a:cubicBezTo>
                        <a:pt x="92" y="245"/>
                        <a:pt x="89" y="181"/>
                        <a:pt x="81" y="143"/>
                      </a:cubicBezTo>
                      <a:cubicBezTo>
                        <a:pt x="73" y="105"/>
                        <a:pt x="52" y="81"/>
                        <a:pt x="39" y="59"/>
                      </a:cubicBezTo>
                      <a:cubicBezTo>
                        <a:pt x="26" y="37"/>
                        <a:pt x="5" y="22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1981080" y="1893960"/>
                <a:ext cx="2705040" cy="3331800"/>
                <a:chOff x="1981080" y="1893960"/>
                <a:chExt cx="2705040" cy="333180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1981080" y="1893960"/>
                  <a:ext cx="2639520" cy="3310560"/>
                </a:xfrm>
                <a:custGeom>
                  <a:avLst/>
                  <a:gdLst/>
                  <a:ahLst/>
                  <a:rect l="l" t="t" r="r" b="b"/>
                  <a:pathLst>
                    <a:path w="2067" h="2582">
                      <a:moveTo>
                        <a:pt x="43" y="1153"/>
                      </a:moveTo>
                      <a:cubicBezTo>
                        <a:pt x="1" y="984"/>
                        <a:pt x="0" y="830"/>
                        <a:pt x="21" y="673"/>
                      </a:cubicBezTo>
                      <a:cubicBezTo>
                        <a:pt x="42" y="516"/>
                        <a:pt x="87" y="314"/>
                        <a:pt x="171" y="208"/>
                      </a:cubicBezTo>
                      <a:cubicBezTo>
                        <a:pt x="255" y="102"/>
                        <a:pt x="399" y="62"/>
                        <a:pt x="523" y="35"/>
                      </a:cubicBezTo>
                      <a:cubicBezTo>
                        <a:pt x="647" y="8"/>
                        <a:pt x="772" y="0"/>
                        <a:pt x="913" y="43"/>
                      </a:cubicBezTo>
                      <a:cubicBezTo>
                        <a:pt x="1054" y="86"/>
                        <a:pt x="1283" y="212"/>
                        <a:pt x="1371" y="290"/>
                      </a:cubicBezTo>
                      <a:cubicBezTo>
                        <a:pt x="1459" y="368"/>
                        <a:pt x="1439" y="417"/>
                        <a:pt x="1438" y="508"/>
                      </a:cubicBezTo>
                      <a:cubicBezTo>
                        <a:pt x="1437" y="599"/>
                        <a:pt x="1348" y="722"/>
                        <a:pt x="1363" y="838"/>
                      </a:cubicBezTo>
                      <a:cubicBezTo>
                        <a:pt x="1378" y="954"/>
                        <a:pt x="1463" y="1123"/>
                        <a:pt x="1528" y="1205"/>
                      </a:cubicBezTo>
                      <a:cubicBezTo>
                        <a:pt x="1593" y="1287"/>
                        <a:pt x="1682" y="1291"/>
                        <a:pt x="1753" y="1333"/>
                      </a:cubicBezTo>
                      <a:cubicBezTo>
                        <a:pt x="1824" y="1375"/>
                        <a:pt x="1905" y="1353"/>
                        <a:pt x="1956" y="1460"/>
                      </a:cubicBezTo>
                      <a:cubicBezTo>
                        <a:pt x="2007" y="1567"/>
                        <a:pt x="2060" y="1819"/>
                        <a:pt x="2061" y="1978"/>
                      </a:cubicBezTo>
                      <a:cubicBezTo>
                        <a:pt x="2062" y="2137"/>
                        <a:pt x="2067" y="2318"/>
                        <a:pt x="1963" y="2413"/>
                      </a:cubicBezTo>
                      <a:cubicBezTo>
                        <a:pt x="1859" y="2508"/>
                        <a:pt x="1631" y="2582"/>
                        <a:pt x="1438" y="2548"/>
                      </a:cubicBezTo>
                      <a:cubicBezTo>
                        <a:pt x="1245" y="2514"/>
                        <a:pt x="995" y="2354"/>
                        <a:pt x="801" y="2210"/>
                      </a:cubicBezTo>
                      <a:cubicBezTo>
                        <a:pt x="607" y="2066"/>
                        <a:pt x="403" y="1865"/>
                        <a:pt x="276" y="1685"/>
                      </a:cubicBezTo>
                      <a:cubicBezTo>
                        <a:pt x="149" y="1505"/>
                        <a:pt x="85" y="1322"/>
                        <a:pt x="43" y="11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060640" y="1914120"/>
                  <a:ext cx="2625480" cy="3311640"/>
                </a:xfrm>
                <a:custGeom>
                  <a:avLst/>
                  <a:gdLst/>
                  <a:ahLst/>
                  <a:rect l="l" t="t" r="r" b="b"/>
                  <a:pathLst>
                    <a:path w="2071" h="2613">
                      <a:moveTo>
                        <a:pt x="47" y="1184"/>
                      </a:moveTo>
                      <a:cubicBezTo>
                        <a:pt x="5" y="1015"/>
                        <a:pt x="0" y="869"/>
                        <a:pt x="25" y="704"/>
                      </a:cubicBezTo>
                      <a:cubicBezTo>
                        <a:pt x="50" y="539"/>
                        <a:pt x="112" y="305"/>
                        <a:pt x="198" y="192"/>
                      </a:cubicBezTo>
                      <a:cubicBezTo>
                        <a:pt x="284" y="79"/>
                        <a:pt x="424" y="51"/>
                        <a:pt x="543" y="27"/>
                      </a:cubicBezTo>
                      <a:cubicBezTo>
                        <a:pt x="662" y="3"/>
                        <a:pt x="771" y="0"/>
                        <a:pt x="910" y="49"/>
                      </a:cubicBezTo>
                      <a:cubicBezTo>
                        <a:pt x="1049" y="98"/>
                        <a:pt x="1286" y="261"/>
                        <a:pt x="1375" y="321"/>
                      </a:cubicBezTo>
                      <a:cubicBezTo>
                        <a:pt x="1464" y="381"/>
                        <a:pt x="1443" y="372"/>
                        <a:pt x="1443" y="409"/>
                      </a:cubicBezTo>
                      <a:cubicBezTo>
                        <a:pt x="1443" y="446"/>
                        <a:pt x="1391" y="468"/>
                        <a:pt x="1375" y="544"/>
                      </a:cubicBezTo>
                      <a:cubicBezTo>
                        <a:pt x="1359" y="620"/>
                        <a:pt x="1324" y="756"/>
                        <a:pt x="1345" y="867"/>
                      </a:cubicBezTo>
                      <a:cubicBezTo>
                        <a:pt x="1366" y="978"/>
                        <a:pt x="1428" y="1128"/>
                        <a:pt x="1503" y="1212"/>
                      </a:cubicBezTo>
                      <a:cubicBezTo>
                        <a:pt x="1578" y="1296"/>
                        <a:pt x="1730" y="1340"/>
                        <a:pt x="1795" y="1369"/>
                      </a:cubicBezTo>
                      <a:cubicBezTo>
                        <a:pt x="1860" y="1398"/>
                        <a:pt x="1866" y="1364"/>
                        <a:pt x="1893" y="1384"/>
                      </a:cubicBezTo>
                      <a:cubicBezTo>
                        <a:pt x="1920" y="1404"/>
                        <a:pt x="1931" y="1387"/>
                        <a:pt x="1960" y="1491"/>
                      </a:cubicBezTo>
                      <a:cubicBezTo>
                        <a:pt x="1989" y="1595"/>
                        <a:pt x="2064" y="1850"/>
                        <a:pt x="2065" y="2009"/>
                      </a:cubicBezTo>
                      <a:cubicBezTo>
                        <a:pt x="2066" y="2168"/>
                        <a:pt x="2071" y="2349"/>
                        <a:pt x="1967" y="2444"/>
                      </a:cubicBezTo>
                      <a:cubicBezTo>
                        <a:pt x="1863" y="2539"/>
                        <a:pt x="1635" y="2613"/>
                        <a:pt x="1442" y="2579"/>
                      </a:cubicBezTo>
                      <a:cubicBezTo>
                        <a:pt x="1249" y="2545"/>
                        <a:pt x="999" y="2385"/>
                        <a:pt x="805" y="2241"/>
                      </a:cubicBezTo>
                      <a:cubicBezTo>
                        <a:pt x="611" y="2097"/>
                        <a:pt x="407" y="1896"/>
                        <a:pt x="280" y="1716"/>
                      </a:cubicBezTo>
                      <a:cubicBezTo>
                        <a:pt x="153" y="1536"/>
                        <a:pt x="89" y="1353"/>
                        <a:pt x="47" y="11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3714840" y="2144880"/>
                <a:ext cx="1420560" cy="1527120"/>
              </a:xfrm>
              <a:custGeom>
                <a:avLst/>
                <a:gdLst/>
                <a:ahLst/>
                <a:rect l="l" t="t" r="r" b="b"/>
                <a:pathLst>
                  <a:path w="1121" h="1205">
                    <a:moveTo>
                      <a:pt x="811" y="152"/>
                    </a:moveTo>
                    <a:cubicBezTo>
                      <a:pt x="785" y="131"/>
                      <a:pt x="701" y="46"/>
                      <a:pt x="649" y="23"/>
                    </a:cubicBezTo>
                    <a:cubicBezTo>
                      <a:pt x="597" y="0"/>
                      <a:pt x="561" y="2"/>
                      <a:pt x="499" y="14"/>
                    </a:cubicBezTo>
                    <a:cubicBezTo>
                      <a:pt x="437" y="26"/>
                      <a:pt x="348" y="46"/>
                      <a:pt x="277" y="98"/>
                    </a:cubicBezTo>
                    <a:cubicBezTo>
                      <a:pt x="206" y="150"/>
                      <a:pt x="117" y="242"/>
                      <a:pt x="73" y="329"/>
                    </a:cubicBezTo>
                    <a:cubicBezTo>
                      <a:pt x="29" y="416"/>
                      <a:pt x="0" y="510"/>
                      <a:pt x="10" y="623"/>
                    </a:cubicBezTo>
                    <a:cubicBezTo>
                      <a:pt x="20" y="736"/>
                      <a:pt x="44" y="914"/>
                      <a:pt x="136" y="1010"/>
                    </a:cubicBezTo>
                    <a:cubicBezTo>
                      <a:pt x="228" y="1106"/>
                      <a:pt x="429" y="1193"/>
                      <a:pt x="562" y="1199"/>
                    </a:cubicBezTo>
                    <a:cubicBezTo>
                      <a:pt x="695" y="1205"/>
                      <a:pt x="846" y="1136"/>
                      <a:pt x="937" y="1049"/>
                    </a:cubicBezTo>
                    <a:cubicBezTo>
                      <a:pt x="1028" y="962"/>
                      <a:pt x="1095" y="768"/>
                      <a:pt x="1108" y="680"/>
                    </a:cubicBezTo>
                    <a:cubicBezTo>
                      <a:pt x="1121" y="592"/>
                      <a:pt x="1046" y="577"/>
                      <a:pt x="1015" y="524"/>
                    </a:cubicBezTo>
                    <a:cubicBezTo>
                      <a:pt x="984" y="471"/>
                      <a:pt x="957" y="423"/>
                      <a:pt x="922" y="362"/>
                    </a:cubicBezTo>
                    <a:cubicBezTo>
                      <a:pt x="887" y="301"/>
                      <a:pt x="832" y="200"/>
                      <a:pt x="808" y="15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62520" y="2158920"/>
                <a:ext cx="1184040" cy="127152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08600" y="2193840"/>
                <a:ext cx="1099800" cy="118908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248000" y="2511360"/>
                <a:ext cx="459000" cy="479520"/>
              </a:xfrm>
              <a:custGeom>
                <a:avLst/>
                <a:gdLst/>
                <a:ahLst/>
                <a:rect l="l" t="t" r="r" b="b"/>
                <a:pathLst>
                  <a:path w="362" h="378">
                    <a:moveTo>
                      <a:pt x="331" y="84"/>
                    </a:moveTo>
                    <a:cubicBezTo>
                      <a:pt x="345" y="106"/>
                      <a:pt x="356" y="134"/>
                      <a:pt x="359" y="164"/>
                    </a:cubicBezTo>
                    <a:cubicBezTo>
                      <a:pt x="362" y="194"/>
                      <a:pt x="357" y="233"/>
                      <a:pt x="347" y="262"/>
                    </a:cubicBezTo>
                    <a:cubicBezTo>
                      <a:pt x="337" y="292"/>
                      <a:pt x="321" y="322"/>
                      <a:pt x="298" y="341"/>
                    </a:cubicBezTo>
                    <a:cubicBezTo>
                      <a:pt x="274" y="360"/>
                      <a:pt x="241" y="374"/>
                      <a:pt x="207" y="376"/>
                    </a:cubicBezTo>
                    <a:cubicBezTo>
                      <a:pt x="174" y="378"/>
                      <a:pt x="129" y="369"/>
                      <a:pt x="98" y="353"/>
                    </a:cubicBezTo>
                    <a:cubicBezTo>
                      <a:pt x="67" y="337"/>
                      <a:pt x="35" y="304"/>
                      <a:pt x="19" y="279"/>
                    </a:cubicBezTo>
                    <a:cubicBezTo>
                      <a:pt x="3" y="254"/>
                      <a:pt x="0" y="230"/>
                      <a:pt x="1" y="201"/>
                    </a:cubicBezTo>
                    <a:cubicBezTo>
                      <a:pt x="2" y="172"/>
                      <a:pt x="13" y="130"/>
                      <a:pt x="28" y="102"/>
                    </a:cubicBezTo>
                    <a:cubicBezTo>
                      <a:pt x="43" y="74"/>
                      <a:pt x="70" y="47"/>
                      <a:pt x="94" y="30"/>
                    </a:cubicBezTo>
                    <a:cubicBezTo>
                      <a:pt x="118" y="13"/>
                      <a:pt x="145" y="0"/>
                      <a:pt x="175" y="0"/>
                    </a:cubicBezTo>
                    <a:cubicBezTo>
                      <a:pt x="205" y="0"/>
                      <a:pt x="248" y="16"/>
                      <a:pt x="274" y="30"/>
                    </a:cubicBezTo>
                    <a:cubicBezTo>
                      <a:pt x="300" y="44"/>
                      <a:pt x="317" y="62"/>
                      <a:pt x="331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808080"/>
                  </a:gs>
                  <a:gs pos="100000">
                    <a:srgbClr val="3333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1491480" y="3841560"/>
                <a:ext cx="843120" cy="1098000"/>
                <a:chOff x="1491480" y="3841560"/>
                <a:chExt cx="843120" cy="1098000"/>
              </a:xfrm>
            </p:grpSpPr>
            <p:sp>
              <p:nvSpPr>
                <p:cNvPr id="1332" name=""/>
                <p:cNvSpPr/>
                <p:nvPr/>
              </p:nvSpPr>
              <p:spPr>
                <a:xfrm rot="3823800">
                  <a:off x="1410120" y="4168080"/>
                  <a:ext cx="1005120" cy="44424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rot="3823800">
                  <a:off x="1360440" y="43045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rot="3823800">
                  <a:off x="1481400" y="4245480"/>
                  <a:ext cx="992520" cy="22248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rot="3823800">
                  <a:off x="1440360" y="4313520"/>
                  <a:ext cx="984960" cy="14004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rot="3823800">
                  <a:off x="1413000" y="4321800"/>
                  <a:ext cx="988920" cy="15300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3823800">
                  <a:off x="1693440" y="423612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3823800">
                  <a:off x="1459800" y="42231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3823800">
                  <a:off x="1531800" y="443160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3823800">
                  <a:off x="1809720" y="432036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037120" y="2539440"/>
                <a:ext cx="689760" cy="1086120"/>
                <a:chOff x="5037120" y="2539440"/>
                <a:chExt cx="689760" cy="1086120"/>
              </a:xfrm>
            </p:grpSpPr>
            <p:sp>
              <p:nvSpPr>
                <p:cNvPr id="1342" name=""/>
                <p:cNvSpPr/>
                <p:nvPr/>
              </p:nvSpPr>
              <p:spPr>
                <a:xfrm rot="17101200">
                  <a:off x="4879080" y="286020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17101200">
                  <a:off x="4947480" y="2979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17101200">
                  <a:off x="4815000" y="2953440"/>
                  <a:ext cx="99252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rot="17101200">
                  <a:off x="4870440" y="300456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rot="17101200">
                  <a:off x="4896720" y="300384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rot="17101200">
                  <a:off x="5170320" y="307224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rot="17101200">
                  <a:off x="4901400" y="30675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rot="17101200">
                  <a:off x="5237640" y="3017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rot="17101200">
                  <a:off x="4968360" y="29473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1747440" y="4802040"/>
                <a:ext cx="1068480" cy="1102320"/>
                <a:chOff x="1747440" y="4802040"/>
                <a:chExt cx="1068480" cy="1102320"/>
              </a:xfrm>
            </p:grpSpPr>
            <p:sp>
              <p:nvSpPr>
                <p:cNvPr id="1352" name=""/>
                <p:cNvSpPr/>
                <p:nvPr/>
              </p:nvSpPr>
              <p:spPr>
                <a:xfrm flipV="1" rot="14071200">
                  <a:off x="1847160" y="5008320"/>
                  <a:ext cx="862200" cy="68976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rot="7528800">
                  <a:off x="1951200" y="5001840"/>
                  <a:ext cx="781200" cy="60732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V="1" rot="14071200">
                  <a:off x="2024280" y="5027040"/>
                  <a:ext cx="651960" cy="52200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2940120" y="5162400"/>
                <a:ext cx="580680" cy="596880"/>
                <a:chOff x="2940120" y="5162400"/>
                <a:chExt cx="580680" cy="5968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940120" y="5236920"/>
                  <a:ext cx="574560" cy="52236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016080" y="5162400"/>
                  <a:ext cx="504720" cy="47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069000" y="5211360"/>
                  <a:ext cx="401040" cy="376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118680" y="5257080"/>
                  <a:ext cx="309960" cy="290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168000" y="5310000"/>
                  <a:ext cx="199800" cy="188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209760" y="5352120"/>
                  <a:ext cx="108720" cy="10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240000" y="5378400"/>
                  <a:ext cx="54360" cy="50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5591160" y="45975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543640" y="4844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952880" y="57294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135400" y="572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410080" y="5292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38880" y="507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76880" y="45784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869000" y="5967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10280" y="5568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83160" y="59389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802040" y="5757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19840" y="5948280"/>
                <a:ext cx="536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419720" y="2108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944960" y="17748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019840" y="1623960"/>
                <a:ext cx="536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735360" y="18320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568520" y="20224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30840" y="167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21120" y="17748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4648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173480" y="1604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1451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02200" y="1889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070520" y="1784520"/>
                <a:ext cx="536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67080" y="20606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440240" y="1862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70360" y="2319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640400" y="156672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697280" y="207000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18080" y="21654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146480" y="21272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183200" y="205092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02240" y="208908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738440" y="18511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587600" y="17096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719360" y="21384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479760" y="1328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757520" y="20318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584520" y="2022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5845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54360" y="16113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079880" y="15858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7516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670200" y="162252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727440" y="14508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992400" y="159372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641760" y="217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621240" y="21178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59200" y="2031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5400" y="1938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813120" y="17845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763800" y="19652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87640" y="1746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01960" y="173664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635120" y="2370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28880" y="5965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940040" y="57704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511280" y="53802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77040" y="3733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87600" y="467676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505480" y="3951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558880" y="4994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558880" y="47196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909880" y="48690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689200" y="51325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817720" y="5040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354640" y="388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65520" y="480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08280" y="5234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65360" y="511956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836720" y="49975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46280" y="54547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487760" y="6041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817640" y="5454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45080" y="52531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74720" y="49212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10080" y="56437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86400" y="5491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1" name=""/>
          <p:cNvSpPr/>
          <p:nvPr/>
        </p:nvSpPr>
        <p:spPr>
          <a:xfrm flipH="1">
            <a:off x="5621400" y="4624560"/>
            <a:ext cx="628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5630760" y="58546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4973760" y="6353280"/>
            <a:ext cx="123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2455920" y="5419800"/>
            <a:ext cx="374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65040" y="4033800"/>
            <a:ext cx="2240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5497200" y="315756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56800" y="62834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. 1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834080" y="2487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5211360" y="1244520"/>
            <a:ext cx="99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800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ell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 rot="16202400">
            <a:off x="4705920" y="2354760"/>
            <a:ext cx="4760640" cy="2581200"/>
          </a:xfrm>
          <a:custGeom>
            <a:avLst/>
            <a:gdLst/>
            <a:ahLst/>
            <a:rect l="l" t="t" r="r" b="b"/>
            <a:pathLst>
              <a:path w="3517" h="2611">
                <a:moveTo>
                  <a:pt x="855" y="35"/>
                </a:moveTo>
                <a:cubicBezTo>
                  <a:pt x="1054" y="39"/>
                  <a:pt x="1392" y="33"/>
                  <a:pt x="1630" y="35"/>
                </a:cubicBezTo>
                <a:cubicBezTo>
                  <a:pt x="1868" y="37"/>
                  <a:pt x="2115" y="45"/>
                  <a:pt x="2283" y="47"/>
                </a:cubicBezTo>
                <a:cubicBezTo>
                  <a:pt x="2451" y="49"/>
                  <a:pt x="2497" y="47"/>
                  <a:pt x="2640" y="47"/>
                </a:cubicBezTo>
                <a:cubicBezTo>
                  <a:pt x="2783" y="47"/>
                  <a:pt x="3017" y="16"/>
                  <a:pt x="3144" y="47"/>
                </a:cubicBezTo>
                <a:cubicBezTo>
                  <a:pt x="3271" y="78"/>
                  <a:pt x="3343" y="133"/>
                  <a:pt x="3403" y="232"/>
                </a:cubicBezTo>
                <a:cubicBezTo>
                  <a:pt x="3463" y="331"/>
                  <a:pt x="3485" y="507"/>
                  <a:pt x="3501" y="638"/>
                </a:cubicBezTo>
                <a:cubicBezTo>
                  <a:pt x="3517" y="769"/>
                  <a:pt x="3501" y="845"/>
                  <a:pt x="3501" y="1019"/>
                </a:cubicBezTo>
                <a:cubicBezTo>
                  <a:pt x="3501" y="1193"/>
                  <a:pt x="3501" y="1547"/>
                  <a:pt x="3501" y="1684"/>
                </a:cubicBezTo>
                <a:cubicBezTo>
                  <a:pt x="3501" y="1821"/>
                  <a:pt x="3503" y="1768"/>
                  <a:pt x="3501" y="1844"/>
                </a:cubicBezTo>
                <a:cubicBezTo>
                  <a:pt x="3499" y="1920"/>
                  <a:pt x="3516" y="2045"/>
                  <a:pt x="3489" y="2139"/>
                </a:cubicBezTo>
                <a:cubicBezTo>
                  <a:pt x="3462" y="2233"/>
                  <a:pt x="3405" y="2340"/>
                  <a:pt x="3341" y="2410"/>
                </a:cubicBezTo>
                <a:cubicBezTo>
                  <a:pt x="3277" y="2480"/>
                  <a:pt x="3209" y="2525"/>
                  <a:pt x="3107" y="2558"/>
                </a:cubicBezTo>
                <a:cubicBezTo>
                  <a:pt x="3005" y="2591"/>
                  <a:pt x="2917" y="2603"/>
                  <a:pt x="2726" y="2607"/>
                </a:cubicBezTo>
                <a:cubicBezTo>
                  <a:pt x="2535" y="2611"/>
                  <a:pt x="2197" y="2585"/>
                  <a:pt x="1963" y="2583"/>
                </a:cubicBezTo>
                <a:cubicBezTo>
                  <a:pt x="1729" y="2581"/>
                  <a:pt x="1510" y="2597"/>
                  <a:pt x="1323" y="2595"/>
                </a:cubicBezTo>
                <a:cubicBezTo>
                  <a:pt x="1136" y="2593"/>
                  <a:pt x="970" y="2572"/>
                  <a:pt x="843" y="2570"/>
                </a:cubicBezTo>
                <a:cubicBezTo>
                  <a:pt x="716" y="2568"/>
                  <a:pt x="644" y="2581"/>
                  <a:pt x="560" y="2583"/>
                </a:cubicBezTo>
                <a:cubicBezTo>
                  <a:pt x="476" y="2585"/>
                  <a:pt x="408" y="2610"/>
                  <a:pt x="338" y="2583"/>
                </a:cubicBezTo>
                <a:cubicBezTo>
                  <a:pt x="268" y="2556"/>
                  <a:pt x="194" y="2485"/>
                  <a:pt x="141" y="2423"/>
                </a:cubicBezTo>
                <a:cubicBezTo>
                  <a:pt x="88" y="2361"/>
                  <a:pt x="36" y="2281"/>
                  <a:pt x="18" y="2213"/>
                </a:cubicBezTo>
                <a:cubicBezTo>
                  <a:pt x="0" y="2145"/>
                  <a:pt x="26" y="2145"/>
                  <a:pt x="30" y="2016"/>
                </a:cubicBezTo>
                <a:cubicBezTo>
                  <a:pt x="34" y="1887"/>
                  <a:pt x="41" y="1635"/>
                  <a:pt x="43" y="1438"/>
                </a:cubicBezTo>
                <a:cubicBezTo>
                  <a:pt x="45" y="1241"/>
                  <a:pt x="39" y="1013"/>
                  <a:pt x="43" y="835"/>
                </a:cubicBezTo>
                <a:cubicBezTo>
                  <a:pt x="47" y="657"/>
                  <a:pt x="30" y="492"/>
                  <a:pt x="67" y="367"/>
                </a:cubicBezTo>
                <a:cubicBezTo>
                  <a:pt x="104" y="242"/>
                  <a:pt x="202" y="143"/>
                  <a:pt x="264" y="84"/>
                </a:cubicBezTo>
                <a:cubicBezTo>
                  <a:pt x="326" y="25"/>
                  <a:pt x="339" y="20"/>
                  <a:pt x="437" y="10"/>
                </a:cubicBezTo>
                <a:cubicBezTo>
                  <a:pt x="535" y="0"/>
                  <a:pt x="656" y="31"/>
                  <a:pt x="855" y="35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6202400">
            <a:off x="4824360" y="2412720"/>
            <a:ext cx="4527720" cy="2447640"/>
          </a:xfrm>
          <a:custGeom>
            <a:avLst/>
            <a:gdLst/>
            <a:ahLst/>
            <a:rect l="l" t="t" r="r" b="b"/>
            <a:pathLst>
              <a:path w="3517" h="2611">
                <a:moveTo>
                  <a:pt x="855" y="35"/>
                </a:moveTo>
                <a:cubicBezTo>
                  <a:pt x="1054" y="39"/>
                  <a:pt x="1392" y="33"/>
                  <a:pt x="1630" y="35"/>
                </a:cubicBezTo>
                <a:cubicBezTo>
                  <a:pt x="1868" y="37"/>
                  <a:pt x="2115" y="45"/>
                  <a:pt x="2283" y="47"/>
                </a:cubicBezTo>
                <a:cubicBezTo>
                  <a:pt x="2451" y="49"/>
                  <a:pt x="2497" y="47"/>
                  <a:pt x="2640" y="47"/>
                </a:cubicBezTo>
                <a:cubicBezTo>
                  <a:pt x="2783" y="47"/>
                  <a:pt x="3017" y="16"/>
                  <a:pt x="3144" y="47"/>
                </a:cubicBezTo>
                <a:cubicBezTo>
                  <a:pt x="3271" y="78"/>
                  <a:pt x="3343" y="133"/>
                  <a:pt x="3403" y="232"/>
                </a:cubicBezTo>
                <a:cubicBezTo>
                  <a:pt x="3463" y="331"/>
                  <a:pt x="3485" y="507"/>
                  <a:pt x="3501" y="638"/>
                </a:cubicBezTo>
                <a:cubicBezTo>
                  <a:pt x="3517" y="769"/>
                  <a:pt x="3501" y="845"/>
                  <a:pt x="3501" y="1019"/>
                </a:cubicBezTo>
                <a:cubicBezTo>
                  <a:pt x="3501" y="1193"/>
                  <a:pt x="3501" y="1547"/>
                  <a:pt x="3501" y="1684"/>
                </a:cubicBezTo>
                <a:cubicBezTo>
                  <a:pt x="3501" y="1821"/>
                  <a:pt x="3503" y="1768"/>
                  <a:pt x="3501" y="1844"/>
                </a:cubicBezTo>
                <a:cubicBezTo>
                  <a:pt x="3499" y="1920"/>
                  <a:pt x="3516" y="2045"/>
                  <a:pt x="3489" y="2139"/>
                </a:cubicBezTo>
                <a:cubicBezTo>
                  <a:pt x="3462" y="2233"/>
                  <a:pt x="3405" y="2340"/>
                  <a:pt x="3341" y="2410"/>
                </a:cubicBezTo>
                <a:cubicBezTo>
                  <a:pt x="3277" y="2480"/>
                  <a:pt x="3209" y="2525"/>
                  <a:pt x="3107" y="2558"/>
                </a:cubicBezTo>
                <a:cubicBezTo>
                  <a:pt x="3005" y="2591"/>
                  <a:pt x="2917" y="2603"/>
                  <a:pt x="2726" y="2607"/>
                </a:cubicBezTo>
                <a:cubicBezTo>
                  <a:pt x="2535" y="2611"/>
                  <a:pt x="2197" y="2585"/>
                  <a:pt x="1963" y="2583"/>
                </a:cubicBezTo>
                <a:cubicBezTo>
                  <a:pt x="1729" y="2581"/>
                  <a:pt x="1510" y="2597"/>
                  <a:pt x="1323" y="2595"/>
                </a:cubicBezTo>
                <a:cubicBezTo>
                  <a:pt x="1136" y="2593"/>
                  <a:pt x="970" y="2572"/>
                  <a:pt x="843" y="2570"/>
                </a:cubicBezTo>
                <a:cubicBezTo>
                  <a:pt x="716" y="2568"/>
                  <a:pt x="644" y="2581"/>
                  <a:pt x="560" y="2583"/>
                </a:cubicBezTo>
                <a:cubicBezTo>
                  <a:pt x="476" y="2585"/>
                  <a:pt x="408" y="2610"/>
                  <a:pt x="338" y="2583"/>
                </a:cubicBezTo>
                <a:cubicBezTo>
                  <a:pt x="268" y="2556"/>
                  <a:pt x="194" y="2485"/>
                  <a:pt x="141" y="2423"/>
                </a:cubicBezTo>
                <a:cubicBezTo>
                  <a:pt x="88" y="2361"/>
                  <a:pt x="36" y="2281"/>
                  <a:pt x="18" y="2213"/>
                </a:cubicBezTo>
                <a:cubicBezTo>
                  <a:pt x="0" y="2145"/>
                  <a:pt x="26" y="2145"/>
                  <a:pt x="30" y="2016"/>
                </a:cubicBezTo>
                <a:cubicBezTo>
                  <a:pt x="34" y="1887"/>
                  <a:pt x="41" y="1635"/>
                  <a:pt x="43" y="1438"/>
                </a:cubicBezTo>
                <a:cubicBezTo>
                  <a:pt x="45" y="1241"/>
                  <a:pt x="39" y="1013"/>
                  <a:pt x="43" y="835"/>
                </a:cubicBezTo>
                <a:cubicBezTo>
                  <a:pt x="47" y="657"/>
                  <a:pt x="30" y="492"/>
                  <a:pt x="67" y="367"/>
                </a:cubicBezTo>
                <a:cubicBezTo>
                  <a:pt x="104" y="242"/>
                  <a:pt x="202" y="143"/>
                  <a:pt x="264" y="84"/>
                </a:cubicBezTo>
                <a:cubicBezTo>
                  <a:pt x="326" y="25"/>
                  <a:pt x="339" y="20"/>
                  <a:pt x="437" y="10"/>
                </a:cubicBezTo>
                <a:cubicBezTo>
                  <a:pt x="535" y="0"/>
                  <a:pt x="656" y="31"/>
                  <a:pt x="855" y="35"/>
                </a:cubicBezTo>
                <a:close/>
              </a:path>
            </a:pathLst>
          </a:custGeom>
          <a:solidFill>
            <a:srgbClr val="cc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7511040" y="1447560"/>
            <a:ext cx="1166040" cy="848160"/>
            <a:chOff x="7511040" y="1447560"/>
            <a:chExt cx="1166040" cy="848160"/>
          </a:xfrm>
        </p:grpSpPr>
        <p:sp>
          <p:nvSpPr>
            <p:cNvPr id="1454" name=""/>
            <p:cNvSpPr/>
            <p:nvPr/>
          </p:nvSpPr>
          <p:spPr>
            <a:xfrm rot="18570000">
              <a:off x="7721280" y="1520640"/>
              <a:ext cx="414360" cy="7412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 rot="6712200">
              <a:off x="7875000" y="1407240"/>
              <a:ext cx="5410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 rot="6712200">
              <a:off x="7939440" y="1512720"/>
              <a:ext cx="356400" cy="82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 rot="6712200">
              <a:off x="8033040" y="1531080"/>
              <a:ext cx="253440" cy="82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 rot="6712200">
              <a:off x="8021160" y="1543680"/>
              <a:ext cx="22392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17094600">
              <a:off x="7912440" y="1771560"/>
              <a:ext cx="193680" cy="14112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894640" y="1636920"/>
            <a:ext cx="937800" cy="1406520"/>
            <a:chOff x="5894640" y="1636920"/>
            <a:chExt cx="937800" cy="1406520"/>
          </a:xfrm>
        </p:grpSpPr>
        <p:sp>
          <p:nvSpPr>
            <p:cNvPr id="1461" name=""/>
            <p:cNvSpPr/>
            <p:nvPr/>
          </p:nvSpPr>
          <p:spPr>
            <a:xfrm rot="13314600">
              <a:off x="6194520" y="2057400"/>
              <a:ext cx="303120" cy="101448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 rot="1456800">
              <a:off x="6193080" y="1661400"/>
              <a:ext cx="395280" cy="127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 rot="1456800">
              <a:off x="6294960" y="1760760"/>
              <a:ext cx="260640" cy="11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 rot="1456800">
              <a:off x="6359400" y="1694520"/>
              <a:ext cx="18540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 rot="1456800">
              <a:off x="6296040" y="1869840"/>
              <a:ext cx="163440" cy="8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1839200">
              <a:off x="6254280" y="2367360"/>
              <a:ext cx="141480" cy="19296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 rot="16202400">
            <a:off x="5655240" y="3346920"/>
            <a:ext cx="2773440" cy="1886040"/>
          </a:xfrm>
          <a:custGeom>
            <a:avLst/>
            <a:gdLst/>
            <a:ahLst/>
            <a:rect l="l" t="t" r="r" b="b"/>
            <a:pathLst>
              <a:path w="2048" h="1907">
                <a:moveTo>
                  <a:pt x="587" y="518"/>
                </a:moveTo>
                <a:cubicBezTo>
                  <a:pt x="389" y="780"/>
                  <a:pt x="231" y="1048"/>
                  <a:pt x="91" y="1319"/>
                </a:cubicBezTo>
                <a:cubicBezTo>
                  <a:pt x="85" y="1335"/>
                  <a:pt x="0" y="1474"/>
                  <a:pt x="17" y="1518"/>
                </a:cubicBezTo>
                <a:cubicBezTo>
                  <a:pt x="58" y="1639"/>
                  <a:pt x="206" y="1674"/>
                  <a:pt x="385" y="1766"/>
                </a:cubicBezTo>
                <a:cubicBezTo>
                  <a:pt x="418" y="1783"/>
                  <a:pt x="484" y="1819"/>
                  <a:pt x="484" y="1819"/>
                </a:cubicBezTo>
                <a:cubicBezTo>
                  <a:pt x="597" y="1843"/>
                  <a:pt x="702" y="1878"/>
                  <a:pt x="815" y="1887"/>
                </a:cubicBezTo>
                <a:cubicBezTo>
                  <a:pt x="1060" y="1907"/>
                  <a:pt x="1294" y="1740"/>
                  <a:pt x="1407" y="1662"/>
                </a:cubicBezTo>
                <a:cubicBezTo>
                  <a:pt x="1693" y="1262"/>
                  <a:pt x="1767" y="1385"/>
                  <a:pt x="1068" y="1155"/>
                </a:cubicBezTo>
                <a:cubicBezTo>
                  <a:pt x="1126" y="834"/>
                  <a:pt x="2048" y="395"/>
                  <a:pt x="1398" y="54"/>
                </a:cubicBezTo>
                <a:cubicBezTo>
                  <a:pt x="1082" y="3"/>
                  <a:pt x="1269" y="0"/>
                  <a:pt x="1093" y="67"/>
                </a:cubicBezTo>
                <a:cubicBezTo>
                  <a:pt x="1054" y="84"/>
                  <a:pt x="999" y="87"/>
                  <a:pt x="961" y="104"/>
                </a:cubicBezTo>
                <a:cubicBezTo>
                  <a:pt x="895" y="130"/>
                  <a:pt x="779" y="198"/>
                  <a:pt x="779" y="198"/>
                </a:cubicBezTo>
                <a:cubicBezTo>
                  <a:pt x="696" y="267"/>
                  <a:pt x="641" y="429"/>
                  <a:pt x="617" y="487"/>
                </a:cubicBezTo>
                <a:cubicBezTo>
                  <a:pt x="585" y="540"/>
                  <a:pt x="584" y="506"/>
                  <a:pt x="587" y="518"/>
                </a:cubicBez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801920" y="3378600"/>
            <a:ext cx="794520" cy="1402920"/>
            <a:chOff x="7801920" y="3378600"/>
            <a:chExt cx="794520" cy="1402920"/>
          </a:xfrm>
        </p:grpSpPr>
        <p:sp>
          <p:nvSpPr>
            <p:cNvPr id="1469" name=""/>
            <p:cNvSpPr/>
            <p:nvPr/>
          </p:nvSpPr>
          <p:spPr>
            <a:xfrm rot="21490200">
              <a:off x="7895880" y="3382920"/>
              <a:ext cx="301680" cy="1015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 rot="9632400">
              <a:off x="8002800" y="3479400"/>
              <a:ext cx="39312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 rot="9632400">
              <a:off x="8027280" y="3557160"/>
              <a:ext cx="25920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 rot="9632400">
              <a:off x="8086680" y="3615120"/>
              <a:ext cx="18432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 rot="9632400">
              <a:off x="8120520" y="3663000"/>
              <a:ext cx="162720" cy="87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20014800">
              <a:off x="8061120" y="3852360"/>
              <a:ext cx="140760" cy="19332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580440" y="5183640"/>
            <a:ext cx="755280" cy="581400"/>
            <a:chOff x="6580440" y="5183640"/>
            <a:chExt cx="755280" cy="581400"/>
          </a:xfrm>
        </p:grpSpPr>
        <p:sp>
          <p:nvSpPr>
            <p:cNvPr id="1476" name=""/>
            <p:cNvSpPr/>
            <p:nvPr/>
          </p:nvSpPr>
          <p:spPr>
            <a:xfrm rot="18001200">
              <a:off x="6834960" y="5110920"/>
              <a:ext cx="246240" cy="73008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9700400">
              <a:off x="6805440" y="5232960"/>
              <a:ext cx="325440" cy="47988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064920" y="1617120"/>
            <a:ext cx="630000" cy="550080"/>
            <a:chOff x="6064920" y="1617120"/>
            <a:chExt cx="630000" cy="550080"/>
          </a:xfrm>
        </p:grpSpPr>
        <p:sp>
          <p:nvSpPr>
            <p:cNvPr id="1479" name=""/>
            <p:cNvSpPr/>
            <p:nvPr/>
          </p:nvSpPr>
          <p:spPr>
            <a:xfrm rot="14502600">
              <a:off x="6211080" y="1625040"/>
              <a:ext cx="337680" cy="53352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6202400">
              <a:off x="6159240" y="1702800"/>
              <a:ext cx="446040" cy="35064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H="1" rot="16203000">
            <a:off x="6612480" y="5561640"/>
            <a:ext cx="9684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rot="16203000">
            <a:off x="7738200" y="5612400"/>
            <a:ext cx="9684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16203000">
            <a:off x="6020280" y="4722840"/>
            <a:ext cx="9540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rot="16203000">
            <a:off x="6972840" y="397188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 rot="16203000">
            <a:off x="5990760" y="3141000"/>
            <a:ext cx="9540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6157800" y="4896000"/>
            <a:ext cx="466920" cy="309240"/>
            <a:chOff x="6157800" y="4896000"/>
            <a:chExt cx="466920" cy="309240"/>
          </a:xfrm>
        </p:grpSpPr>
        <p:sp>
          <p:nvSpPr>
            <p:cNvPr id="1487" name=""/>
            <p:cNvSpPr/>
            <p:nvPr/>
          </p:nvSpPr>
          <p:spPr>
            <a:xfrm rot="16202400">
              <a:off x="6346080" y="4852800"/>
              <a:ext cx="103680" cy="397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16202400">
              <a:off x="6346080" y="4798080"/>
              <a:ext cx="103680" cy="299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16202400">
              <a:off x="6339240" y="4919400"/>
              <a:ext cx="103680" cy="46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 rot="16202400">
            <a:off x="6960240" y="2383560"/>
            <a:ext cx="1055520" cy="78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2400">
            <a:off x="7088760" y="2499120"/>
            <a:ext cx="771480" cy="566640"/>
          </a:xfrm>
          <a:custGeom>
            <a:avLst/>
            <a:gdLst/>
            <a:ahLst/>
            <a:rect l="l" t="t" r="r" b="b"/>
            <a:pathLst>
              <a:path w="470" h="423">
                <a:moveTo>
                  <a:pt x="88" y="93"/>
                </a:moveTo>
                <a:cubicBezTo>
                  <a:pt x="131" y="107"/>
                  <a:pt x="135" y="89"/>
                  <a:pt x="178" y="103"/>
                </a:cubicBezTo>
                <a:cubicBezTo>
                  <a:pt x="214" y="157"/>
                  <a:pt x="201" y="218"/>
                  <a:pt x="238" y="273"/>
                </a:cubicBezTo>
                <a:cubicBezTo>
                  <a:pt x="271" y="270"/>
                  <a:pt x="306" y="274"/>
                  <a:pt x="338" y="263"/>
                </a:cubicBezTo>
                <a:cubicBezTo>
                  <a:pt x="393" y="245"/>
                  <a:pt x="338" y="186"/>
                  <a:pt x="318" y="173"/>
                </a:cubicBezTo>
                <a:cubicBezTo>
                  <a:pt x="254" y="180"/>
                  <a:pt x="208" y="163"/>
                  <a:pt x="188" y="223"/>
                </a:cubicBezTo>
                <a:cubicBezTo>
                  <a:pt x="155" y="220"/>
                  <a:pt x="117" y="229"/>
                  <a:pt x="88" y="213"/>
                </a:cubicBezTo>
                <a:cubicBezTo>
                  <a:pt x="76" y="206"/>
                  <a:pt x="87" y="181"/>
                  <a:pt x="98" y="173"/>
                </a:cubicBezTo>
                <a:cubicBezTo>
                  <a:pt x="106" y="167"/>
                  <a:pt x="118" y="180"/>
                  <a:pt x="128" y="183"/>
                </a:cubicBezTo>
                <a:cubicBezTo>
                  <a:pt x="118" y="235"/>
                  <a:pt x="128" y="256"/>
                  <a:pt x="78" y="273"/>
                </a:cubicBezTo>
                <a:cubicBezTo>
                  <a:pt x="68" y="283"/>
                  <a:pt x="60" y="295"/>
                  <a:pt x="48" y="303"/>
                </a:cubicBezTo>
                <a:cubicBezTo>
                  <a:pt x="2" y="333"/>
                  <a:pt x="27" y="286"/>
                  <a:pt x="8" y="343"/>
                </a:cubicBezTo>
                <a:cubicBezTo>
                  <a:pt x="11" y="366"/>
                  <a:pt x="0" y="398"/>
                  <a:pt x="18" y="413"/>
                </a:cubicBezTo>
                <a:cubicBezTo>
                  <a:pt x="28" y="421"/>
                  <a:pt x="90" y="399"/>
                  <a:pt x="108" y="393"/>
                </a:cubicBezTo>
                <a:cubicBezTo>
                  <a:pt x="118" y="383"/>
                  <a:pt x="131" y="375"/>
                  <a:pt x="138" y="363"/>
                </a:cubicBezTo>
                <a:cubicBezTo>
                  <a:pt x="148" y="345"/>
                  <a:pt x="158" y="303"/>
                  <a:pt x="158" y="303"/>
                </a:cubicBezTo>
                <a:cubicBezTo>
                  <a:pt x="148" y="296"/>
                  <a:pt x="140" y="281"/>
                  <a:pt x="128" y="283"/>
                </a:cubicBezTo>
                <a:cubicBezTo>
                  <a:pt x="95" y="290"/>
                  <a:pt x="111" y="354"/>
                  <a:pt x="118" y="363"/>
                </a:cubicBezTo>
                <a:cubicBezTo>
                  <a:pt x="148" y="401"/>
                  <a:pt x="205" y="412"/>
                  <a:pt x="248" y="423"/>
                </a:cubicBezTo>
                <a:cubicBezTo>
                  <a:pt x="261" y="420"/>
                  <a:pt x="277" y="421"/>
                  <a:pt x="288" y="413"/>
                </a:cubicBezTo>
                <a:cubicBezTo>
                  <a:pt x="321" y="391"/>
                  <a:pt x="303" y="353"/>
                  <a:pt x="318" y="323"/>
                </a:cubicBezTo>
                <a:cubicBezTo>
                  <a:pt x="326" y="307"/>
                  <a:pt x="364" y="298"/>
                  <a:pt x="378" y="293"/>
                </a:cubicBezTo>
                <a:cubicBezTo>
                  <a:pt x="470" y="155"/>
                  <a:pt x="357" y="35"/>
                  <a:pt x="228" y="3"/>
                </a:cubicBezTo>
                <a:cubicBezTo>
                  <a:pt x="215" y="6"/>
                  <a:pt x="193" y="0"/>
                  <a:pt x="188" y="13"/>
                </a:cubicBezTo>
                <a:cubicBezTo>
                  <a:pt x="167" y="63"/>
                  <a:pt x="201" y="75"/>
                  <a:pt x="228" y="93"/>
                </a:cubicBezTo>
                <a:cubicBezTo>
                  <a:pt x="245" y="90"/>
                  <a:pt x="263" y="90"/>
                  <a:pt x="278" y="83"/>
                </a:cubicBezTo>
                <a:cubicBezTo>
                  <a:pt x="300" y="73"/>
                  <a:pt x="338" y="43"/>
                  <a:pt x="338" y="43"/>
                </a:cubicBezTo>
                <a:cubicBezTo>
                  <a:pt x="376" y="56"/>
                  <a:pt x="385" y="81"/>
                  <a:pt x="418" y="103"/>
                </a:cubicBezTo>
                <a:cubicBezTo>
                  <a:pt x="453" y="155"/>
                  <a:pt x="458" y="211"/>
                  <a:pt x="468" y="273"/>
                </a:cubicBezTo>
                <a:cubicBezTo>
                  <a:pt x="453" y="319"/>
                  <a:pt x="447" y="329"/>
                  <a:pt x="398" y="313"/>
                </a:cubicBezTo>
                <a:cubicBezTo>
                  <a:pt x="405" y="286"/>
                  <a:pt x="411" y="260"/>
                  <a:pt x="418" y="233"/>
                </a:cubicBezTo>
                <a:cubicBezTo>
                  <a:pt x="438" y="154"/>
                  <a:pt x="267" y="147"/>
                  <a:pt x="228" y="143"/>
                </a:cubicBezTo>
                <a:cubicBezTo>
                  <a:pt x="215" y="140"/>
                  <a:pt x="201" y="137"/>
                  <a:pt x="188" y="133"/>
                </a:cubicBezTo>
                <a:cubicBezTo>
                  <a:pt x="168" y="127"/>
                  <a:pt x="128" y="113"/>
                  <a:pt x="128" y="113"/>
                </a:cubicBezTo>
                <a:cubicBezTo>
                  <a:pt x="61" y="120"/>
                  <a:pt x="1" y="103"/>
                  <a:pt x="28" y="183"/>
                </a:cubicBezTo>
                <a:cubicBezTo>
                  <a:pt x="31" y="173"/>
                  <a:pt x="38" y="164"/>
                  <a:pt x="38" y="153"/>
                </a:cubicBezTo>
                <a:cubicBezTo>
                  <a:pt x="38" y="142"/>
                  <a:pt x="28" y="123"/>
                  <a:pt x="28" y="12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6594120" y="1764720"/>
            <a:ext cx="1018080" cy="1288800"/>
            <a:chOff x="6594120" y="1764720"/>
            <a:chExt cx="1018080" cy="1288800"/>
          </a:xfrm>
        </p:grpSpPr>
        <p:sp>
          <p:nvSpPr>
            <p:cNvPr id="1493" name=""/>
            <p:cNvSpPr/>
            <p:nvPr/>
          </p:nvSpPr>
          <p:spPr>
            <a:xfrm rot="16974600">
              <a:off x="6531480" y="2017800"/>
              <a:ext cx="1143000" cy="782640"/>
            </a:xfrm>
            <a:custGeom>
              <a:avLst/>
              <a:gdLst/>
              <a:ahLst/>
              <a:rect l="l" t="t" r="r" b="b"/>
              <a:pathLst>
                <a:path w="1149" h="942">
                  <a:moveTo>
                    <a:pt x="0" y="622"/>
                  </a:moveTo>
                  <a:cubicBezTo>
                    <a:pt x="33" y="528"/>
                    <a:pt x="0" y="638"/>
                    <a:pt x="0" y="437"/>
                  </a:cubicBezTo>
                  <a:cubicBezTo>
                    <a:pt x="0" y="347"/>
                    <a:pt x="7" y="257"/>
                    <a:pt x="13" y="167"/>
                  </a:cubicBezTo>
                  <a:cubicBezTo>
                    <a:pt x="17" y="105"/>
                    <a:pt x="11" y="27"/>
                    <a:pt x="74" y="7"/>
                  </a:cubicBezTo>
                  <a:cubicBezTo>
                    <a:pt x="87" y="47"/>
                    <a:pt x="110" y="77"/>
                    <a:pt x="123" y="117"/>
                  </a:cubicBezTo>
                  <a:cubicBezTo>
                    <a:pt x="127" y="261"/>
                    <a:pt x="120" y="405"/>
                    <a:pt x="136" y="548"/>
                  </a:cubicBezTo>
                  <a:cubicBezTo>
                    <a:pt x="138" y="563"/>
                    <a:pt x="161" y="582"/>
                    <a:pt x="173" y="573"/>
                  </a:cubicBezTo>
                  <a:cubicBezTo>
                    <a:pt x="186" y="563"/>
                    <a:pt x="206" y="456"/>
                    <a:pt x="210" y="437"/>
                  </a:cubicBezTo>
                  <a:cubicBezTo>
                    <a:pt x="214" y="298"/>
                    <a:pt x="206" y="157"/>
                    <a:pt x="222" y="19"/>
                  </a:cubicBezTo>
                  <a:cubicBezTo>
                    <a:pt x="223" y="6"/>
                    <a:pt x="248" y="0"/>
                    <a:pt x="259" y="7"/>
                  </a:cubicBezTo>
                  <a:cubicBezTo>
                    <a:pt x="270" y="13"/>
                    <a:pt x="291" y="78"/>
                    <a:pt x="296" y="93"/>
                  </a:cubicBezTo>
                  <a:cubicBezTo>
                    <a:pt x="292" y="204"/>
                    <a:pt x="283" y="314"/>
                    <a:pt x="283" y="425"/>
                  </a:cubicBezTo>
                  <a:cubicBezTo>
                    <a:pt x="283" y="557"/>
                    <a:pt x="267" y="544"/>
                    <a:pt x="345" y="523"/>
                  </a:cubicBezTo>
                  <a:cubicBezTo>
                    <a:pt x="397" y="368"/>
                    <a:pt x="343" y="199"/>
                    <a:pt x="394" y="43"/>
                  </a:cubicBezTo>
                  <a:cubicBezTo>
                    <a:pt x="406" y="51"/>
                    <a:pt x="423" y="55"/>
                    <a:pt x="431" y="68"/>
                  </a:cubicBezTo>
                  <a:cubicBezTo>
                    <a:pt x="445" y="90"/>
                    <a:pt x="456" y="142"/>
                    <a:pt x="456" y="142"/>
                  </a:cubicBezTo>
                  <a:cubicBezTo>
                    <a:pt x="464" y="398"/>
                    <a:pt x="365" y="491"/>
                    <a:pt x="542" y="548"/>
                  </a:cubicBezTo>
                  <a:cubicBezTo>
                    <a:pt x="578" y="438"/>
                    <a:pt x="577" y="318"/>
                    <a:pt x="591" y="203"/>
                  </a:cubicBezTo>
                  <a:cubicBezTo>
                    <a:pt x="608" y="63"/>
                    <a:pt x="567" y="103"/>
                    <a:pt x="640" y="56"/>
                  </a:cubicBezTo>
                  <a:cubicBezTo>
                    <a:pt x="773" y="99"/>
                    <a:pt x="680" y="330"/>
                    <a:pt x="653" y="437"/>
                  </a:cubicBezTo>
                  <a:cubicBezTo>
                    <a:pt x="649" y="454"/>
                    <a:pt x="644" y="470"/>
                    <a:pt x="640" y="487"/>
                  </a:cubicBezTo>
                  <a:cubicBezTo>
                    <a:pt x="634" y="512"/>
                    <a:pt x="616" y="560"/>
                    <a:pt x="616" y="560"/>
                  </a:cubicBezTo>
                  <a:cubicBezTo>
                    <a:pt x="620" y="581"/>
                    <a:pt x="610" y="611"/>
                    <a:pt x="628" y="622"/>
                  </a:cubicBezTo>
                  <a:cubicBezTo>
                    <a:pt x="699" y="663"/>
                    <a:pt x="716" y="570"/>
                    <a:pt x="739" y="536"/>
                  </a:cubicBezTo>
                  <a:cubicBezTo>
                    <a:pt x="762" y="467"/>
                    <a:pt x="748" y="512"/>
                    <a:pt x="776" y="400"/>
                  </a:cubicBezTo>
                  <a:cubicBezTo>
                    <a:pt x="779" y="387"/>
                    <a:pt x="779" y="372"/>
                    <a:pt x="788" y="363"/>
                  </a:cubicBezTo>
                  <a:cubicBezTo>
                    <a:pt x="797" y="354"/>
                    <a:pt x="813" y="355"/>
                    <a:pt x="825" y="351"/>
                  </a:cubicBezTo>
                  <a:cubicBezTo>
                    <a:pt x="876" y="426"/>
                    <a:pt x="875" y="409"/>
                    <a:pt x="837" y="560"/>
                  </a:cubicBezTo>
                  <a:cubicBezTo>
                    <a:pt x="830" y="589"/>
                    <a:pt x="788" y="634"/>
                    <a:pt x="788" y="634"/>
                  </a:cubicBezTo>
                  <a:cubicBezTo>
                    <a:pt x="776" y="672"/>
                    <a:pt x="749" y="716"/>
                    <a:pt x="850" y="659"/>
                  </a:cubicBezTo>
                  <a:cubicBezTo>
                    <a:pt x="861" y="653"/>
                    <a:pt x="856" y="634"/>
                    <a:pt x="862" y="622"/>
                  </a:cubicBezTo>
                  <a:cubicBezTo>
                    <a:pt x="888" y="568"/>
                    <a:pt x="909" y="520"/>
                    <a:pt x="960" y="487"/>
                  </a:cubicBezTo>
                  <a:cubicBezTo>
                    <a:pt x="972" y="495"/>
                    <a:pt x="995" y="497"/>
                    <a:pt x="997" y="511"/>
                  </a:cubicBezTo>
                  <a:cubicBezTo>
                    <a:pt x="1004" y="550"/>
                    <a:pt x="1001" y="636"/>
                    <a:pt x="960" y="671"/>
                  </a:cubicBezTo>
                  <a:cubicBezTo>
                    <a:pt x="938" y="690"/>
                    <a:pt x="886" y="720"/>
                    <a:pt x="886" y="720"/>
                  </a:cubicBezTo>
                  <a:cubicBezTo>
                    <a:pt x="857" y="764"/>
                    <a:pt x="846" y="780"/>
                    <a:pt x="862" y="831"/>
                  </a:cubicBezTo>
                  <a:cubicBezTo>
                    <a:pt x="887" y="827"/>
                    <a:pt x="916" y="833"/>
                    <a:pt x="936" y="819"/>
                  </a:cubicBezTo>
                  <a:cubicBezTo>
                    <a:pt x="966" y="798"/>
                    <a:pt x="1010" y="707"/>
                    <a:pt x="1034" y="671"/>
                  </a:cubicBezTo>
                  <a:cubicBezTo>
                    <a:pt x="1041" y="660"/>
                    <a:pt x="1036" y="642"/>
                    <a:pt x="1046" y="634"/>
                  </a:cubicBezTo>
                  <a:cubicBezTo>
                    <a:pt x="1059" y="623"/>
                    <a:pt x="1079" y="626"/>
                    <a:pt x="1096" y="622"/>
                  </a:cubicBezTo>
                  <a:cubicBezTo>
                    <a:pt x="1108" y="626"/>
                    <a:pt x="1131" y="621"/>
                    <a:pt x="1133" y="634"/>
                  </a:cubicBezTo>
                  <a:cubicBezTo>
                    <a:pt x="1149" y="731"/>
                    <a:pt x="1109" y="822"/>
                    <a:pt x="1034" y="880"/>
                  </a:cubicBezTo>
                  <a:cubicBezTo>
                    <a:pt x="957" y="941"/>
                    <a:pt x="960" y="899"/>
                    <a:pt x="960" y="9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6974600">
              <a:off x="7390800" y="190908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6974600">
              <a:off x="6885360" y="221400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16974600">
              <a:off x="6867360" y="245484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16974600">
              <a:off x="7091640" y="209700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6974600">
              <a:off x="6689520" y="28663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16974600">
              <a:off x="6935040" y="291636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16974600">
              <a:off x="7004520" y="235980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16974600">
              <a:off x="6710760" y="247572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6974600">
              <a:off x="7240320" y="233892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16974600">
              <a:off x="7008840" y="2662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6974600">
              <a:off x="6660360" y="260136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6974600">
              <a:off x="6828840" y="289692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769160" y="5112000"/>
            <a:ext cx="466920" cy="309600"/>
            <a:chOff x="7769160" y="5112000"/>
            <a:chExt cx="466920" cy="309600"/>
          </a:xfrm>
        </p:grpSpPr>
        <p:sp>
          <p:nvSpPr>
            <p:cNvPr id="1507" name=""/>
            <p:cNvSpPr/>
            <p:nvPr/>
          </p:nvSpPr>
          <p:spPr>
            <a:xfrm rot="16202400">
              <a:off x="7957440" y="5069160"/>
              <a:ext cx="103680" cy="397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6202400">
              <a:off x="7957440" y="5014080"/>
              <a:ext cx="103680" cy="299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2400">
              <a:off x="7950600" y="5135760"/>
              <a:ext cx="103680" cy="46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 flipH="1" rot="16203000">
            <a:off x="8077680" y="301464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 rot="16203000">
            <a:off x="6798240" y="152388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667080" y="1420200"/>
            <a:ext cx="1872360" cy="4447800"/>
            <a:chOff x="667080" y="1420200"/>
            <a:chExt cx="1872360" cy="4447800"/>
          </a:xfrm>
        </p:grpSpPr>
        <p:sp>
          <p:nvSpPr>
            <p:cNvPr id="1513" name=""/>
            <p:cNvSpPr/>
            <p:nvPr/>
          </p:nvSpPr>
          <p:spPr>
            <a:xfrm rot="21535800">
              <a:off x="1586880" y="1429920"/>
              <a:ext cx="917640" cy="3737520"/>
            </a:xfrm>
            <a:custGeom>
              <a:avLst/>
              <a:gdLst/>
              <a:ahLst/>
              <a:rect l="l" t="t" r="r" b="b"/>
              <a:pathLst>
                <a:path w="995" h="2905">
                  <a:moveTo>
                    <a:pt x="0" y="15"/>
                  </a:moveTo>
                  <a:cubicBezTo>
                    <a:pt x="51" y="7"/>
                    <a:pt x="102" y="0"/>
                    <a:pt x="160" y="15"/>
                  </a:cubicBezTo>
                  <a:cubicBezTo>
                    <a:pt x="218" y="30"/>
                    <a:pt x="297" y="70"/>
                    <a:pt x="350" y="105"/>
                  </a:cubicBezTo>
                  <a:cubicBezTo>
                    <a:pt x="403" y="140"/>
                    <a:pt x="433" y="180"/>
                    <a:pt x="480" y="225"/>
                  </a:cubicBezTo>
                  <a:cubicBezTo>
                    <a:pt x="527" y="270"/>
                    <a:pt x="588" y="320"/>
                    <a:pt x="630" y="375"/>
                  </a:cubicBezTo>
                  <a:cubicBezTo>
                    <a:pt x="672" y="430"/>
                    <a:pt x="700" y="502"/>
                    <a:pt x="730" y="555"/>
                  </a:cubicBezTo>
                  <a:cubicBezTo>
                    <a:pt x="760" y="608"/>
                    <a:pt x="785" y="632"/>
                    <a:pt x="810" y="695"/>
                  </a:cubicBezTo>
                  <a:cubicBezTo>
                    <a:pt x="835" y="758"/>
                    <a:pt x="855" y="853"/>
                    <a:pt x="880" y="935"/>
                  </a:cubicBezTo>
                  <a:cubicBezTo>
                    <a:pt x="905" y="1017"/>
                    <a:pt x="942" y="1092"/>
                    <a:pt x="960" y="1185"/>
                  </a:cubicBezTo>
                  <a:cubicBezTo>
                    <a:pt x="978" y="1278"/>
                    <a:pt x="985" y="1400"/>
                    <a:pt x="990" y="1495"/>
                  </a:cubicBezTo>
                  <a:cubicBezTo>
                    <a:pt x="995" y="1590"/>
                    <a:pt x="990" y="1673"/>
                    <a:pt x="990" y="1755"/>
                  </a:cubicBezTo>
                  <a:cubicBezTo>
                    <a:pt x="990" y="1837"/>
                    <a:pt x="995" y="1925"/>
                    <a:pt x="990" y="1985"/>
                  </a:cubicBezTo>
                  <a:cubicBezTo>
                    <a:pt x="985" y="2045"/>
                    <a:pt x="975" y="2042"/>
                    <a:pt x="960" y="2115"/>
                  </a:cubicBezTo>
                  <a:cubicBezTo>
                    <a:pt x="945" y="2188"/>
                    <a:pt x="922" y="2333"/>
                    <a:pt x="900" y="2425"/>
                  </a:cubicBezTo>
                  <a:cubicBezTo>
                    <a:pt x="878" y="2517"/>
                    <a:pt x="862" y="2585"/>
                    <a:pt x="830" y="2665"/>
                  </a:cubicBezTo>
                  <a:cubicBezTo>
                    <a:pt x="798" y="2745"/>
                    <a:pt x="754" y="2825"/>
                    <a:pt x="710" y="2905"/>
                  </a:cubicBezTo>
                </a:path>
              </a:pathLst>
            </a:cu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1535800">
              <a:off x="708120" y="1434240"/>
              <a:ext cx="1567800" cy="4419360"/>
            </a:xfrm>
            <a:custGeom>
              <a:avLst/>
              <a:gdLst/>
              <a:ahLst/>
              <a:rect l="l" t="t" r="r" b="b"/>
              <a:pathLst>
                <a:path w="1700" h="3435">
                  <a:moveTo>
                    <a:pt x="1700" y="2860"/>
                  </a:moveTo>
                  <a:cubicBezTo>
                    <a:pt x="1666" y="2924"/>
                    <a:pt x="1633" y="2988"/>
                    <a:pt x="1590" y="3050"/>
                  </a:cubicBezTo>
                  <a:cubicBezTo>
                    <a:pt x="1547" y="3112"/>
                    <a:pt x="1488" y="3180"/>
                    <a:pt x="1440" y="3230"/>
                  </a:cubicBezTo>
                  <a:cubicBezTo>
                    <a:pt x="1392" y="3280"/>
                    <a:pt x="1360" y="3318"/>
                    <a:pt x="1300" y="3350"/>
                  </a:cubicBezTo>
                  <a:cubicBezTo>
                    <a:pt x="1240" y="3382"/>
                    <a:pt x="1138" y="3408"/>
                    <a:pt x="1080" y="3420"/>
                  </a:cubicBezTo>
                  <a:cubicBezTo>
                    <a:pt x="1022" y="3432"/>
                    <a:pt x="1018" y="3435"/>
                    <a:pt x="950" y="3420"/>
                  </a:cubicBezTo>
                  <a:cubicBezTo>
                    <a:pt x="882" y="3405"/>
                    <a:pt x="753" y="3375"/>
                    <a:pt x="670" y="3330"/>
                  </a:cubicBezTo>
                  <a:cubicBezTo>
                    <a:pt x="587" y="3285"/>
                    <a:pt x="512" y="3217"/>
                    <a:pt x="450" y="3150"/>
                  </a:cubicBezTo>
                  <a:cubicBezTo>
                    <a:pt x="388" y="3083"/>
                    <a:pt x="342" y="2993"/>
                    <a:pt x="300" y="2930"/>
                  </a:cubicBezTo>
                  <a:cubicBezTo>
                    <a:pt x="258" y="2867"/>
                    <a:pt x="233" y="2837"/>
                    <a:pt x="200" y="2770"/>
                  </a:cubicBezTo>
                  <a:cubicBezTo>
                    <a:pt x="167" y="2703"/>
                    <a:pt x="125" y="2610"/>
                    <a:pt x="100" y="2530"/>
                  </a:cubicBezTo>
                  <a:cubicBezTo>
                    <a:pt x="75" y="2450"/>
                    <a:pt x="63" y="2372"/>
                    <a:pt x="50" y="2290"/>
                  </a:cubicBezTo>
                  <a:cubicBezTo>
                    <a:pt x="37" y="2208"/>
                    <a:pt x="28" y="2122"/>
                    <a:pt x="20" y="2040"/>
                  </a:cubicBezTo>
                  <a:cubicBezTo>
                    <a:pt x="12" y="1958"/>
                    <a:pt x="0" y="1887"/>
                    <a:pt x="0" y="1800"/>
                  </a:cubicBezTo>
                  <a:cubicBezTo>
                    <a:pt x="0" y="1713"/>
                    <a:pt x="17" y="1603"/>
                    <a:pt x="20" y="1520"/>
                  </a:cubicBezTo>
                  <a:cubicBezTo>
                    <a:pt x="23" y="1437"/>
                    <a:pt x="5" y="1392"/>
                    <a:pt x="20" y="1300"/>
                  </a:cubicBezTo>
                  <a:cubicBezTo>
                    <a:pt x="35" y="1208"/>
                    <a:pt x="80" y="1073"/>
                    <a:pt x="110" y="970"/>
                  </a:cubicBezTo>
                  <a:cubicBezTo>
                    <a:pt x="140" y="867"/>
                    <a:pt x="165" y="763"/>
                    <a:pt x="200" y="680"/>
                  </a:cubicBezTo>
                  <a:cubicBezTo>
                    <a:pt x="235" y="597"/>
                    <a:pt x="277" y="540"/>
                    <a:pt x="320" y="470"/>
                  </a:cubicBezTo>
                  <a:cubicBezTo>
                    <a:pt x="363" y="400"/>
                    <a:pt x="418" y="312"/>
                    <a:pt x="460" y="260"/>
                  </a:cubicBezTo>
                  <a:cubicBezTo>
                    <a:pt x="502" y="208"/>
                    <a:pt x="527" y="192"/>
                    <a:pt x="570" y="160"/>
                  </a:cubicBezTo>
                  <a:cubicBezTo>
                    <a:pt x="613" y="128"/>
                    <a:pt x="662" y="97"/>
                    <a:pt x="720" y="70"/>
                  </a:cubicBezTo>
                  <a:cubicBezTo>
                    <a:pt x="778" y="43"/>
                    <a:pt x="849" y="21"/>
                    <a:pt x="920" y="0"/>
                  </a:cubicBezTo>
                </a:path>
              </a:pathLst>
            </a:cu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 rot="21535800">
            <a:off x="975960" y="2141280"/>
            <a:ext cx="771480" cy="106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535800">
            <a:off x="1083960" y="2219400"/>
            <a:ext cx="563400" cy="776160"/>
          </a:xfrm>
          <a:custGeom>
            <a:avLst/>
            <a:gdLst/>
            <a:ahLst/>
            <a:rect l="l" t="t" r="r" b="b"/>
            <a:pathLst>
              <a:path w="470" h="423">
                <a:moveTo>
                  <a:pt x="88" y="93"/>
                </a:moveTo>
                <a:cubicBezTo>
                  <a:pt x="131" y="107"/>
                  <a:pt x="135" y="89"/>
                  <a:pt x="178" y="103"/>
                </a:cubicBezTo>
                <a:cubicBezTo>
                  <a:pt x="214" y="157"/>
                  <a:pt x="201" y="218"/>
                  <a:pt x="238" y="273"/>
                </a:cubicBezTo>
                <a:cubicBezTo>
                  <a:pt x="271" y="270"/>
                  <a:pt x="306" y="274"/>
                  <a:pt x="338" y="263"/>
                </a:cubicBezTo>
                <a:cubicBezTo>
                  <a:pt x="393" y="245"/>
                  <a:pt x="338" y="186"/>
                  <a:pt x="318" y="173"/>
                </a:cubicBezTo>
                <a:cubicBezTo>
                  <a:pt x="254" y="180"/>
                  <a:pt x="208" y="163"/>
                  <a:pt x="188" y="223"/>
                </a:cubicBezTo>
                <a:cubicBezTo>
                  <a:pt x="155" y="220"/>
                  <a:pt x="117" y="229"/>
                  <a:pt x="88" y="213"/>
                </a:cubicBezTo>
                <a:cubicBezTo>
                  <a:pt x="76" y="206"/>
                  <a:pt x="87" y="181"/>
                  <a:pt x="98" y="173"/>
                </a:cubicBezTo>
                <a:cubicBezTo>
                  <a:pt x="106" y="167"/>
                  <a:pt x="118" y="180"/>
                  <a:pt x="128" y="183"/>
                </a:cubicBezTo>
                <a:cubicBezTo>
                  <a:pt x="118" y="235"/>
                  <a:pt x="128" y="256"/>
                  <a:pt x="78" y="273"/>
                </a:cubicBezTo>
                <a:cubicBezTo>
                  <a:pt x="68" y="283"/>
                  <a:pt x="60" y="295"/>
                  <a:pt x="48" y="303"/>
                </a:cubicBezTo>
                <a:cubicBezTo>
                  <a:pt x="2" y="333"/>
                  <a:pt x="27" y="286"/>
                  <a:pt x="8" y="343"/>
                </a:cubicBezTo>
                <a:cubicBezTo>
                  <a:pt x="11" y="366"/>
                  <a:pt x="0" y="398"/>
                  <a:pt x="18" y="413"/>
                </a:cubicBezTo>
                <a:cubicBezTo>
                  <a:pt x="28" y="421"/>
                  <a:pt x="90" y="399"/>
                  <a:pt x="108" y="393"/>
                </a:cubicBezTo>
                <a:cubicBezTo>
                  <a:pt x="118" y="383"/>
                  <a:pt x="131" y="375"/>
                  <a:pt x="138" y="363"/>
                </a:cubicBezTo>
                <a:cubicBezTo>
                  <a:pt x="148" y="345"/>
                  <a:pt x="158" y="303"/>
                  <a:pt x="158" y="303"/>
                </a:cubicBezTo>
                <a:cubicBezTo>
                  <a:pt x="148" y="296"/>
                  <a:pt x="140" y="281"/>
                  <a:pt x="128" y="283"/>
                </a:cubicBezTo>
                <a:cubicBezTo>
                  <a:pt x="95" y="290"/>
                  <a:pt x="111" y="354"/>
                  <a:pt x="118" y="363"/>
                </a:cubicBezTo>
                <a:cubicBezTo>
                  <a:pt x="148" y="401"/>
                  <a:pt x="205" y="412"/>
                  <a:pt x="248" y="423"/>
                </a:cubicBezTo>
                <a:cubicBezTo>
                  <a:pt x="261" y="420"/>
                  <a:pt x="277" y="421"/>
                  <a:pt x="288" y="413"/>
                </a:cubicBezTo>
                <a:cubicBezTo>
                  <a:pt x="321" y="391"/>
                  <a:pt x="303" y="353"/>
                  <a:pt x="318" y="323"/>
                </a:cubicBezTo>
                <a:cubicBezTo>
                  <a:pt x="326" y="307"/>
                  <a:pt x="364" y="298"/>
                  <a:pt x="378" y="293"/>
                </a:cubicBezTo>
                <a:cubicBezTo>
                  <a:pt x="470" y="155"/>
                  <a:pt x="357" y="35"/>
                  <a:pt x="228" y="3"/>
                </a:cubicBezTo>
                <a:cubicBezTo>
                  <a:pt x="215" y="6"/>
                  <a:pt x="193" y="0"/>
                  <a:pt x="188" y="13"/>
                </a:cubicBezTo>
                <a:cubicBezTo>
                  <a:pt x="167" y="63"/>
                  <a:pt x="201" y="75"/>
                  <a:pt x="228" y="93"/>
                </a:cubicBezTo>
                <a:cubicBezTo>
                  <a:pt x="245" y="90"/>
                  <a:pt x="263" y="90"/>
                  <a:pt x="278" y="83"/>
                </a:cubicBezTo>
                <a:cubicBezTo>
                  <a:pt x="300" y="73"/>
                  <a:pt x="338" y="43"/>
                  <a:pt x="338" y="43"/>
                </a:cubicBezTo>
                <a:cubicBezTo>
                  <a:pt x="376" y="56"/>
                  <a:pt x="385" y="81"/>
                  <a:pt x="418" y="103"/>
                </a:cubicBezTo>
                <a:cubicBezTo>
                  <a:pt x="453" y="155"/>
                  <a:pt x="458" y="211"/>
                  <a:pt x="468" y="273"/>
                </a:cubicBezTo>
                <a:cubicBezTo>
                  <a:pt x="453" y="319"/>
                  <a:pt x="447" y="329"/>
                  <a:pt x="398" y="313"/>
                </a:cubicBezTo>
                <a:cubicBezTo>
                  <a:pt x="405" y="286"/>
                  <a:pt x="411" y="260"/>
                  <a:pt x="418" y="233"/>
                </a:cubicBezTo>
                <a:cubicBezTo>
                  <a:pt x="438" y="154"/>
                  <a:pt x="267" y="147"/>
                  <a:pt x="228" y="143"/>
                </a:cubicBezTo>
                <a:cubicBezTo>
                  <a:pt x="215" y="140"/>
                  <a:pt x="201" y="137"/>
                  <a:pt x="188" y="133"/>
                </a:cubicBezTo>
                <a:cubicBezTo>
                  <a:pt x="168" y="127"/>
                  <a:pt x="128" y="113"/>
                  <a:pt x="128" y="113"/>
                </a:cubicBezTo>
                <a:cubicBezTo>
                  <a:pt x="61" y="120"/>
                  <a:pt x="1" y="103"/>
                  <a:pt x="28" y="183"/>
                </a:cubicBezTo>
                <a:cubicBezTo>
                  <a:pt x="31" y="173"/>
                  <a:pt x="38" y="164"/>
                  <a:pt x="38" y="153"/>
                </a:cubicBezTo>
                <a:cubicBezTo>
                  <a:pt x="38" y="142"/>
                  <a:pt x="28" y="123"/>
                  <a:pt x="28" y="12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rot="21536400">
            <a:off x="1349280" y="506844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307160" y="4710600"/>
            <a:ext cx="574920" cy="758880"/>
            <a:chOff x="1307160" y="4710600"/>
            <a:chExt cx="574920" cy="758880"/>
          </a:xfrm>
        </p:grpSpPr>
        <p:sp>
          <p:nvSpPr>
            <p:cNvPr id="1519" name=""/>
            <p:cNvSpPr/>
            <p:nvPr/>
          </p:nvSpPr>
          <p:spPr>
            <a:xfrm rot="19836000">
              <a:off x="1470600" y="4723920"/>
              <a:ext cx="247320" cy="73188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21535800">
              <a:off x="1441440" y="4852800"/>
              <a:ext cx="326880" cy="48096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 rot="21535800">
            <a:off x="1504440" y="1510920"/>
            <a:ext cx="276480" cy="71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872000" y="4791960"/>
            <a:ext cx="236520" cy="642600"/>
            <a:chOff x="1872000" y="4791960"/>
            <a:chExt cx="236520" cy="642600"/>
          </a:xfrm>
        </p:grpSpPr>
        <p:sp>
          <p:nvSpPr>
            <p:cNvPr id="1523" name=""/>
            <p:cNvSpPr/>
            <p:nvPr/>
          </p:nvSpPr>
          <p:spPr>
            <a:xfrm rot="21535800">
              <a:off x="1952640" y="4848120"/>
              <a:ext cx="75960" cy="545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21535800">
              <a:off x="2028600" y="4913640"/>
              <a:ext cx="75960" cy="411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21535800">
              <a:off x="1877760" y="4792320"/>
              <a:ext cx="75960" cy="641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H="1" rot="21536400">
            <a:off x="1607040" y="5613120"/>
            <a:ext cx="69840" cy="9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rot="21536400">
            <a:off x="1398600" y="378432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rot="21536400">
            <a:off x="1593720" y="160452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 rot="21536400">
            <a:off x="1622520" y="4179600"/>
            <a:ext cx="7128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1028880" y="4089240"/>
            <a:ext cx="351000" cy="524160"/>
            <a:chOff x="1028880" y="4089240"/>
            <a:chExt cx="351000" cy="524160"/>
          </a:xfrm>
        </p:grpSpPr>
        <p:sp>
          <p:nvSpPr>
            <p:cNvPr id="1531" name=""/>
            <p:cNvSpPr/>
            <p:nvPr/>
          </p:nvSpPr>
          <p:spPr>
            <a:xfrm rot="21535800">
              <a:off x="1033560" y="4092480"/>
              <a:ext cx="341280" cy="517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1535800">
              <a:off x="1077480" y="43524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21535800">
              <a:off x="1089000" y="417924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21535800">
              <a:off x="1266840" y="427104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1535800">
              <a:off x="1153080" y="413208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1535800">
              <a:off x="1154520" y="44064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1535800">
              <a:off x="1162800" y="42876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1535800">
              <a:off x="1222920" y="415296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1535800">
              <a:off x="1238040" y="440460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 flipH="1" rot="21536400">
            <a:off x="820800" y="317160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rot="21536400">
            <a:off x="2230560" y="412092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rot="21536400">
            <a:off x="1293840" y="538596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882720" y="3567960"/>
            <a:ext cx="237240" cy="642600"/>
            <a:chOff x="882720" y="3567960"/>
            <a:chExt cx="237240" cy="642600"/>
          </a:xfrm>
        </p:grpSpPr>
        <p:sp>
          <p:nvSpPr>
            <p:cNvPr id="1544" name=""/>
            <p:cNvSpPr/>
            <p:nvPr/>
          </p:nvSpPr>
          <p:spPr>
            <a:xfrm rot="21535800">
              <a:off x="963360" y="3624120"/>
              <a:ext cx="76320" cy="545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21535800">
              <a:off x="1039680" y="3689640"/>
              <a:ext cx="76320" cy="411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21535800">
              <a:off x="888480" y="3568320"/>
              <a:ext cx="76320" cy="641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2081160" y="3395880"/>
            <a:ext cx="325800" cy="523440"/>
            <a:chOff x="2081160" y="3395880"/>
            <a:chExt cx="325800" cy="523440"/>
          </a:xfrm>
        </p:grpSpPr>
        <p:sp>
          <p:nvSpPr>
            <p:cNvPr id="1548" name=""/>
            <p:cNvSpPr/>
            <p:nvPr/>
          </p:nvSpPr>
          <p:spPr>
            <a:xfrm rot="21535800">
              <a:off x="2085840" y="3398400"/>
              <a:ext cx="316080" cy="517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1535800">
              <a:off x="2126520" y="3658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21535800">
              <a:off x="2136960" y="348516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1535800">
              <a:off x="2301840" y="3577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21535800">
              <a:off x="2196360" y="343800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21535800">
              <a:off x="2198160" y="3712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1535800">
              <a:off x="2205720" y="359388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21535800">
              <a:off x="2261160" y="345924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1535800">
              <a:off x="2275200" y="371088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1647720" y="1746720"/>
            <a:ext cx="574200" cy="757800"/>
            <a:chOff x="1647720" y="1746720"/>
            <a:chExt cx="574200" cy="757800"/>
          </a:xfrm>
        </p:grpSpPr>
        <p:sp>
          <p:nvSpPr>
            <p:cNvPr id="1558" name=""/>
            <p:cNvSpPr/>
            <p:nvPr/>
          </p:nvSpPr>
          <p:spPr>
            <a:xfrm rot="19836000">
              <a:off x="1810800" y="1760040"/>
              <a:ext cx="247320" cy="73044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21535800">
              <a:off x="1781280" y="1888920"/>
              <a:ext cx="326880" cy="47988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01160" y="2470680"/>
            <a:ext cx="1263240" cy="1381680"/>
            <a:chOff x="1001160" y="2470680"/>
            <a:chExt cx="1263240" cy="1381680"/>
          </a:xfrm>
        </p:grpSpPr>
        <p:sp>
          <p:nvSpPr>
            <p:cNvPr id="1561" name=""/>
            <p:cNvSpPr/>
            <p:nvPr/>
          </p:nvSpPr>
          <p:spPr>
            <a:xfrm rot="7288800">
              <a:off x="1062000" y="2770200"/>
              <a:ext cx="1141200" cy="782640"/>
            </a:xfrm>
            <a:custGeom>
              <a:avLst/>
              <a:gdLst/>
              <a:ahLst/>
              <a:rect l="l" t="t" r="r" b="b"/>
              <a:pathLst>
                <a:path w="1149" h="942">
                  <a:moveTo>
                    <a:pt x="0" y="622"/>
                  </a:moveTo>
                  <a:cubicBezTo>
                    <a:pt x="33" y="528"/>
                    <a:pt x="0" y="638"/>
                    <a:pt x="0" y="437"/>
                  </a:cubicBezTo>
                  <a:cubicBezTo>
                    <a:pt x="0" y="347"/>
                    <a:pt x="7" y="257"/>
                    <a:pt x="13" y="167"/>
                  </a:cubicBezTo>
                  <a:cubicBezTo>
                    <a:pt x="17" y="105"/>
                    <a:pt x="11" y="27"/>
                    <a:pt x="74" y="7"/>
                  </a:cubicBezTo>
                  <a:cubicBezTo>
                    <a:pt x="87" y="47"/>
                    <a:pt x="110" y="77"/>
                    <a:pt x="123" y="117"/>
                  </a:cubicBezTo>
                  <a:cubicBezTo>
                    <a:pt x="127" y="261"/>
                    <a:pt x="120" y="405"/>
                    <a:pt x="136" y="548"/>
                  </a:cubicBezTo>
                  <a:cubicBezTo>
                    <a:pt x="138" y="563"/>
                    <a:pt x="161" y="582"/>
                    <a:pt x="173" y="573"/>
                  </a:cubicBezTo>
                  <a:cubicBezTo>
                    <a:pt x="186" y="563"/>
                    <a:pt x="206" y="456"/>
                    <a:pt x="210" y="437"/>
                  </a:cubicBezTo>
                  <a:cubicBezTo>
                    <a:pt x="214" y="298"/>
                    <a:pt x="206" y="157"/>
                    <a:pt x="222" y="19"/>
                  </a:cubicBezTo>
                  <a:cubicBezTo>
                    <a:pt x="223" y="6"/>
                    <a:pt x="248" y="0"/>
                    <a:pt x="259" y="7"/>
                  </a:cubicBezTo>
                  <a:cubicBezTo>
                    <a:pt x="270" y="13"/>
                    <a:pt x="291" y="78"/>
                    <a:pt x="296" y="93"/>
                  </a:cubicBezTo>
                  <a:cubicBezTo>
                    <a:pt x="292" y="204"/>
                    <a:pt x="283" y="314"/>
                    <a:pt x="283" y="425"/>
                  </a:cubicBezTo>
                  <a:cubicBezTo>
                    <a:pt x="283" y="557"/>
                    <a:pt x="267" y="544"/>
                    <a:pt x="345" y="523"/>
                  </a:cubicBezTo>
                  <a:cubicBezTo>
                    <a:pt x="397" y="368"/>
                    <a:pt x="343" y="199"/>
                    <a:pt x="394" y="43"/>
                  </a:cubicBezTo>
                  <a:cubicBezTo>
                    <a:pt x="406" y="51"/>
                    <a:pt x="423" y="55"/>
                    <a:pt x="431" y="68"/>
                  </a:cubicBezTo>
                  <a:cubicBezTo>
                    <a:pt x="445" y="90"/>
                    <a:pt x="456" y="142"/>
                    <a:pt x="456" y="142"/>
                  </a:cubicBezTo>
                  <a:cubicBezTo>
                    <a:pt x="464" y="398"/>
                    <a:pt x="365" y="491"/>
                    <a:pt x="542" y="548"/>
                  </a:cubicBezTo>
                  <a:cubicBezTo>
                    <a:pt x="578" y="438"/>
                    <a:pt x="577" y="318"/>
                    <a:pt x="591" y="203"/>
                  </a:cubicBezTo>
                  <a:cubicBezTo>
                    <a:pt x="608" y="63"/>
                    <a:pt x="567" y="103"/>
                    <a:pt x="640" y="56"/>
                  </a:cubicBezTo>
                  <a:cubicBezTo>
                    <a:pt x="773" y="99"/>
                    <a:pt x="680" y="330"/>
                    <a:pt x="653" y="437"/>
                  </a:cubicBezTo>
                  <a:cubicBezTo>
                    <a:pt x="649" y="454"/>
                    <a:pt x="644" y="470"/>
                    <a:pt x="640" y="487"/>
                  </a:cubicBezTo>
                  <a:cubicBezTo>
                    <a:pt x="634" y="512"/>
                    <a:pt x="616" y="560"/>
                    <a:pt x="616" y="560"/>
                  </a:cubicBezTo>
                  <a:cubicBezTo>
                    <a:pt x="620" y="581"/>
                    <a:pt x="610" y="611"/>
                    <a:pt x="628" y="622"/>
                  </a:cubicBezTo>
                  <a:cubicBezTo>
                    <a:pt x="699" y="663"/>
                    <a:pt x="716" y="570"/>
                    <a:pt x="739" y="536"/>
                  </a:cubicBezTo>
                  <a:cubicBezTo>
                    <a:pt x="762" y="467"/>
                    <a:pt x="748" y="512"/>
                    <a:pt x="776" y="400"/>
                  </a:cubicBezTo>
                  <a:cubicBezTo>
                    <a:pt x="779" y="387"/>
                    <a:pt x="779" y="372"/>
                    <a:pt x="788" y="363"/>
                  </a:cubicBezTo>
                  <a:cubicBezTo>
                    <a:pt x="797" y="354"/>
                    <a:pt x="813" y="355"/>
                    <a:pt x="825" y="351"/>
                  </a:cubicBezTo>
                  <a:cubicBezTo>
                    <a:pt x="876" y="426"/>
                    <a:pt x="875" y="409"/>
                    <a:pt x="837" y="560"/>
                  </a:cubicBezTo>
                  <a:cubicBezTo>
                    <a:pt x="830" y="589"/>
                    <a:pt x="788" y="634"/>
                    <a:pt x="788" y="634"/>
                  </a:cubicBezTo>
                  <a:cubicBezTo>
                    <a:pt x="776" y="672"/>
                    <a:pt x="749" y="716"/>
                    <a:pt x="850" y="659"/>
                  </a:cubicBezTo>
                  <a:cubicBezTo>
                    <a:pt x="861" y="653"/>
                    <a:pt x="856" y="634"/>
                    <a:pt x="862" y="622"/>
                  </a:cubicBezTo>
                  <a:cubicBezTo>
                    <a:pt x="888" y="568"/>
                    <a:pt x="909" y="520"/>
                    <a:pt x="960" y="487"/>
                  </a:cubicBezTo>
                  <a:cubicBezTo>
                    <a:pt x="972" y="495"/>
                    <a:pt x="995" y="497"/>
                    <a:pt x="997" y="511"/>
                  </a:cubicBezTo>
                  <a:cubicBezTo>
                    <a:pt x="1004" y="550"/>
                    <a:pt x="1001" y="636"/>
                    <a:pt x="960" y="671"/>
                  </a:cubicBezTo>
                  <a:cubicBezTo>
                    <a:pt x="938" y="690"/>
                    <a:pt x="886" y="720"/>
                    <a:pt x="886" y="720"/>
                  </a:cubicBezTo>
                  <a:cubicBezTo>
                    <a:pt x="857" y="764"/>
                    <a:pt x="846" y="780"/>
                    <a:pt x="862" y="831"/>
                  </a:cubicBezTo>
                  <a:cubicBezTo>
                    <a:pt x="887" y="827"/>
                    <a:pt x="916" y="833"/>
                    <a:pt x="936" y="819"/>
                  </a:cubicBezTo>
                  <a:cubicBezTo>
                    <a:pt x="966" y="798"/>
                    <a:pt x="1010" y="707"/>
                    <a:pt x="1034" y="671"/>
                  </a:cubicBezTo>
                  <a:cubicBezTo>
                    <a:pt x="1041" y="660"/>
                    <a:pt x="1036" y="642"/>
                    <a:pt x="1046" y="634"/>
                  </a:cubicBezTo>
                  <a:cubicBezTo>
                    <a:pt x="1059" y="623"/>
                    <a:pt x="1079" y="626"/>
                    <a:pt x="1096" y="622"/>
                  </a:cubicBezTo>
                  <a:cubicBezTo>
                    <a:pt x="1108" y="626"/>
                    <a:pt x="1131" y="621"/>
                    <a:pt x="1133" y="634"/>
                  </a:cubicBezTo>
                  <a:cubicBezTo>
                    <a:pt x="1149" y="731"/>
                    <a:pt x="1109" y="822"/>
                    <a:pt x="1034" y="880"/>
                  </a:cubicBezTo>
                  <a:cubicBezTo>
                    <a:pt x="957" y="941"/>
                    <a:pt x="960" y="899"/>
                    <a:pt x="960" y="9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7288800">
              <a:off x="1165320" y="350100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7288800">
              <a:off x="1740600" y="3373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7288800">
              <a:off x="1834560" y="315144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7288800">
              <a:off x="1508400" y="3418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7288800">
              <a:off x="2133360" y="281916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7288800">
              <a:off x="1917000" y="269352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7288800">
              <a:off x="1674000" y="319824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7288800">
              <a:off x="1989720" y="31813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7288800">
              <a:off x="1444320" y="314244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7288800">
              <a:off x="1766520" y="290988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7288800">
              <a:off x="2077200" y="30787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7288800">
              <a:off x="2011680" y="274536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 flipH="1">
            <a:off x="6171120" y="2791080"/>
            <a:ext cx="51876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445040" y="2889360"/>
            <a:ext cx="7167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056280" y="3046680"/>
            <a:ext cx="1147680" cy="35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5184720" y="3408840"/>
            <a:ext cx="888120" cy="56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4766760" y="3958560"/>
            <a:ext cx="4366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5825160" y="5851080"/>
            <a:ext cx="214560" cy="22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721400" y="1600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079720" y="2209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5051160" y="1828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756320" y="18288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4299120" y="2209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232000" y="2895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517640" y="3067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5289480" y="2514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155680" y="40384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661000" y="4343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4670280" y="51721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393920" y="44197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079720" y="4648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98800" y="51465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7940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4060440" y="561024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5213160" y="6083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003400" y="1752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3179160" y="943560"/>
            <a:ext cx="1928880" cy="991800"/>
            <a:chOff x="3179160" y="943560"/>
            <a:chExt cx="1928880" cy="991800"/>
          </a:xfrm>
        </p:grpSpPr>
        <p:grpSp>
          <p:nvGrpSpPr>
            <p:cNvPr id="1599" name=""/>
            <p:cNvGrpSpPr/>
            <p:nvPr/>
          </p:nvGrpSpPr>
          <p:grpSpPr>
            <a:xfrm>
              <a:off x="3179160" y="943560"/>
              <a:ext cx="1439640" cy="830520"/>
              <a:chOff x="3179160" y="943560"/>
              <a:chExt cx="1439640" cy="830520"/>
            </a:xfrm>
          </p:grpSpPr>
          <p:sp>
            <p:nvSpPr>
              <p:cNvPr id="1600" name=""/>
              <p:cNvSpPr/>
              <p:nvPr/>
            </p:nvSpPr>
            <p:spPr>
              <a:xfrm rot="352200">
                <a:off x="3593880" y="13752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352200">
                <a:off x="3597840" y="133740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352200">
                <a:off x="3601800" y="12992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352200">
                <a:off x="3605760" y="12618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352200">
                <a:off x="3609360" y="122364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352200">
                <a:off x="3613320" y="11858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352200">
                <a:off x="3617280" y="11480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352200">
                <a:off x="3623040" y="124416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352200">
                <a:off x="3660120" y="119052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352200">
                <a:off x="3657960" y="12096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352200">
                <a:off x="3640320" y="122652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4239000" y="964080"/>
                <a:ext cx="101520" cy="267840"/>
                <a:chOff x="4239000" y="964080"/>
                <a:chExt cx="101520" cy="267840"/>
              </a:xfrm>
            </p:grpSpPr>
            <p:sp>
              <p:nvSpPr>
                <p:cNvPr id="1612" name=""/>
                <p:cNvSpPr/>
                <p:nvPr/>
              </p:nvSpPr>
              <p:spPr>
                <a:xfrm rot="352200">
                  <a:off x="4240800" y="119268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352200">
                  <a:off x="4244760" y="115488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352200">
                  <a:off x="4248720" y="111708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352200">
                  <a:off x="4252680" y="10789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352200">
                  <a:off x="4256640" y="104112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352200">
                  <a:off x="4260600" y="100296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352200">
                  <a:off x="4264200" y="9655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352200">
                  <a:off x="4269960" y="106164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352200">
                  <a:off x="4307040" y="100800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352200">
                  <a:off x="4304880" y="10267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352200">
                  <a:off x="4287600" y="104436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179160" y="1203840"/>
                <a:ext cx="1439640" cy="570240"/>
                <a:chOff x="3179160" y="1203840"/>
                <a:chExt cx="1439640" cy="570240"/>
              </a:xfrm>
            </p:grpSpPr>
            <p:grpSp>
              <p:nvGrpSpPr>
                <p:cNvPr id="1624" name=""/>
                <p:cNvGrpSpPr/>
                <p:nvPr/>
              </p:nvGrpSpPr>
              <p:grpSpPr>
                <a:xfrm>
                  <a:off x="3179160" y="1411560"/>
                  <a:ext cx="170640" cy="362520"/>
                  <a:chOff x="3179160" y="1411560"/>
                  <a:chExt cx="170640" cy="36252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 rot="352200">
                    <a:off x="3196800" y="141660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rot="352200">
                    <a:off x="3231360" y="14220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4143240" y="1203840"/>
                  <a:ext cx="170640" cy="362520"/>
                  <a:chOff x="4143240" y="1203840"/>
                  <a:chExt cx="170640" cy="36252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 rot="352200">
                    <a:off x="4160880" y="120888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 rot="352200">
                    <a:off x="4195440" y="121464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511080" y="1388160"/>
                  <a:ext cx="170640" cy="362520"/>
                  <a:chOff x="3511080" y="1388160"/>
                  <a:chExt cx="170640" cy="36252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 rot="352200">
                    <a:off x="3528720" y="139320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 rot="352200">
                    <a:off x="3563280" y="13986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4448160" y="1292400"/>
                  <a:ext cx="170640" cy="362520"/>
                  <a:chOff x="4448160" y="1292400"/>
                  <a:chExt cx="170640" cy="36252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 rot="352200">
                    <a:off x="4465800" y="129744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rot="352200">
                    <a:off x="4500360" y="13032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837960" y="1268280"/>
                  <a:ext cx="170640" cy="362520"/>
                  <a:chOff x="3837960" y="1268280"/>
                  <a:chExt cx="170640" cy="36252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 rot="352200">
                    <a:off x="3855600" y="127332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rot="352200">
                    <a:off x="3890160" y="127872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449880" y="1455480"/>
                  <a:ext cx="42840" cy="133560"/>
                  <a:chOff x="3449880" y="1455480"/>
                  <a:chExt cx="42840" cy="1335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 rot="352200">
                    <a:off x="3459600" y="14569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rot="352200">
                    <a:off x="3454560" y="1498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rot="352200">
                    <a:off x="3468600" y="1494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4126320" y="1295280"/>
                  <a:ext cx="42840" cy="133560"/>
                  <a:chOff x="4126320" y="1295280"/>
                  <a:chExt cx="42840" cy="13356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rot="352200">
                    <a:off x="4136040" y="1296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rot="352200">
                    <a:off x="4131000" y="1338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rot="352200">
                    <a:off x="4145040" y="1334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079520" y="1290600"/>
                  <a:ext cx="42840" cy="133560"/>
                  <a:chOff x="4079520" y="1290600"/>
                  <a:chExt cx="42840" cy="13356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rot="352200">
                    <a:off x="4089240" y="12920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rot="352200">
                    <a:off x="4084200" y="1333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 rot="352200">
                    <a:off x="4098240" y="13298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4046760" y="1306440"/>
                  <a:ext cx="42840" cy="133560"/>
                  <a:chOff x="4046760" y="1306440"/>
                  <a:chExt cx="42840" cy="13356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 rot="352200">
                    <a:off x="4056480" y="1307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rot="352200">
                    <a:off x="4051440" y="1349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rot="352200">
                    <a:off x="4065480" y="13456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5" name=""/>
                <p:cNvGrpSpPr/>
                <p:nvPr/>
              </p:nvGrpSpPr>
              <p:grpSpPr>
                <a:xfrm>
                  <a:off x="3999960" y="1301400"/>
                  <a:ext cx="42840" cy="133560"/>
                  <a:chOff x="3999960" y="1301400"/>
                  <a:chExt cx="42840" cy="133560"/>
                </a:xfrm>
              </p:grpSpPr>
              <p:sp>
                <p:nvSpPr>
                  <p:cNvPr id="1656" name=""/>
                  <p:cNvSpPr/>
                  <p:nvPr/>
                </p:nvSpPr>
                <p:spPr>
                  <a:xfrm rot="352200">
                    <a:off x="4009680" y="13028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rot="352200">
                    <a:off x="4004640" y="13442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352200">
                    <a:off x="4018680" y="13406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3817440" y="1397880"/>
                  <a:ext cx="42840" cy="133560"/>
                  <a:chOff x="3817440" y="1397880"/>
                  <a:chExt cx="42840" cy="13356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rot="352200">
                    <a:off x="3827160" y="13993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rot="352200">
                    <a:off x="3822120" y="1440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rot="352200">
                    <a:off x="3836160" y="1437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770640" y="1393200"/>
                  <a:ext cx="42840" cy="133200"/>
                  <a:chOff x="3770640" y="1393200"/>
                  <a:chExt cx="42840" cy="13320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 rot="352200">
                    <a:off x="3780360" y="13946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rot="352200">
                    <a:off x="3775320" y="14356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rot="352200">
                    <a:off x="3789360" y="1432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7" name=""/>
                <p:cNvGrpSpPr/>
                <p:nvPr/>
              </p:nvGrpSpPr>
              <p:grpSpPr>
                <a:xfrm>
                  <a:off x="3721680" y="1407240"/>
                  <a:ext cx="43200" cy="133560"/>
                  <a:chOff x="3721680" y="1407240"/>
                  <a:chExt cx="43200" cy="13356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 rot="352200">
                    <a:off x="3731760" y="1408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rot="352200">
                    <a:off x="3726360" y="1450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rot="352200">
                    <a:off x="3740760" y="1446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673440" y="1421280"/>
                  <a:ext cx="42840" cy="133560"/>
                  <a:chOff x="3673440" y="1421280"/>
                  <a:chExt cx="42840" cy="13356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 rot="352200">
                    <a:off x="3683160" y="1422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rot="352200">
                    <a:off x="3678120" y="1464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rot="352200">
                    <a:off x="3692160" y="1460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5" name=""/>
                <p:cNvGrpSpPr/>
                <p:nvPr/>
              </p:nvGrpSpPr>
              <p:grpSpPr>
                <a:xfrm>
                  <a:off x="3496320" y="1460520"/>
                  <a:ext cx="42840" cy="133560"/>
                  <a:chOff x="3496320" y="1460520"/>
                  <a:chExt cx="42840" cy="133560"/>
                </a:xfrm>
              </p:grpSpPr>
              <p:sp>
                <p:nvSpPr>
                  <p:cNvPr id="1676" name=""/>
                  <p:cNvSpPr/>
                  <p:nvPr/>
                </p:nvSpPr>
                <p:spPr>
                  <a:xfrm rot="352200">
                    <a:off x="3506040" y="14619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rot="352200">
                    <a:off x="3501000" y="1503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rot="352200">
                    <a:off x="3515040" y="14994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4439160" y="1308240"/>
                  <a:ext cx="42840" cy="133560"/>
                  <a:chOff x="4439160" y="1308240"/>
                  <a:chExt cx="42840" cy="13356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352200">
                    <a:off x="4448880" y="1309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352200">
                    <a:off x="4443840" y="1351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rot="352200">
                    <a:off x="4457880" y="1347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4394520" y="1284480"/>
                  <a:ext cx="42840" cy="133560"/>
                  <a:chOff x="4394520" y="1284480"/>
                  <a:chExt cx="42840" cy="13356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 rot="352200">
                    <a:off x="4404240" y="12859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rot="352200">
                    <a:off x="4399200" y="1327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rot="352200">
                    <a:off x="4413240" y="1323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7" name=""/>
                <p:cNvGrpSpPr/>
                <p:nvPr/>
              </p:nvGrpSpPr>
              <p:grpSpPr>
                <a:xfrm>
                  <a:off x="4348080" y="1279800"/>
                  <a:ext cx="42840" cy="133560"/>
                  <a:chOff x="4348080" y="1279800"/>
                  <a:chExt cx="42840" cy="13356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 rot="352200">
                    <a:off x="4357800" y="12812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rot="352200">
                    <a:off x="4352760" y="13226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352200">
                    <a:off x="4366800" y="1319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4033800" y="1459440"/>
                  <a:ext cx="33840" cy="133920"/>
                  <a:chOff x="4033800" y="1459440"/>
                  <a:chExt cx="33840" cy="13392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10927800">
                    <a:off x="4034160" y="15548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10927800">
                    <a:off x="4056120" y="1459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rot="10927800">
                    <a:off x="4042080" y="1464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5" name=""/>
                <p:cNvGrpSpPr/>
                <p:nvPr/>
              </p:nvGrpSpPr>
              <p:grpSpPr>
                <a:xfrm>
                  <a:off x="3662640" y="1574280"/>
                  <a:ext cx="31320" cy="133200"/>
                  <a:chOff x="3662640" y="1574280"/>
                  <a:chExt cx="31320" cy="13320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 rot="10821600">
                    <a:off x="3662640" y="16693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 rot="10821600">
                    <a:off x="3682080" y="15739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 rot="10821600">
                    <a:off x="3668400" y="15789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9" name=""/>
                <p:cNvGrpSpPr/>
                <p:nvPr/>
              </p:nvGrpSpPr>
              <p:grpSpPr>
                <a:xfrm>
                  <a:off x="4301280" y="1275120"/>
                  <a:ext cx="43200" cy="133560"/>
                  <a:chOff x="4301280" y="1275120"/>
                  <a:chExt cx="43200" cy="133560"/>
                </a:xfrm>
              </p:grpSpPr>
              <p:sp>
                <p:nvSpPr>
                  <p:cNvPr id="1700" name=""/>
                  <p:cNvSpPr/>
                  <p:nvPr/>
                </p:nvSpPr>
                <p:spPr>
                  <a:xfrm rot="352200">
                    <a:off x="4311360" y="12765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 rot="352200">
                    <a:off x="4305960" y="13179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rot="352200">
                    <a:off x="4320360" y="13140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3" name=""/>
                <p:cNvGrpSpPr/>
                <p:nvPr/>
              </p:nvGrpSpPr>
              <p:grpSpPr>
                <a:xfrm>
                  <a:off x="3986640" y="1454760"/>
                  <a:ext cx="34200" cy="133560"/>
                  <a:chOff x="3986640" y="1454760"/>
                  <a:chExt cx="34200" cy="13356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 rot="10927800">
                    <a:off x="3987000" y="15498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rot="10927800">
                    <a:off x="4009320" y="14547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rot="10927800">
                    <a:off x="3995280" y="1459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3806280" y="1531800"/>
                  <a:ext cx="33840" cy="133920"/>
                  <a:chOff x="3806280" y="1531800"/>
                  <a:chExt cx="33840" cy="13392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 rot="10927800">
                    <a:off x="3806640" y="1627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rot="10927800">
                    <a:off x="3828600" y="1531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rot="10927800">
                    <a:off x="3814560" y="1536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1" name=""/>
                <p:cNvGrpSpPr/>
                <p:nvPr/>
              </p:nvGrpSpPr>
              <p:grpSpPr>
                <a:xfrm>
                  <a:off x="3757680" y="1545840"/>
                  <a:ext cx="33840" cy="133560"/>
                  <a:chOff x="3757680" y="1545840"/>
                  <a:chExt cx="33840" cy="13356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rot="10927800">
                    <a:off x="3758040" y="1640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rot="10927800">
                    <a:off x="3780000" y="15458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rot="10927800">
                    <a:off x="3766320" y="1550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5" name=""/>
                <p:cNvGrpSpPr/>
                <p:nvPr/>
              </p:nvGrpSpPr>
              <p:grpSpPr>
                <a:xfrm>
                  <a:off x="3710880" y="1540800"/>
                  <a:ext cx="33840" cy="133920"/>
                  <a:chOff x="3710880" y="1540800"/>
                  <a:chExt cx="33840" cy="13392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 rot="10927800">
                    <a:off x="3711240" y="1636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rot="10927800">
                    <a:off x="3733200" y="1540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rot="10927800">
                    <a:off x="3719160" y="1545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9" name=""/>
                <p:cNvGrpSpPr/>
                <p:nvPr/>
              </p:nvGrpSpPr>
              <p:grpSpPr>
                <a:xfrm>
                  <a:off x="4350240" y="1434600"/>
                  <a:ext cx="34200" cy="133560"/>
                  <a:chOff x="4350240" y="1434600"/>
                  <a:chExt cx="34200" cy="13356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 rot="10927800">
                    <a:off x="4350600" y="15296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rot="10927800">
                    <a:off x="4372920" y="14346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rot="10927800">
                    <a:off x="4358880" y="1439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3" name=""/>
                <p:cNvGrpSpPr/>
                <p:nvPr/>
              </p:nvGrpSpPr>
              <p:grpSpPr>
                <a:xfrm>
                  <a:off x="4319280" y="1431360"/>
                  <a:ext cx="33840" cy="133560"/>
                  <a:chOff x="4319280" y="1431360"/>
                  <a:chExt cx="33840" cy="133560"/>
                </a:xfrm>
              </p:grpSpPr>
              <p:sp>
                <p:nvSpPr>
                  <p:cNvPr id="1724" name=""/>
                  <p:cNvSpPr/>
                  <p:nvPr/>
                </p:nvSpPr>
                <p:spPr>
                  <a:xfrm rot="10927800">
                    <a:off x="4319640" y="15264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rot="10927800">
                    <a:off x="4341600" y="1431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rot="10927800">
                    <a:off x="4327560" y="1436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"/>
                <p:cNvGrpSpPr/>
                <p:nvPr/>
              </p:nvGrpSpPr>
              <p:grpSpPr>
                <a:xfrm>
                  <a:off x="4288320" y="1428120"/>
                  <a:ext cx="33840" cy="133920"/>
                  <a:chOff x="4288320" y="1428120"/>
                  <a:chExt cx="33840" cy="13392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 rot="10927800">
                    <a:off x="4288680" y="15235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rot="10927800">
                    <a:off x="4310640" y="1428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rot="10927800">
                    <a:off x="4296960" y="1432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4113360" y="1448280"/>
                  <a:ext cx="33840" cy="133920"/>
                  <a:chOff x="4113360" y="1448280"/>
                  <a:chExt cx="33840" cy="13392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 rot="10927800">
                    <a:off x="4113720" y="1543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rot="10927800">
                    <a:off x="4135680" y="1448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rot="10927800">
                    <a:off x="4122000" y="1453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"/>
                <p:cNvGrpSpPr/>
                <p:nvPr/>
              </p:nvGrpSpPr>
              <p:grpSpPr>
                <a:xfrm>
                  <a:off x="4082040" y="1445040"/>
                  <a:ext cx="34200" cy="133920"/>
                  <a:chOff x="4082040" y="1445040"/>
                  <a:chExt cx="34200" cy="13392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 rot="10927800">
                    <a:off x="4082400" y="15404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rot="10927800">
                    <a:off x="4104720" y="1445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10927800">
                    <a:off x="4090680" y="1450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3501000" y="1596240"/>
                  <a:ext cx="33840" cy="133560"/>
                  <a:chOff x="3501000" y="1596240"/>
                  <a:chExt cx="33840" cy="13356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rot="10927800">
                    <a:off x="3501360" y="16912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10927800">
                    <a:off x="3523320" y="15962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rot="10927800">
                    <a:off x="3509640" y="16009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3454560" y="1591200"/>
                  <a:ext cx="33840" cy="133920"/>
                  <a:chOff x="3454560" y="1591200"/>
                  <a:chExt cx="33840" cy="13392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rot="10927800">
                    <a:off x="3454920" y="16866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rot="10927800">
                    <a:off x="3476880" y="15912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rot="10927800">
                    <a:off x="3462840" y="15958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3390120" y="1603800"/>
                  <a:ext cx="33840" cy="133920"/>
                  <a:chOff x="3390120" y="1603800"/>
                  <a:chExt cx="33840" cy="13392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 rot="10927800">
                    <a:off x="3390480" y="1699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rot="10927800">
                    <a:off x="3412440" y="1603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rot="10927800">
                    <a:off x="3398760" y="1608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4428000" y="1442520"/>
                  <a:ext cx="33840" cy="133560"/>
                  <a:chOff x="4428000" y="1442520"/>
                  <a:chExt cx="33840" cy="1335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 rot="10927800">
                    <a:off x="4428360" y="15375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rot="10927800">
                    <a:off x="4450320" y="1442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 rot="10927800">
                    <a:off x="4436640" y="14472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5" name=""/>
                <p:cNvGrpSpPr/>
                <p:nvPr/>
              </p:nvGrpSpPr>
              <p:grpSpPr>
                <a:xfrm>
                  <a:off x="4381560" y="1437480"/>
                  <a:ext cx="33840" cy="133920"/>
                  <a:chOff x="4381560" y="1437480"/>
                  <a:chExt cx="33840" cy="13392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 rot="10927800">
                    <a:off x="4381920" y="1532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rot="10927800">
                    <a:off x="4403880" y="1437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rot="10927800">
                    <a:off x="4390200" y="1442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3339000" y="1463760"/>
                  <a:ext cx="42840" cy="133560"/>
                  <a:chOff x="3339000" y="1463760"/>
                  <a:chExt cx="42840" cy="13356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 rot="352200">
                    <a:off x="3348720" y="1465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rot="352200">
                    <a:off x="3343680" y="15066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rot="352200">
                    <a:off x="3357720" y="15030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401280" y="1470240"/>
                  <a:ext cx="42840" cy="133560"/>
                  <a:chOff x="3401280" y="1470240"/>
                  <a:chExt cx="42840" cy="13356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rot="352200">
                    <a:off x="3411000" y="1471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rot="352200">
                    <a:off x="3405960" y="1513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rot="352200">
                    <a:off x="3420000" y="1509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"/>
                <p:cNvGrpSpPr/>
                <p:nvPr/>
              </p:nvGrpSpPr>
              <p:grpSpPr>
                <a:xfrm>
                  <a:off x="3327840" y="1597320"/>
                  <a:ext cx="33840" cy="133920"/>
                  <a:chOff x="3327840" y="1597320"/>
                  <a:chExt cx="33840" cy="13392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 rot="10927800">
                    <a:off x="3328200" y="1692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rot="10927800">
                    <a:off x="3350160" y="1597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rot="10927800">
                    <a:off x="3336480" y="1602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71" name=""/>
              <p:cNvSpPr/>
              <p:nvPr/>
            </p:nvSpPr>
            <p:spPr>
              <a:xfrm rot="352200">
                <a:off x="3931560" y="1296000"/>
                <a:ext cx="33840" cy="304560"/>
              </a:xfrm>
              <a:custGeom>
                <a:avLst/>
                <a:gdLst/>
                <a:ahLst/>
                <a:rect l="l" t="t" r="r" b="b"/>
                <a:pathLst>
                  <a:path w="104" h="720">
                    <a:moveTo>
                      <a:pt x="56" y="0"/>
                    </a:moveTo>
                    <a:cubicBezTo>
                      <a:pt x="32" y="32"/>
                      <a:pt x="8" y="64"/>
                      <a:pt x="8" y="96"/>
                    </a:cubicBezTo>
                    <a:cubicBezTo>
                      <a:pt x="8" y="128"/>
                      <a:pt x="56" y="144"/>
                      <a:pt x="56" y="192"/>
                    </a:cubicBezTo>
                    <a:cubicBezTo>
                      <a:pt x="56" y="240"/>
                      <a:pt x="8" y="328"/>
                      <a:pt x="8" y="384"/>
                    </a:cubicBezTo>
                    <a:cubicBezTo>
                      <a:pt x="8" y="440"/>
                      <a:pt x="56" y="480"/>
                      <a:pt x="56" y="528"/>
                    </a:cubicBezTo>
                    <a:cubicBezTo>
                      <a:pt x="56" y="576"/>
                      <a:pt x="0" y="640"/>
                      <a:pt x="8" y="672"/>
                    </a:cubicBezTo>
                    <a:cubicBezTo>
                      <a:pt x="16" y="704"/>
                      <a:pt x="96" y="704"/>
                      <a:pt x="104" y="720"/>
                    </a:cubicBezTo>
                  </a:path>
                </a:pathLst>
              </a:custGeom>
              <a:noFill/>
              <a:ln w="572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352200">
                <a:off x="4544280" y="1320120"/>
                <a:ext cx="33840" cy="304920"/>
              </a:xfrm>
              <a:custGeom>
                <a:avLst/>
                <a:gdLst/>
                <a:ahLst/>
                <a:rect l="l" t="t" r="r" b="b"/>
                <a:pathLst>
                  <a:path w="104" h="720">
                    <a:moveTo>
                      <a:pt x="56" y="0"/>
                    </a:moveTo>
                    <a:cubicBezTo>
                      <a:pt x="32" y="32"/>
                      <a:pt x="8" y="64"/>
                      <a:pt x="8" y="96"/>
                    </a:cubicBezTo>
                    <a:cubicBezTo>
                      <a:pt x="8" y="128"/>
                      <a:pt x="56" y="144"/>
                      <a:pt x="56" y="192"/>
                    </a:cubicBezTo>
                    <a:cubicBezTo>
                      <a:pt x="56" y="240"/>
                      <a:pt x="8" y="328"/>
                      <a:pt x="8" y="384"/>
                    </a:cubicBezTo>
                    <a:cubicBezTo>
                      <a:pt x="8" y="440"/>
                      <a:pt x="56" y="480"/>
                      <a:pt x="56" y="528"/>
                    </a:cubicBezTo>
                    <a:cubicBezTo>
                      <a:pt x="56" y="576"/>
                      <a:pt x="0" y="640"/>
                      <a:pt x="8" y="672"/>
                    </a:cubicBezTo>
                    <a:cubicBezTo>
                      <a:pt x="16" y="704"/>
                      <a:pt x="96" y="704"/>
                      <a:pt x="104" y="720"/>
                    </a:cubicBezTo>
                  </a:path>
                </a:pathLst>
              </a:custGeom>
              <a:noFill/>
              <a:ln w="572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352200">
                <a:off x="3603600" y="112716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352200">
                <a:off x="4250880" y="94500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3375000" y="1752480"/>
              <a:ext cx="173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ell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3192480" y="1953720"/>
            <a:ext cx="1226880" cy="673920"/>
            <a:chOff x="3192480" y="1953720"/>
            <a:chExt cx="1226880" cy="673920"/>
          </a:xfrm>
        </p:grpSpPr>
        <p:grpSp>
          <p:nvGrpSpPr>
            <p:cNvPr id="1777" name=""/>
            <p:cNvGrpSpPr/>
            <p:nvPr/>
          </p:nvGrpSpPr>
          <p:grpSpPr>
            <a:xfrm>
              <a:off x="3597480" y="1953720"/>
              <a:ext cx="542520" cy="556200"/>
              <a:chOff x="3597480" y="1953720"/>
              <a:chExt cx="542520" cy="556200"/>
            </a:xfrm>
          </p:grpSpPr>
          <p:sp>
            <p:nvSpPr>
              <p:cNvPr id="1778" name=""/>
              <p:cNvSpPr/>
              <p:nvPr/>
            </p:nvSpPr>
            <p:spPr>
              <a:xfrm rot="16103400">
                <a:off x="3699720" y="1976040"/>
                <a:ext cx="337680" cy="5335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7803200">
                <a:off x="3654000" y="2056320"/>
                <a:ext cx="446040" cy="35064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>
              <a:off x="3192480" y="2444760"/>
              <a:ext cx="122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itochond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4608360" y="1439640"/>
            <a:ext cx="1093680" cy="1541880"/>
            <a:chOff x="4608360" y="1439640"/>
            <a:chExt cx="1093680" cy="1541880"/>
          </a:xfrm>
        </p:grpSpPr>
        <p:grpSp>
          <p:nvGrpSpPr>
            <p:cNvPr id="1782" name=""/>
            <p:cNvGrpSpPr/>
            <p:nvPr/>
          </p:nvGrpSpPr>
          <p:grpSpPr>
            <a:xfrm>
              <a:off x="4674960" y="1439640"/>
              <a:ext cx="937440" cy="1406520"/>
              <a:chOff x="4674960" y="1439640"/>
              <a:chExt cx="937440" cy="1406520"/>
            </a:xfrm>
          </p:grpSpPr>
          <p:sp>
            <p:nvSpPr>
              <p:cNvPr id="1783" name=""/>
              <p:cNvSpPr/>
              <p:nvPr/>
            </p:nvSpPr>
            <p:spPr>
              <a:xfrm rot="13314600">
                <a:off x="4975200" y="1860480"/>
                <a:ext cx="301680" cy="101448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 rot="1456800">
                <a:off x="4975200" y="1463760"/>
                <a:ext cx="393120" cy="12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 rot="1456800">
                <a:off x="5075640" y="1563480"/>
                <a:ext cx="259200" cy="112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 rot="1456800">
                <a:off x="5140080" y="1497240"/>
                <a:ext cx="184320" cy="113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 rot="1456800">
                <a:off x="5077080" y="1673640"/>
                <a:ext cx="162720" cy="87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1839200">
                <a:off x="5034960" y="2170440"/>
                <a:ext cx="140760" cy="192960"/>
              </a:xfrm>
              <a:prstGeom prst="irregularSeal1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4608360" y="2798640"/>
              <a:ext cx="109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hloropl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3187800" y="2545920"/>
            <a:ext cx="2249280" cy="1023480"/>
            <a:chOff x="3187800" y="2545920"/>
            <a:chExt cx="2249280" cy="1023480"/>
          </a:xfrm>
        </p:grpSpPr>
        <p:grpSp>
          <p:nvGrpSpPr>
            <p:cNvPr id="1791" name=""/>
            <p:cNvGrpSpPr/>
            <p:nvPr/>
          </p:nvGrpSpPr>
          <p:grpSpPr>
            <a:xfrm>
              <a:off x="3533040" y="2545920"/>
              <a:ext cx="968760" cy="1023480"/>
              <a:chOff x="3533040" y="2545920"/>
              <a:chExt cx="968760" cy="1023480"/>
            </a:xfrm>
          </p:grpSpPr>
          <p:sp>
            <p:nvSpPr>
              <p:cNvPr id="1792" name=""/>
              <p:cNvSpPr/>
              <p:nvPr/>
            </p:nvSpPr>
            <p:spPr>
              <a:xfrm rot="19366800">
                <a:off x="3733200" y="2630520"/>
                <a:ext cx="568080" cy="853920"/>
              </a:xfrm>
              <a:custGeom>
                <a:avLst/>
                <a:gdLst/>
                <a:ahLst/>
                <a:rect l="l" t="t" r="r" b="b"/>
                <a:pathLst>
                  <a:path w="1149" h="942">
                    <a:moveTo>
                      <a:pt x="0" y="622"/>
                    </a:moveTo>
                    <a:cubicBezTo>
                      <a:pt x="33" y="528"/>
                      <a:pt x="0" y="638"/>
                      <a:pt x="0" y="437"/>
                    </a:cubicBezTo>
                    <a:cubicBezTo>
                      <a:pt x="0" y="347"/>
                      <a:pt x="7" y="257"/>
                      <a:pt x="13" y="167"/>
                    </a:cubicBezTo>
                    <a:cubicBezTo>
                      <a:pt x="17" y="105"/>
                      <a:pt x="11" y="27"/>
                      <a:pt x="74" y="7"/>
                    </a:cubicBezTo>
                    <a:cubicBezTo>
                      <a:pt x="87" y="47"/>
                      <a:pt x="110" y="77"/>
                      <a:pt x="123" y="117"/>
                    </a:cubicBezTo>
                    <a:cubicBezTo>
                      <a:pt x="127" y="261"/>
                      <a:pt x="120" y="405"/>
                      <a:pt x="136" y="548"/>
                    </a:cubicBezTo>
                    <a:cubicBezTo>
                      <a:pt x="138" y="563"/>
                      <a:pt x="161" y="582"/>
                      <a:pt x="173" y="573"/>
                    </a:cubicBezTo>
                    <a:cubicBezTo>
                      <a:pt x="186" y="563"/>
                      <a:pt x="206" y="456"/>
                      <a:pt x="210" y="437"/>
                    </a:cubicBezTo>
                    <a:cubicBezTo>
                      <a:pt x="214" y="298"/>
                      <a:pt x="206" y="157"/>
                      <a:pt x="222" y="19"/>
                    </a:cubicBezTo>
                    <a:cubicBezTo>
                      <a:pt x="223" y="6"/>
                      <a:pt x="248" y="0"/>
                      <a:pt x="259" y="7"/>
                    </a:cubicBezTo>
                    <a:cubicBezTo>
                      <a:pt x="270" y="13"/>
                      <a:pt x="291" y="78"/>
                      <a:pt x="296" y="93"/>
                    </a:cubicBezTo>
                    <a:cubicBezTo>
                      <a:pt x="292" y="204"/>
                      <a:pt x="283" y="314"/>
                      <a:pt x="283" y="425"/>
                    </a:cubicBezTo>
                    <a:cubicBezTo>
                      <a:pt x="283" y="557"/>
                      <a:pt x="267" y="544"/>
                      <a:pt x="345" y="523"/>
                    </a:cubicBezTo>
                    <a:cubicBezTo>
                      <a:pt x="397" y="368"/>
                      <a:pt x="343" y="199"/>
                      <a:pt x="394" y="43"/>
                    </a:cubicBezTo>
                    <a:cubicBezTo>
                      <a:pt x="406" y="51"/>
                      <a:pt x="423" y="55"/>
                      <a:pt x="431" y="68"/>
                    </a:cubicBezTo>
                    <a:cubicBezTo>
                      <a:pt x="445" y="90"/>
                      <a:pt x="456" y="142"/>
                      <a:pt x="456" y="142"/>
                    </a:cubicBezTo>
                    <a:cubicBezTo>
                      <a:pt x="464" y="398"/>
                      <a:pt x="365" y="491"/>
                      <a:pt x="542" y="548"/>
                    </a:cubicBezTo>
                    <a:cubicBezTo>
                      <a:pt x="578" y="438"/>
                      <a:pt x="577" y="318"/>
                      <a:pt x="591" y="203"/>
                    </a:cubicBezTo>
                    <a:cubicBezTo>
                      <a:pt x="608" y="63"/>
                      <a:pt x="567" y="103"/>
                      <a:pt x="640" y="56"/>
                    </a:cubicBezTo>
                    <a:cubicBezTo>
                      <a:pt x="773" y="99"/>
                      <a:pt x="680" y="330"/>
                      <a:pt x="653" y="437"/>
                    </a:cubicBezTo>
                    <a:cubicBezTo>
                      <a:pt x="649" y="454"/>
                      <a:pt x="644" y="470"/>
                      <a:pt x="640" y="487"/>
                    </a:cubicBezTo>
                    <a:cubicBezTo>
                      <a:pt x="634" y="512"/>
                      <a:pt x="616" y="560"/>
                      <a:pt x="616" y="560"/>
                    </a:cubicBezTo>
                    <a:cubicBezTo>
                      <a:pt x="620" y="581"/>
                      <a:pt x="610" y="611"/>
                      <a:pt x="628" y="622"/>
                    </a:cubicBezTo>
                    <a:cubicBezTo>
                      <a:pt x="699" y="663"/>
                      <a:pt x="716" y="570"/>
                      <a:pt x="739" y="536"/>
                    </a:cubicBezTo>
                    <a:cubicBezTo>
                      <a:pt x="762" y="467"/>
                      <a:pt x="748" y="512"/>
                      <a:pt x="776" y="400"/>
                    </a:cubicBezTo>
                    <a:cubicBezTo>
                      <a:pt x="779" y="387"/>
                      <a:pt x="779" y="372"/>
                      <a:pt x="788" y="363"/>
                    </a:cubicBezTo>
                    <a:cubicBezTo>
                      <a:pt x="797" y="354"/>
                      <a:pt x="813" y="355"/>
                      <a:pt x="825" y="351"/>
                    </a:cubicBezTo>
                    <a:cubicBezTo>
                      <a:pt x="876" y="426"/>
                      <a:pt x="875" y="409"/>
                      <a:pt x="837" y="560"/>
                    </a:cubicBezTo>
                    <a:cubicBezTo>
                      <a:pt x="830" y="589"/>
                      <a:pt x="788" y="634"/>
                      <a:pt x="788" y="634"/>
                    </a:cubicBezTo>
                    <a:cubicBezTo>
                      <a:pt x="776" y="672"/>
                      <a:pt x="749" y="716"/>
                      <a:pt x="850" y="659"/>
                    </a:cubicBezTo>
                    <a:cubicBezTo>
                      <a:pt x="861" y="653"/>
                      <a:pt x="856" y="634"/>
                      <a:pt x="862" y="622"/>
                    </a:cubicBezTo>
                    <a:cubicBezTo>
                      <a:pt x="888" y="568"/>
                      <a:pt x="909" y="520"/>
                      <a:pt x="960" y="487"/>
                    </a:cubicBezTo>
                    <a:cubicBezTo>
                      <a:pt x="972" y="495"/>
                      <a:pt x="995" y="497"/>
                      <a:pt x="997" y="511"/>
                    </a:cubicBezTo>
                    <a:cubicBezTo>
                      <a:pt x="1004" y="550"/>
                      <a:pt x="1001" y="636"/>
                      <a:pt x="960" y="671"/>
                    </a:cubicBezTo>
                    <a:cubicBezTo>
                      <a:pt x="938" y="690"/>
                      <a:pt x="886" y="720"/>
                      <a:pt x="886" y="720"/>
                    </a:cubicBezTo>
                    <a:cubicBezTo>
                      <a:pt x="857" y="764"/>
                      <a:pt x="846" y="780"/>
                      <a:pt x="862" y="831"/>
                    </a:cubicBezTo>
                    <a:cubicBezTo>
                      <a:pt x="887" y="827"/>
                      <a:pt x="916" y="833"/>
                      <a:pt x="936" y="819"/>
                    </a:cubicBezTo>
                    <a:cubicBezTo>
                      <a:pt x="966" y="798"/>
                      <a:pt x="1010" y="707"/>
                      <a:pt x="1034" y="671"/>
                    </a:cubicBezTo>
                    <a:cubicBezTo>
                      <a:pt x="1041" y="660"/>
                      <a:pt x="1036" y="642"/>
                      <a:pt x="1046" y="634"/>
                    </a:cubicBezTo>
                    <a:cubicBezTo>
                      <a:pt x="1059" y="623"/>
                      <a:pt x="1079" y="626"/>
                      <a:pt x="1096" y="622"/>
                    </a:cubicBezTo>
                    <a:cubicBezTo>
                      <a:pt x="1108" y="626"/>
                      <a:pt x="1131" y="621"/>
                      <a:pt x="1133" y="634"/>
                    </a:cubicBezTo>
                    <a:cubicBezTo>
                      <a:pt x="1149" y="731"/>
                      <a:pt x="1109" y="822"/>
                      <a:pt x="1034" y="880"/>
                    </a:cubicBezTo>
                    <a:cubicBezTo>
                      <a:pt x="957" y="941"/>
                      <a:pt x="960" y="899"/>
                      <a:pt x="960" y="9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9366800">
                <a:off x="4348080" y="30445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9366800">
                <a:off x="3905640" y="279828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9366800">
                <a:off x="3834720" y="29016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9366800">
                <a:off x="4084200" y="290196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9366800">
                <a:off x="3606480" y="296316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9366800">
                <a:off x="3774600" y="31795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9366800">
                <a:off x="3958200" y="296280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9366800">
                <a:off x="3714840" y="27900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9366800">
                <a:off x="4135680" y="31363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9366800">
                <a:off x="3888720" y="311328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9366800">
                <a:off x="3648600" y="281196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9366800">
                <a:off x="3701160" y="30870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3187800" y="3290760"/>
              <a:ext cx="224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doplasmic Reticu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3930480" y="3529800"/>
            <a:ext cx="844560" cy="1274400"/>
            <a:chOff x="3930480" y="3529800"/>
            <a:chExt cx="844560" cy="1274400"/>
          </a:xfrm>
        </p:grpSpPr>
        <p:sp>
          <p:nvSpPr>
            <p:cNvPr id="1807" name=""/>
            <p:cNvSpPr/>
            <p:nvPr/>
          </p:nvSpPr>
          <p:spPr>
            <a:xfrm rot="16202400">
              <a:off x="3819240" y="3668040"/>
              <a:ext cx="1055880" cy="77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16202400">
              <a:off x="3946680" y="3730680"/>
              <a:ext cx="771480" cy="5670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930480" y="4621320"/>
              <a:ext cx="84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2881440" y="4331160"/>
            <a:ext cx="1158840" cy="765000"/>
            <a:chOff x="2881440" y="4331160"/>
            <a:chExt cx="1158840" cy="765000"/>
          </a:xfrm>
        </p:grpSpPr>
        <p:grpSp>
          <p:nvGrpSpPr>
            <p:cNvPr id="1811" name=""/>
            <p:cNvGrpSpPr/>
            <p:nvPr/>
          </p:nvGrpSpPr>
          <p:grpSpPr>
            <a:xfrm>
              <a:off x="3240360" y="4331160"/>
              <a:ext cx="325800" cy="523080"/>
              <a:chOff x="3240360" y="4331160"/>
              <a:chExt cx="325800" cy="523080"/>
            </a:xfrm>
          </p:grpSpPr>
          <p:sp>
            <p:nvSpPr>
              <p:cNvPr id="1812" name=""/>
              <p:cNvSpPr/>
              <p:nvPr/>
            </p:nvSpPr>
            <p:spPr>
              <a:xfrm rot="21535800">
                <a:off x="3245040" y="4333680"/>
                <a:ext cx="316080" cy="5173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21535800">
                <a:off x="3285720" y="459360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21535800">
                <a:off x="3296160" y="442044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21535800">
                <a:off x="3461040" y="451224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21535800">
                <a:off x="3355560" y="437328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21535800">
                <a:off x="3357360" y="464760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21535800">
                <a:off x="3364920" y="452916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21535800">
                <a:off x="3420360" y="439452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21535800">
                <a:off x="3434400" y="464616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2881440" y="49132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ys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3895560" y="4926240"/>
            <a:ext cx="1079640" cy="573120"/>
            <a:chOff x="3895560" y="4926240"/>
            <a:chExt cx="1079640" cy="573120"/>
          </a:xfrm>
        </p:grpSpPr>
        <p:grpSp>
          <p:nvGrpSpPr>
            <p:cNvPr id="1823" name=""/>
            <p:cNvGrpSpPr/>
            <p:nvPr/>
          </p:nvGrpSpPr>
          <p:grpSpPr>
            <a:xfrm>
              <a:off x="4095720" y="4926240"/>
              <a:ext cx="466560" cy="309600"/>
              <a:chOff x="4095720" y="4926240"/>
              <a:chExt cx="466560" cy="309600"/>
            </a:xfrm>
          </p:grpSpPr>
          <p:sp>
            <p:nvSpPr>
              <p:cNvPr id="1824" name=""/>
              <p:cNvSpPr/>
              <p:nvPr/>
            </p:nvSpPr>
            <p:spPr>
              <a:xfrm rot="16202400">
                <a:off x="4283640" y="4883400"/>
                <a:ext cx="103680" cy="39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6202400">
                <a:off x="4284000" y="4828320"/>
                <a:ext cx="103680" cy="29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6202400">
                <a:off x="4277160" y="4950360"/>
                <a:ext cx="103680" cy="466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3895560" y="531648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olgi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5067360" y="4074840"/>
            <a:ext cx="687240" cy="821160"/>
            <a:chOff x="5067360" y="4074840"/>
            <a:chExt cx="687240" cy="821160"/>
          </a:xfrm>
        </p:grpSpPr>
        <p:sp>
          <p:nvSpPr>
            <p:cNvPr id="1829" name=""/>
            <p:cNvSpPr/>
            <p:nvPr/>
          </p:nvSpPr>
          <p:spPr>
            <a:xfrm rot="16202400">
              <a:off x="5081760" y="4140720"/>
              <a:ext cx="608040" cy="475920"/>
            </a:xfrm>
            <a:custGeom>
              <a:avLst/>
              <a:gdLst/>
              <a:ahLst/>
              <a:rect l="l" t="t" r="r" b="b"/>
              <a:pathLst>
                <a:path w="2048" h="1907">
                  <a:moveTo>
                    <a:pt x="587" y="518"/>
                  </a:moveTo>
                  <a:cubicBezTo>
                    <a:pt x="389" y="780"/>
                    <a:pt x="231" y="1048"/>
                    <a:pt x="91" y="1319"/>
                  </a:cubicBezTo>
                  <a:cubicBezTo>
                    <a:pt x="85" y="1335"/>
                    <a:pt x="0" y="1474"/>
                    <a:pt x="17" y="1518"/>
                  </a:cubicBezTo>
                  <a:cubicBezTo>
                    <a:pt x="58" y="1639"/>
                    <a:pt x="206" y="1674"/>
                    <a:pt x="385" y="1766"/>
                  </a:cubicBezTo>
                  <a:cubicBezTo>
                    <a:pt x="418" y="1783"/>
                    <a:pt x="484" y="1819"/>
                    <a:pt x="484" y="1819"/>
                  </a:cubicBezTo>
                  <a:cubicBezTo>
                    <a:pt x="597" y="1843"/>
                    <a:pt x="702" y="1878"/>
                    <a:pt x="815" y="1887"/>
                  </a:cubicBezTo>
                  <a:cubicBezTo>
                    <a:pt x="1060" y="1907"/>
                    <a:pt x="1294" y="1740"/>
                    <a:pt x="1407" y="1662"/>
                  </a:cubicBezTo>
                  <a:cubicBezTo>
                    <a:pt x="1693" y="1262"/>
                    <a:pt x="1767" y="1385"/>
                    <a:pt x="1068" y="1155"/>
                  </a:cubicBezTo>
                  <a:cubicBezTo>
                    <a:pt x="1126" y="834"/>
                    <a:pt x="2048" y="395"/>
                    <a:pt x="1398" y="54"/>
                  </a:cubicBezTo>
                  <a:cubicBezTo>
                    <a:pt x="1082" y="3"/>
                    <a:pt x="1269" y="0"/>
                    <a:pt x="1093" y="67"/>
                  </a:cubicBezTo>
                  <a:cubicBezTo>
                    <a:pt x="1054" y="84"/>
                    <a:pt x="999" y="87"/>
                    <a:pt x="961" y="104"/>
                  </a:cubicBezTo>
                  <a:cubicBezTo>
                    <a:pt x="895" y="130"/>
                    <a:pt x="779" y="198"/>
                    <a:pt x="779" y="198"/>
                  </a:cubicBezTo>
                  <a:cubicBezTo>
                    <a:pt x="696" y="267"/>
                    <a:pt x="641" y="429"/>
                    <a:pt x="617" y="487"/>
                  </a:cubicBezTo>
                  <a:cubicBezTo>
                    <a:pt x="585" y="540"/>
                    <a:pt x="584" y="506"/>
                    <a:pt x="587" y="518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67360" y="4713120"/>
              <a:ext cx="68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acu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3449520" y="5508720"/>
            <a:ext cx="887400" cy="509760"/>
            <a:chOff x="3449520" y="5508720"/>
            <a:chExt cx="887400" cy="509760"/>
          </a:xfrm>
        </p:grpSpPr>
        <p:sp>
          <p:nvSpPr>
            <p:cNvPr id="1832" name=""/>
            <p:cNvSpPr/>
            <p:nvPr/>
          </p:nvSpPr>
          <p:spPr>
            <a:xfrm flipH="1" rot="16203000">
              <a:off x="3654360" y="5566680"/>
              <a:ext cx="301680" cy="185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49520" y="5835600"/>
              <a:ext cx="88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378320" y="5992200"/>
            <a:ext cx="896760" cy="416880"/>
            <a:chOff x="4378320" y="5992200"/>
            <a:chExt cx="896760" cy="416880"/>
          </a:xfrm>
        </p:grpSpPr>
        <p:grpSp>
          <p:nvGrpSpPr>
            <p:cNvPr id="1835" name=""/>
            <p:cNvGrpSpPr/>
            <p:nvPr/>
          </p:nvGrpSpPr>
          <p:grpSpPr>
            <a:xfrm>
              <a:off x="4378320" y="5992200"/>
              <a:ext cx="817200" cy="182520"/>
              <a:chOff x="4378320" y="5992200"/>
              <a:chExt cx="817200" cy="18252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4378320" y="5992200"/>
                <a:ext cx="7772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4393440" y="6159960"/>
                <a:ext cx="802080" cy="1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15400" y="603972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43200" y="606348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46520" y="6035400"/>
                <a:ext cx="74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72880" y="602640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901400" y="6032160"/>
                <a:ext cx="74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993920" y="6038280"/>
                <a:ext cx="73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108040" y="6026760"/>
                <a:ext cx="73800" cy="9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440240" y="607284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567320" y="6060960"/>
                <a:ext cx="356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671360" y="605196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788000" y="6108120"/>
                <a:ext cx="3564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901040" y="603144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5029920" y="6053760"/>
                <a:ext cx="356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5109120" y="6042240"/>
                <a:ext cx="3528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391280" y="6071400"/>
                <a:ext cx="170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629240" y="612360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4804200" y="606348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4946040" y="613548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4387680" y="6226200"/>
              <a:ext cx="88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ell 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75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Organell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75920" y="6153120"/>
            <a:ext cx="1888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125760" y="6130800"/>
            <a:ext cx="173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la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844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Cell Drawing Assignment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urn to page 175 in the textbook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raw the outer shape of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he animal and plant cells on the paper provided by your teach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r the outline, draw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in both cells and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ell wal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round the outside of the plant cell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side the cell include only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mitochondria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(label on drawing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21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TO CELL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48720" cy="6858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ges 169 – 183 in Textbook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d Blood Cells, Online Image June 5, 2006, NIH Clinical Center, National Institutes of Health, 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2"/>
              </a:rPr>
              <a:t>http://www.cc.nih.gov/dtm/dtm_whole_blood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omata Online Image, June 5, 2006, Energy Biosciences Program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3"/>
              </a:rPr>
              <a:t>http://www.sc.doe.gov/bes/eb/Highlights/CaOscillate/body_caoscillate.html</a:t>
            </a:r>
            <a:br>
              <a:rPr sz="2000"/>
            </a:b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keletal Muscle Cell Online Image, June 5, 2006, Medline Plus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4"/>
              </a:rPr>
              <a:t>http://www.nlm.nih.gov/medlineplus/ency/imagepages/19495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acteria Cells Online Image, June 5, 2006, NASA Astrobiology Institute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6"/>
              </a:rPr>
              <a:t>nai.arc.nasa.gov/news_stories/news_detail.cfm?article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7"/>
              </a:rPr>
              <a:t>=old/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8"/>
              </a:rPr>
              <a:t>meaning_of_life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ukaryotic &amp; Prokaryotic Cell Online Images, June 5, 2006, NASA Astrobiology Institute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2"/>
              </a:rPr>
              <a:t>http://nai.arc.nasa.gov/news_stories/news_detail.cfm?article=old/domains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iology Curriculum Writing Team, Plano Independent School Distric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istory of the Cell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720" y="840960"/>
            <a:ext cx="44118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8120" y="1330920"/>
            <a:ext cx="6944760" cy="511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5943600"/>
            <a:ext cx="3657600" cy="594720"/>
            <a:chOff x="914400" y="5943600"/>
            <a:chExt cx="3657600" cy="594720"/>
          </a:xfrm>
        </p:grpSpPr>
        <p:sp>
          <p:nvSpPr>
            <p:cNvPr id="58" name=""/>
            <p:cNvSpPr/>
            <p:nvPr/>
          </p:nvSpPr>
          <p:spPr>
            <a:xfrm>
              <a:off x="914400" y="59436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6172200"/>
              <a:ext cx="350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obert Hooke, 16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523880" y="5486400"/>
            <a:ext cx="6019920" cy="518400"/>
            <a:chOff x="1523880" y="5486400"/>
            <a:chExt cx="6019920" cy="518400"/>
          </a:xfrm>
        </p:grpSpPr>
        <p:sp>
          <p:nvSpPr>
            <p:cNvPr id="61" name=""/>
            <p:cNvSpPr/>
            <p:nvPr/>
          </p:nvSpPr>
          <p:spPr>
            <a:xfrm>
              <a:off x="1523880" y="54864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5638680"/>
              <a:ext cx="586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ton von Leeuwenhoek, 167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29000" y="4114800"/>
            <a:ext cx="4495680" cy="671040"/>
            <a:chOff x="3429000" y="4114800"/>
            <a:chExt cx="4495680" cy="671040"/>
          </a:xfrm>
        </p:grpSpPr>
        <p:sp>
          <p:nvSpPr>
            <p:cNvPr id="64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4419720"/>
              <a:ext cx="441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tthias Schleiden, 18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3581280"/>
            <a:ext cx="3505320" cy="922320"/>
            <a:chOff x="380880" y="3581280"/>
            <a:chExt cx="3505320" cy="922320"/>
          </a:xfrm>
        </p:grpSpPr>
        <p:sp>
          <p:nvSpPr>
            <p:cNvPr id="67" name=""/>
            <p:cNvSpPr/>
            <p:nvPr/>
          </p:nvSpPr>
          <p:spPr>
            <a:xfrm>
              <a:off x="3657600" y="39625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3581280"/>
              <a:ext cx="32767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odor Schwan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8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0880" y="3048120"/>
            <a:ext cx="4343400" cy="533160"/>
            <a:chOff x="380880" y="3048120"/>
            <a:chExt cx="4343400" cy="533160"/>
          </a:xfrm>
        </p:grpSpPr>
        <p:sp>
          <p:nvSpPr>
            <p:cNvPr id="70" name=""/>
            <p:cNvSpPr/>
            <p:nvPr/>
          </p:nvSpPr>
          <p:spPr>
            <a:xfrm>
              <a:off x="4495680" y="33526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3048120"/>
              <a:ext cx="434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udolph Virchow, 18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505320" y="1371600"/>
            <a:ext cx="3581280" cy="457200"/>
            <a:chOff x="3505320" y="1371600"/>
            <a:chExt cx="3581280" cy="457200"/>
          </a:xfrm>
        </p:grpSpPr>
        <p:sp>
          <p:nvSpPr>
            <p:cNvPr id="73" name=""/>
            <p:cNvSpPr/>
            <p:nvPr/>
          </p:nvSpPr>
          <p:spPr>
            <a:xfrm>
              <a:off x="6858000" y="16002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1371600"/>
              <a:ext cx="335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Janet Plowe, 19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619760" cy="1752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obert Hook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turalist, philosopher, inventor, architect...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July 18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635 - March 3, 1703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76720" y="1413000"/>
            <a:ext cx="4067280" cy="4941720"/>
            <a:chOff x="5076720" y="1413000"/>
            <a:chExt cx="4067280" cy="4941720"/>
          </a:xfrm>
        </p:grpSpPr>
        <p:sp>
          <p:nvSpPr>
            <p:cNvPr id="77" name=""/>
            <p:cNvSpPr/>
            <p:nvPr/>
          </p:nvSpPr>
          <p:spPr>
            <a:xfrm>
              <a:off x="5076720" y="1413000"/>
              <a:ext cx="4067280" cy="494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hookescope" descr=""/>
            <p:cNvPicPr/>
            <p:nvPr/>
          </p:nvPicPr>
          <p:blipFill>
            <a:blip r:embed="rId2"/>
            <a:srcRect l="0" t="0" r="43927" b="16901"/>
            <a:stretch/>
          </p:blipFill>
          <p:spPr>
            <a:xfrm>
              <a:off x="5258520" y="1610640"/>
              <a:ext cx="3737160" cy="450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" descr="homeimage.jpg (182035 bytes)"/>
          <p:cNvPicPr/>
          <p:nvPr/>
        </p:nvPicPr>
        <p:blipFill>
          <a:blip r:embed="rId3"/>
          <a:srcRect l="24595" t="45073" r="39052" b="0"/>
          <a:stretch/>
        </p:blipFill>
        <p:spPr>
          <a:xfrm>
            <a:off x="5815080" y="1049400"/>
            <a:ext cx="2262240" cy="2303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647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 1665 Robert Hooke  publishes his book,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Micrographia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, which contains his drawings of sections of cork as seen through one of the first microscopes (shown at right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e was the first person to use the term “cells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86200" y="1905120"/>
            <a:ext cx="5105520" cy="4647960"/>
            <a:chOff x="3886200" y="1905120"/>
            <a:chExt cx="5105520" cy="4647960"/>
          </a:xfrm>
        </p:grpSpPr>
        <p:sp>
          <p:nvSpPr>
            <p:cNvPr id="82" name=""/>
            <p:cNvSpPr/>
            <p:nvPr/>
          </p:nvSpPr>
          <p:spPr>
            <a:xfrm>
              <a:off x="3886200" y="1905120"/>
              <a:ext cx="5105520" cy="4647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4114800" y="2209680"/>
              <a:ext cx="4584600" cy="408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925040" cy="1295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Anton van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Leeuwenhoe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632-1723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 1673 Anton van Leeuwenhook perfects the simple microscope and observes cells and microorganism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e discovered bacteria in 1674 and four years later, he discovers protozo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54360" y="4951440"/>
            <a:ext cx="5537160" cy="992160"/>
            <a:chOff x="1854360" y="4951440"/>
            <a:chExt cx="5537160" cy="992160"/>
          </a:xfrm>
        </p:grpSpPr>
        <p:sp>
          <p:nvSpPr>
            <p:cNvPr id="87" name=""/>
            <p:cNvSpPr/>
            <p:nvPr/>
          </p:nvSpPr>
          <p:spPr>
            <a:xfrm>
              <a:off x="1854360" y="4951440"/>
              <a:ext cx="22971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05480" y="4951440"/>
              <a:ext cx="64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096160" y="4951440"/>
              <a:ext cx="22953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6320" y="1295280"/>
            <a:ext cx="297180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nts are made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9144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6005520"/>
            <a:ext cx="3505320" cy="6238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9800" y="1295280"/>
            <a:ext cx="301608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nimals are made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295280"/>
            <a:ext cx="292572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came from pre-existing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833480"/>
            <a:ext cx="2133360" cy="2662200"/>
            <a:chOff x="457200" y="1833480"/>
            <a:chExt cx="2133360" cy="2662200"/>
          </a:xfrm>
        </p:grpSpPr>
        <p:sp>
          <p:nvSpPr>
            <p:cNvPr id="96" name=""/>
            <p:cNvSpPr/>
            <p:nvPr/>
          </p:nvSpPr>
          <p:spPr>
            <a:xfrm>
              <a:off x="457200" y="1833480"/>
              <a:ext cx="213336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09480" y="1981080"/>
            <a:ext cx="1965240" cy="2476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1981080"/>
                      <a:ext cx="1965240" cy="24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3505320" y="1833480"/>
            <a:ext cx="2133360" cy="2662200"/>
            <a:chOff x="3505320" y="1833480"/>
            <a:chExt cx="2133360" cy="2662200"/>
          </a:xfrm>
        </p:grpSpPr>
        <p:sp>
          <p:nvSpPr>
            <p:cNvPr id="100" name=""/>
            <p:cNvSpPr/>
            <p:nvPr/>
          </p:nvSpPr>
          <p:spPr>
            <a:xfrm>
              <a:off x="3505320" y="1833480"/>
              <a:ext cx="213336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3654360" y="1985760"/>
            <a:ext cx="1983960" cy="249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4360" y="1985760"/>
                      <a:ext cx="198396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" name=""/>
          <p:cNvGrpSpPr/>
          <p:nvPr/>
        </p:nvGrpSpPr>
        <p:grpSpPr>
          <a:xfrm>
            <a:off x="6553080" y="1833480"/>
            <a:ext cx="2133720" cy="2662200"/>
            <a:chOff x="6553080" y="1833480"/>
            <a:chExt cx="2133720" cy="2662200"/>
          </a:xfrm>
        </p:grpSpPr>
        <p:sp>
          <p:nvSpPr>
            <p:cNvPr id="104" name=""/>
            <p:cNvSpPr/>
            <p:nvPr/>
          </p:nvSpPr>
          <p:spPr>
            <a:xfrm>
              <a:off x="6553080" y="1833480"/>
              <a:ext cx="213372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6705720" y="1944720"/>
              <a:ext cx="1892160" cy="24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28800" y="3124080"/>
            <a:ext cx="5537160" cy="992160"/>
            <a:chOff x="1828800" y="3124080"/>
            <a:chExt cx="5537160" cy="992160"/>
          </a:xfrm>
        </p:grpSpPr>
        <p:sp>
          <p:nvSpPr>
            <p:cNvPr id="107" name=""/>
            <p:cNvSpPr/>
            <p:nvPr/>
          </p:nvSpPr>
          <p:spPr>
            <a:xfrm>
              <a:off x="1828800" y="3124080"/>
              <a:ext cx="22971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3124080"/>
              <a:ext cx="64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070600" y="3124080"/>
              <a:ext cx="22953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846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176720"/>
            <a:ext cx="8686800" cy="24685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things are made up of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structure and function in an org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ells are produced from exist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676520"/>
            <a:ext cx="274176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plants are made of cells (18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1840" y="1676520"/>
            <a:ext cx="274176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animals are made of cells (183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7360" y="1676520"/>
            <a:ext cx="274140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cells came from pre-existing cells (18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8236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Special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425240"/>
            <a:ext cx="3960720" cy="2079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lls in organisms are specialized to perform different task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249640" y="1579680"/>
            <a:ext cx="15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otos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48560" y="3722760"/>
            <a:ext cx="2395440" cy="2239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Red Blood Cells"/>
          <p:cNvPicPr/>
          <p:nvPr/>
        </p:nvPicPr>
        <p:blipFill>
          <a:blip r:embed="rId3"/>
          <a:stretch/>
        </p:blipFill>
        <p:spPr>
          <a:xfrm>
            <a:off x="4927680" y="1025640"/>
            <a:ext cx="3171600" cy="20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3672000"/>
            <a:ext cx="3343320" cy="231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51520" y="313200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49600" y="61167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0240" y="6137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1560" y="1219320"/>
            <a:ext cx="7934400" cy="825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ellular organisms are arranged from simple to complex according to their level of cellular grou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480" y="5630760"/>
            <a:ext cx="9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6240" y="563076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17760" y="56307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7400" y="5630760"/>
            <a:ext cx="14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5630760"/>
            <a:ext cx="172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080" y="151920"/>
            <a:ext cx="8458200" cy="762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Levels of Organ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920" y="3419640"/>
            <a:ext cx="676080" cy="885600"/>
          </a:xfrm>
          <a:custGeom>
            <a:avLst/>
            <a:gdLst/>
            <a:ahLst/>
            <a:rect l="l" t="t" r="r" b="b"/>
            <a:pathLst>
              <a:path w="528" h="694">
                <a:moveTo>
                  <a:pt x="198" y="17"/>
                </a:moveTo>
                <a:cubicBezTo>
                  <a:pt x="264" y="0"/>
                  <a:pt x="394" y="19"/>
                  <a:pt x="448" y="61"/>
                </a:cubicBezTo>
                <a:cubicBezTo>
                  <a:pt x="502" y="103"/>
                  <a:pt x="514" y="184"/>
                  <a:pt x="521" y="267"/>
                </a:cubicBezTo>
                <a:cubicBezTo>
                  <a:pt x="528" y="350"/>
                  <a:pt x="524" y="492"/>
                  <a:pt x="492" y="561"/>
                </a:cubicBezTo>
                <a:cubicBezTo>
                  <a:pt x="460" y="630"/>
                  <a:pt x="396" y="664"/>
                  <a:pt x="330" y="679"/>
                </a:cubicBezTo>
                <a:cubicBezTo>
                  <a:pt x="264" y="694"/>
                  <a:pt x="149" y="688"/>
                  <a:pt x="95" y="649"/>
                </a:cubicBezTo>
                <a:cubicBezTo>
                  <a:pt x="41" y="610"/>
                  <a:pt x="14" y="524"/>
                  <a:pt x="7" y="443"/>
                </a:cubicBezTo>
                <a:cubicBezTo>
                  <a:pt x="0" y="362"/>
                  <a:pt x="9" y="230"/>
                  <a:pt x="51" y="164"/>
                </a:cubicBezTo>
                <a:cubicBezTo>
                  <a:pt x="93" y="98"/>
                  <a:pt x="132" y="34"/>
                  <a:pt x="198" y="17"/>
                </a:cubicBezTo>
                <a:close/>
              </a:path>
            </a:pathLst>
          </a:custGeom>
          <a:solidFill>
            <a:srgbClr val="ffdfb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3640" y="3817800"/>
            <a:ext cx="182520" cy="1828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7640" y="2552760"/>
            <a:ext cx="1579680" cy="2597400"/>
            <a:chOff x="1277640" y="2552760"/>
            <a:chExt cx="1579680" cy="2597400"/>
          </a:xfrm>
        </p:grpSpPr>
        <p:sp>
          <p:nvSpPr>
            <p:cNvPr id="134" name=""/>
            <p:cNvSpPr/>
            <p:nvPr/>
          </p:nvSpPr>
          <p:spPr>
            <a:xfrm rot="18316800">
              <a:off x="1868760" y="263736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83800">
              <a:off x="1989720" y="280980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012600">
              <a:off x="1645560" y="2811960"/>
              <a:ext cx="287640" cy="37764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83800">
              <a:off x="1746000" y="2948040"/>
              <a:ext cx="766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3709200">
              <a:off x="2270520" y="343368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83800">
              <a:off x="2302920" y="360468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198200">
              <a:off x="1824120" y="47228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83800">
              <a:off x="1922760" y="487548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83800">
              <a:off x="2352960" y="39884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83800">
              <a:off x="2449800" y="415728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83800">
              <a:off x="2260440" y="4400640"/>
              <a:ext cx="308880" cy="38052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83800">
              <a:off x="2387160" y="4501800"/>
              <a:ext cx="7848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595800">
              <a:off x="1408680" y="2572200"/>
              <a:ext cx="30852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83800">
              <a:off x="1579320" y="27399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3930600">
              <a:off x="1374840" y="383076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83800">
              <a:off x="1502280" y="393084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149600">
              <a:off x="1978560" y="353664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83800">
              <a:off x="2052360" y="370440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814600">
              <a:off x="1840320" y="3758760"/>
              <a:ext cx="30888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83800">
              <a:off x="1928160" y="394380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83800">
              <a:off x="2128320" y="273060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83800">
              <a:off x="2224800" y="2899800"/>
              <a:ext cx="7812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3852000">
              <a:off x="2197440" y="376668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284400">
              <a:off x="2280600" y="3935160"/>
              <a:ext cx="7812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9155600">
              <a:off x="1923840" y="327132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284400">
              <a:off x="2034000" y="34095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18459600">
              <a:off x="2076120" y="46418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84400">
              <a:off x="2246760" y="482400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2970600">
              <a:off x="1924560" y="4033800"/>
              <a:ext cx="2890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284400">
              <a:off x="2034000" y="418860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284400">
              <a:off x="1340640" y="3503880"/>
              <a:ext cx="2890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284400">
              <a:off x="1450080" y="3674160"/>
              <a:ext cx="7812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284400">
              <a:off x="2127600" y="408744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284400">
              <a:off x="2236680" y="41871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5573000">
              <a:off x="1739520" y="4540320"/>
              <a:ext cx="30744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284400">
              <a:off x="1795320" y="4698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8238200">
              <a:off x="1456560" y="4717440"/>
              <a:ext cx="308880" cy="38088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284400">
              <a:off x="1565640" y="481572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3019200">
              <a:off x="1396080" y="439776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284400">
              <a:off x="1547280" y="457344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7354200">
              <a:off x="2004480" y="4336920"/>
              <a:ext cx="30744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284400">
              <a:off x="2138760" y="4527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284400">
              <a:off x="1394640" y="414504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284400">
              <a:off x="1500480" y="431568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3852000">
              <a:off x="1659600" y="306396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284400">
              <a:off x="1784880" y="319716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9155600">
              <a:off x="2138400" y="312732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284400">
              <a:off x="2235960" y="328752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18459600">
              <a:off x="1648440" y="340128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284400">
              <a:off x="1686240" y="3516840"/>
              <a:ext cx="76680" cy="788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970600">
              <a:off x="1629360" y="3616560"/>
              <a:ext cx="28908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284400">
              <a:off x="1729080" y="3762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284400">
              <a:off x="1338480" y="286128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84400">
              <a:off x="1439640" y="29883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284400">
              <a:off x="1629360" y="3989880"/>
              <a:ext cx="307800" cy="38088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284400">
              <a:off x="1749240" y="4192200"/>
              <a:ext cx="7668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5573000">
              <a:off x="1704600" y="4272840"/>
              <a:ext cx="30888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284400">
              <a:off x="1877040" y="441540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8238200">
              <a:off x="2381040" y="3186000"/>
              <a:ext cx="30852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284400">
              <a:off x="2500920" y="33897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3019200">
              <a:off x="1368720" y="3180600"/>
              <a:ext cx="30780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284400">
              <a:off x="1445040" y="330768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7354200">
              <a:off x="2259360" y="2912040"/>
              <a:ext cx="308880" cy="38052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284400">
              <a:off x="2354400" y="30225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84400">
              <a:off x="1920960" y="291852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84400">
              <a:off x="2022120" y="304632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3019200">
              <a:off x="2458440" y="3652920"/>
              <a:ext cx="30744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284400">
              <a:off x="2535480" y="378000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962440" y="2887560"/>
            <a:ext cx="1554120" cy="2220840"/>
            <a:chOff x="2962440" y="2887560"/>
            <a:chExt cx="1554120" cy="2220840"/>
          </a:xfrm>
        </p:grpSpPr>
        <p:sp>
          <p:nvSpPr>
            <p:cNvPr id="203" name=""/>
            <p:cNvSpPr/>
            <p:nvPr/>
          </p:nvSpPr>
          <p:spPr>
            <a:xfrm>
              <a:off x="2962440" y="2887560"/>
              <a:ext cx="1554120" cy="2220840"/>
            </a:xfrm>
            <a:custGeom>
              <a:avLst/>
              <a:gdLst/>
              <a:ahLst/>
              <a:rect l="l" t="t" r="r" b="b"/>
              <a:pathLst>
                <a:path w="1229" h="1754">
                  <a:moveTo>
                    <a:pt x="649" y="34"/>
                  </a:moveTo>
                  <a:cubicBezTo>
                    <a:pt x="673" y="73"/>
                    <a:pt x="651" y="186"/>
                    <a:pt x="678" y="240"/>
                  </a:cubicBezTo>
                  <a:cubicBezTo>
                    <a:pt x="705" y="294"/>
                    <a:pt x="758" y="336"/>
                    <a:pt x="810" y="358"/>
                  </a:cubicBezTo>
                  <a:cubicBezTo>
                    <a:pt x="862" y="380"/>
                    <a:pt x="923" y="340"/>
                    <a:pt x="987" y="372"/>
                  </a:cubicBezTo>
                  <a:cubicBezTo>
                    <a:pt x="1051" y="404"/>
                    <a:pt x="1158" y="439"/>
                    <a:pt x="1192" y="549"/>
                  </a:cubicBezTo>
                  <a:cubicBezTo>
                    <a:pt x="1226" y="659"/>
                    <a:pt x="1229" y="912"/>
                    <a:pt x="1192" y="1034"/>
                  </a:cubicBezTo>
                  <a:cubicBezTo>
                    <a:pt x="1155" y="1156"/>
                    <a:pt x="1067" y="1239"/>
                    <a:pt x="972" y="1283"/>
                  </a:cubicBezTo>
                  <a:cubicBezTo>
                    <a:pt x="877" y="1327"/>
                    <a:pt x="702" y="1320"/>
                    <a:pt x="619" y="1298"/>
                  </a:cubicBezTo>
                  <a:cubicBezTo>
                    <a:pt x="536" y="1276"/>
                    <a:pt x="521" y="1219"/>
                    <a:pt x="472" y="1151"/>
                  </a:cubicBezTo>
                  <a:cubicBezTo>
                    <a:pt x="423" y="1083"/>
                    <a:pt x="352" y="914"/>
                    <a:pt x="325" y="887"/>
                  </a:cubicBezTo>
                  <a:cubicBezTo>
                    <a:pt x="298" y="860"/>
                    <a:pt x="333" y="972"/>
                    <a:pt x="311" y="989"/>
                  </a:cubicBezTo>
                  <a:cubicBezTo>
                    <a:pt x="289" y="1006"/>
                    <a:pt x="198" y="974"/>
                    <a:pt x="193" y="989"/>
                  </a:cubicBezTo>
                  <a:cubicBezTo>
                    <a:pt x="188" y="1004"/>
                    <a:pt x="257" y="997"/>
                    <a:pt x="281" y="1078"/>
                  </a:cubicBezTo>
                  <a:cubicBezTo>
                    <a:pt x="305" y="1159"/>
                    <a:pt x="330" y="1376"/>
                    <a:pt x="340" y="1474"/>
                  </a:cubicBezTo>
                  <a:cubicBezTo>
                    <a:pt x="350" y="1572"/>
                    <a:pt x="364" y="1628"/>
                    <a:pt x="340" y="1665"/>
                  </a:cubicBezTo>
                  <a:cubicBezTo>
                    <a:pt x="316" y="1702"/>
                    <a:pt x="222" y="1754"/>
                    <a:pt x="193" y="1695"/>
                  </a:cubicBezTo>
                  <a:cubicBezTo>
                    <a:pt x="164" y="1636"/>
                    <a:pt x="188" y="1426"/>
                    <a:pt x="164" y="1313"/>
                  </a:cubicBezTo>
                  <a:cubicBezTo>
                    <a:pt x="140" y="1200"/>
                    <a:pt x="70" y="1097"/>
                    <a:pt x="46" y="1019"/>
                  </a:cubicBezTo>
                  <a:cubicBezTo>
                    <a:pt x="22" y="941"/>
                    <a:pt x="0" y="892"/>
                    <a:pt x="17" y="843"/>
                  </a:cubicBezTo>
                  <a:cubicBezTo>
                    <a:pt x="34" y="794"/>
                    <a:pt x="85" y="745"/>
                    <a:pt x="149" y="725"/>
                  </a:cubicBezTo>
                  <a:cubicBezTo>
                    <a:pt x="213" y="705"/>
                    <a:pt x="318" y="713"/>
                    <a:pt x="399" y="725"/>
                  </a:cubicBezTo>
                  <a:cubicBezTo>
                    <a:pt x="480" y="737"/>
                    <a:pt x="600" y="825"/>
                    <a:pt x="634" y="798"/>
                  </a:cubicBezTo>
                  <a:cubicBezTo>
                    <a:pt x="668" y="771"/>
                    <a:pt x="627" y="649"/>
                    <a:pt x="605" y="563"/>
                  </a:cubicBezTo>
                  <a:cubicBezTo>
                    <a:pt x="583" y="477"/>
                    <a:pt x="529" y="370"/>
                    <a:pt x="502" y="284"/>
                  </a:cubicBezTo>
                  <a:cubicBezTo>
                    <a:pt x="475" y="198"/>
                    <a:pt x="438" y="95"/>
                    <a:pt x="443" y="49"/>
                  </a:cubicBezTo>
                  <a:cubicBezTo>
                    <a:pt x="448" y="3"/>
                    <a:pt x="497" y="0"/>
                    <a:pt x="531" y="5"/>
                  </a:cubicBezTo>
                  <a:cubicBezTo>
                    <a:pt x="565" y="10"/>
                    <a:pt x="616" y="1"/>
                    <a:pt x="649" y="34"/>
                  </a:cubicBezTo>
                  <a:close/>
                </a:path>
              </a:pathLst>
            </a:custGeom>
            <a:solidFill>
              <a:srgbClr val="9966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60400" y="2893680"/>
              <a:ext cx="181800" cy="90720"/>
            </a:xfrm>
            <a:prstGeom prst="ellipse">
              <a:avLst/>
            </a:prstGeom>
            <a:solidFill>
              <a:srgbClr val="99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42000" y="2427120"/>
            <a:ext cx="1398600" cy="2462040"/>
            <a:chOff x="4842000" y="2427120"/>
            <a:chExt cx="1398600" cy="2462040"/>
          </a:xfrm>
        </p:grpSpPr>
        <p:sp>
          <p:nvSpPr>
            <p:cNvPr id="206" name=""/>
            <p:cNvSpPr/>
            <p:nvPr/>
          </p:nvSpPr>
          <p:spPr>
            <a:xfrm>
              <a:off x="4842000" y="2427120"/>
              <a:ext cx="1398600" cy="2452680"/>
            </a:xfrm>
            <a:custGeom>
              <a:avLst/>
              <a:gdLst/>
              <a:ahLst/>
              <a:rect l="l" t="t" r="r" b="b"/>
              <a:pathLst>
                <a:path w="2244" h="3940">
                  <a:moveTo>
                    <a:pt x="2190" y="3937"/>
                  </a:moveTo>
                  <a:lnTo>
                    <a:pt x="2244" y="2833"/>
                  </a:lnTo>
                  <a:lnTo>
                    <a:pt x="2172" y="2473"/>
                  </a:lnTo>
                  <a:lnTo>
                    <a:pt x="2166" y="1738"/>
                  </a:lnTo>
                  <a:lnTo>
                    <a:pt x="2163" y="1642"/>
                  </a:lnTo>
                  <a:lnTo>
                    <a:pt x="2115" y="1540"/>
                  </a:lnTo>
                  <a:lnTo>
                    <a:pt x="2022" y="1456"/>
                  </a:lnTo>
                  <a:cubicBezTo>
                    <a:pt x="1984" y="1432"/>
                    <a:pt x="1933" y="1413"/>
                    <a:pt x="1884" y="1396"/>
                  </a:cubicBezTo>
                  <a:lnTo>
                    <a:pt x="1728" y="1351"/>
                  </a:lnTo>
                  <a:lnTo>
                    <a:pt x="1563" y="1300"/>
                  </a:lnTo>
                  <a:lnTo>
                    <a:pt x="1458" y="1255"/>
                  </a:lnTo>
                  <a:lnTo>
                    <a:pt x="1419" y="1237"/>
                  </a:lnTo>
                  <a:lnTo>
                    <a:pt x="1371" y="1192"/>
                  </a:lnTo>
                  <a:lnTo>
                    <a:pt x="1382" y="1074"/>
                  </a:lnTo>
                  <a:lnTo>
                    <a:pt x="1433" y="1081"/>
                  </a:lnTo>
                  <a:lnTo>
                    <a:pt x="1521" y="1104"/>
                  </a:lnTo>
                  <a:cubicBezTo>
                    <a:pt x="1549" y="1108"/>
                    <a:pt x="1582" y="1111"/>
                    <a:pt x="1602" y="1105"/>
                  </a:cubicBezTo>
                  <a:cubicBezTo>
                    <a:pt x="1622" y="1099"/>
                    <a:pt x="1636" y="1079"/>
                    <a:pt x="1644" y="1068"/>
                  </a:cubicBezTo>
                  <a:cubicBezTo>
                    <a:pt x="1652" y="1057"/>
                    <a:pt x="1652" y="1048"/>
                    <a:pt x="1652" y="1038"/>
                  </a:cubicBezTo>
                  <a:cubicBezTo>
                    <a:pt x="1652" y="1028"/>
                    <a:pt x="1650" y="1015"/>
                    <a:pt x="1647" y="1005"/>
                  </a:cubicBezTo>
                  <a:cubicBezTo>
                    <a:pt x="1644" y="995"/>
                    <a:pt x="1633" y="989"/>
                    <a:pt x="1635" y="979"/>
                  </a:cubicBezTo>
                  <a:lnTo>
                    <a:pt x="1662" y="946"/>
                  </a:lnTo>
                  <a:lnTo>
                    <a:pt x="1635" y="925"/>
                  </a:lnTo>
                  <a:lnTo>
                    <a:pt x="1611" y="904"/>
                  </a:lnTo>
                  <a:cubicBezTo>
                    <a:pt x="1617" y="898"/>
                    <a:pt x="1662" y="908"/>
                    <a:pt x="1673" y="891"/>
                  </a:cubicBezTo>
                  <a:lnTo>
                    <a:pt x="1680" y="802"/>
                  </a:lnTo>
                  <a:cubicBezTo>
                    <a:pt x="1689" y="780"/>
                    <a:pt x="1728" y="788"/>
                    <a:pt x="1728" y="762"/>
                  </a:cubicBezTo>
                  <a:lnTo>
                    <a:pt x="1683" y="643"/>
                  </a:lnTo>
                  <a:lnTo>
                    <a:pt x="1671" y="574"/>
                  </a:lnTo>
                  <a:lnTo>
                    <a:pt x="1680" y="520"/>
                  </a:lnTo>
                  <a:cubicBezTo>
                    <a:pt x="1681" y="479"/>
                    <a:pt x="1684" y="380"/>
                    <a:pt x="1678" y="325"/>
                  </a:cubicBezTo>
                  <a:cubicBezTo>
                    <a:pt x="1678" y="318"/>
                    <a:pt x="1638" y="181"/>
                    <a:pt x="1646" y="189"/>
                  </a:cubicBezTo>
                  <a:cubicBezTo>
                    <a:pt x="1620" y="151"/>
                    <a:pt x="1594" y="113"/>
                    <a:pt x="1550" y="85"/>
                  </a:cubicBezTo>
                  <a:cubicBezTo>
                    <a:pt x="1506" y="57"/>
                    <a:pt x="1429" y="35"/>
                    <a:pt x="1383" y="22"/>
                  </a:cubicBezTo>
                  <a:cubicBezTo>
                    <a:pt x="1356" y="2"/>
                    <a:pt x="1304" y="15"/>
                    <a:pt x="1272" y="7"/>
                  </a:cubicBezTo>
                  <a:cubicBezTo>
                    <a:pt x="1236" y="3"/>
                    <a:pt x="1180" y="0"/>
                    <a:pt x="1134" y="5"/>
                  </a:cubicBezTo>
                  <a:cubicBezTo>
                    <a:pt x="1091" y="9"/>
                    <a:pt x="1057" y="15"/>
                    <a:pt x="1014" y="29"/>
                  </a:cubicBezTo>
                  <a:cubicBezTo>
                    <a:pt x="953" y="43"/>
                    <a:pt x="916" y="63"/>
                    <a:pt x="879" y="88"/>
                  </a:cubicBezTo>
                  <a:cubicBezTo>
                    <a:pt x="842" y="113"/>
                    <a:pt x="816" y="138"/>
                    <a:pt x="789" y="178"/>
                  </a:cubicBezTo>
                  <a:cubicBezTo>
                    <a:pt x="751" y="210"/>
                    <a:pt x="730" y="290"/>
                    <a:pt x="714" y="328"/>
                  </a:cubicBezTo>
                  <a:cubicBezTo>
                    <a:pt x="694" y="354"/>
                    <a:pt x="707" y="410"/>
                    <a:pt x="687" y="436"/>
                  </a:cubicBezTo>
                  <a:cubicBezTo>
                    <a:pt x="686" y="462"/>
                    <a:pt x="681" y="486"/>
                    <a:pt x="681" y="502"/>
                  </a:cubicBezTo>
                  <a:cubicBezTo>
                    <a:pt x="681" y="534"/>
                    <a:pt x="675" y="580"/>
                    <a:pt x="687" y="631"/>
                  </a:cubicBezTo>
                  <a:cubicBezTo>
                    <a:pt x="694" y="681"/>
                    <a:pt x="711" y="754"/>
                    <a:pt x="753" y="811"/>
                  </a:cubicBezTo>
                  <a:cubicBezTo>
                    <a:pt x="776" y="849"/>
                    <a:pt x="802" y="872"/>
                    <a:pt x="814" y="909"/>
                  </a:cubicBezTo>
                  <a:lnTo>
                    <a:pt x="825" y="1036"/>
                  </a:lnTo>
                  <a:lnTo>
                    <a:pt x="813" y="1135"/>
                  </a:lnTo>
                  <a:lnTo>
                    <a:pt x="750" y="1243"/>
                  </a:lnTo>
                  <a:lnTo>
                    <a:pt x="639" y="1297"/>
                  </a:lnTo>
                  <a:lnTo>
                    <a:pt x="498" y="1333"/>
                  </a:lnTo>
                  <a:cubicBezTo>
                    <a:pt x="443" y="1351"/>
                    <a:pt x="360" y="1379"/>
                    <a:pt x="309" y="1402"/>
                  </a:cubicBezTo>
                  <a:cubicBezTo>
                    <a:pt x="258" y="1425"/>
                    <a:pt x="227" y="1427"/>
                    <a:pt x="192" y="1474"/>
                  </a:cubicBezTo>
                  <a:cubicBezTo>
                    <a:pt x="157" y="1521"/>
                    <a:pt x="115" y="1554"/>
                    <a:pt x="96" y="1687"/>
                  </a:cubicBezTo>
                  <a:lnTo>
                    <a:pt x="78" y="2275"/>
                  </a:lnTo>
                  <a:lnTo>
                    <a:pt x="78" y="2497"/>
                  </a:lnTo>
                  <a:lnTo>
                    <a:pt x="9" y="2710"/>
                  </a:lnTo>
                  <a:lnTo>
                    <a:pt x="0" y="3001"/>
                  </a:lnTo>
                  <a:lnTo>
                    <a:pt x="57" y="3568"/>
                  </a:lnTo>
                  <a:lnTo>
                    <a:pt x="66" y="394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9760" y="3993840"/>
              <a:ext cx="419040" cy="198360"/>
            </a:xfrm>
            <a:custGeom>
              <a:avLst/>
              <a:gdLst/>
              <a:ahLst/>
              <a:rect l="l" t="t" r="r" b="b"/>
              <a:pathLst>
                <a:path w="670" h="318">
                  <a:moveTo>
                    <a:pt x="655" y="3"/>
                  </a:moveTo>
                  <a:cubicBezTo>
                    <a:pt x="670" y="5"/>
                    <a:pt x="664" y="19"/>
                    <a:pt x="661" y="31"/>
                  </a:cubicBezTo>
                  <a:cubicBezTo>
                    <a:pt x="658" y="40"/>
                    <a:pt x="651" y="49"/>
                    <a:pt x="646" y="57"/>
                  </a:cubicBezTo>
                  <a:cubicBezTo>
                    <a:pt x="641" y="66"/>
                    <a:pt x="643" y="77"/>
                    <a:pt x="637" y="85"/>
                  </a:cubicBezTo>
                  <a:cubicBezTo>
                    <a:pt x="633" y="91"/>
                    <a:pt x="626" y="93"/>
                    <a:pt x="622" y="99"/>
                  </a:cubicBezTo>
                  <a:cubicBezTo>
                    <a:pt x="618" y="111"/>
                    <a:pt x="608" y="122"/>
                    <a:pt x="595" y="124"/>
                  </a:cubicBezTo>
                  <a:cubicBezTo>
                    <a:pt x="589" y="126"/>
                    <a:pt x="585" y="126"/>
                    <a:pt x="580" y="130"/>
                  </a:cubicBezTo>
                  <a:cubicBezTo>
                    <a:pt x="574" y="141"/>
                    <a:pt x="560" y="149"/>
                    <a:pt x="548" y="151"/>
                  </a:cubicBezTo>
                  <a:cubicBezTo>
                    <a:pt x="541" y="155"/>
                    <a:pt x="537" y="162"/>
                    <a:pt x="530" y="163"/>
                  </a:cubicBezTo>
                  <a:cubicBezTo>
                    <a:pt x="524" y="166"/>
                    <a:pt x="518" y="168"/>
                    <a:pt x="512" y="169"/>
                  </a:cubicBezTo>
                  <a:cubicBezTo>
                    <a:pt x="497" y="187"/>
                    <a:pt x="499" y="193"/>
                    <a:pt x="473" y="202"/>
                  </a:cubicBezTo>
                  <a:cubicBezTo>
                    <a:pt x="465" y="209"/>
                    <a:pt x="454" y="212"/>
                    <a:pt x="446" y="220"/>
                  </a:cubicBezTo>
                  <a:cubicBezTo>
                    <a:pt x="442" y="224"/>
                    <a:pt x="442" y="228"/>
                    <a:pt x="436" y="231"/>
                  </a:cubicBezTo>
                  <a:cubicBezTo>
                    <a:pt x="431" y="238"/>
                    <a:pt x="424" y="240"/>
                    <a:pt x="416" y="241"/>
                  </a:cubicBezTo>
                  <a:cubicBezTo>
                    <a:pt x="390" y="239"/>
                    <a:pt x="392" y="252"/>
                    <a:pt x="371" y="256"/>
                  </a:cubicBezTo>
                  <a:cubicBezTo>
                    <a:pt x="365" y="259"/>
                    <a:pt x="359" y="259"/>
                    <a:pt x="353" y="261"/>
                  </a:cubicBezTo>
                  <a:cubicBezTo>
                    <a:pt x="342" y="272"/>
                    <a:pt x="331" y="272"/>
                    <a:pt x="316" y="276"/>
                  </a:cubicBezTo>
                  <a:cubicBezTo>
                    <a:pt x="310" y="278"/>
                    <a:pt x="298" y="282"/>
                    <a:pt x="298" y="282"/>
                  </a:cubicBezTo>
                  <a:cubicBezTo>
                    <a:pt x="281" y="299"/>
                    <a:pt x="249" y="302"/>
                    <a:pt x="226" y="304"/>
                  </a:cubicBezTo>
                  <a:cubicBezTo>
                    <a:pt x="220" y="307"/>
                    <a:pt x="215" y="309"/>
                    <a:pt x="209" y="310"/>
                  </a:cubicBezTo>
                  <a:cubicBezTo>
                    <a:pt x="193" y="309"/>
                    <a:pt x="182" y="312"/>
                    <a:pt x="167" y="313"/>
                  </a:cubicBezTo>
                  <a:cubicBezTo>
                    <a:pt x="151" y="318"/>
                    <a:pt x="135" y="316"/>
                    <a:pt x="118" y="315"/>
                  </a:cubicBezTo>
                  <a:cubicBezTo>
                    <a:pt x="103" y="316"/>
                    <a:pt x="90" y="314"/>
                    <a:pt x="76" y="312"/>
                  </a:cubicBezTo>
                  <a:cubicBezTo>
                    <a:pt x="70" y="310"/>
                    <a:pt x="65" y="307"/>
                    <a:pt x="59" y="306"/>
                  </a:cubicBezTo>
                  <a:cubicBezTo>
                    <a:pt x="50" y="299"/>
                    <a:pt x="40" y="295"/>
                    <a:pt x="31" y="288"/>
                  </a:cubicBezTo>
                  <a:cubicBezTo>
                    <a:pt x="26" y="280"/>
                    <a:pt x="21" y="271"/>
                    <a:pt x="17" y="262"/>
                  </a:cubicBezTo>
                  <a:cubicBezTo>
                    <a:pt x="15" y="258"/>
                    <a:pt x="11" y="250"/>
                    <a:pt x="11" y="250"/>
                  </a:cubicBezTo>
                  <a:cubicBezTo>
                    <a:pt x="10" y="244"/>
                    <a:pt x="8" y="241"/>
                    <a:pt x="5" y="235"/>
                  </a:cubicBezTo>
                  <a:cubicBezTo>
                    <a:pt x="0" y="207"/>
                    <a:pt x="4" y="178"/>
                    <a:pt x="10" y="151"/>
                  </a:cubicBezTo>
                  <a:cubicBezTo>
                    <a:pt x="12" y="132"/>
                    <a:pt x="20" y="118"/>
                    <a:pt x="40" y="114"/>
                  </a:cubicBezTo>
                  <a:cubicBezTo>
                    <a:pt x="52" y="108"/>
                    <a:pt x="70" y="112"/>
                    <a:pt x="82" y="112"/>
                  </a:cubicBezTo>
                  <a:cubicBezTo>
                    <a:pt x="95" y="118"/>
                    <a:pt x="110" y="114"/>
                    <a:pt x="124" y="114"/>
                  </a:cubicBezTo>
                  <a:cubicBezTo>
                    <a:pt x="138" y="111"/>
                    <a:pt x="155" y="115"/>
                    <a:pt x="169" y="117"/>
                  </a:cubicBezTo>
                  <a:cubicBezTo>
                    <a:pt x="209" y="114"/>
                    <a:pt x="289" y="112"/>
                    <a:pt x="289" y="112"/>
                  </a:cubicBezTo>
                  <a:cubicBezTo>
                    <a:pt x="311" y="111"/>
                    <a:pt x="331" y="107"/>
                    <a:pt x="353" y="106"/>
                  </a:cubicBezTo>
                  <a:cubicBezTo>
                    <a:pt x="364" y="104"/>
                    <a:pt x="375" y="102"/>
                    <a:pt x="386" y="100"/>
                  </a:cubicBezTo>
                  <a:cubicBezTo>
                    <a:pt x="403" y="92"/>
                    <a:pt x="424" y="86"/>
                    <a:pt x="443" y="84"/>
                  </a:cubicBezTo>
                  <a:cubicBezTo>
                    <a:pt x="461" y="76"/>
                    <a:pt x="481" y="74"/>
                    <a:pt x="499" y="66"/>
                  </a:cubicBezTo>
                  <a:cubicBezTo>
                    <a:pt x="510" y="62"/>
                    <a:pt x="514" y="53"/>
                    <a:pt x="526" y="51"/>
                  </a:cubicBezTo>
                  <a:cubicBezTo>
                    <a:pt x="534" y="47"/>
                    <a:pt x="539" y="43"/>
                    <a:pt x="548" y="42"/>
                  </a:cubicBezTo>
                  <a:cubicBezTo>
                    <a:pt x="559" y="38"/>
                    <a:pt x="572" y="37"/>
                    <a:pt x="584" y="36"/>
                  </a:cubicBezTo>
                  <a:cubicBezTo>
                    <a:pt x="593" y="31"/>
                    <a:pt x="596" y="23"/>
                    <a:pt x="607" y="21"/>
                  </a:cubicBezTo>
                  <a:cubicBezTo>
                    <a:pt x="617" y="16"/>
                    <a:pt x="627" y="16"/>
                    <a:pt x="637" y="10"/>
                  </a:cubicBezTo>
                  <a:cubicBezTo>
                    <a:pt x="645" y="0"/>
                    <a:pt x="640" y="2"/>
                    <a:pt x="649" y="0"/>
                  </a:cubicBezTo>
                  <a:cubicBezTo>
                    <a:pt x="652" y="1"/>
                    <a:pt x="659" y="0"/>
                    <a:pt x="659" y="3"/>
                  </a:cubicBezTo>
                  <a:cubicBezTo>
                    <a:pt x="659" y="4"/>
                    <a:pt x="656" y="3"/>
                    <a:pt x="655" y="3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481720" y="4481280"/>
              <a:ext cx="128880" cy="260280"/>
              <a:chOff x="5481720" y="4481280"/>
              <a:chExt cx="128880" cy="26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481720" y="4481280"/>
                <a:ext cx="128880" cy="260280"/>
              </a:xfrm>
              <a:custGeom>
                <a:avLst/>
                <a:gdLst/>
                <a:ahLst/>
                <a:rect l="l" t="t" r="r" b="b"/>
                <a:pathLst>
                  <a:path w="207" h="418">
                    <a:moveTo>
                      <a:pt x="3" y="143"/>
                    </a:moveTo>
                    <a:cubicBezTo>
                      <a:pt x="4" y="152"/>
                      <a:pt x="5" y="156"/>
                      <a:pt x="7" y="167"/>
                    </a:cubicBezTo>
                    <a:cubicBezTo>
                      <a:pt x="9" y="178"/>
                      <a:pt x="10" y="195"/>
                      <a:pt x="13" y="208"/>
                    </a:cubicBezTo>
                    <a:cubicBezTo>
                      <a:pt x="16" y="221"/>
                      <a:pt x="24" y="237"/>
                      <a:pt x="28" y="247"/>
                    </a:cubicBezTo>
                    <a:cubicBezTo>
                      <a:pt x="32" y="257"/>
                      <a:pt x="37" y="257"/>
                      <a:pt x="39" y="268"/>
                    </a:cubicBezTo>
                    <a:lnTo>
                      <a:pt x="43" y="314"/>
                    </a:lnTo>
                    <a:lnTo>
                      <a:pt x="51" y="368"/>
                    </a:lnTo>
                    <a:cubicBezTo>
                      <a:pt x="54" y="383"/>
                      <a:pt x="54" y="398"/>
                      <a:pt x="60" y="406"/>
                    </a:cubicBezTo>
                    <a:lnTo>
                      <a:pt x="90" y="418"/>
                    </a:lnTo>
                    <a:lnTo>
                      <a:pt x="121" y="418"/>
                    </a:lnTo>
                    <a:lnTo>
                      <a:pt x="138" y="418"/>
                    </a:lnTo>
                    <a:lnTo>
                      <a:pt x="157" y="412"/>
                    </a:lnTo>
                    <a:lnTo>
                      <a:pt x="168" y="392"/>
                    </a:lnTo>
                    <a:lnTo>
                      <a:pt x="166" y="314"/>
                    </a:lnTo>
                    <a:lnTo>
                      <a:pt x="177" y="263"/>
                    </a:lnTo>
                    <a:lnTo>
                      <a:pt x="195" y="238"/>
                    </a:lnTo>
                    <a:lnTo>
                      <a:pt x="202" y="214"/>
                    </a:lnTo>
                    <a:cubicBezTo>
                      <a:pt x="203" y="203"/>
                      <a:pt x="207" y="177"/>
                      <a:pt x="202" y="169"/>
                    </a:cubicBezTo>
                    <a:lnTo>
                      <a:pt x="171" y="164"/>
                    </a:lnTo>
                    <a:lnTo>
                      <a:pt x="139" y="155"/>
                    </a:lnTo>
                    <a:lnTo>
                      <a:pt x="123" y="113"/>
                    </a:lnTo>
                    <a:lnTo>
                      <a:pt x="106" y="110"/>
                    </a:lnTo>
                    <a:lnTo>
                      <a:pt x="79" y="86"/>
                    </a:lnTo>
                    <a:lnTo>
                      <a:pt x="69" y="65"/>
                    </a:lnTo>
                    <a:lnTo>
                      <a:pt x="69" y="49"/>
                    </a:lnTo>
                    <a:lnTo>
                      <a:pt x="91" y="2"/>
                    </a:lnTo>
                    <a:cubicBezTo>
                      <a:pt x="85" y="0"/>
                      <a:pt x="46" y="23"/>
                      <a:pt x="31" y="38"/>
                    </a:cubicBezTo>
                    <a:cubicBezTo>
                      <a:pt x="16" y="53"/>
                      <a:pt x="5" y="81"/>
                      <a:pt x="0" y="94"/>
                    </a:cubicBezTo>
                    <a:lnTo>
                      <a:pt x="0" y="119"/>
                    </a:lnTo>
                    <a:lnTo>
                      <a:pt x="3" y="143"/>
                    </a:lnTo>
                    <a:close/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17000" y="4708440"/>
                <a:ext cx="69120" cy="14400"/>
              </a:xfrm>
              <a:custGeom>
                <a:avLst/>
                <a:gdLst/>
                <a:ahLst/>
                <a:rect l="l" t="t" r="r" b="b"/>
                <a:pathLst>
                  <a:path w="111" h="23">
                    <a:moveTo>
                      <a:pt x="0" y="18"/>
                    </a:moveTo>
                    <a:cubicBezTo>
                      <a:pt x="11" y="12"/>
                      <a:pt x="19" y="2"/>
                      <a:pt x="28" y="3"/>
                    </a:cubicBezTo>
                    <a:cubicBezTo>
                      <a:pt x="38" y="1"/>
                      <a:pt x="46" y="0"/>
                      <a:pt x="56" y="1"/>
                    </a:cubicBezTo>
                    <a:cubicBezTo>
                      <a:pt x="65" y="1"/>
                      <a:pt x="77" y="1"/>
                      <a:pt x="84" y="2"/>
                    </a:cubicBezTo>
                    <a:cubicBezTo>
                      <a:pt x="91" y="3"/>
                      <a:pt x="95" y="6"/>
                      <a:pt x="99" y="9"/>
                    </a:cubicBezTo>
                    <a:cubicBezTo>
                      <a:pt x="103" y="12"/>
                      <a:pt x="109" y="20"/>
                      <a:pt x="111" y="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04760" y="4587120"/>
                <a:ext cx="5400" cy="33480"/>
              </a:xfrm>
              <a:custGeom>
                <a:avLst/>
                <a:gdLst/>
                <a:ahLst/>
                <a:rect l="l" t="t" r="r" b="b"/>
                <a:pathLst>
                  <a:path w="9" h="54">
                    <a:moveTo>
                      <a:pt x="0" y="0"/>
                    </a:moveTo>
                    <a:cubicBezTo>
                      <a:pt x="3" y="14"/>
                      <a:pt x="2" y="29"/>
                      <a:pt x="8" y="42"/>
                    </a:cubicBezTo>
                    <a:cubicBezTo>
                      <a:pt x="9" y="51"/>
                      <a:pt x="9" y="47"/>
                      <a:pt x="9" y="5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27800" y="459036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2" y="0"/>
                    </a:moveTo>
                    <a:cubicBezTo>
                      <a:pt x="3" y="14"/>
                      <a:pt x="0" y="35"/>
                      <a:pt x="7" y="49"/>
                    </a:cubicBezTo>
                    <a:cubicBezTo>
                      <a:pt x="10" y="62"/>
                      <a:pt x="11" y="74"/>
                      <a:pt x="11" y="87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519880" y="4195440"/>
              <a:ext cx="408240" cy="430200"/>
              <a:chOff x="5519880" y="4195440"/>
              <a:chExt cx="408240" cy="430200"/>
            </a:xfrm>
          </p:grpSpPr>
          <p:sp>
            <p:nvSpPr>
              <p:cNvPr id="214" name=""/>
              <p:cNvSpPr/>
              <p:nvPr/>
            </p:nvSpPr>
            <p:spPr>
              <a:xfrm>
                <a:off x="5519880" y="4195440"/>
                <a:ext cx="408240" cy="430200"/>
              </a:xfrm>
              <a:custGeom>
                <a:avLst/>
                <a:gdLst/>
                <a:ahLst/>
                <a:rect l="l" t="t" r="r" b="b"/>
                <a:pathLst>
                  <a:path w="654" h="693">
                    <a:moveTo>
                      <a:pt x="25" y="465"/>
                    </a:moveTo>
                    <a:cubicBezTo>
                      <a:pt x="24" y="471"/>
                      <a:pt x="10" y="495"/>
                      <a:pt x="7" y="501"/>
                    </a:cubicBezTo>
                    <a:cubicBezTo>
                      <a:pt x="0" y="535"/>
                      <a:pt x="29" y="569"/>
                      <a:pt x="63" y="573"/>
                    </a:cubicBezTo>
                    <a:cubicBezTo>
                      <a:pt x="65" y="596"/>
                      <a:pt x="71" y="618"/>
                      <a:pt x="95" y="621"/>
                    </a:cubicBezTo>
                    <a:cubicBezTo>
                      <a:pt x="100" y="623"/>
                      <a:pt x="119" y="626"/>
                      <a:pt x="124" y="629"/>
                    </a:cubicBezTo>
                    <a:cubicBezTo>
                      <a:pt x="146" y="627"/>
                      <a:pt x="142" y="626"/>
                      <a:pt x="154" y="614"/>
                    </a:cubicBezTo>
                    <a:cubicBezTo>
                      <a:pt x="171" y="654"/>
                      <a:pt x="182" y="661"/>
                      <a:pt x="226" y="668"/>
                    </a:cubicBezTo>
                    <a:cubicBezTo>
                      <a:pt x="261" y="665"/>
                      <a:pt x="254" y="663"/>
                      <a:pt x="267" y="636"/>
                    </a:cubicBezTo>
                    <a:cubicBezTo>
                      <a:pt x="268" y="643"/>
                      <a:pt x="265" y="646"/>
                      <a:pt x="264" y="653"/>
                    </a:cubicBezTo>
                    <a:cubicBezTo>
                      <a:pt x="265" y="663"/>
                      <a:pt x="271" y="676"/>
                      <a:pt x="282" y="678"/>
                    </a:cubicBezTo>
                    <a:cubicBezTo>
                      <a:pt x="287" y="685"/>
                      <a:pt x="295" y="692"/>
                      <a:pt x="303" y="693"/>
                    </a:cubicBezTo>
                    <a:cubicBezTo>
                      <a:pt x="329" y="692"/>
                      <a:pt x="342" y="685"/>
                      <a:pt x="354" y="662"/>
                    </a:cubicBezTo>
                    <a:cubicBezTo>
                      <a:pt x="356" y="654"/>
                      <a:pt x="356" y="644"/>
                      <a:pt x="358" y="636"/>
                    </a:cubicBezTo>
                    <a:cubicBezTo>
                      <a:pt x="361" y="627"/>
                      <a:pt x="364" y="617"/>
                      <a:pt x="358" y="632"/>
                    </a:cubicBezTo>
                    <a:cubicBezTo>
                      <a:pt x="356" y="641"/>
                      <a:pt x="351" y="653"/>
                      <a:pt x="360" y="660"/>
                    </a:cubicBezTo>
                    <a:cubicBezTo>
                      <a:pt x="367" y="666"/>
                      <a:pt x="387" y="666"/>
                      <a:pt x="387" y="666"/>
                    </a:cubicBezTo>
                    <a:cubicBezTo>
                      <a:pt x="392" y="667"/>
                      <a:pt x="390" y="671"/>
                      <a:pt x="395" y="671"/>
                    </a:cubicBezTo>
                    <a:cubicBezTo>
                      <a:pt x="400" y="671"/>
                      <a:pt x="409" y="671"/>
                      <a:pt x="419" y="668"/>
                    </a:cubicBezTo>
                    <a:cubicBezTo>
                      <a:pt x="429" y="665"/>
                      <a:pt x="443" y="661"/>
                      <a:pt x="454" y="653"/>
                    </a:cubicBezTo>
                    <a:cubicBezTo>
                      <a:pt x="470" y="645"/>
                      <a:pt x="475" y="627"/>
                      <a:pt x="486" y="620"/>
                    </a:cubicBezTo>
                    <a:cubicBezTo>
                      <a:pt x="492" y="615"/>
                      <a:pt x="510" y="615"/>
                      <a:pt x="517" y="611"/>
                    </a:cubicBezTo>
                    <a:cubicBezTo>
                      <a:pt x="520" y="599"/>
                      <a:pt x="523" y="586"/>
                      <a:pt x="532" y="579"/>
                    </a:cubicBezTo>
                    <a:cubicBezTo>
                      <a:pt x="533" y="572"/>
                      <a:pt x="528" y="563"/>
                      <a:pt x="531" y="557"/>
                    </a:cubicBezTo>
                    <a:cubicBezTo>
                      <a:pt x="532" y="544"/>
                      <a:pt x="536" y="549"/>
                      <a:pt x="550" y="548"/>
                    </a:cubicBezTo>
                    <a:cubicBezTo>
                      <a:pt x="556" y="546"/>
                      <a:pt x="561" y="540"/>
                      <a:pt x="566" y="536"/>
                    </a:cubicBezTo>
                    <a:cubicBezTo>
                      <a:pt x="569" y="530"/>
                      <a:pt x="576" y="525"/>
                      <a:pt x="576" y="525"/>
                    </a:cubicBezTo>
                    <a:cubicBezTo>
                      <a:pt x="580" y="520"/>
                      <a:pt x="591" y="523"/>
                      <a:pt x="596" y="516"/>
                    </a:cubicBezTo>
                    <a:cubicBezTo>
                      <a:pt x="601" y="509"/>
                      <a:pt x="606" y="494"/>
                      <a:pt x="608" y="485"/>
                    </a:cubicBezTo>
                    <a:cubicBezTo>
                      <a:pt x="609" y="476"/>
                      <a:pt x="610" y="467"/>
                      <a:pt x="608" y="462"/>
                    </a:cubicBezTo>
                    <a:cubicBezTo>
                      <a:pt x="606" y="457"/>
                      <a:pt x="592" y="457"/>
                      <a:pt x="594" y="452"/>
                    </a:cubicBezTo>
                    <a:cubicBezTo>
                      <a:pt x="600" y="441"/>
                      <a:pt x="613" y="444"/>
                      <a:pt x="620" y="434"/>
                    </a:cubicBezTo>
                    <a:lnTo>
                      <a:pt x="643" y="407"/>
                    </a:lnTo>
                    <a:cubicBezTo>
                      <a:pt x="644" y="399"/>
                      <a:pt x="646" y="381"/>
                      <a:pt x="650" y="374"/>
                    </a:cubicBezTo>
                    <a:cubicBezTo>
                      <a:pt x="654" y="353"/>
                      <a:pt x="646" y="356"/>
                      <a:pt x="643" y="341"/>
                    </a:cubicBezTo>
                    <a:cubicBezTo>
                      <a:pt x="642" y="330"/>
                      <a:pt x="645" y="313"/>
                      <a:pt x="631" y="311"/>
                    </a:cubicBezTo>
                    <a:cubicBezTo>
                      <a:pt x="637" y="307"/>
                      <a:pt x="639" y="304"/>
                      <a:pt x="642" y="297"/>
                    </a:cubicBezTo>
                    <a:cubicBezTo>
                      <a:pt x="643" y="284"/>
                      <a:pt x="652" y="268"/>
                      <a:pt x="653" y="255"/>
                    </a:cubicBezTo>
                    <a:cubicBezTo>
                      <a:pt x="653" y="243"/>
                      <a:pt x="651" y="209"/>
                      <a:pt x="630" y="206"/>
                    </a:cubicBezTo>
                    <a:cubicBezTo>
                      <a:pt x="639" y="192"/>
                      <a:pt x="636" y="199"/>
                      <a:pt x="640" y="186"/>
                    </a:cubicBezTo>
                    <a:cubicBezTo>
                      <a:pt x="642" y="169"/>
                      <a:pt x="635" y="118"/>
                      <a:pt x="612" y="114"/>
                    </a:cubicBezTo>
                    <a:cubicBezTo>
                      <a:pt x="608" y="97"/>
                      <a:pt x="623" y="95"/>
                      <a:pt x="625" y="83"/>
                    </a:cubicBezTo>
                    <a:cubicBezTo>
                      <a:pt x="627" y="71"/>
                      <a:pt x="628" y="55"/>
                      <a:pt x="627" y="42"/>
                    </a:cubicBezTo>
                    <a:cubicBezTo>
                      <a:pt x="626" y="29"/>
                      <a:pt x="623" y="6"/>
                      <a:pt x="616" y="3"/>
                    </a:cubicBezTo>
                    <a:cubicBezTo>
                      <a:pt x="609" y="0"/>
                      <a:pt x="598" y="15"/>
                      <a:pt x="587" y="24"/>
                    </a:cubicBezTo>
                    <a:cubicBezTo>
                      <a:pt x="575" y="27"/>
                      <a:pt x="559" y="47"/>
                      <a:pt x="550" y="57"/>
                    </a:cubicBezTo>
                    <a:cubicBezTo>
                      <a:pt x="540" y="66"/>
                      <a:pt x="539" y="68"/>
                      <a:pt x="527" y="77"/>
                    </a:cubicBezTo>
                    <a:cubicBezTo>
                      <a:pt x="515" y="86"/>
                      <a:pt x="487" y="96"/>
                      <a:pt x="478" y="114"/>
                    </a:cubicBezTo>
                    <a:cubicBezTo>
                      <a:pt x="452" y="123"/>
                      <a:pt x="483" y="164"/>
                      <a:pt x="472" y="185"/>
                    </a:cubicBezTo>
                    <a:cubicBezTo>
                      <a:pt x="472" y="188"/>
                      <a:pt x="471" y="191"/>
                      <a:pt x="471" y="194"/>
                    </a:cubicBezTo>
                    <a:cubicBezTo>
                      <a:pt x="470" y="197"/>
                      <a:pt x="469" y="200"/>
                      <a:pt x="469" y="203"/>
                    </a:cubicBezTo>
                    <a:cubicBezTo>
                      <a:pt x="468" y="212"/>
                      <a:pt x="466" y="230"/>
                      <a:pt x="466" y="230"/>
                    </a:cubicBezTo>
                    <a:cubicBezTo>
                      <a:pt x="465" y="262"/>
                      <a:pt x="462" y="294"/>
                      <a:pt x="460" y="326"/>
                    </a:cubicBezTo>
                    <a:cubicBezTo>
                      <a:pt x="461" y="344"/>
                      <a:pt x="456" y="360"/>
                      <a:pt x="472" y="368"/>
                    </a:cubicBezTo>
                    <a:cubicBezTo>
                      <a:pt x="465" y="373"/>
                      <a:pt x="455" y="372"/>
                      <a:pt x="448" y="378"/>
                    </a:cubicBezTo>
                    <a:cubicBezTo>
                      <a:pt x="442" y="384"/>
                      <a:pt x="436" y="396"/>
                      <a:pt x="434" y="401"/>
                    </a:cubicBezTo>
                    <a:cubicBezTo>
                      <a:pt x="432" y="406"/>
                      <a:pt x="432" y="405"/>
                      <a:pt x="436" y="411"/>
                    </a:cubicBezTo>
                    <a:cubicBezTo>
                      <a:pt x="433" y="424"/>
                      <a:pt x="448" y="426"/>
                      <a:pt x="457" y="438"/>
                    </a:cubicBezTo>
                    <a:cubicBezTo>
                      <a:pt x="457" y="444"/>
                      <a:pt x="443" y="443"/>
                      <a:pt x="437" y="444"/>
                    </a:cubicBezTo>
                    <a:cubicBezTo>
                      <a:pt x="431" y="445"/>
                      <a:pt x="425" y="441"/>
                      <a:pt x="418" y="443"/>
                    </a:cubicBezTo>
                    <a:cubicBezTo>
                      <a:pt x="407" y="444"/>
                      <a:pt x="407" y="458"/>
                      <a:pt x="396" y="459"/>
                    </a:cubicBezTo>
                    <a:cubicBezTo>
                      <a:pt x="392" y="464"/>
                      <a:pt x="392" y="468"/>
                      <a:pt x="391" y="473"/>
                    </a:cubicBezTo>
                    <a:cubicBezTo>
                      <a:pt x="390" y="478"/>
                      <a:pt x="397" y="493"/>
                      <a:pt x="391" y="492"/>
                    </a:cubicBezTo>
                    <a:lnTo>
                      <a:pt x="353" y="467"/>
                    </a:lnTo>
                    <a:cubicBezTo>
                      <a:pt x="341" y="462"/>
                      <a:pt x="326" y="462"/>
                      <a:pt x="317" y="462"/>
                    </a:cubicBezTo>
                    <a:cubicBezTo>
                      <a:pt x="308" y="463"/>
                      <a:pt x="302" y="466"/>
                      <a:pt x="298" y="468"/>
                    </a:cubicBezTo>
                    <a:cubicBezTo>
                      <a:pt x="294" y="470"/>
                      <a:pt x="293" y="472"/>
                      <a:pt x="292" y="476"/>
                    </a:cubicBezTo>
                    <a:cubicBezTo>
                      <a:pt x="291" y="480"/>
                      <a:pt x="292" y="486"/>
                      <a:pt x="293" y="492"/>
                    </a:cubicBezTo>
                    <a:cubicBezTo>
                      <a:pt x="294" y="498"/>
                      <a:pt x="302" y="506"/>
                      <a:pt x="301" y="510"/>
                    </a:cubicBezTo>
                    <a:cubicBezTo>
                      <a:pt x="300" y="514"/>
                      <a:pt x="290" y="510"/>
                      <a:pt x="289" y="519"/>
                    </a:cubicBezTo>
                    <a:cubicBezTo>
                      <a:pt x="288" y="528"/>
                      <a:pt x="295" y="565"/>
                      <a:pt x="293" y="564"/>
                    </a:cubicBezTo>
                    <a:cubicBezTo>
                      <a:pt x="290" y="570"/>
                      <a:pt x="290" y="525"/>
                      <a:pt x="278" y="510"/>
                    </a:cubicBezTo>
                    <a:cubicBezTo>
                      <a:pt x="266" y="495"/>
                      <a:pt x="233" y="481"/>
                      <a:pt x="222" y="476"/>
                    </a:cubicBezTo>
                    <a:cubicBezTo>
                      <a:pt x="219" y="477"/>
                      <a:pt x="216" y="480"/>
                      <a:pt x="213" y="480"/>
                    </a:cubicBezTo>
                    <a:cubicBezTo>
                      <a:pt x="211" y="480"/>
                      <a:pt x="192" y="463"/>
                      <a:pt x="190" y="462"/>
                    </a:cubicBezTo>
                    <a:cubicBezTo>
                      <a:pt x="174" y="435"/>
                      <a:pt x="129" y="431"/>
                      <a:pt x="101" y="429"/>
                    </a:cubicBezTo>
                    <a:cubicBezTo>
                      <a:pt x="86" y="429"/>
                      <a:pt x="70" y="431"/>
                      <a:pt x="58" y="438"/>
                    </a:cubicBezTo>
                    <a:cubicBezTo>
                      <a:pt x="47" y="442"/>
                      <a:pt x="36" y="452"/>
                      <a:pt x="31" y="456"/>
                    </a:cubicBezTo>
                    <a:cubicBezTo>
                      <a:pt x="26" y="460"/>
                      <a:pt x="29" y="463"/>
                      <a:pt x="28" y="465"/>
                    </a:cubicBezTo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537880" y="4226400"/>
                <a:ext cx="334440" cy="341280"/>
              </a:xfrm>
              <a:custGeom>
                <a:avLst/>
                <a:gdLst/>
                <a:ahLst/>
                <a:rect l="l" t="t" r="r" b="b"/>
                <a:pathLst>
                  <a:path w="536" h="550">
                    <a:moveTo>
                      <a:pt x="531" y="0"/>
                    </a:moveTo>
                    <a:cubicBezTo>
                      <a:pt x="531" y="37"/>
                      <a:pt x="536" y="168"/>
                      <a:pt x="533" y="222"/>
                    </a:cubicBezTo>
                    <a:cubicBezTo>
                      <a:pt x="530" y="276"/>
                      <a:pt x="520" y="298"/>
                      <a:pt x="513" y="325"/>
                    </a:cubicBezTo>
                    <a:lnTo>
                      <a:pt x="492" y="384"/>
                    </a:lnTo>
                    <a:lnTo>
                      <a:pt x="457" y="438"/>
                    </a:lnTo>
                    <a:lnTo>
                      <a:pt x="419" y="480"/>
                    </a:lnTo>
                    <a:cubicBezTo>
                      <a:pt x="398" y="495"/>
                      <a:pt x="370" y="519"/>
                      <a:pt x="333" y="528"/>
                    </a:cubicBezTo>
                    <a:cubicBezTo>
                      <a:pt x="296" y="537"/>
                      <a:pt x="249" y="550"/>
                      <a:pt x="194" y="535"/>
                    </a:cubicBezTo>
                    <a:cubicBezTo>
                      <a:pt x="139" y="520"/>
                      <a:pt x="40" y="458"/>
                      <a:pt x="0" y="43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88120" y="2922120"/>
              <a:ext cx="500040" cy="1424160"/>
            </a:xfrm>
            <a:custGeom>
              <a:avLst/>
              <a:gdLst/>
              <a:ahLst/>
              <a:rect l="l" t="t" r="r" b="b"/>
              <a:pathLst>
                <a:path w="802" h="2288">
                  <a:moveTo>
                    <a:pt x="83" y="2228"/>
                  </a:moveTo>
                  <a:lnTo>
                    <a:pt x="92" y="2170"/>
                  </a:lnTo>
                  <a:cubicBezTo>
                    <a:pt x="93" y="2147"/>
                    <a:pt x="101" y="2120"/>
                    <a:pt x="91" y="2090"/>
                  </a:cubicBezTo>
                  <a:lnTo>
                    <a:pt x="29" y="1990"/>
                  </a:lnTo>
                  <a:cubicBezTo>
                    <a:pt x="15" y="1962"/>
                    <a:pt x="11" y="1942"/>
                    <a:pt x="7" y="1920"/>
                  </a:cubicBezTo>
                  <a:cubicBezTo>
                    <a:pt x="3" y="1898"/>
                    <a:pt x="0" y="1879"/>
                    <a:pt x="4" y="1857"/>
                  </a:cubicBezTo>
                  <a:cubicBezTo>
                    <a:pt x="8" y="1835"/>
                    <a:pt x="14" y="1807"/>
                    <a:pt x="32" y="1785"/>
                  </a:cubicBezTo>
                  <a:cubicBezTo>
                    <a:pt x="50" y="1763"/>
                    <a:pt x="82" y="1738"/>
                    <a:pt x="111" y="1726"/>
                  </a:cubicBezTo>
                  <a:cubicBezTo>
                    <a:pt x="140" y="1714"/>
                    <a:pt x="183" y="1715"/>
                    <a:pt x="205" y="1716"/>
                  </a:cubicBezTo>
                  <a:cubicBezTo>
                    <a:pt x="227" y="1717"/>
                    <a:pt x="234" y="1730"/>
                    <a:pt x="243" y="1732"/>
                  </a:cubicBezTo>
                  <a:cubicBezTo>
                    <a:pt x="252" y="1734"/>
                    <a:pt x="241" y="1737"/>
                    <a:pt x="259" y="1729"/>
                  </a:cubicBezTo>
                  <a:cubicBezTo>
                    <a:pt x="277" y="1721"/>
                    <a:pt x="327" y="1701"/>
                    <a:pt x="353" y="1682"/>
                  </a:cubicBezTo>
                  <a:cubicBezTo>
                    <a:pt x="379" y="1663"/>
                    <a:pt x="392" y="1658"/>
                    <a:pt x="415" y="1616"/>
                  </a:cubicBezTo>
                  <a:lnTo>
                    <a:pt x="489" y="1430"/>
                  </a:lnTo>
                  <a:cubicBezTo>
                    <a:pt x="486" y="1390"/>
                    <a:pt x="430" y="1392"/>
                    <a:pt x="399" y="1374"/>
                  </a:cubicBezTo>
                  <a:cubicBezTo>
                    <a:pt x="368" y="1356"/>
                    <a:pt x="324" y="1337"/>
                    <a:pt x="301" y="1324"/>
                  </a:cubicBezTo>
                  <a:lnTo>
                    <a:pt x="263" y="1294"/>
                  </a:lnTo>
                  <a:cubicBezTo>
                    <a:pt x="252" y="1280"/>
                    <a:pt x="242" y="1258"/>
                    <a:pt x="237" y="1242"/>
                  </a:cubicBezTo>
                  <a:lnTo>
                    <a:pt x="231" y="1198"/>
                  </a:lnTo>
                  <a:lnTo>
                    <a:pt x="241" y="884"/>
                  </a:lnTo>
                  <a:lnTo>
                    <a:pt x="268" y="620"/>
                  </a:lnTo>
                  <a:lnTo>
                    <a:pt x="283" y="502"/>
                  </a:lnTo>
                  <a:lnTo>
                    <a:pt x="319" y="376"/>
                  </a:lnTo>
                  <a:lnTo>
                    <a:pt x="365" y="238"/>
                  </a:lnTo>
                  <a:cubicBezTo>
                    <a:pt x="379" y="201"/>
                    <a:pt x="386" y="186"/>
                    <a:pt x="401" y="154"/>
                  </a:cubicBezTo>
                  <a:cubicBezTo>
                    <a:pt x="416" y="122"/>
                    <a:pt x="441" y="70"/>
                    <a:pt x="457" y="48"/>
                  </a:cubicBezTo>
                  <a:lnTo>
                    <a:pt x="497" y="20"/>
                  </a:lnTo>
                  <a:lnTo>
                    <a:pt x="527" y="8"/>
                  </a:lnTo>
                  <a:lnTo>
                    <a:pt x="569" y="0"/>
                  </a:lnTo>
                  <a:cubicBezTo>
                    <a:pt x="590" y="1"/>
                    <a:pt x="630" y="7"/>
                    <a:pt x="651" y="14"/>
                  </a:cubicBezTo>
                  <a:cubicBezTo>
                    <a:pt x="672" y="21"/>
                    <a:pt x="684" y="27"/>
                    <a:pt x="695" y="44"/>
                  </a:cubicBezTo>
                  <a:cubicBezTo>
                    <a:pt x="706" y="61"/>
                    <a:pt x="717" y="96"/>
                    <a:pt x="715" y="116"/>
                  </a:cubicBezTo>
                  <a:cubicBezTo>
                    <a:pt x="713" y="136"/>
                    <a:pt x="690" y="160"/>
                    <a:pt x="682" y="166"/>
                  </a:cubicBezTo>
                  <a:cubicBezTo>
                    <a:pt x="674" y="172"/>
                    <a:pt x="669" y="160"/>
                    <a:pt x="668" y="154"/>
                  </a:cubicBezTo>
                  <a:lnTo>
                    <a:pt x="679" y="132"/>
                  </a:lnTo>
                  <a:lnTo>
                    <a:pt x="679" y="98"/>
                  </a:lnTo>
                  <a:cubicBezTo>
                    <a:pt x="676" y="88"/>
                    <a:pt x="671" y="81"/>
                    <a:pt x="661" y="72"/>
                  </a:cubicBezTo>
                  <a:cubicBezTo>
                    <a:pt x="651" y="63"/>
                    <a:pt x="631" y="51"/>
                    <a:pt x="619" y="46"/>
                  </a:cubicBezTo>
                  <a:lnTo>
                    <a:pt x="591" y="40"/>
                  </a:lnTo>
                  <a:lnTo>
                    <a:pt x="563" y="36"/>
                  </a:lnTo>
                  <a:lnTo>
                    <a:pt x="535" y="40"/>
                  </a:lnTo>
                  <a:lnTo>
                    <a:pt x="495" y="68"/>
                  </a:lnTo>
                  <a:lnTo>
                    <a:pt x="467" y="114"/>
                  </a:lnTo>
                  <a:cubicBezTo>
                    <a:pt x="455" y="137"/>
                    <a:pt x="441" y="162"/>
                    <a:pt x="423" y="206"/>
                  </a:cubicBezTo>
                  <a:cubicBezTo>
                    <a:pt x="405" y="250"/>
                    <a:pt x="377" y="322"/>
                    <a:pt x="361" y="378"/>
                  </a:cubicBezTo>
                  <a:cubicBezTo>
                    <a:pt x="345" y="434"/>
                    <a:pt x="337" y="464"/>
                    <a:pt x="327" y="540"/>
                  </a:cubicBezTo>
                  <a:lnTo>
                    <a:pt x="303" y="836"/>
                  </a:lnTo>
                  <a:cubicBezTo>
                    <a:pt x="297" y="928"/>
                    <a:pt x="294" y="1032"/>
                    <a:pt x="293" y="1092"/>
                  </a:cubicBezTo>
                  <a:cubicBezTo>
                    <a:pt x="292" y="1152"/>
                    <a:pt x="292" y="1168"/>
                    <a:pt x="297" y="1196"/>
                  </a:cubicBezTo>
                  <a:cubicBezTo>
                    <a:pt x="302" y="1224"/>
                    <a:pt x="300" y="1240"/>
                    <a:pt x="323" y="1262"/>
                  </a:cubicBezTo>
                  <a:cubicBezTo>
                    <a:pt x="346" y="1284"/>
                    <a:pt x="401" y="1317"/>
                    <a:pt x="437" y="1326"/>
                  </a:cubicBezTo>
                  <a:cubicBezTo>
                    <a:pt x="473" y="1335"/>
                    <a:pt x="508" y="1317"/>
                    <a:pt x="541" y="1316"/>
                  </a:cubicBezTo>
                  <a:cubicBezTo>
                    <a:pt x="574" y="1315"/>
                    <a:pt x="607" y="1316"/>
                    <a:pt x="633" y="1320"/>
                  </a:cubicBezTo>
                  <a:lnTo>
                    <a:pt x="699" y="1340"/>
                  </a:lnTo>
                  <a:cubicBezTo>
                    <a:pt x="724" y="1358"/>
                    <a:pt x="769" y="1390"/>
                    <a:pt x="785" y="1428"/>
                  </a:cubicBezTo>
                  <a:cubicBezTo>
                    <a:pt x="801" y="1466"/>
                    <a:pt x="802" y="1526"/>
                    <a:pt x="795" y="1566"/>
                  </a:cubicBezTo>
                  <a:cubicBezTo>
                    <a:pt x="788" y="1606"/>
                    <a:pt x="762" y="1640"/>
                    <a:pt x="743" y="1666"/>
                  </a:cubicBezTo>
                  <a:cubicBezTo>
                    <a:pt x="724" y="1692"/>
                    <a:pt x="704" y="1706"/>
                    <a:pt x="681" y="1724"/>
                  </a:cubicBezTo>
                  <a:cubicBezTo>
                    <a:pt x="658" y="1742"/>
                    <a:pt x="631" y="1761"/>
                    <a:pt x="608" y="1773"/>
                  </a:cubicBezTo>
                  <a:lnTo>
                    <a:pt x="544" y="1797"/>
                  </a:lnTo>
                  <a:lnTo>
                    <a:pt x="472" y="1819"/>
                  </a:lnTo>
                  <a:cubicBezTo>
                    <a:pt x="454" y="1824"/>
                    <a:pt x="443" y="1823"/>
                    <a:pt x="433" y="1825"/>
                  </a:cubicBezTo>
                  <a:cubicBezTo>
                    <a:pt x="423" y="1827"/>
                    <a:pt x="420" y="1828"/>
                    <a:pt x="409" y="1830"/>
                  </a:cubicBezTo>
                  <a:cubicBezTo>
                    <a:pt x="398" y="1832"/>
                    <a:pt x="380" y="1833"/>
                    <a:pt x="369" y="1834"/>
                  </a:cubicBezTo>
                  <a:cubicBezTo>
                    <a:pt x="358" y="1835"/>
                    <a:pt x="354" y="1837"/>
                    <a:pt x="343" y="1838"/>
                  </a:cubicBezTo>
                  <a:cubicBezTo>
                    <a:pt x="332" y="1839"/>
                    <a:pt x="315" y="1843"/>
                    <a:pt x="301" y="1842"/>
                  </a:cubicBezTo>
                  <a:cubicBezTo>
                    <a:pt x="287" y="1841"/>
                    <a:pt x="268" y="1841"/>
                    <a:pt x="260" y="1834"/>
                  </a:cubicBezTo>
                  <a:lnTo>
                    <a:pt x="253" y="1798"/>
                  </a:lnTo>
                  <a:lnTo>
                    <a:pt x="253" y="1831"/>
                  </a:lnTo>
                  <a:cubicBezTo>
                    <a:pt x="247" y="1839"/>
                    <a:pt x="227" y="1842"/>
                    <a:pt x="219" y="1844"/>
                  </a:cubicBezTo>
                  <a:cubicBezTo>
                    <a:pt x="211" y="1846"/>
                    <a:pt x="214" y="1845"/>
                    <a:pt x="207" y="1844"/>
                  </a:cubicBezTo>
                  <a:cubicBezTo>
                    <a:pt x="200" y="1843"/>
                    <a:pt x="185" y="1845"/>
                    <a:pt x="179" y="1836"/>
                  </a:cubicBezTo>
                  <a:cubicBezTo>
                    <a:pt x="173" y="1827"/>
                    <a:pt x="173" y="1791"/>
                    <a:pt x="171" y="1790"/>
                  </a:cubicBezTo>
                  <a:lnTo>
                    <a:pt x="169" y="1831"/>
                  </a:lnTo>
                  <a:cubicBezTo>
                    <a:pt x="165" y="1840"/>
                    <a:pt x="155" y="1842"/>
                    <a:pt x="146" y="1845"/>
                  </a:cubicBezTo>
                  <a:cubicBezTo>
                    <a:pt x="137" y="1848"/>
                    <a:pt x="123" y="1852"/>
                    <a:pt x="113" y="1846"/>
                  </a:cubicBezTo>
                  <a:lnTo>
                    <a:pt x="87" y="1810"/>
                  </a:lnTo>
                  <a:lnTo>
                    <a:pt x="109" y="1852"/>
                  </a:lnTo>
                  <a:cubicBezTo>
                    <a:pt x="111" y="1863"/>
                    <a:pt x="106" y="1869"/>
                    <a:pt x="101" y="1874"/>
                  </a:cubicBezTo>
                  <a:cubicBezTo>
                    <a:pt x="96" y="1879"/>
                    <a:pt x="81" y="1875"/>
                    <a:pt x="79" y="1880"/>
                  </a:cubicBezTo>
                  <a:lnTo>
                    <a:pt x="91" y="1904"/>
                  </a:lnTo>
                  <a:lnTo>
                    <a:pt x="95" y="1934"/>
                  </a:lnTo>
                  <a:lnTo>
                    <a:pt x="117" y="1990"/>
                  </a:lnTo>
                  <a:lnTo>
                    <a:pt x="152" y="2053"/>
                  </a:lnTo>
                  <a:cubicBezTo>
                    <a:pt x="160" y="2078"/>
                    <a:pt x="166" y="2116"/>
                    <a:pt x="167" y="2140"/>
                  </a:cubicBezTo>
                  <a:cubicBezTo>
                    <a:pt x="168" y="2164"/>
                    <a:pt x="160" y="2182"/>
                    <a:pt x="161" y="2200"/>
                  </a:cubicBezTo>
                  <a:lnTo>
                    <a:pt x="171" y="2246"/>
                  </a:lnTo>
                  <a:lnTo>
                    <a:pt x="157" y="2288"/>
                  </a:lnTo>
                </a:path>
              </a:pathLst>
            </a:custGeom>
            <a:solidFill>
              <a:srgbClr val="9966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4000" y="3671640"/>
              <a:ext cx="171720" cy="1217520"/>
            </a:xfrm>
            <a:custGeom>
              <a:avLst/>
              <a:gdLst/>
              <a:ahLst/>
              <a:rect l="l" t="t" r="r" b="b"/>
              <a:pathLst>
                <a:path w="273" h="1956">
                  <a:moveTo>
                    <a:pt x="129" y="1956"/>
                  </a:moveTo>
                  <a:lnTo>
                    <a:pt x="168" y="1539"/>
                  </a:lnTo>
                  <a:lnTo>
                    <a:pt x="156" y="1398"/>
                  </a:lnTo>
                  <a:lnTo>
                    <a:pt x="123" y="1164"/>
                  </a:lnTo>
                  <a:lnTo>
                    <a:pt x="69" y="936"/>
                  </a:lnTo>
                  <a:lnTo>
                    <a:pt x="0" y="594"/>
                  </a:lnTo>
                  <a:lnTo>
                    <a:pt x="3" y="402"/>
                  </a:lnTo>
                  <a:lnTo>
                    <a:pt x="12" y="279"/>
                  </a:lnTo>
                  <a:lnTo>
                    <a:pt x="57" y="0"/>
                  </a:lnTo>
                  <a:lnTo>
                    <a:pt x="93" y="297"/>
                  </a:lnTo>
                  <a:lnTo>
                    <a:pt x="177" y="648"/>
                  </a:lnTo>
                  <a:lnTo>
                    <a:pt x="180" y="948"/>
                  </a:lnTo>
                  <a:lnTo>
                    <a:pt x="180" y="1119"/>
                  </a:lnTo>
                  <a:lnTo>
                    <a:pt x="237" y="1500"/>
                  </a:lnTo>
                  <a:lnTo>
                    <a:pt x="273" y="1776"/>
                  </a:lnTo>
                  <a:lnTo>
                    <a:pt x="264" y="1872"/>
                  </a:lnTo>
                  <a:lnTo>
                    <a:pt x="216" y="19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97520" y="3652560"/>
              <a:ext cx="171720" cy="1225440"/>
            </a:xfrm>
            <a:custGeom>
              <a:avLst/>
              <a:gdLst/>
              <a:ahLst/>
              <a:rect l="l" t="t" r="r" b="b"/>
              <a:pathLst>
                <a:path w="276" h="1968">
                  <a:moveTo>
                    <a:pt x="60" y="1956"/>
                  </a:moveTo>
                  <a:cubicBezTo>
                    <a:pt x="52" y="1944"/>
                    <a:pt x="46" y="1930"/>
                    <a:pt x="36" y="1920"/>
                  </a:cubicBezTo>
                  <a:cubicBezTo>
                    <a:pt x="26" y="1910"/>
                    <a:pt x="16" y="1892"/>
                    <a:pt x="12" y="1878"/>
                  </a:cubicBezTo>
                  <a:cubicBezTo>
                    <a:pt x="3" y="1843"/>
                    <a:pt x="0" y="1824"/>
                    <a:pt x="0" y="1788"/>
                  </a:cubicBezTo>
                  <a:lnTo>
                    <a:pt x="120" y="1092"/>
                  </a:lnTo>
                  <a:lnTo>
                    <a:pt x="117" y="708"/>
                  </a:lnTo>
                  <a:cubicBezTo>
                    <a:pt x="120" y="589"/>
                    <a:pt x="157" y="504"/>
                    <a:pt x="174" y="393"/>
                  </a:cubicBezTo>
                  <a:cubicBezTo>
                    <a:pt x="191" y="282"/>
                    <a:pt x="207" y="107"/>
                    <a:pt x="219" y="42"/>
                  </a:cubicBezTo>
                  <a:lnTo>
                    <a:pt x="249" y="0"/>
                  </a:lnTo>
                  <a:lnTo>
                    <a:pt x="276" y="516"/>
                  </a:lnTo>
                  <a:lnTo>
                    <a:pt x="219" y="825"/>
                  </a:lnTo>
                  <a:lnTo>
                    <a:pt x="204" y="1044"/>
                  </a:lnTo>
                  <a:lnTo>
                    <a:pt x="156" y="1440"/>
                  </a:lnTo>
                  <a:lnTo>
                    <a:pt x="162" y="1875"/>
                  </a:lnTo>
                  <a:lnTo>
                    <a:pt x="162" y="19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3600" y="2804760"/>
              <a:ext cx="102960" cy="15732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160" y="223"/>
                  </a:moveTo>
                  <a:cubicBezTo>
                    <a:pt x="167" y="219"/>
                    <a:pt x="162" y="216"/>
                    <a:pt x="163" y="208"/>
                  </a:cubicBezTo>
                  <a:cubicBezTo>
                    <a:pt x="164" y="175"/>
                    <a:pt x="158" y="160"/>
                    <a:pt x="160" y="127"/>
                  </a:cubicBezTo>
                  <a:cubicBezTo>
                    <a:pt x="157" y="114"/>
                    <a:pt x="159" y="102"/>
                    <a:pt x="147" y="96"/>
                  </a:cubicBezTo>
                  <a:cubicBezTo>
                    <a:pt x="151" y="72"/>
                    <a:pt x="143" y="61"/>
                    <a:pt x="126" y="48"/>
                  </a:cubicBezTo>
                  <a:cubicBezTo>
                    <a:pt x="119" y="36"/>
                    <a:pt x="114" y="30"/>
                    <a:pt x="103" y="21"/>
                  </a:cubicBezTo>
                  <a:cubicBezTo>
                    <a:pt x="99" y="15"/>
                    <a:pt x="98" y="13"/>
                    <a:pt x="91" y="12"/>
                  </a:cubicBezTo>
                  <a:cubicBezTo>
                    <a:pt x="87" y="10"/>
                    <a:pt x="82" y="5"/>
                    <a:pt x="78" y="4"/>
                  </a:cubicBezTo>
                  <a:cubicBezTo>
                    <a:pt x="72" y="2"/>
                    <a:pt x="60" y="1"/>
                    <a:pt x="60" y="1"/>
                  </a:cubicBezTo>
                  <a:cubicBezTo>
                    <a:pt x="52" y="1"/>
                    <a:pt x="43" y="0"/>
                    <a:pt x="34" y="6"/>
                  </a:cubicBezTo>
                  <a:cubicBezTo>
                    <a:pt x="25" y="12"/>
                    <a:pt x="9" y="25"/>
                    <a:pt x="3" y="36"/>
                  </a:cubicBezTo>
                  <a:cubicBezTo>
                    <a:pt x="2" y="48"/>
                    <a:pt x="1" y="60"/>
                    <a:pt x="0" y="72"/>
                  </a:cubicBezTo>
                  <a:cubicBezTo>
                    <a:pt x="2" y="95"/>
                    <a:pt x="3" y="113"/>
                    <a:pt x="15" y="132"/>
                  </a:cubicBezTo>
                  <a:cubicBezTo>
                    <a:pt x="16" y="141"/>
                    <a:pt x="22" y="149"/>
                    <a:pt x="30" y="153"/>
                  </a:cubicBezTo>
                  <a:lnTo>
                    <a:pt x="52" y="201"/>
                  </a:lnTo>
                  <a:cubicBezTo>
                    <a:pt x="55" y="205"/>
                    <a:pt x="57" y="211"/>
                    <a:pt x="61" y="214"/>
                  </a:cubicBezTo>
                  <a:cubicBezTo>
                    <a:pt x="64" y="217"/>
                    <a:pt x="68" y="220"/>
                    <a:pt x="72" y="223"/>
                  </a:cubicBezTo>
                  <a:cubicBezTo>
                    <a:pt x="73" y="224"/>
                    <a:pt x="76" y="226"/>
                    <a:pt x="76" y="226"/>
                  </a:cubicBezTo>
                  <a:cubicBezTo>
                    <a:pt x="80" y="236"/>
                    <a:pt x="100" y="245"/>
                    <a:pt x="109" y="250"/>
                  </a:cubicBezTo>
                  <a:cubicBezTo>
                    <a:pt x="117" y="253"/>
                    <a:pt x="122" y="250"/>
                    <a:pt x="127" y="249"/>
                  </a:cubicBezTo>
                  <a:cubicBezTo>
                    <a:pt x="132" y="248"/>
                    <a:pt x="135" y="246"/>
                    <a:pt x="138" y="244"/>
                  </a:cubicBezTo>
                  <a:cubicBezTo>
                    <a:pt x="144" y="242"/>
                    <a:pt x="144" y="238"/>
                    <a:pt x="147" y="235"/>
                  </a:cubicBezTo>
                  <a:cubicBezTo>
                    <a:pt x="151" y="232"/>
                    <a:pt x="158" y="224"/>
                    <a:pt x="160" y="223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59640" y="3028680"/>
              <a:ext cx="47520" cy="572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54" y="23"/>
                  </a:moveTo>
                  <a:cubicBezTo>
                    <a:pt x="58" y="12"/>
                    <a:pt x="51" y="5"/>
                    <a:pt x="42" y="0"/>
                  </a:cubicBezTo>
                  <a:cubicBezTo>
                    <a:pt x="17" y="3"/>
                    <a:pt x="8" y="12"/>
                    <a:pt x="0" y="36"/>
                  </a:cubicBezTo>
                  <a:cubicBezTo>
                    <a:pt x="4" y="48"/>
                    <a:pt x="7" y="57"/>
                    <a:pt x="20" y="62"/>
                  </a:cubicBezTo>
                  <a:cubicBezTo>
                    <a:pt x="15" y="71"/>
                    <a:pt x="10" y="82"/>
                    <a:pt x="24" y="84"/>
                  </a:cubicBezTo>
                  <a:cubicBezTo>
                    <a:pt x="30" y="86"/>
                    <a:pt x="34" y="88"/>
                    <a:pt x="39" y="92"/>
                  </a:cubicBezTo>
                  <a:cubicBezTo>
                    <a:pt x="50" y="91"/>
                    <a:pt x="60" y="92"/>
                    <a:pt x="69" y="87"/>
                  </a:cubicBezTo>
                  <a:cubicBezTo>
                    <a:pt x="76" y="78"/>
                    <a:pt x="75" y="66"/>
                    <a:pt x="66" y="59"/>
                  </a:cubicBezTo>
                  <a:cubicBezTo>
                    <a:pt x="68" y="53"/>
                    <a:pt x="68" y="49"/>
                    <a:pt x="72" y="44"/>
                  </a:cubicBezTo>
                  <a:cubicBezTo>
                    <a:pt x="66" y="41"/>
                    <a:pt x="67" y="37"/>
                    <a:pt x="63" y="32"/>
                  </a:cubicBezTo>
                  <a:cubicBezTo>
                    <a:pt x="63" y="29"/>
                    <a:pt x="63" y="26"/>
                    <a:pt x="62" y="24"/>
                  </a:cubicBezTo>
                  <a:cubicBezTo>
                    <a:pt x="61" y="22"/>
                    <a:pt x="53" y="21"/>
                    <a:pt x="54" y="23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4480" y="3018960"/>
              <a:ext cx="76320" cy="651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98" y="29"/>
                  </a:moveTo>
                  <a:cubicBezTo>
                    <a:pt x="86" y="31"/>
                    <a:pt x="86" y="19"/>
                    <a:pt x="75" y="17"/>
                  </a:cubicBezTo>
                  <a:cubicBezTo>
                    <a:pt x="66" y="13"/>
                    <a:pt x="63" y="4"/>
                    <a:pt x="54" y="0"/>
                  </a:cubicBezTo>
                  <a:cubicBezTo>
                    <a:pt x="41" y="6"/>
                    <a:pt x="25" y="4"/>
                    <a:pt x="12" y="5"/>
                  </a:cubicBezTo>
                  <a:cubicBezTo>
                    <a:pt x="4" y="16"/>
                    <a:pt x="0" y="39"/>
                    <a:pt x="17" y="42"/>
                  </a:cubicBezTo>
                  <a:cubicBezTo>
                    <a:pt x="32" y="53"/>
                    <a:pt x="14" y="66"/>
                    <a:pt x="39" y="69"/>
                  </a:cubicBezTo>
                  <a:cubicBezTo>
                    <a:pt x="46" y="76"/>
                    <a:pt x="50" y="79"/>
                    <a:pt x="57" y="84"/>
                  </a:cubicBezTo>
                  <a:cubicBezTo>
                    <a:pt x="64" y="96"/>
                    <a:pt x="75" y="95"/>
                    <a:pt x="89" y="96"/>
                  </a:cubicBezTo>
                  <a:cubicBezTo>
                    <a:pt x="89" y="98"/>
                    <a:pt x="88" y="100"/>
                    <a:pt x="90" y="101"/>
                  </a:cubicBezTo>
                  <a:cubicBezTo>
                    <a:pt x="92" y="102"/>
                    <a:pt x="94" y="99"/>
                    <a:pt x="95" y="98"/>
                  </a:cubicBezTo>
                  <a:cubicBezTo>
                    <a:pt x="104" y="90"/>
                    <a:pt x="100" y="87"/>
                    <a:pt x="114" y="84"/>
                  </a:cubicBezTo>
                  <a:cubicBezTo>
                    <a:pt x="121" y="75"/>
                    <a:pt x="114" y="73"/>
                    <a:pt x="107" y="68"/>
                  </a:cubicBezTo>
                  <a:cubicBezTo>
                    <a:pt x="104" y="59"/>
                    <a:pt x="102" y="50"/>
                    <a:pt x="107" y="41"/>
                  </a:cubicBezTo>
                  <a:cubicBezTo>
                    <a:pt x="108" y="37"/>
                    <a:pt x="113" y="31"/>
                    <a:pt x="110" y="27"/>
                  </a:cubicBezTo>
                  <a:cubicBezTo>
                    <a:pt x="105" y="21"/>
                    <a:pt x="103" y="26"/>
                    <a:pt x="98" y="29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180400" y="4016160"/>
              <a:ext cx="733320" cy="311040"/>
              <a:chOff x="5180400" y="4016160"/>
              <a:chExt cx="733320" cy="31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5180400" y="4016160"/>
                <a:ext cx="733320" cy="311040"/>
              </a:xfrm>
              <a:custGeom>
                <a:avLst/>
                <a:gdLst/>
                <a:ahLst/>
                <a:rect l="l" t="t" r="r" b="b"/>
                <a:pathLst>
                  <a:path w="1176" h="500">
                    <a:moveTo>
                      <a:pt x="1128" y="205"/>
                    </a:moveTo>
                    <a:lnTo>
                      <a:pt x="1138" y="252"/>
                    </a:lnTo>
                    <a:lnTo>
                      <a:pt x="1140" y="272"/>
                    </a:lnTo>
                    <a:lnTo>
                      <a:pt x="1141" y="296"/>
                    </a:lnTo>
                    <a:lnTo>
                      <a:pt x="1126" y="311"/>
                    </a:lnTo>
                    <a:lnTo>
                      <a:pt x="1158" y="285"/>
                    </a:lnTo>
                    <a:lnTo>
                      <a:pt x="1176" y="239"/>
                    </a:lnTo>
                    <a:lnTo>
                      <a:pt x="1155" y="180"/>
                    </a:lnTo>
                    <a:lnTo>
                      <a:pt x="1125" y="149"/>
                    </a:lnTo>
                    <a:lnTo>
                      <a:pt x="1092" y="131"/>
                    </a:lnTo>
                    <a:lnTo>
                      <a:pt x="1056" y="123"/>
                    </a:lnTo>
                    <a:cubicBezTo>
                      <a:pt x="1046" y="124"/>
                      <a:pt x="1032" y="134"/>
                      <a:pt x="1033" y="140"/>
                    </a:cubicBezTo>
                    <a:lnTo>
                      <a:pt x="1060" y="157"/>
                    </a:lnTo>
                    <a:lnTo>
                      <a:pt x="1030" y="139"/>
                    </a:lnTo>
                    <a:lnTo>
                      <a:pt x="1014" y="146"/>
                    </a:lnTo>
                    <a:lnTo>
                      <a:pt x="1002" y="153"/>
                    </a:lnTo>
                    <a:lnTo>
                      <a:pt x="1042" y="183"/>
                    </a:lnTo>
                    <a:lnTo>
                      <a:pt x="998" y="155"/>
                    </a:lnTo>
                    <a:cubicBezTo>
                      <a:pt x="985" y="153"/>
                      <a:pt x="963" y="161"/>
                      <a:pt x="966" y="168"/>
                    </a:cubicBezTo>
                    <a:lnTo>
                      <a:pt x="1018" y="197"/>
                    </a:lnTo>
                    <a:lnTo>
                      <a:pt x="964" y="168"/>
                    </a:lnTo>
                    <a:lnTo>
                      <a:pt x="943" y="180"/>
                    </a:lnTo>
                    <a:lnTo>
                      <a:pt x="926" y="197"/>
                    </a:lnTo>
                    <a:lnTo>
                      <a:pt x="954" y="223"/>
                    </a:lnTo>
                    <a:lnTo>
                      <a:pt x="925" y="198"/>
                    </a:lnTo>
                    <a:cubicBezTo>
                      <a:pt x="910" y="197"/>
                      <a:pt x="869" y="209"/>
                      <a:pt x="866" y="219"/>
                    </a:cubicBezTo>
                    <a:lnTo>
                      <a:pt x="906" y="257"/>
                    </a:lnTo>
                    <a:lnTo>
                      <a:pt x="868" y="221"/>
                    </a:lnTo>
                    <a:lnTo>
                      <a:pt x="850" y="222"/>
                    </a:lnTo>
                    <a:lnTo>
                      <a:pt x="820" y="224"/>
                    </a:lnTo>
                    <a:lnTo>
                      <a:pt x="795" y="242"/>
                    </a:lnTo>
                    <a:lnTo>
                      <a:pt x="796" y="255"/>
                    </a:lnTo>
                    <a:lnTo>
                      <a:pt x="808" y="289"/>
                    </a:lnTo>
                    <a:lnTo>
                      <a:pt x="793" y="249"/>
                    </a:lnTo>
                    <a:cubicBezTo>
                      <a:pt x="784" y="241"/>
                      <a:pt x="767" y="242"/>
                      <a:pt x="756" y="243"/>
                    </a:cubicBezTo>
                    <a:lnTo>
                      <a:pt x="724" y="253"/>
                    </a:lnTo>
                    <a:lnTo>
                      <a:pt x="710" y="271"/>
                    </a:lnTo>
                    <a:lnTo>
                      <a:pt x="727" y="321"/>
                    </a:lnTo>
                    <a:lnTo>
                      <a:pt x="706" y="270"/>
                    </a:lnTo>
                    <a:lnTo>
                      <a:pt x="675" y="260"/>
                    </a:lnTo>
                    <a:cubicBezTo>
                      <a:pt x="666" y="258"/>
                      <a:pt x="660" y="252"/>
                      <a:pt x="649" y="255"/>
                    </a:cubicBezTo>
                    <a:cubicBezTo>
                      <a:pt x="638" y="258"/>
                      <a:pt x="614" y="263"/>
                      <a:pt x="606" y="276"/>
                    </a:cubicBezTo>
                    <a:lnTo>
                      <a:pt x="604" y="336"/>
                    </a:lnTo>
                    <a:lnTo>
                      <a:pt x="604" y="281"/>
                    </a:lnTo>
                    <a:lnTo>
                      <a:pt x="580" y="273"/>
                    </a:lnTo>
                    <a:lnTo>
                      <a:pt x="555" y="273"/>
                    </a:lnTo>
                    <a:lnTo>
                      <a:pt x="525" y="276"/>
                    </a:lnTo>
                    <a:lnTo>
                      <a:pt x="520" y="295"/>
                    </a:lnTo>
                    <a:lnTo>
                      <a:pt x="514" y="331"/>
                    </a:lnTo>
                    <a:lnTo>
                      <a:pt x="522" y="285"/>
                    </a:lnTo>
                    <a:lnTo>
                      <a:pt x="522" y="269"/>
                    </a:lnTo>
                    <a:lnTo>
                      <a:pt x="510" y="257"/>
                    </a:lnTo>
                    <a:lnTo>
                      <a:pt x="488" y="253"/>
                    </a:lnTo>
                    <a:lnTo>
                      <a:pt x="474" y="257"/>
                    </a:lnTo>
                    <a:lnTo>
                      <a:pt x="451" y="269"/>
                    </a:lnTo>
                    <a:lnTo>
                      <a:pt x="434" y="293"/>
                    </a:lnTo>
                    <a:lnTo>
                      <a:pt x="450" y="269"/>
                    </a:lnTo>
                    <a:lnTo>
                      <a:pt x="472" y="255"/>
                    </a:lnTo>
                    <a:lnTo>
                      <a:pt x="452" y="239"/>
                    </a:lnTo>
                    <a:lnTo>
                      <a:pt x="432" y="229"/>
                    </a:lnTo>
                    <a:lnTo>
                      <a:pt x="416" y="227"/>
                    </a:lnTo>
                    <a:lnTo>
                      <a:pt x="393" y="221"/>
                    </a:lnTo>
                    <a:lnTo>
                      <a:pt x="376" y="233"/>
                    </a:lnTo>
                    <a:lnTo>
                      <a:pt x="360" y="265"/>
                    </a:lnTo>
                    <a:lnTo>
                      <a:pt x="375" y="237"/>
                    </a:lnTo>
                    <a:lnTo>
                      <a:pt x="396" y="217"/>
                    </a:lnTo>
                    <a:lnTo>
                      <a:pt x="380" y="193"/>
                    </a:lnTo>
                    <a:lnTo>
                      <a:pt x="360" y="183"/>
                    </a:lnTo>
                    <a:lnTo>
                      <a:pt x="344" y="179"/>
                    </a:lnTo>
                    <a:lnTo>
                      <a:pt x="330" y="176"/>
                    </a:lnTo>
                    <a:lnTo>
                      <a:pt x="312" y="189"/>
                    </a:lnTo>
                    <a:lnTo>
                      <a:pt x="286" y="210"/>
                    </a:lnTo>
                    <a:lnTo>
                      <a:pt x="291" y="207"/>
                    </a:lnTo>
                    <a:lnTo>
                      <a:pt x="334" y="165"/>
                    </a:lnTo>
                    <a:cubicBezTo>
                      <a:pt x="339" y="155"/>
                      <a:pt x="327" y="147"/>
                      <a:pt x="321" y="144"/>
                    </a:cubicBezTo>
                    <a:cubicBezTo>
                      <a:pt x="315" y="141"/>
                      <a:pt x="304" y="143"/>
                      <a:pt x="298" y="145"/>
                    </a:cubicBezTo>
                    <a:lnTo>
                      <a:pt x="282" y="159"/>
                    </a:lnTo>
                    <a:lnTo>
                      <a:pt x="254" y="187"/>
                    </a:lnTo>
                    <a:lnTo>
                      <a:pt x="270" y="170"/>
                    </a:lnTo>
                    <a:lnTo>
                      <a:pt x="300" y="139"/>
                    </a:lnTo>
                    <a:cubicBezTo>
                      <a:pt x="304" y="131"/>
                      <a:pt x="296" y="124"/>
                      <a:pt x="292" y="120"/>
                    </a:cubicBezTo>
                    <a:lnTo>
                      <a:pt x="274" y="115"/>
                    </a:lnTo>
                    <a:lnTo>
                      <a:pt x="234" y="145"/>
                    </a:lnTo>
                    <a:lnTo>
                      <a:pt x="274" y="109"/>
                    </a:lnTo>
                    <a:lnTo>
                      <a:pt x="262" y="87"/>
                    </a:lnTo>
                    <a:lnTo>
                      <a:pt x="234" y="67"/>
                    </a:lnTo>
                    <a:lnTo>
                      <a:pt x="196" y="26"/>
                    </a:lnTo>
                    <a:cubicBezTo>
                      <a:pt x="181" y="15"/>
                      <a:pt x="158" y="7"/>
                      <a:pt x="144" y="3"/>
                    </a:cubicBezTo>
                    <a:lnTo>
                      <a:pt x="109" y="0"/>
                    </a:lnTo>
                    <a:lnTo>
                      <a:pt x="74" y="5"/>
                    </a:lnTo>
                    <a:lnTo>
                      <a:pt x="42" y="21"/>
                    </a:lnTo>
                    <a:cubicBezTo>
                      <a:pt x="32" y="29"/>
                      <a:pt x="21" y="43"/>
                      <a:pt x="14" y="55"/>
                    </a:cubicBezTo>
                    <a:cubicBezTo>
                      <a:pt x="7" y="67"/>
                      <a:pt x="4" y="81"/>
                      <a:pt x="2" y="95"/>
                    </a:cubicBezTo>
                    <a:cubicBezTo>
                      <a:pt x="0" y="109"/>
                      <a:pt x="1" y="122"/>
                      <a:pt x="4" y="137"/>
                    </a:cubicBezTo>
                    <a:cubicBezTo>
                      <a:pt x="7" y="152"/>
                      <a:pt x="15" y="171"/>
                      <a:pt x="22" y="185"/>
                    </a:cubicBezTo>
                    <a:cubicBezTo>
                      <a:pt x="29" y="199"/>
                      <a:pt x="33" y="205"/>
                      <a:pt x="48" y="221"/>
                    </a:cubicBezTo>
                    <a:lnTo>
                      <a:pt x="112" y="281"/>
                    </a:lnTo>
                    <a:lnTo>
                      <a:pt x="105" y="221"/>
                    </a:lnTo>
                    <a:lnTo>
                      <a:pt x="111" y="278"/>
                    </a:lnTo>
                    <a:lnTo>
                      <a:pt x="138" y="297"/>
                    </a:lnTo>
                    <a:lnTo>
                      <a:pt x="163" y="320"/>
                    </a:lnTo>
                    <a:lnTo>
                      <a:pt x="160" y="269"/>
                    </a:lnTo>
                    <a:lnTo>
                      <a:pt x="165" y="233"/>
                    </a:lnTo>
                    <a:lnTo>
                      <a:pt x="160" y="267"/>
                    </a:lnTo>
                    <a:lnTo>
                      <a:pt x="166" y="318"/>
                    </a:lnTo>
                    <a:cubicBezTo>
                      <a:pt x="177" y="334"/>
                      <a:pt x="215" y="369"/>
                      <a:pt x="226" y="365"/>
                    </a:cubicBezTo>
                    <a:lnTo>
                      <a:pt x="231" y="296"/>
                    </a:lnTo>
                    <a:lnTo>
                      <a:pt x="228" y="365"/>
                    </a:lnTo>
                    <a:cubicBezTo>
                      <a:pt x="239" y="384"/>
                      <a:pt x="285" y="411"/>
                      <a:pt x="298" y="408"/>
                    </a:cubicBezTo>
                    <a:lnTo>
                      <a:pt x="306" y="344"/>
                    </a:lnTo>
                    <a:lnTo>
                      <a:pt x="301" y="410"/>
                    </a:lnTo>
                    <a:cubicBezTo>
                      <a:pt x="312" y="427"/>
                      <a:pt x="354" y="440"/>
                      <a:pt x="372" y="447"/>
                    </a:cubicBezTo>
                    <a:lnTo>
                      <a:pt x="408" y="455"/>
                    </a:lnTo>
                    <a:lnTo>
                      <a:pt x="405" y="354"/>
                    </a:lnTo>
                    <a:lnTo>
                      <a:pt x="409" y="456"/>
                    </a:lnTo>
                    <a:cubicBezTo>
                      <a:pt x="424" y="476"/>
                      <a:pt x="482" y="484"/>
                      <a:pt x="496" y="473"/>
                    </a:cubicBezTo>
                    <a:lnTo>
                      <a:pt x="493" y="390"/>
                    </a:lnTo>
                    <a:cubicBezTo>
                      <a:pt x="494" y="391"/>
                      <a:pt x="482" y="461"/>
                      <a:pt x="502" y="477"/>
                    </a:cubicBezTo>
                    <a:cubicBezTo>
                      <a:pt x="522" y="493"/>
                      <a:pt x="595" y="497"/>
                      <a:pt x="612" y="489"/>
                    </a:cubicBezTo>
                    <a:lnTo>
                      <a:pt x="603" y="431"/>
                    </a:lnTo>
                    <a:lnTo>
                      <a:pt x="615" y="489"/>
                    </a:lnTo>
                    <a:cubicBezTo>
                      <a:pt x="629" y="500"/>
                      <a:pt x="666" y="497"/>
                      <a:pt x="685" y="495"/>
                    </a:cubicBezTo>
                    <a:lnTo>
                      <a:pt x="726" y="476"/>
                    </a:lnTo>
                    <a:lnTo>
                      <a:pt x="732" y="407"/>
                    </a:lnTo>
                    <a:lnTo>
                      <a:pt x="733" y="476"/>
                    </a:lnTo>
                    <a:lnTo>
                      <a:pt x="790" y="474"/>
                    </a:lnTo>
                    <a:lnTo>
                      <a:pt x="838" y="450"/>
                    </a:lnTo>
                    <a:cubicBezTo>
                      <a:pt x="853" y="446"/>
                      <a:pt x="869" y="455"/>
                      <a:pt x="883" y="452"/>
                    </a:cubicBezTo>
                    <a:cubicBezTo>
                      <a:pt x="897" y="449"/>
                      <a:pt x="912" y="443"/>
                      <a:pt x="921" y="431"/>
                    </a:cubicBezTo>
                    <a:lnTo>
                      <a:pt x="936" y="381"/>
                    </a:lnTo>
                    <a:lnTo>
                      <a:pt x="918" y="338"/>
                    </a:lnTo>
                    <a:cubicBezTo>
                      <a:pt x="918" y="338"/>
                      <a:pt x="933" y="369"/>
                      <a:pt x="934" y="383"/>
                    </a:cubicBezTo>
                    <a:cubicBezTo>
                      <a:pt x="935" y="397"/>
                      <a:pt x="926" y="412"/>
                      <a:pt x="924" y="420"/>
                    </a:cubicBezTo>
                    <a:cubicBezTo>
                      <a:pt x="922" y="428"/>
                      <a:pt x="912" y="431"/>
                      <a:pt x="921" y="432"/>
                    </a:cubicBezTo>
                    <a:cubicBezTo>
                      <a:pt x="930" y="433"/>
                      <a:pt x="963" y="435"/>
                      <a:pt x="979" y="429"/>
                    </a:cubicBezTo>
                    <a:cubicBezTo>
                      <a:pt x="995" y="423"/>
                      <a:pt x="1011" y="409"/>
                      <a:pt x="1018" y="395"/>
                    </a:cubicBezTo>
                    <a:lnTo>
                      <a:pt x="1020" y="348"/>
                    </a:lnTo>
                    <a:lnTo>
                      <a:pt x="1008" y="302"/>
                    </a:lnTo>
                    <a:lnTo>
                      <a:pt x="1018" y="350"/>
                    </a:lnTo>
                    <a:lnTo>
                      <a:pt x="1020" y="398"/>
                    </a:lnTo>
                    <a:cubicBezTo>
                      <a:pt x="1032" y="397"/>
                      <a:pt x="1078" y="358"/>
                      <a:pt x="1090" y="342"/>
                    </a:cubicBezTo>
                    <a:lnTo>
                      <a:pt x="1093" y="302"/>
                    </a:lnTo>
                    <a:lnTo>
                      <a:pt x="1077" y="255"/>
                    </a:lnTo>
                    <a:lnTo>
                      <a:pt x="1093" y="299"/>
                    </a:lnTo>
                    <a:lnTo>
                      <a:pt x="1092" y="341"/>
                    </a:lnTo>
                    <a:lnTo>
                      <a:pt x="1141" y="297"/>
                    </a:lnTo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23960" y="4030200"/>
                <a:ext cx="651600" cy="221400"/>
              </a:xfrm>
              <a:custGeom>
                <a:avLst/>
                <a:gdLst/>
                <a:ahLst/>
                <a:rect l="l" t="t" r="r" b="b"/>
                <a:pathLst>
                  <a:path w="1045" h="356">
                    <a:moveTo>
                      <a:pt x="0" y="0"/>
                    </a:moveTo>
                    <a:cubicBezTo>
                      <a:pt x="2" y="5"/>
                      <a:pt x="4" y="14"/>
                      <a:pt x="14" y="31"/>
                    </a:cubicBezTo>
                    <a:cubicBezTo>
                      <a:pt x="24" y="48"/>
                      <a:pt x="45" y="81"/>
                      <a:pt x="59" y="100"/>
                    </a:cubicBezTo>
                    <a:cubicBezTo>
                      <a:pt x="73" y="119"/>
                      <a:pt x="83" y="129"/>
                      <a:pt x="98" y="145"/>
                    </a:cubicBezTo>
                    <a:cubicBezTo>
                      <a:pt x="113" y="161"/>
                      <a:pt x="129" y="178"/>
                      <a:pt x="152" y="196"/>
                    </a:cubicBezTo>
                    <a:cubicBezTo>
                      <a:pt x="175" y="214"/>
                      <a:pt x="201" y="233"/>
                      <a:pt x="239" y="254"/>
                    </a:cubicBezTo>
                    <a:cubicBezTo>
                      <a:pt x="277" y="275"/>
                      <a:pt x="337" y="308"/>
                      <a:pt x="381" y="324"/>
                    </a:cubicBezTo>
                    <a:cubicBezTo>
                      <a:pt x="425" y="340"/>
                      <a:pt x="464" y="348"/>
                      <a:pt x="505" y="352"/>
                    </a:cubicBezTo>
                    <a:cubicBezTo>
                      <a:pt x="546" y="356"/>
                      <a:pt x="585" y="354"/>
                      <a:pt x="625" y="350"/>
                    </a:cubicBezTo>
                    <a:cubicBezTo>
                      <a:pt x="665" y="346"/>
                      <a:pt x="698" y="343"/>
                      <a:pt x="747" y="326"/>
                    </a:cubicBezTo>
                    <a:cubicBezTo>
                      <a:pt x="796" y="309"/>
                      <a:pt x="869" y="276"/>
                      <a:pt x="919" y="246"/>
                    </a:cubicBezTo>
                    <a:cubicBezTo>
                      <a:pt x="969" y="216"/>
                      <a:pt x="1019" y="165"/>
                      <a:pt x="1045" y="144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310360" y="4263840"/>
              <a:ext cx="469800" cy="223560"/>
            </a:xfrm>
            <a:custGeom>
              <a:avLst/>
              <a:gdLst/>
              <a:ahLst/>
              <a:rect l="l" t="t" r="r" b="b"/>
              <a:pathLst>
                <a:path w="753" h="360">
                  <a:moveTo>
                    <a:pt x="235" y="69"/>
                  </a:moveTo>
                  <a:cubicBezTo>
                    <a:pt x="230" y="71"/>
                    <a:pt x="227" y="74"/>
                    <a:pt x="221" y="75"/>
                  </a:cubicBezTo>
                  <a:cubicBezTo>
                    <a:pt x="216" y="78"/>
                    <a:pt x="211" y="80"/>
                    <a:pt x="206" y="83"/>
                  </a:cubicBezTo>
                  <a:cubicBezTo>
                    <a:pt x="205" y="89"/>
                    <a:pt x="203" y="96"/>
                    <a:pt x="200" y="102"/>
                  </a:cubicBezTo>
                  <a:cubicBezTo>
                    <a:pt x="199" y="105"/>
                    <a:pt x="199" y="113"/>
                    <a:pt x="197" y="111"/>
                  </a:cubicBezTo>
                  <a:cubicBezTo>
                    <a:pt x="191" y="105"/>
                    <a:pt x="187" y="90"/>
                    <a:pt x="181" y="84"/>
                  </a:cubicBezTo>
                  <a:cubicBezTo>
                    <a:pt x="170" y="73"/>
                    <a:pt x="167" y="64"/>
                    <a:pt x="157" y="54"/>
                  </a:cubicBezTo>
                  <a:cubicBezTo>
                    <a:pt x="151" y="48"/>
                    <a:pt x="143" y="43"/>
                    <a:pt x="137" y="36"/>
                  </a:cubicBezTo>
                  <a:cubicBezTo>
                    <a:pt x="133" y="32"/>
                    <a:pt x="133" y="42"/>
                    <a:pt x="128" y="38"/>
                  </a:cubicBezTo>
                  <a:cubicBezTo>
                    <a:pt x="123" y="34"/>
                    <a:pt x="113" y="16"/>
                    <a:pt x="107" y="11"/>
                  </a:cubicBezTo>
                  <a:cubicBezTo>
                    <a:pt x="101" y="8"/>
                    <a:pt x="96" y="6"/>
                    <a:pt x="89" y="5"/>
                  </a:cubicBezTo>
                  <a:cubicBezTo>
                    <a:pt x="85" y="3"/>
                    <a:pt x="80" y="2"/>
                    <a:pt x="76" y="0"/>
                  </a:cubicBezTo>
                  <a:cubicBezTo>
                    <a:pt x="73" y="8"/>
                    <a:pt x="69" y="6"/>
                    <a:pt x="61" y="5"/>
                  </a:cubicBezTo>
                  <a:cubicBezTo>
                    <a:pt x="55" y="5"/>
                    <a:pt x="48" y="5"/>
                    <a:pt x="43" y="8"/>
                  </a:cubicBezTo>
                  <a:cubicBezTo>
                    <a:pt x="39" y="10"/>
                    <a:pt x="32" y="15"/>
                    <a:pt x="32" y="15"/>
                  </a:cubicBezTo>
                  <a:cubicBezTo>
                    <a:pt x="27" y="21"/>
                    <a:pt x="23" y="25"/>
                    <a:pt x="17" y="30"/>
                  </a:cubicBezTo>
                  <a:cubicBezTo>
                    <a:pt x="11" y="41"/>
                    <a:pt x="17" y="46"/>
                    <a:pt x="7" y="54"/>
                  </a:cubicBezTo>
                  <a:cubicBezTo>
                    <a:pt x="3" y="64"/>
                    <a:pt x="0" y="91"/>
                    <a:pt x="5" y="101"/>
                  </a:cubicBezTo>
                  <a:cubicBezTo>
                    <a:pt x="7" y="123"/>
                    <a:pt x="16" y="140"/>
                    <a:pt x="22" y="161"/>
                  </a:cubicBezTo>
                  <a:cubicBezTo>
                    <a:pt x="26" y="182"/>
                    <a:pt x="32" y="184"/>
                    <a:pt x="38" y="201"/>
                  </a:cubicBezTo>
                  <a:cubicBezTo>
                    <a:pt x="44" y="218"/>
                    <a:pt x="52" y="251"/>
                    <a:pt x="59" y="263"/>
                  </a:cubicBezTo>
                  <a:cubicBezTo>
                    <a:pt x="65" y="266"/>
                    <a:pt x="77" y="272"/>
                    <a:pt x="83" y="276"/>
                  </a:cubicBezTo>
                  <a:cubicBezTo>
                    <a:pt x="88" y="277"/>
                    <a:pt x="96" y="271"/>
                    <a:pt x="103" y="270"/>
                  </a:cubicBezTo>
                  <a:cubicBezTo>
                    <a:pt x="109" y="269"/>
                    <a:pt x="116" y="277"/>
                    <a:pt x="121" y="270"/>
                  </a:cubicBezTo>
                  <a:cubicBezTo>
                    <a:pt x="122" y="254"/>
                    <a:pt x="122" y="236"/>
                    <a:pt x="131" y="225"/>
                  </a:cubicBezTo>
                  <a:cubicBezTo>
                    <a:pt x="133" y="217"/>
                    <a:pt x="141" y="208"/>
                    <a:pt x="148" y="204"/>
                  </a:cubicBezTo>
                  <a:cubicBezTo>
                    <a:pt x="145" y="195"/>
                    <a:pt x="130" y="187"/>
                    <a:pt x="121" y="186"/>
                  </a:cubicBezTo>
                  <a:cubicBezTo>
                    <a:pt x="115" y="185"/>
                    <a:pt x="102" y="187"/>
                    <a:pt x="97" y="189"/>
                  </a:cubicBezTo>
                  <a:cubicBezTo>
                    <a:pt x="92" y="191"/>
                    <a:pt x="91" y="204"/>
                    <a:pt x="92" y="198"/>
                  </a:cubicBezTo>
                  <a:cubicBezTo>
                    <a:pt x="94" y="186"/>
                    <a:pt x="104" y="165"/>
                    <a:pt x="106" y="153"/>
                  </a:cubicBezTo>
                  <a:cubicBezTo>
                    <a:pt x="105" y="143"/>
                    <a:pt x="106" y="131"/>
                    <a:pt x="101" y="122"/>
                  </a:cubicBezTo>
                  <a:cubicBezTo>
                    <a:pt x="99" y="114"/>
                    <a:pt x="92" y="99"/>
                    <a:pt x="92" y="99"/>
                  </a:cubicBezTo>
                  <a:cubicBezTo>
                    <a:pt x="97" y="121"/>
                    <a:pt x="111" y="126"/>
                    <a:pt x="127" y="138"/>
                  </a:cubicBezTo>
                  <a:cubicBezTo>
                    <a:pt x="140" y="149"/>
                    <a:pt x="160" y="162"/>
                    <a:pt x="175" y="167"/>
                  </a:cubicBezTo>
                  <a:cubicBezTo>
                    <a:pt x="190" y="172"/>
                    <a:pt x="203" y="173"/>
                    <a:pt x="220" y="170"/>
                  </a:cubicBezTo>
                  <a:cubicBezTo>
                    <a:pt x="244" y="174"/>
                    <a:pt x="261" y="157"/>
                    <a:pt x="280" y="146"/>
                  </a:cubicBezTo>
                  <a:cubicBezTo>
                    <a:pt x="287" y="137"/>
                    <a:pt x="287" y="132"/>
                    <a:pt x="292" y="122"/>
                  </a:cubicBezTo>
                  <a:cubicBezTo>
                    <a:pt x="293" y="115"/>
                    <a:pt x="295" y="109"/>
                    <a:pt x="296" y="102"/>
                  </a:cubicBezTo>
                  <a:cubicBezTo>
                    <a:pt x="296" y="100"/>
                    <a:pt x="296" y="101"/>
                    <a:pt x="298" y="105"/>
                  </a:cubicBezTo>
                  <a:cubicBezTo>
                    <a:pt x="292" y="120"/>
                    <a:pt x="295" y="130"/>
                    <a:pt x="281" y="141"/>
                  </a:cubicBezTo>
                  <a:cubicBezTo>
                    <a:pt x="278" y="146"/>
                    <a:pt x="269" y="153"/>
                    <a:pt x="269" y="153"/>
                  </a:cubicBezTo>
                  <a:cubicBezTo>
                    <a:pt x="266" y="169"/>
                    <a:pt x="278" y="196"/>
                    <a:pt x="295" y="198"/>
                  </a:cubicBezTo>
                  <a:cubicBezTo>
                    <a:pt x="300" y="202"/>
                    <a:pt x="299" y="206"/>
                    <a:pt x="304" y="210"/>
                  </a:cubicBezTo>
                  <a:cubicBezTo>
                    <a:pt x="310" y="221"/>
                    <a:pt x="312" y="228"/>
                    <a:pt x="328" y="231"/>
                  </a:cubicBezTo>
                  <a:cubicBezTo>
                    <a:pt x="338" y="237"/>
                    <a:pt x="359" y="246"/>
                    <a:pt x="370" y="248"/>
                  </a:cubicBezTo>
                  <a:cubicBezTo>
                    <a:pt x="390" y="247"/>
                    <a:pt x="381" y="246"/>
                    <a:pt x="395" y="243"/>
                  </a:cubicBezTo>
                  <a:cubicBezTo>
                    <a:pt x="403" y="239"/>
                    <a:pt x="413" y="241"/>
                    <a:pt x="421" y="236"/>
                  </a:cubicBezTo>
                  <a:cubicBezTo>
                    <a:pt x="426" y="233"/>
                    <a:pt x="439" y="224"/>
                    <a:pt x="439" y="224"/>
                  </a:cubicBezTo>
                  <a:cubicBezTo>
                    <a:pt x="446" y="212"/>
                    <a:pt x="450" y="200"/>
                    <a:pt x="463" y="198"/>
                  </a:cubicBezTo>
                  <a:cubicBezTo>
                    <a:pt x="468" y="192"/>
                    <a:pt x="468" y="183"/>
                    <a:pt x="472" y="176"/>
                  </a:cubicBezTo>
                  <a:cubicBezTo>
                    <a:pt x="473" y="165"/>
                    <a:pt x="486" y="153"/>
                    <a:pt x="494" y="147"/>
                  </a:cubicBezTo>
                  <a:cubicBezTo>
                    <a:pt x="502" y="162"/>
                    <a:pt x="492" y="195"/>
                    <a:pt x="511" y="198"/>
                  </a:cubicBezTo>
                  <a:cubicBezTo>
                    <a:pt x="518" y="204"/>
                    <a:pt x="529" y="205"/>
                    <a:pt x="538" y="207"/>
                  </a:cubicBezTo>
                  <a:cubicBezTo>
                    <a:pt x="545" y="206"/>
                    <a:pt x="552" y="204"/>
                    <a:pt x="559" y="203"/>
                  </a:cubicBezTo>
                  <a:cubicBezTo>
                    <a:pt x="571" y="197"/>
                    <a:pt x="565" y="199"/>
                    <a:pt x="575" y="197"/>
                  </a:cubicBezTo>
                  <a:cubicBezTo>
                    <a:pt x="581" y="191"/>
                    <a:pt x="580" y="178"/>
                    <a:pt x="584" y="170"/>
                  </a:cubicBezTo>
                  <a:cubicBezTo>
                    <a:pt x="581" y="136"/>
                    <a:pt x="591" y="154"/>
                    <a:pt x="578" y="143"/>
                  </a:cubicBezTo>
                  <a:cubicBezTo>
                    <a:pt x="577" y="137"/>
                    <a:pt x="574" y="134"/>
                    <a:pt x="572" y="128"/>
                  </a:cubicBezTo>
                  <a:cubicBezTo>
                    <a:pt x="571" y="125"/>
                    <a:pt x="566" y="119"/>
                    <a:pt x="569" y="119"/>
                  </a:cubicBezTo>
                  <a:cubicBezTo>
                    <a:pt x="573" y="119"/>
                    <a:pt x="574" y="124"/>
                    <a:pt x="577" y="126"/>
                  </a:cubicBezTo>
                  <a:cubicBezTo>
                    <a:pt x="580" y="128"/>
                    <a:pt x="583" y="135"/>
                    <a:pt x="590" y="138"/>
                  </a:cubicBezTo>
                  <a:cubicBezTo>
                    <a:pt x="597" y="141"/>
                    <a:pt x="611" y="143"/>
                    <a:pt x="617" y="144"/>
                  </a:cubicBezTo>
                  <a:cubicBezTo>
                    <a:pt x="623" y="145"/>
                    <a:pt x="627" y="138"/>
                    <a:pt x="625" y="143"/>
                  </a:cubicBezTo>
                  <a:cubicBezTo>
                    <a:pt x="618" y="148"/>
                    <a:pt x="611" y="169"/>
                    <a:pt x="607" y="177"/>
                  </a:cubicBezTo>
                  <a:cubicBezTo>
                    <a:pt x="603" y="187"/>
                    <a:pt x="604" y="206"/>
                    <a:pt x="604" y="212"/>
                  </a:cubicBezTo>
                  <a:cubicBezTo>
                    <a:pt x="604" y="218"/>
                    <a:pt x="603" y="211"/>
                    <a:pt x="605" y="215"/>
                  </a:cubicBezTo>
                  <a:cubicBezTo>
                    <a:pt x="606" y="225"/>
                    <a:pt x="610" y="231"/>
                    <a:pt x="614" y="236"/>
                  </a:cubicBezTo>
                  <a:cubicBezTo>
                    <a:pt x="618" y="241"/>
                    <a:pt x="628" y="241"/>
                    <a:pt x="628" y="242"/>
                  </a:cubicBezTo>
                  <a:cubicBezTo>
                    <a:pt x="625" y="248"/>
                    <a:pt x="622" y="246"/>
                    <a:pt x="616" y="243"/>
                  </a:cubicBezTo>
                  <a:cubicBezTo>
                    <a:pt x="605" y="244"/>
                    <a:pt x="596" y="247"/>
                    <a:pt x="586" y="249"/>
                  </a:cubicBezTo>
                  <a:cubicBezTo>
                    <a:pt x="577" y="252"/>
                    <a:pt x="572" y="259"/>
                    <a:pt x="565" y="264"/>
                  </a:cubicBezTo>
                  <a:cubicBezTo>
                    <a:pt x="562" y="269"/>
                    <a:pt x="559" y="273"/>
                    <a:pt x="556" y="278"/>
                  </a:cubicBezTo>
                  <a:cubicBezTo>
                    <a:pt x="553" y="323"/>
                    <a:pt x="551" y="300"/>
                    <a:pt x="551" y="285"/>
                  </a:cubicBezTo>
                  <a:cubicBezTo>
                    <a:pt x="549" y="276"/>
                    <a:pt x="561" y="282"/>
                    <a:pt x="557" y="275"/>
                  </a:cubicBezTo>
                  <a:cubicBezTo>
                    <a:pt x="556" y="273"/>
                    <a:pt x="553" y="272"/>
                    <a:pt x="553" y="270"/>
                  </a:cubicBezTo>
                  <a:cubicBezTo>
                    <a:pt x="553" y="269"/>
                    <a:pt x="556" y="271"/>
                    <a:pt x="557" y="272"/>
                  </a:cubicBezTo>
                  <a:cubicBezTo>
                    <a:pt x="567" y="268"/>
                    <a:pt x="577" y="260"/>
                    <a:pt x="586" y="254"/>
                  </a:cubicBezTo>
                  <a:cubicBezTo>
                    <a:pt x="587" y="249"/>
                    <a:pt x="600" y="235"/>
                    <a:pt x="601" y="230"/>
                  </a:cubicBezTo>
                  <a:cubicBezTo>
                    <a:pt x="599" y="207"/>
                    <a:pt x="569" y="204"/>
                    <a:pt x="547" y="203"/>
                  </a:cubicBezTo>
                  <a:cubicBezTo>
                    <a:pt x="522" y="204"/>
                    <a:pt x="524" y="202"/>
                    <a:pt x="509" y="215"/>
                  </a:cubicBezTo>
                  <a:cubicBezTo>
                    <a:pt x="503" y="221"/>
                    <a:pt x="491" y="233"/>
                    <a:pt x="491" y="233"/>
                  </a:cubicBezTo>
                  <a:cubicBezTo>
                    <a:pt x="489" y="246"/>
                    <a:pt x="482" y="251"/>
                    <a:pt x="481" y="272"/>
                  </a:cubicBezTo>
                  <a:cubicBezTo>
                    <a:pt x="481" y="275"/>
                    <a:pt x="487" y="293"/>
                    <a:pt x="490" y="299"/>
                  </a:cubicBezTo>
                  <a:cubicBezTo>
                    <a:pt x="495" y="310"/>
                    <a:pt x="529" y="340"/>
                    <a:pt x="541" y="342"/>
                  </a:cubicBezTo>
                  <a:cubicBezTo>
                    <a:pt x="551" y="349"/>
                    <a:pt x="563" y="356"/>
                    <a:pt x="575" y="359"/>
                  </a:cubicBezTo>
                  <a:cubicBezTo>
                    <a:pt x="596" y="357"/>
                    <a:pt x="596" y="360"/>
                    <a:pt x="613" y="354"/>
                  </a:cubicBezTo>
                  <a:cubicBezTo>
                    <a:pt x="620" y="348"/>
                    <a:pt x="627" y="339"/>
                    <a:pt x="634" y="332"/>
                  </a:cubicBezTo>
                  <a:cubicBezTo>
                    <a:pt x="635" y="323"/>
                    <a:pt x="633" y="322"/>
                    <a:pt x="637" y="315"/>
                  </a:cubicBezTo>
                  <a:cubicBezTo>
                    <a:pt x="642" y="319"/>
                    <a:pt x="646" y="320"/>
                    <a:pt x="652" y="321"/>
                  </a:cubicBezTo>
                  <a:cubicBezTo>
                    <a:pt x="667" y="320"/>
                    <a:pt x="680" y="314"/>
                    <a:pt x="691" y="306"/>
                  </a:cubicBezTo>
                  <a:cubicBezTo>
                    <a:pt x="695" y="304"/>
                    <a:pt x="699" y="303"/>
                    <a:pt x="703" y="300"/>
                  </a:cubicBezTo>
                  <a:cubicBezTo>
                    <a:pt x="707" y="297"/>
                    <a:pt x="716" y="290"/>
                    <a:pt x="716" y="290"/>
                  </a:cubicBezTo>
                  <a:cubicBezTo>
                    <a:pt x="718" y="285"/>
                    <a:pt x="729" y="286"/>
                    <a:pt x="731" y="281"/>
                  </a:cubicBezTo>
                  <a:cubicBezTo>
                    <a:pt x="733" y="269"/>
                    <a:pt x="739" y="269"/>
                    <a:pt x="740" y="258"/>
                  </a:cubicBezTo>
                  <a:cubicBezTo>
                    <a:pt x="741" y="247"/>
                    <a:pt x="729" y="226"/>
                    <a:pt x="727" y="219"/>
                  </a:cubicBezTo>
                  <a:cubicBezTo>
                    <a:pt x="725" y="194"/>
                    <a:pt x="708" y="183"/>
                    <a:pt x="731" y="171"/>
                  </a:cubicBezTo>
                  <a:cubicBezTo>
                    <a:pt x="736" y="164"/>
                    <a:pt x="735" y="157"/>
                    <a:pt x="742" y="152"/>
                  </a:cubicBezTo>
                  <a:cubicBezTo>
                    <a:pt x="744" y="144"/>
                    <a:pt x="744" y="136"/>
                    <a:pt x="740" y="128"/>
                  </a:cubicBezTo>
                  <a:cubicBezTo>
                    <a:pt x="738" y="119"/>
                    <a:pt x="753" y="114"/>
                    <a:pt x="746" y="108"/>
                  </a:cubicBezTo>
                  <a:cubicBezTo>
                    <a:pt x="746" y="102"/>
                    <a:pt x="739" y="97"/>
                    <a:pt x="736" y="92"/>
                  </a:cubicBezTo>
                  <a:cubicBezTo>
                    <a:pt x="732" y="86"/>
                    <a:pt x="729" y="78"/>
                    <a:pt x="724" y="74"/>
                  </a:cubicBezTo>
                  <a:cubicBezTo>
                    <a:pt x="719" y="70"/>
                    <a:pt x="711" y="67"/>
                    <a:pt x="703" y="65"/>
                  </a:cubicBezTo>
                  <a:cubicBezTo>
                    <a:pt x="697" y="60"/>
                    <a:pt x="685" y="60"/>
                    <a:pt x="676" y="59"/>
                  </a:cubicBezTo>
                  <a:cubicBezTo>
                    <a:pt x="663" y="52"/>
                    <a:pt x="663" y="54"/>
                    <a:pt x="644" y="56"/>
                  </a:cubicBezTo>
                  <a:cubicBezTo>
                    <a:pt x="638" y="65"/>
                    <a:pt x="628" y="70"/>
                    <a:pt x="617" y="72"/>
                  </a:cubicBezTo>
                  <a:cubicBezTo>
                    <a:pt x="609" y="78"/>
                    <a:pt x="599" y="78"/>
                    <a:pt x="589" y="80"/>
                  </a:cubicBezTo>
                  <a:cubicBezTo>
                    <a:pt x="580" y="79"/>
                    <a:pt x="570" y="80"/>
                    <a:pt x="562" y="74"/>
                  </a:cubicBezTo>
                  <a:cubicBezTo>
                    <a:pt x="563" y="81"/>
                    <a:pt x="565" y="86"/>
                    <a:pt x="566" y="93"/>
                  </a:cubicBezTo>
                  <a:cubicBezTo>
                    <a:pt x="566" y="98"/>
                    <a:pt x="567" y="103"/>
                    <a:pt x="565" y="107"/>
                  </a:cubicBezTo>
                  <a:cubicBezTo>
                    <a:pt x="564" y="109"/>
                    <a:pt x="563" y="104"/>
                    <a:pt x="562" y="102"/>
                  </a:cubicBezTo>
                  <a:cubicBezTo>
                    <a:pt x="556" y="93"/>
                    <a:pt x="562" y="104"/>
                    <a:pt x="557" y="93"/>
                  </a:cubicBezTo>
                  <a:cubicBezTo>
                    <a:pt x="553" y="84"/>
                    <a:pt x="551" y="83"/>
                    <a:pt x="541" y="81"/>
                  </a:cubicBezTo>
                  <a:cubicBezTo>
                    <a:pt x="508" y="82"/>
                    <a:pt x="488" y="75"/>
                    <a:pt x="464" y="93"/>
                  </a:cubicBezTo>
                  <a:cubicBezTo>
                    <a:pt x="456" y="99"/>
                    <a:pt x="449" y="105"/>
                    <a:pt x="440" y="110"/>
                  </a:cubicBezTo>
                  <a:cubicBezTo>
                    <a:pt x="433" y="114"/>
                    <a:pt x="419" y="123"/>
                    <a:pt x="419" y="123"/>
                  </a:cubicBezTo>
                  <a:cubicBezTo>
                    <a:pt x="412" y="134"/>
                    <a:pt x="406" y="146"/>
                    <a:pt x="398" y="156"/>
                  </a:cubicBezTo>
                  <a:cubicBezTo>
                    <a:pt x="397" y="163"/>
                    <a:pt x="395" y="167"/>
                    <a:pt x="394" y="174"/>
                  </a:cubicBezTo>
                  <a:cubicBezTo>
                    <a:pt x="386" y="172"/>
                    <a:pt x="370" y="188"/>
                    <a:pt x="376" y="177"/>
                  </a:cubicBezTo>
                  <a:cubicBezTo>
                    <a:pt x="372" y="172"/>
                    <a:pt x="372" y="155"/>
                    <a:pt x="368" y="149"/>
                  </a:cubicBezTo>
                  <a:cubicBezTo>
                    <a:pt x="364" y="143"/>
                    <a:pt x="352" y="146"/>
                    <a:pt x="353" y="143"/>
                  </a:cubicBezTo>
                  <a:cubicBezTo>
                    <a:pt x="360" y="140"/>
                    <a:pt x="366" y="135"/>
                    <a:pt x="373" y="132"/>
                  </a:cubicBezTo>
                  <a:cubicBezTo>
                    <a:pt x="377" y="127"/>
                    <a:pt x="379" y="122"/>
                    <a:pt x="382" y="116"/>
                  </a:cubicBezTo>
                  <a:cubicBezTo>
                    <a:pt x="379" y="93"/>
                    <a:pt x="370" y="85"/>
                    <a:pt x="347" y="83"/>
                  </a:cubicBezTo>
                  <a:cubicBezTo>
                    <a:pt x="338" y="80"/>
                    <a:pt x="329" y="82"/>
                    <a:pt x="320" y="84"/>
                  </a:cubicBezTo>
                  <a:cubicBezTo>
                    <a:pt x="312" y="88"/>
                    <a:pt x="304" y="94"/>
                    <a:pt x="298" y="102"/>
                  </a:cubicBezTo>
                  <a:cubicBezTo>
                    <a:pt x="291" y="93"/>
                    <a:pt x="298" y="104"/>
                    <a:pt x="293" y="83"/>
                  </a:cubicBezTo>
                  <a:cubicBezTo>
                    <a:pt x="290" y="71"/>
                    <a:pt x="272" y="66"/>
                    <a:pt x="262" y="65"/>
                  </a:cubicBezTo>
                  <a:cubicBezTo>
                    <a:pt x="257" y="65"/>
                    <a:pt x="252" y="65"/>
                    <a:pt x="247" y="66"/>
                  </a:cubicBezTo>
                  <a:cubicBezTo>
                    <a:pt x="245" y="66"/>
                    <a:pt x="243" y="68"/>
                    <a:pt x="241" y="68"/>
                  </a:cubicBezTo>
                  <a:cubicBezTo>
                    <a:pt x="235" y="69"/>
                    <a:pt x="228" y="69"/>
                    <a:pt x="235" y="69"/>
                  </a:cubicBez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4880" y="4377960"/>
              <a:ext cx="384480" cy="201600"/>
            </a:xfrm>
            <a:custGeom>
              <a:avLst/>
              <a:gdLst/>
              <a:ahLst/>
              <a:rect l="l" t="t" r="r" b="b"/>
              <a:pathLst>
                <a:path w="617" h="322">
                  <a:moveTo>
                    <a:pt x="169" y="28"/>
                  </a:moveTo>
                  <a:cubicBezTo>
                    <a:pt x="163" y="25"/>
                    <a:pt x="156" y="22"/>
                    <a:pt x="149" y="21"/>
                  </a:cubicBezTo>
                  <a:cubicBezTo>
                    <a:pt x="144" y="17"/>
                    <a:pt x="137" y="13"/>
                    <a:pt x="131" y="12"/>
                  </a:cubicBezTo>
                  <a:cubicBezTo>
                    <a:pt x="125" y="9"/>
                    <a:pt x="118" y="7"/>
                    <a:pt x="112" y="6"/>
                  </a:cubicBezTo>
                  <a:cubicBezTo>
                    <a:pt x="104" y="5"/>
                    <a:pt x="95" y="0"/>
                    <a:pt x="80" y="3"/>
                  </a:cubicBezTo>
                  <a:lnTo>
                    <a:pt x="40" y="12"/>
                  </a:lnTo>
                  <a:lnTo>
                    <a:pt x="22" y="25"/>
                  </a:lnTo>
                  <a:cubicBezTo>
                    <a:pt x="16" y="35"/>
                    <a:pt x="5" y="51"/>
                    <a:pt x="4" y="63"/>
                  </a:cubicBezTo>
                  <a:cubicBezTo>
                    <a:pt x="0" y="90"/>
                    <a:pt x="2" y="83"/>
                    <a:pt x="5" y="115"/>
                  </a:cubicBezTo>
                  <a:cubicBezTo>
                    <a:pt x="6" y="126"/>
                    <a:pt x="14" y="144"/>
                    <a:pt x="14" y="144"/>
                  </a:cubicBezTo>
                  <a:cubicBezTo>
                    <a:pt x="16" y="155"/>
                    <a:pt x="22" y="169"/>
                    <a:pt x="29" y="178"/>
                  </a:cubicBezTo>
                  <a:cubicBezTo>
                    <a:pt x="32" y="198"/>
                    <a:pt x="51" y="222"/>
                    <a:pt x="63" y="238"/>
                  </a:cubicBezTo>
                  <a:cubicBezTo>
                    <a:pt x="65" y="248"/>
                    <a:pt x="74" y="255"/>
                    <a:pt x="82" y="261"/>
                  </a:cubicBezTo>
                  <a:cubicBezTo>
                    <a:pt x="96" y="279"/>
                    <a:pt x="112" y="282"/>
                    <a:pt x="130" y="285"/>
                  </a:cubicBezTo>
                  <a:cubicBezTo>
                    <a:pt x="145" y="292"/>
                    <a:pt x="156" y="287"/>
                    <a:pt x="172" y="285"/>
                  </a:cubicBezTo>
                  <a:cubicBezTo>
                    <a:pt x="187" y="279"/>
                    <a:pt x="204" y="274"/>
                    <a:pt x="217" y="261"/>
                  </a:cubicBezTo>
                  <a:cubicBezTo>
                    <a:pt x="225" y="253"/>
                    <a:pt x="226" y="247"/>
                    <a:pt x="235" y="241"/>
                  </a:cubicBezTo>
                  <a:cubicBezTo>
                    <a:pt x="238" y="237"/>
                    <a:pt x="241" y="232"/>
                    <a:pt x="244" y="228"/>
                  </a:cubicBezTo>
                  <a:cubicBezTo>
                    <a:pt x="247" y="215"/>
                    <a:pt x="247" y="210"/>
                    <a:pt x="248" y="195"/>
                  </a:cubicBezTo>
                  <a:cubicBezTo>
                    <a:pt x="247" y="183"/>
                    <a:pt x="249" y="167"/>
                    <a:pt x="241" y="156"/>
                  </a:cubicBezTo>
                  <a:cubicBezTo>
                    <a:pt x="240" y="154"/>
                    <a:pt x="241" y="151"/>
                    <a:pt x="239" y="150"/>
                  </a:cubicBezTo>
                  <a:cubicBezTo>
                    <a:pt x="237" y="149"/>
                    <a:pt x="236" y="152"/>
                    <a:pt x="236" y="154"/>
                  </a:cubicBezTo>
                  <a:cubicBezTo>
                    <a:pt x="237" y="157"/>
                    <a:pt x="242" y="158"/>
                    <a:pt x="245" y="160"/>
                  </a:cubicBezTo>
                  <a:cubicBezTo>
                    <a:pt x="255" y="159"/>
                    <a:pt x="254" y="156"/>
                    <a:pt x="262" y="151"/>
                  </a:cubicBezTo>
                  <a:cubicBezTo>
                    <a:pt x="265" y="146"/>
                    <a:pt x="267" y="142"/>
                    <a:pt x="272" y="139"/>
                  </a:cubicBezTo>
                  <a:cubicBezTo>
                    <a:pt x="277" y="129"/>
                    <a:pt x="259" y="145"/>
                    <a:pt x="256" y="148"/>
                  </a:cubicBezTo>
                  <a:cubicBezTo>
                    <a:pt x="254" y="154"/>
                    <a:pt x="253" y="159"/>
                    <a:pt x="251" y="165"/>
                  </a:cubicBezTo>
                  <a:cubicBezTo>
                    <a:pt x="252" y="176"/>
                    <a:pt x="249" y="200"/>
                    <a:pt x="256" y="214"/>
                  </a:cubicBezTo>
                  <a:cubicBezTo>
                    <a:pt x="259" y="228"/>
                    <a:pt x="276" y="248"/>
                    <a:pt x="290" y="250"/>
                  </a:cubicBezTo>
                  <a:cubicBezTo>
                    <a:pt x="299" y="254"/>
                    <a:pt x="322" y="249"/>
                    <a:pt x="329" y="249"/>
                  </a:cubicBezTo>
                  <a:cubicBezTo>
                    <a:pt x="338" y="245"/>
                    <a:pt x="341" y="243"/>
                    <a:pt x="349" y="237"/>
                  </a:cubicBezTo>
                  <a:cubicBezTo>
                    <a:pt x="354" y="229"/>
                    <a:pt x="358" y="226"/>
                    <a:pt x="365" y="220"/>
                  </a:cubicBezTo>
                  <a:cubicBezTo>
                    <a:pt x="369" y="213"/>
                    <a:pt x="373" y="206"/>
                    <a:pt x="379" y="201"/>
                  </a:cubicBezTo>
                  <a:cubicBezTo>
                    <a:pt x="388" y="185"/>
                    <a:pt x="376" y="207"/>
                    <a:pt x="383" y="190"/>
                  </a:cubicBezTo>
                  <a:cubicBezTo>
                    <a:pt x="384" y="187"/>
                    <a:pt x="387" y="184"/>
                    <a:pt x="389" y="181"/>
                  </a:cubicBezTo>
                  <a:cubicBezTo>
                    <a:pt x="390" y="180"/>
                    <a:pt x="392" y="176"/>
                    <a:pt x="391" y="177"/>
                  </a:cubicBezTo>
                  <a:cubicBezTo>
                    <a:pt x="387" y="182"/>
                    <a:pt x="377" y="205"/>
                    <a:pt x="370" y="214"/>
                  </a:cubicBezTo>
                  <a:cubicBezTo>
                    <a:pt x="363" y="223"/>
                    <a:pt x="354" y="227"/>
                    <a:pt x="350" y="232"/>
                  </a:cubicBezTo>
                  <a:cubicBezTo>
                    <a:pt x="349" y="238"/>
                    <a:pt x="346" y="241"/>
                    <a:pt x="344" y="246"/>
                  </a:cubicBezTo>
                  <a:cubicBezTo>
                    <a:pt x="342" y="259"/>
                    <a:pt x="349" y="264"/>
                    <a:pt x="363" y="267"/>
                  </a:cubicBezTo>
                  <a:cubicBezTo>
                    <a:pt x="372" y="272"/>
                    <a:pt x="374" y="264"/>
                    <a:pt x="383" y="262"/>
                  </a:cubicBezTo>
                  <a:cubicBezTo>
                    <a:pt x="388" y="258"/>
                    <a:pt x="390" y="254"/>
                    <a:pt x="394" y="249"/>
                  </a:cubicBezTo>
                  <a:cubicBezTo>
                    <a:pt x="395" y="246"/>
                    <a:pt x="397" y="231"/>
                    <a:pt x="392" y="243"/>
                  </a:cubicBezTo>
                  <a:cubicBezTo>
                    <a:pt x="395" y="248"/>
                    <a:pt x="397" y="252"/>
                    <a:pt x="401" y="256"/>
                  </a:cubicBezTo>
                  <a:cubicBezTo>
                    <a:pt x="404" y="265"/>
                    <a:pt x="413" y="269"/>
                    <a:pt x="421" y="274"/>
                  </a:cubicBezTo>
                  <a:cubicBezTo>
                    <a:pt x="434" y="290"/>
                    <a:pt x="444" y="298"/>
                    <a:pt x="463" y="301"/>
                  </a:cubicBezTo>
                  <a:cubicBezTo>
                    <a:pt x="470" y="304"/>
                    <a:pt x="482" y="303"/>
                    <a:pt x="490" y="304"/>
                  </a:cubicBezTo>
                  <a:cubicBezTo>
                    <a:pt x="494" y="306"/>
                    <a:pt x="508" y="302"/>
                    <a:pt x="512" y="304"/>
                  </a:cubicBezTo>
                  <a:cubicBezTo>
                    <a:pt x="534" y="300"/>
                    <a:pt x="511" y="315"/>
                    <a:pt x="529" y="319"/>
                  </a:cubicBezTo>
                  <a:cubicBezTo>
                    <a:pt x="535" y="322"/>
                    <a:pt x="550" y="318"/>
                    <a:pt x="550" y="318"/>
                  </a:cubicBezTo>
                  <a:cubicBezTo>
                    <a:pt x="557" y="314"/>
                    <a:pt x="566" y="313"/>
                    <a:pt x="574" y="312"/>
                  </a:cubicBezTo>
                  <a:cubicBezTo>
                    <a:pt x="580" y="307"/>
                    <a:pt x="586" y="302"/>
                    <a:pt x="592" y="297"/>
                  </a:cubicBezTo>
                  <a:cubicBezTo>
                    <a:pt x="599" y="286"/>
                    <a:pt x="604" y="275"/>
                    <a:pt x="611" y="264"/>
                  </a:cubicBezTo>
                  <a:cubicBezTo>
                    <a:pt x="613" y="250"/>
                    <a:pt x="617" y="237"/>
                    <a:pt x="611" y="223"/>
                  </a:cubicBezTo>
                  <a:cubicBezTo>
                    <a:pt x="609" y="209"/>
                    <a:pt x="608" y="193"/>
                    <a:pt x="598" y="183"/>
                  </a:cubicBezTo>
                  <a:cubicBezTo>
                    <a:pt x="593" y="171"/>
                    <a:pt x="583" y="156"/>
                    <a:pt x="569" y="153"/>
                  </a:cubicBezTo>
                  <a:cubicBezTo>
                    <a:pt x="564" y="150"/>
                    <a:pt x="560" y="148"/>
                    <a:pt x="554" y="147"/>
                  </a:cubicBezTo>
                  <a:cubicBezTo>
                    <a:pt x="540" y="140"/>
                    <a:pt x="518" y="153"/>
                    <a:pt x="512" y="166"/>
                  </a:cubicBezTo>
                  <a:cubicBezTo>
                    <a:pt x="509" y="180"/>
                    <a:pt x="509" y="213"/>
                    <a:pt x="529" y="217"/>
                  </a:cubicBezTo>
                  <a:cubicBezTo>
                    <a:pt x="540" y="226"/>
                    <a:pt x="550" y="224"/>
                    <a:pt x="526" y="222"/>
                  </a:cubicBezTo>
                  <a:cubicBezTo>
                    <a:pt x="519" y="223"/>
                    <a:pt x="519" y="227"/>
                    <a:pt x="515" y="232"/>
                  </a:cubicBezTo>
                  <a:cubicBezTo>
                    <a:pt x="514" y="238"/>
                    <a:pt x="512" y="243"/>
                    <a:pt x="511" y="249"/>
                  </a:cubicBezTo>
                  <a:cubicBezTo>
                    <a:pt x="511" y="254"/>
                    <a:pt x="510" y="260"/>
                    <a:pt x="512" y="265"/>
                  </a:cubicBezTo>
                  <a:cubicBezTo>
                    <a:pt x="513" y="267"/>
                    <a:pt x="514" y="261"/>
                    <a:pt x="514" y="259"/>
                  </a:cubicBezTo>
                  <a:cubicBezTo>
                    <a:pt x="514" y="253"/>
                    <a:pt x="513" y="247"/>
                    <a:pt x="512" y="241"/>
                  </a:cubicBezTo>
                  <a:cubicBezTo>
                    <a:pt x="517" y="232"/>
                    <a:pt x="507" y="231"/>
                    <a:pt x="502" y="225"/>
                  </a:cubicBezTo>
                  <a:cubicBezTo>
                    <a:pt x="493" y="213"/>
                    <a:pt x="481" y="204"/>
                    <a:pt x="469" y="195"/>
                  </a:cubicBezTo>
                  <a:cubicBezTo>
                    <a:pt x="450" y="198"/>
                    <a:pt x="440" y="163"/>
                    <a:pt x="421" y="160"/>
                  </a:cubicBezTo>
                  <a:cubicBezTo>
                    <a:pt x="414" y="157"/>
                    <a:pt x="410" y="148"/>
                    <a:pt x="402" y="147"/>
                  </a:cubicBezTo>
                  <a:cubicBezTo>
                    <a:pt x="395" y="142"/>
                    <a:pt x="385" y="132"/>
                    <a:pt x="379" y="126"/>
                  </a:cubicBezTo>
                  <a:cubicBezTo>
                    <a:pt x="376" y="123"/>
                    <a:pt x="370" y="108"/>
                    <a:pt x="367" y="111"/>
                  </a:cubicBezTo>
                  <a:cubicBezTo>
                    <a:pt x="364" y="103"/>
                    <a:pt x="363" y="89"/>
                    <a:pt x="363" y="76"/>
                  </a:cubicBezTo>
                  <a:cubicBezTo>
                    <a:pt x="365" y="68"/>
                    <a:pt x="367" y="60"/>
                    <a:pt x="373" y="55"/>
                  </a:cubicBezTo>
                  <a:cubicBezTo>
                    <a:pt x="374" y="51"/>
                    <a:pt x="390" y="38"/>
                    <a:pt x="388" y="34"/>
                  </a:cubicBezTo>
                  <a:lnTo>
                    <a:pt x="373" y="39"/>
                  </a:lnTo>
                  <a:lnTo>
                    <a:pt x="361" y="48"/>
                  </a:lnTo>
                  <a:cubicBezTo>
                    <a:pt x="353" y="53"/>
                    <a:pt x="348" y="64"/>
                    <a:pt x="344" y="72"/>
                  </a:cubicBezTo>
                  <a:lnTo>
                    <a:pt x="332" y="88"/>
                  </a:lnTo>
                  <a:cubicBezTo>
                    <a:pt x="329" y="93"/>
                    <a:pt x="323" y="105"/>
                    <a:pt x="323" y="105"/>
                  </a:cubicBezTo>
                  <a:cubicBezTo>
                    <a:pt x="321" y="117"/>
                    <a:pt x="320" y="142"/>
                    <a:pt x="331" y="153"/>
                  </a:cubicBezTo>
                  <a:cubicBezTo>
                    <a:pt x="332" y="154"/>
                    <a:pt x="330" y="150"/>
                    <a:pt x="329" y="148"/>
                  </a:cubicBezTo>
                  <a:cubicBezTo>
                    <a:pt x="326" y="142"/>
                    <a:pt x="324" y="139"/>
                    <a:pt x="319" y="135"/>
                  </a:cubicBezTo>
                  <a:cubicBezTo>
                    <a:pt x="305" y="137"/>
                    <a:pt x="299" y="153"/>
                    <a:pt x="293" y="165"/>
                  </a:cubicBezTo>
                  <a:cubicBezTo>
                    <a:pt x="291" y="179"/>
                    <a:pt x="297" y="161"/>
                    <a:pt x="298" y="157"/>
                  </a:cubicBezTo>
                  <a:cubicBezTo>
                    <a:pt x="300" y="145"/>
                    <a:pt x="303" y="132"/>
                    <a:pt x="307" y="121"/>
                  </a:cubicBezTo>
                  <a:cubicBezTo>
                    <a:pt x="303" y="90"/>
                    <a:pt x="287" y="76"/>
                    <a:pt x="256" y="72"/>
                  </a:cubicBezTo>
                  <a:cubicBezTo>
                    <a:pt x="244" y="73"/>
                    <a:pt x="238" y="74"/>
                    <a:pt x="227" y="76"/>
                  </a:cubicBezTo>
                  <a:cubicBezTo>
                    <a:pt x="217" y="81"/>
                    <a:pt x="214" y="82"/>
                    <a:pt x="205" y="91"/>
                  </a:cubicBezTo>
                  <a:cubicBezTo>
                    <a:pt x="201" y="95"/>
                    <a:pt x="197" y="106"/>
                    <a:pt x="197" y="106"/>
                  </a:cubicBezTo>
                  <a:cubicBezTo>
                    <a:pt x="195" y="116"/>
                    <a:pt x="196" y="117"/>
                    <a:pt x="185" y="118"/>
                  </a:cubicBezTo>
                  <a:cubicBezTo>
                    <a:pt x="180" y="124"/>
                    <a:pt x="179" y="129"/>
                    <a:pt x="176" y="136"/>
                  </a:cubicBezTo>
                  <a:cubicBezTo>
                    <a:pt x="173" y="151"/>
                    <a:pt x="175" y="166"/>
                    <a:pt x="178" y="181"/>
                  </a:cubicBezTo>
                  <a:cubicBezTo>
                    <a:pt x="179" y="184"/>
                    <a:pt x="183" y="199"/>
                    <a:pt x="187" y="199"/>
                  </a:cubicBezTo>
                  <a:cubicBezTo>
                    <a:pt x="190" y="199"/>
                    <a:pt x="184" y="193"/>
                    <a:pt x="182" y="190"/>
                  </a:cubicBezTo>
                  <a:cubicBezTo>
                    <a:pt x="181" y="181"/>
                    <a:pt x="175" y="172"/>
                    <a:pt x="167" y="169"/>
                  </a:cubicBezTo>
                  <a:cubicBezTo>
                    <a:pt x="156" y="175"/>
                    <a:pt x="155" y="177"/>
                    <a:pt x="146" y="184"/>
                  </a:cubicBezTo>
                  <a:cubicBezTo>
                    <a:pt x="144" y="193"/>
                    <a:pt x="139" y="202"/>
                    <a:pt x="134" y="210"/>
                  </a:cubicBezTo>
                  <a:cubicBezTo>
                    <a:pt x="138" y="237"/>
                    <a:pt x="136" y="239"/>
                    <a:pt x="139" y="216"/>
                  </a:cubicBezTo>
                  <a:cubicBezTo>
                    <a:pt x="137" y="186"/>
                    <a:pt x="119" y="132"/>
                    <a:pt x="83" y="126"/>
                  </a:cubicBezTo>
                  <a:cubicBezTo>
                    <a:pt x="75" y="122"/>
                    <a:pt x="80" y="126"/>
                    <a:pt x="86" y="115"/>
                  </a:cubicBezTo>
                  <a:cubicBezTo>
                    <a:pt x="88" y="112"/>
                    <a:pt x="91" y="105"/>
                    <a:pt x="91" y="105"/>
                  </a:cubicBezTo>
                  <a:cubicBezTo>
                    <a:pt x="98" y="74"/>
                    <a:pt x="92" y="108"/>
                    <a:pt x="92" y="76"/>
                  </a:cubicBezTo>
                  <a:cubicBezTo>
                    <a:pt x="92" y="74"/>
                    <a:pt x="93" y="79"/>
                    <a:pt x="94" y="81"/>
                  </a:cubicBezTo>
                  <a:cubicBezTo>
                    <a:pt x="96" y="84"/>
                    <a:pt x="99" y="87"/>
                    <a:pt x="101" y="90"/>
                  </a:cubicBezTo>
                  <a:cubicBezTo>
                    <a:pt x="107" y="97"/>
                    <a:pt x="116" y="98"/>
                    <a:pt x="124" y="99"/>
                  </a:cubicBezTo>
                  <a:lnTo>
                    <a:pt x="142" y="103"/>
                  </a:lnTo>
                  <a:lnTo>
                    <a:pt x="167" y="100"/>
                  </a:lnTo>
                  <a:cubicBezTo>
                    <a:pt x="174" y="97"/>
                    <a:pt x="181" y="94"/>
                    <a:pt x="188" y="93"/>
                  </a:cubicBezTo>
                  <a:cubicBezTo>
                    <a:pt x="197" y="89"/>
                    <a:pt x="199" y="84"/>
                    <a:pt x="205" y="76"/>
                  </a:cubicBezTo>
                  <a:cubicBezTo>
                    <a:pt x="200" y="63"/>
                    <a:pt x="196" y="42"/>
                    <a:pt x="179" y="39"/>
                  </a:cubicBezTo>
                  <a:cubicBezTo>
                    <a:pt x="174" y="33"/>
                    <a:pt x="166" y="27"/>
                    <a:pt x="158" y="27"/>
                  </a:cubicBezTo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4440" y="4252680"/>
              <a:ext cx="193680" cy="225360"/>
            </a:xfrm>
            <a:custGeom>
              <a:avLst/>
              <a:gdLst/>
              <a:ahLst/>
              <a:rect l="l" t="t" r="r" b="b"/>
              <a:pathLst>
                <a:path w="311" h="362">
                  <a:moveTo>
                    <a:pt x="191" y="277"/>
                  </a:moveTo>
                  <a:cubicBezTo>
                    <a:pt x="192" y="278"/>
                    <a:pt x="213" y="290"/>
                    <a:pt x="202" y="282"/>
                  </a:cubicBezTo>
                  <a:cubicBezTo>
                    <a:pt x="191" y="263"/>
                    <a:pt x="162" y="255"/>
                    <a:pt x="142" y="252"/>
                  </a:cubicBezTo>
                  <a:cubicBezTo>
                    <a:pt x="116" y="253"/>
                    <a:pt x="115" y="257"/>
                    <a:pt x="94" y="255"/>
                  </a:cubicBezTo>
                  <a:cubicBezTo>
                    <a:pt x="99" y="249"/>
                    <a:pt x="102" y="244"/>
                    <a:pt x="106" y="237"/>
                  </a:cubicBezTo>
                  <a:cubicBezTo>
                    <a:pt x="110" y="219"/>
                    <a:pt x="113" y="192"/>
                    <a:pt x="92" y="184"/>
                  </a:cubicBezTo>
                  <a:cubicBezTo>
                    <a:pt x="90" y="168"/>
                    <a:pt x="82" y="164"/>
                    <a:pt x="67" y="163"/>
                  </a:cubicBezTo>
                  <a:cubicBezTo>
                    <a:pt x="49" y="164"/>
                    <a:pt x="47" y="165"/>
                    <a:pt x="35" y="175"/>
                  </a:cubicBezTo>
                  <a:lnTo>
                    <a:pt x="20" y="201"/>
                  </a:lnTo>
                  <a:cubicBezTo>
                    <a:pt x="21" y="222"/>
                    <a:pt x="18" y="228"/>
                    <a:pt x="28" y="241"/>
                  </a:cubicBezTo>
                  <a:cubicBezTo>
                    <a:pt x="29" y="248"/>
                    <a:pt x="36" y="252"/>
                    <a:pt x="43" y="253"/>
                  </a:cubicBezTo>
                  <a:cubicBezTo>
                    <a:pt x="48" y="257"/>
                    <a:pt x="53" y="258"/>
                    <a:pt x="59" y="259"/>
                  </a:cubicBezTo>
                  <a:cubicBezTo>
                    <a:pt x="61" y="260"/>
                    <a:pt x="84" y="249"/>
                    <a:pt x="83" y="250"/>
                  </a:cubicBezTo>
                  <a:cubicBezTo>
                    <a:pt x="84" y="250"/>
                    <a:pt x="74" y="262"/>
                    <a:pt x="70" y="264"/>
                  </a:cubicBezTo>
                  <a:cubicBezTo>
                    <a:pt x="66" y="266"/>
                    <a:pt x="61" y="261"/>
                    <a:pt x="56" y="262"/>
                  </a:cubicBezTo>
                  <a:cubicBezTo>
                    <a:pt x="49" y="264"/>
                    <a:pt x="45" y="270"/>
                    <a:pt x="38" y="271"/>
                  </a:cubicBezTo>
                  <a:cubicBezTo>
                    <a:pt x="32" y="274"/>
                    <a:pt x="47" y="281"/>
                    <a:pt x="41" y="285"/>
                  </a:cubicBezTo>
                  <a:cubicBezTo>
                    <a:pt x="37" y="291"/>
                    <a:pt x="30" y="303"/>
                    <a:pt x="26" y="309"/>
                  </a:cubicBezTo>
                  <a:cubicBezTo>
                    <a:pt x="21" y="314"/>
                    <a:pt x="18" y="318"/>
                    <a:pt x="14" y="321"/>
                  </a:cubicBezTo>
                  <a:cubicBezTo>
                    <a:pt x="10" y="324"/>
                    <a:pt x="0" y="319"/>
                    <a:pt x="1" y="325"/>
                  </a:cubicBezTo>
                  <a:cubicBezTo>
                    <a:pt x="3" y="340"/>
                    <a:pt x="3" y="352"/>
                    <a:pt x="19" y="357"/>
                  </a:cubicBezTo>
                  <a:cubicBezTo>
                    <a:pt x="25" y="362"/>
                    <a:pt x="44" y="361"/>
                    <a:pt x="44" y="361"/>
                  </a:cubicBezTo>
                  <a:cubicBezTo>
                    <a:pt x="49" y="361"/>
                    <a:pt x="53" y="357"/>
                    <a:pt x="55" y="354"/>
                  </a:cubicBezTo>
                  <a:cubicBezTo>
                    <a:pt x="57" y="351"/>
                    <a:pt x="57" y="346"/>
                    <a:pt x="58" y="346"/>
                  </a:cubicBezTo>
                  <a:cubicBezTo>
                    <a:pt x="59" y="346"/>
                    <a:pt x="60" y="350"/>
                    <a:pt x="64" y="351"/>
                  </a:cubicBezTo>
                  <a:cubicBezTo>
                    <a:pt x="68" y="352"/>
                    <a:pt x="75" y="353"/>
                    <a:pt x="82" y="351"/>
                  </a:cubicBezTo>
                  <a:cubicBezTo>
                    <a:pt x="91" y="346"/>
                    <a:pt x="99" y="343"/>
                    <a:pt x="104" y="336"/>
                  </a:cubicBezTo>
                  <a:cubicBezTo>
                    <a:pt x="109" y="329"/>
                    <a:pt x="111" y="307"/>
                    <a:pt x="115" y="309"/>
                  </a:cubicBezTo>
                  <a:cubicBezTo>
                    <a:pt x="112" y="333"/>
                    <a:pt x="120" y="342"/>
                    <a:pt x="131" y="346"/>
                  </a:cubicBezTo>
                  <a:cubicBezTo>
                    <a:pt x="136" y="348"/>
                    <a:pt x="145" y="349"/>
                    <a:pt x="145" y="349"/>
                  </a:cubicBezTo>
                  <a:cubicBezTo>
                    <a:pt x="165" y="359"/>
                    <a:pt x="182" y="360"/>
                    <a:pt x="205" y="361"/>
                  </a:cubicBezTo>
                  <a:cubicBezTo>
                    <a:pt x="223" y="360"/>
                    <a:pt x="209" y="352"/>
                    <a:pt x="227" y="351"/>
                  </a:cubicBezTo>
                  <a:cubicBezTo>
                    <a:pt x="251" y="347"/>
                    <a:pt x="278" y="346"/>
                    <a:pt x="289" y="325"/>
                  </a:cubicBezTo>
                  <a:cubicBezTo>
                    <a:pt x="290" y="319"/>
                    <a:pt x="299" y="306"/>
                    <a:pt x="302" y="300"/>
                  </a:cubicBezTo>
                  <a:cubicBezTo>
                    <a:pt x="300" y="276"/>
                    <a:pt x="311" y="268"/>
                    <a:pt x="292" y="252"/>
                  </a:cubicBezTo>
                  <a:cubicBezTo>
                    <a:pt x="285" y="241"/>
                    <a:pt x="290" y="230"/>
                    <a:pt x="278" y="226"/>
                  </a:cubicBezTo>
                  <a:cubicBezTo>
                    <a:pt x="275" y="221"/>
                    <a:pt x="269" y="222"/>
                    <a:pt x="268" y="216"/>
                  </a:cubicBezTo>
                  <a:cubicBezTo>
                    <a:pt x="269" y="208"/>
                    <a:pt x="254" y="191"/>
                    <a:pt x="241" y="198"/>
                  </a:cubicBezTo>
                  <a:cubicBezTo>
                    <a:pt x="232" y="177"/>
                    <a:pt x="245" y="161"/>
                    <a:pt x="221" y="151"/>
                  </a:cubicBezTo>
                  <a:cubicBezTo>
                    <a:pt x="228" y="147"/>
                    <a:pt x="226" y="144"/>
                    <a:pt x="230" y="138"/>
                  </a:cubicBezTo>
                  <a:cubicBezTo>
                    <a:pt x="233" y="131"/>
                    <a:pt x="242" y="117"/>
                    <a:pt x="245" y="108"/>
                  </a:cubicBezTo>
                  <a:cubicBezTo>
                    <a:pt x="248" y="99"/>
                    <a:pt x="246" y="92"/>
                    <a:pt x="247" y="85"/>
                  </a:cubicBezTo>
                  <a:cubicBezTo>
                    <a:pt x="248" y="77"/>
                    <a:pt x="252" y="72"/>
                    <a:pt x="254" y="64"/>
                  </a:cubicBezTo>
                  <a:cubicBezTo>
                    <a:pt x="253" y="48"/>
                    <a:pt x="258" y="4"/>
                    <a:pt x="236" y="0"/>
                  </a:cubicBezTo>
                  <a:lnTo>
                    <a:pt x="208" y="76"/>
                  </a:lnTo>
                  <a:lnTo>
                    <a:pt x="164" y="120"/>
                  </a:lnTo>
                  <a:lnTo>
                    <a:pt x="143" y="147"/>
                  </a:lnTo>
                  <a:cubicBezTo>
                    <a:pt x="137" y="158"/>
                    <a:pt x="130" y="168"/>
                    <a:pt x="130" y="180"/>
                  </a:cubicBezTo>
                  <a:cubicBezTo>
                    <a:pt x="130" y="191"/>
                    <a:pt x="127" y="200"/>
                    <a:pt x="139" y="217"/>
                  </a:cubicBezTo>
                  <a:cubicBezTo>
                    <a:pt x="151" y="234"/>
                    <a:pt x="187" y="269"/>
                    <a:pt x="200" y="282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2360" y="4211280"/>
              <a:ext cx="161640" cy="157320"/>
            </a:xfrm>
            <a:custGeom>
              <a:avLst/>
              <a:gdLst/>
              <a:ahLst/>
              <a:rect l="l" t="t" r="r" b="b"/>
              <a:pathLst>
                <a:path w="261" h="252">
                  <a:moveTo>
                    <a:pt x="72" y="162"/>
                  </a:moveTo>
                  <a:cubicBezTo>
                    <a:pt x="70" y="153"/>
                    <a:pt x="64" y="131"/>
                    <a:pt x="56" y="127"/>
                  </a:cubicBezTo>
                  <a:cubicBezTo>
                    <a:pt x="50" y="121"/>
                    <a:pt x="41" y="127"/>
                    <a:pt x="35" y="127"/>
                  </a:cubicBezTo>
                  <a:cubicBezTo>
                    <a:pt x="29" y="127"/>
                    <a:pt x="23" y="127"/>
                    <a:pt x="18" y="129"/>
                  </a:cubicBezTo>
                  <a:lnTo>
                    <a:pt x="6" y="139"/>
                  </a:lnTo>
                  <a:cubicBezTo>
                    <a:pt x="4" y="142"/>
                    <a:pt x="3" y="150"/>
                    <a:pt x="0" y="150"/>
                  </a:cubicBezTo>
                  <a:lnTo>
                    <a:pt x="30" y="169"/>
                  </a:lnTo>
                  <a:lnTo>
                    <a:pt x="41" y="205"/>
                  </a:lnTo>
                  <a:cubicBezTo>
                    <a:pt x="41" y="214"/>
                    <a:pt x="38" y="224"/>
                    <a:pt x="35" y="231"/>
                  </a:cubicBezTo>
                  <a:cubicBezTo>
                    <a:pt x="32" y="238"/>
                    <a:pt x="21" y="245"/>
                    <a:pt x="23" y="247"/>
                  </a:cubicBezTo>
                  <a:cubicBezTo>
                    <a:pt x="25" y="249"/>
                    <a:pt x="40" y="248"/>
                    <a:pt x="50" y="246"/>
                  </a:cubicBezTo>
                  <a:cubicBezTo>
                    <a:pt x="58" y="252"/>
                    <a:pt x="73" y="241"/>
                    <a:pt x="83" y="237"/>
                  </a:cubicBezTo>
                  <a:cubicBezTo>
                    <a:pt x="93" y="233"/>
                    <a:pt x="103" y="225"/>
                    <a:pt x="111" y="219"/>
                  </a:cubicBezTo>
                  <a:cubicBezTo>
                    <a:pt x="118" y="213"/>
                    <a:pt x="124" y="207"/>
                    <a:pt x="131" y="202"/>
                  </a:cubicBezTo>
                  <a:cubicBezTo>
                    <a:pt x="134" y="200"/>
                    <a:pt x="140" y="195"/>
                    <a:pt x="140" y="195"/>
                  </a:cubicBezTo>
                  <a:cubicBezTo>
                    <a:pt x="144" y="188"/>
                    <a:pt x="151" y="186"/>
                    <a:pt x="158" y="181"/>
                  </a:cubicBezTo>
                  <a:cubicBezTo>
                    <a:pt x="161" y="179"/>
                    <a:pt x="176" y="165"/>
                    <a:pt x="176" y="165"/>
                  </a:cubicBezTo>
                  <a:cubicBezTo>
                    <a:pt x="181" y="157"/>
                    <a:pt x="186" y="152"/>
                    <a:pt x="192" y="142"/>
                  </a:cubicBezTo>
                  <a:cubicBezTo>
                    <a:pt x="198" y="132"/>
                    <a:pt x="206" y="117"/>
                    <a:pt x="210" y="106"/>
                  </a:cubicBezTo>
                  <a:cubicBezTo>
                    <a:pt x="211" y="100"/>
                    <a:pt x="214" y="81"/>
                    <a:pt x="216" y="76"/>
                  </a:cubicBezTo>
                  <a:cubicBezTo>
                    <a:pt x="217" y="67"/>
                    <a:pt x="224" y="79"/>
                    <a:pt x="227" y="70"/>
                  </a:cubicBezTo>
                  <a:cubicBezTo>
                    <a:pt x="218" y="63"/>
                    <a:pt x="226" y="64"/>
                    <a:pt x="233" y="63"/>
                  </a:cubicBezTo>
                  <a:cubicBezTo>
                    <a:pt x="237" y="60"/>
                    <a:pt x="242" y="58"/>
                    <a:pt x="246" y="54"/>
                  </a:cubicBezTo>
                  <a:cubicBezTo>
                    <a:pt x="249" y="51"/>
                    <a:pt x="255" y="45"/>
                    <a:pt x="255" y="45"/>
                  </a:cubicBezTo>
                  <a:cubicBezTo>
                    <a:pt x="257" y="40"/>
                    <a:pt x="260" y="37"/>
                    <a:pt x="261" y="31"/>
                  </a:cubicBezTo>
                  <a:cubicBezTo>
                    <a:pt x="260" y="23"/>
                    <a:pt x="260" y="16"/>
                    <a:pt x="254" y="10"/>
                  </a:cubicBezTo>
                  <a:cubicBezTo>
                    <a:pt x="251" y="7"/>
                    <a:pt x="245" y="3"/>
                    <a:pt x="245" y="3"/>
                  </a:cubicBezTo>
                  <a:cubicBezTo>
                    <a:pt x="240" y="2"/>
                    <a:pt x="229" y="0"/>
                    <a:pt x="222" y="1"/>
                  </a:cubicBezTo>
                  <a:cubicBezTo>
                    <a:pt x="215" y="2"/>
                    <a:pt x="208" y="6"/>
                    <a:pt x="204" y="10"/>
                  </a:cubicBezTo>
                  <a:cubicBezTo>
                    <a:pt x="200" y="15"/>
                    <a:pt x="198" y="18"/>
                    <a:pt x="197" y="24"/>
                  </a:cubicBezTo>
                  <a:cubicBezTo>
                    <a:pt x="199" y="34"/>
                    <a:pt x="214" y="50"/>
                    <a:pt x="222" y="55"/>
                  </a:cubicBezTo>
                  <a:cubicBezTo>
                    <a:pt x="229" y="67"/>
                    <a:pt x="203" y="38"/>
                    <a:pt x="198" y="36"/>
                  </a:cubicBezTo>
                  <a:cubicBezTo>
                    <a:pt x="176" y="38"/>
                    <a:pt x="174" y="36"/>
                    <a:pt x="156" y="54"/>
                  </a:cubicBezTo>
                  <a:cubicBezTo>
                    <a:pt x="152" y="61"/>
                    <a:pt x="162" y="65"/>
                    <a:pt x="158" y="72"/>
                  </a:cubicBezTo>
                  <a:cubicBezTo>
                    <a:pt x="156" y="76"/>
                    <a:pt x="141" y="78"/>
                    <a:pt x="141" y="78"/>
                  </a:cubicBezTo>
                  <a:cubicBezTo>
                    <a:pt x="144" y="99"/>
                    <a:pt x="145" y="93"/>
                    <a:pt x="132" y="90"/>
                  </a:cubicBezTo>
                  <a:cubicBezTo>
                    <a:pt x="109" y="91"/>
                    <a:pt x="97" y="97"/>
                    <a:pt x="87" y="118"/>
                  </a:cubicBezTo>
                  <a:cubicBezTo>
                    <a:pt x="87" y="120"/>
                    <a:pt x="86" y="121"/>
                    <a:pt x="86" y="123"/>
                  </a:cubicBezTo>
                  <a:cubicBezTo>
                    <a:pt x="86" y="136"/>
                    <a:pt x="90" y="125"/>
                    <a:pt x="81" y="123"/>
                  </a:cubicBezTo>
                  <a:cubicBezTo>
                    <a:pt x="74" y="119"/>
                    <a:pt x="68" y="121"/>
                    <a:pt x="63" y="127"/>
                  </a:cubicBezTo>
                  <a:cubicBezTo>
                    <a:pt x="61" y="136"/>
                    <a:pt x="69" y="154"/>
                    <a:pt x="72" y="162"/>
                  </a:cubicBez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02440" y="4447800"/>
              <a:ext cx="182520" cy="1476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132" y="72"/>
                  </a:moveTo>
                  <a:cubicBezTo>
                    <a:pt x="108" y="92"/>
                    <a:pt x="140" y="66"/>
                    <a:pt x="140" y="66"/>
                  </a:cubicBezTo>
                  <a:cubicBezTo>
                    <a:pt x="140" y="66"/>
                    <a:pt x="135" y="76"/>
                    <a:pt x="135" y="75"/>
                  </a:cubicBezTo>
                  <a:cubicBezTo>
                    <a:pt x="137" y="69"/>
                    <a:pt x="138" y="58"/>
                    <a:pt x="138" y="58"/>
                  </a:cubicBezTo>
                  <a:cubicBezTo>
                    <a:pt x="133" y="27"/>
                    <a:pt x="120" y="14"/>
                    <a:pt x="93" y="1"/>
                  </a:cubicBezTo>
                  <a:lnTo>
                    <a:pt x="71" y="0"/>
                  </a:lnTo>
                  <a:lnTo>
                    <a:pt x="57" y="3"/>
                  </a:lnTo>
                  <a:cubicBezTo>
                    <a:pt x="50" y="6"/>
                    <a:pt x="33" y="22"/>
                    <a:pt x="38" y="37"/>
                  </a:cubicBezTo>
                  <a:cubicBezTo>
                    <a:pt x="43" y="52"/>
                    <a:pt x="74" y="75"/>
                    <a:pt x="84" y="91"/>
                  </a:cubicBezTo>
                  <a:cubicBezTo>
                    <a:pt x="94" y="107"/>
                    <a:pt x="94" y="121"/>
                    <a:pt x="96" y="132"/>
                  </a:cubicBezTo>
                  <a:cubicBezTo>
                    <a:pt x="98" y="143"/>
                    <a:pt x="96" y="164"/>
                    <a:pt x="95" y="159"/>
                  </a:cubicBezTo>
                  <a:cubicBezTo>
                    <a:pt x="94" y="160"/>
                    <a:pt x="95" y="117"/>
                    <a:pt x="90" y="102"/>
                  </a:cubicBezTo>
                  <a:cubicBezTo>
                    <a:pt x="85" y="87"/>
                    <a:pt x="73" y="77"/>
                    <a:pt x="65" y="69"/>
                  </a:cubicBezTo>
                  <a:cubicBezTo>
                    <a:pt x="57" y="61"/>
                    <a:pt x="49" y="56"/>
                    <a:pt x="44" y="51"/>
                  </a:cubicBezTo>
                  <a:cubicBezTo>
                    <a:pt x="39" y="46"/>
                    <a:pt x="38" y="37"/>
                    <a:pt x="35" y="37"/>
                  </a:cubicBezTo>
                  <a:cubicBezTo>
                    <a:pt x="34" y="42"/>
                    <a:pt x="24" y="49"/>
                    <a:pt x="23" y="54"/>
                  </a:cubicBezTo>
                  <a:cubicBezTo>
                    <a:pt x="25" y="73"/>
                    <a:pt x="32" y="70"/>
                    <a:pt x="14" y="81"/>
                  </a:cubicBezTo>
                  <a:cubicBezTo>
                    <a:pt x="13" y="88"/>
                    <a:pt x="3" y="97"/>
                    <a:pt x="0" y="103"/>
                  </a:cubicBezTo>
                  <a:cubicBezTo>
                    <a:pt x="4" y="130"/>
                    <a:pt x="6" y="130"/>
                    <a:pt x="21" y="150"/>
                  </a:cubicBezTo>
                  <a:cubicBezTo>
                    <a:pt x="33" y="165"/>
                    <a:pt x="47" y="176"/>
                    <a:pt x="57" y="183"/>
                  </a:cubicBezTo>
                  <a:cubicBezTo>
                    <a:pt x="63" y="183"/>
                    <a:pt x="83" y="205"/>
                    <a:pt x="87" y="208"/>
                  </a:cubicBezTo>
                  <a:cubicBezTo>
                    <a:pt x="96" y="216"/>
                    <a:pt x="112" y="216"/>
                    <a:pt x="123" y="217"/>
                  </a:cubicBezTo>
                  <a:cubicBezTo>
                    <a:pt x="130" y="220"/>
                    <a:pt x="136" y="231"/>
                    <a:pt x="143" y="232"/>
                  </a:cubicBezTo>
                  <a:cubicBezTo>
                    <a:pt x="154" y="237"/>
                    <a:pt x="166" y="234"/>
                    <a:pt x="177" y="237"/>
                  </a:cubicBezTo>
                  <a:cubicBezTo>
                    <a:pt x="207" y="234"/>
                    <a:pt x="207" y="237"/>
                    <a:pt x="237" y="226"/>
                  </a:cubicBezTo>
                  <a:cubicBezTo>
                    <a:pt x="243" y="221"/>
                    <a:pt x="259" y="211"/>
                    <a:pt x="263" y="205"/>
                  </a:cubicBezTo>
                  <a:cubicBezTo>
                    <a:pt x="265" y="196"/>
                    <a:pt x="294" y="191"/>
                    <a:pt x="288" y="180"/>
                  </a:cubicBezTo>
                  <a:cubicBezTo>
                    <a:pt x="289" y="174"/>
                    <a:pt x="273" y="179"/>
                    <a:pt x="266" y="177"/>
                  </a:cubicBezTo>
                  <a:cubicBezTo>
                    <a:pt x="259" y="175"/>
                    <a:pt x="251" y="169"/>
                    <a:pt x="243" y="166"/>
                  </a:cubicBezTo>
                  <a:cubicBezTo>
                    <a:pt x="233" y="160"/>
                    <a:pt x="226" y="162"/>
                    <a:pt x="219" y="157"/>
                  </a:cubicBezTo>
                  <a:cubicBezTo>
                    <a:pt x="212" y="152"/>
                    <a:pt x="204" y="145"/>
                    <a:pt x="198" y="138"/>
                  </a:cubicBezTo>
                  <a:cubicBezTo>
                    <a:pt x="190" y="131"/>
                    <a:pt x="186" y="120"/>
                    <a:pt x="180" y="112"/>
                  </a:cubicBezTo>
                  <a:cubicBezTo>
                    <a:pt x="176" y="94"/>
                    <a:pt x="176" y="95"/>
                    <a:pt x="165" y="81"/>
                  </a:cubicBezTo>
                  <a:cubicBezTo>
                    <a:pt x="162" y="68"/>
                    <a:pt x="144" y="45"/>
                    <a:pt x="138" y="36"/>
                  </a:cubicBezTo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150160" y="4105080"/>
              <a:ext cx="195120" cy="422280"/>
              <a:chOff x="5150160" y="4105080"/>
              <a:chExt cx="195120" cy="422280"/>
            </a:xfrm>
          </p:grpSpPr>
          <p:sp>
            <p:nvSpPr>
              <p:cNvPr id="231" name=""/>
              <p:cNvSpPr/>
              <p:nvPr/>
            </p:nvSpPr>
            <p:spPr>
              <a:xfrm>
                <a:off x="5150160" y="4105080"/>
                <a:ext cx="195120" cy="422280"/>
              </a:xfrm>
              <a:custGeom>
                <a:avLst/>
                <a:gdLst/>
                <a:ahLst/>
                <a:rect l="l" t="t" r="r" b="b"/>
                <a:pathLst>
                  <a:path w="311" h="679">
                    <a:moveTo>
                      <a:pt x="27" y="22"/>
                    </a:moveTo>
                    <a:cubicBezTo>
                      <a:pt x="24" y="28"/>
                      <a:pt x="21" y="40"/>
                      <a:pt x="22" y="52"/>
                    </a:cubicBezTo>
                    <a:cubicBezTo>
                      <a:pt x="23" y="64"/>
                      <a:pt x="31" y="84"/>
                      <a:pt x="31" y="93"/>
                    </a:cubicBezTo>
                    <a:cubicBezTo>
                      <a:pt x="31" y="95"/>
                      <a:pt x="22" y="103"/>
                      <a:pt x="21" y="106"/>
                    </a:cubicBezTo>
                    <a:cubicBezTo>
                      <a:pt x="19" y="110"/>
                      <a:pt x="16" y="118"/>
                      <a:pt x="16" y="118"/>
                    </a:cubicBezTo>
                    <a:cubicBezTo>
                      <a:pt x="15" y="122"/>
                      <a:pt x="16" y="136"/>
                      <a:pt x="18" y="144"/>
                    </a:cubicBezTo>
                    <a:cubicBezTo>
                      <a:pt x="20" y="152"/>
                      <a:pt x="26" y="156"/>
                      <a:pt x="28" y="165"/>
                    </a:cubicBezTo>
                    <a:cubicBezTo>
                      <a:pt x="31" y="171"/>
                      <a:pt x="31" y="198"/>
                      <a:pt x="31" y="198"/>
                    </a:cubicBezTo>
                    <a:cubicBezTo>
                      <a:pt x="33" y="207"/>
                      <a:pt x="25" y="208"/>
                      <a:pt x="18" y="214"/>
                    </a:cubicBezTo>
                    <a:cubicBezTo>
                      <a:pt x="15" y="219"/>
                      <a:pt x="9" y="226"/>
                      <a:pt x="7" y="234"/>
                    </a:cubicBezTo>
                    <a:cubicBezTo>
                      <a:pt x="5" y="244"/>
                      <a:pt x="4" y="264"/>
                      <a:pt x="7" y="276"/>
                    </a:cubicBezTo>
                    <a:cubicBezTo>
                      <a:pt x="10" y="288"/>
                      <a:pt x="17" y="307"/>
                      <a:pt x="24" y="307"/>
                    </a:cubicBezTo>
                    <a:cubicBezTo>
                      <a:pt x="30" y="295"/>
                      <a:pt x="39" y="284"/>
                      <a:pt x="49" y="276"/>
                    </a:cubicBezTo>
                    <a:cubicBezTo>
                      <a:pt x="52" y="273"/>
                      <a:pt x="43" y="282"/>
                      <a:pt x="40" y="285"/>
                    </a:cubicBezTo>
                    <a:cubicBezTo>
                      <a:pt x="36" y="289"/>
                      <a:pt x="33" y="294"/>
                      <a:pt x="28" y="298"/>
                    </a:cubicBezTo>
                    <a:cubicBezTo>
                      <a:pt x="22" y="307"/>
                      <a:pt x="20" y="320"/>
                      <a:pt x="16" y="330"/>
                    </a:cubicBezTo>
                    <a:cubicBezTo>
                      <a:pt x="15" y="342"/>
                      <a:pt x="12" y="355"/>
                      <a:pt x="7" y="366"/>
                    </a:cubicBezTo>
                    <a:cubicBezTo>
                      <a:pt x="5" y="384"/>
                      <a:pt x="0" y="406"/>
                      <a:pt x="18" y="418"/>
                    </a:cubicBezTo>
                    <a:cubicBezTo>
                      <a:pt x="23" y="426"/>
                      <a:pt x="25" y="434"/>
                      <a:pt x="33" y="439"/>
                    </a:cubicBezTo>
                    <a:cubicBezTo>
                      <a:pt x="31" y="435"/>
                      <a:pt x="57" y="420"/>
                      <a:pt x="57" y="424"/>
                    </a:cubicBezTo>
                    <a:cubicBezTo>
                      <a:pt x="58" y="425"/>
                      <a:pt x="35" y="430"/>
                      <a:pt x="31" y="438"/>
                    </a:cubicBezTo>
                    <a:cubicBezTo>
                      <a:pt x="27" y="446"/>
                      <a:pt x="30" y="464"/>
                      <a:pt x="31" y="474"/>
                    </a:cubicBezTo>
                    <a:cubicBezTo>
                      <a:pt x="32" y="484"/>
                      <a:pt x="28" y="485"/>
                      <a:pt x="36" y="498"/>
                    </a:cubicBezTo>
                    <a:cubicBezTo>
                      <a:pt x="40" y="523"/>
                      <a:pt x="57" y="542"/>
                      <a:pt x="79" y="553"/>
                    </a:cubicBezTo>
                    <a:cubicBezTo>
                      <a:pt x="80" y="545"/>
                      <a:pt x="75" y="544"/>
                      <a:pt x="79" y="537"/>
                    </a:cubicBezTo>
                    <a:cubicBezTo>
                      <a:pt x="81" y="534"/>
                      <a:pt x="94" y="510"/>
                      <a:pt x="94" y="513"/>
                    </a:cubicBezTo>
                    <a:cubicBezTo>
                      <a:pt x="94" y="517"/>
                      <a:pt x="81" y="531"/>
                      <a:pt x="79" y="535"/>
                    </a:cubicBezTo>
                    <a:cubicBezTo>
                      <a:pt x="77" y="543"/>
                      <a:pt x="77" y="551"/>
                      <a:pt x="81" y="559"/>
                    </a:cubicBezTo>
                    <a:cubicBezTo>
                      <a:pt x="81" y="559"/>
                      <a:pt x="87" y="607"/>
                      <a:pt x="96" y="624"/>
                    </a:cubicBezTo>
                    <a:cubicBezTo>
                      <a:pt x="105" y="641"/>
                      <a:pt x="124" y="655"/>
                      <a:pt x="135" y="664"/>
                    </a:cubicBezTo>
                    <a:cubicBezTo>
                      <a:pt x="144" y="671"/>
                      <a:pt x="147" y="677"/>
                      <a:pt x="160" y="678"/>
                    </a:cubicBezTo>
                    <a:cubicBezTo>
                      <a:pt x="167" y="679"/>
                      <a:pt x="175" y="679"/>
                      <a:pt x="186" y="675"/>
                    </a:cubicBezTo>
                    <a:cubicBezTo>
                      <a:pt x="197" y="671"/>
                      <a:pt x="217" y="660"/>
                      <a:pt x="225" y="655"/>
                    </a:cubicBezTo>
                    <a:cubicBezTo>
                      <a:pt x="229" y="650"/>
                      <a:pt x="232" y="649"/>
                      <a:pt x="234" y="643"/>
                    </a:cubicBezTo>
                    <a:cubicBezTo>
                      <a:pt x="235" y="634"/>
                      <a:pt x="249" y="626"/>
                      <a:pt x="256" y="619"/>
                    </a:cubicBezTo>
                    <a:cubicBezTo>
                      <a:pt x="261" y="614"/>
                      <a:pt x="256" y="612"/>
                      <a:pt x="261" y="607"/>
                    </a:cubicBezTo>
                    <a:cubicBezTo>
                      <a:pt x="266" y="601"/>
                      <a:pt x="273" y="601"/>
                      <a:pt x="280" y="597"/>
                    </a:cubicBezTo>
                    <a:cubicBezTo>
                      <a:pt x="285" y="587"/>
                      <a:pt x="292" y="579"/>
                      <a:pt x="298" y="570"/>
                    </a:cubicBezTo>
                    <a:cubicBezTo>
                      <a:pt x="304" y="553"/>
                      <a:pt x="303" y="554"/>
                      <a:pt x="309" y="537"/>
                    </a:cubicBezTo>
                    <a:cubicBezTo>
                      <a:pt x="311" y="520"/>
                      <a:pt x="305" y="520"/>
                      <a:pt x="306" y="502"/>
                    </a:cubicBezTo>
                    <a:cubicBezTo>
                      <a:pt x="304" y="469"/>
                      <a:pt x="303" y="426"/>
                      <a:pt x="271" y="423"/>
                    </a:cubicBezTo>
                    <a:cubicBezTo>
                      <a:pt x="255" y="418"/>
                      <a:pt x="234" y="426"/>
                      <a:pt x="217" y="427"/>
                    </a:cubicBezTo>
                    <a:cubicBezTo>
                      <a:pt x="203" y="432"/>
                      <a:pt x="198" y="432"/>
                      <a:pt x="216" y="427"/>
                    </a:cubicBezTo>
                    <a:cubicBezTo>
                      <a:pt x="229" y="424"/>
                      <a:pt x="237" y="424"/>
                      <a:pt x="249" y="423"/>
                    </a:cubicBezTo>
                    <a:cubicBezTo>
                      <a:pt x="258" y="419"/>
                      <a:pt x="269" y="426"/>
                      <a:pt x="271" y="415"/>
                    </a:cubicBezTo>
                    <a:cubicBezTo>
                      <a:pt x="272" y="407"/>
                      <a:pt x="272" y="388"/>
                      <a:pt x="267" y="376"/>
                    </a:cubicBezTo>
                    <a:cubicBezTo>
                      <a:pt x="261" y="363"/>
                      <a:pt x="249" y="344"/>
                      <a:pt x="237" y="337"/>
                    </a:cubicBezTo>
                    <a:cubicBezTo>
                      <a:pt x="225" y="330"/>
                      <a:pt x="195" y="336"/>
                      <a:pt x="195" y="336"/>
                    </a:cubicBezTo>
                    <a:cubicBezTo>
                      <a:pt x="206" y="331"/>
                      <a:pt x="221" y="336"/>
                      <a:pt x="234" y="334"/>
                    </a:cubicBezTo>
                    <a:cubicBezTo>
                      <a:pt x="236" y="322"/>
                      <a:pt x="238" y="315"/>
                      <a:pt x="232" y="304"/>
                    </a:cubicBezTo>
                    <a:cubicBezTo>
                      <a:pt x="229" y="294"/>
                      <a:pt x="221" y="262"/>
                      <a:pt x="214" y="256"/>
                    </a:cubicBezTo>
                    <a:cubicBezTo>
                      <a:pt x="207" y="250"/>
                      <a:pt x="195" y="266"/>
                      <a:pt x="192" y="267"/>
                    </a:cubicBezTo>
                    <a:cubicBezTo>
                      <a:pt x="175" y="261"/>
                      <a:pt x="185" y="264"/>
                      <a:pt x="198" y="261"/>
                    </a:cubicBezTo>
                    <a:cubicBezTo>
                      <a:pt x="203" y="255"/>
                      <a:pt x="205" y="249"/>
                      <a:pt x="210" y="243"/>
                    </a:cubicBezTo>
                    <a:cubicBezTo>
                      <a:pt x="211" y="238"/>
                      <a:pt x="213" y="234"/>
                      <a:pt x="214" y="229"/>
                    </a:cubicBezTo>
                    <a:cubicBezTo>
                      <a:pt x="215" y="218"/>
                      <a:pt x="222" y="182"/>
                      <a:pt x="210" y="169"/>
                    </a:cubicBezTo>
                    <a:cubicBezTo>
                      <a:pt x="201" y="159"/>
                      <a:pt x="189" y="149"/>
                      <a:pt x="177" y="142"/>
                    </a:cubicBezTo>
                    <a:cubicBezTo>
                      <a:pt x="172" y="139"/>
                      <a:pt x="163" y="132"/>
                      <a:pt x="163" y="132"/>
                    </a:cubicBezTo>
                    <a:cubicBezTo>
                      <a:pt x="161" y="124"/>
                      <a:pt x="158" y="124"/>
                      <a:pt x="151" y="123"/>
                    </a:cubicBezTo>
                    <a:cubicBezTo>
                      <a:pt x="141" y="118"/>
                      <a:pt x="132" y="113"/>
                      <a:pt x="123" y="106"/>
                    </a:cubicBezTo>
                    <a:cubicBezTo>
                      <a:pt x="120" y="101"/>
                      <a:pt x="117" y="96"/>
                      <a:pt x="115" y="91"/>
                    </a:cubicBezTo>
                    <a:cubicBezTo>
                      <a:pt x="112" y="84"/>
                      <a:pt x="106" y="79"/>
                      <a:pt x="100" y="72"/>
                    </a:cubicBezTo>
                    <a:cubicBezTo>
                      <a:pt x="94" y="65"/>
                      <a:pt x="85" y="58"/>
                      <a:pt x="76" y="46"/>
                    </a:cubicBezTo>
                    <a:cubicBezTo>
                      <a:pt x="66" y="36"/>
                      <a:pt x="56" y="8"/>
                      <a:pt x="43" y="0"/>
                    </a:cubicBezTo>
                    <a:cubicBezTo>
                      <a:pt x="35" y="1"/>
                      <a:pt x="31" y="16"/>
                      <a:pt x="27" y="22"/>
                    </a:cubicBezTo>
                    <a:close/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16400" y="4167000"/>
                <a:ext cx="102240" cy="313920"/>
              </a:xfrm>
              <a:custGeom>
                <a:avLst/>
                <a:gdLst/>
                <a:ahLst/>
                <a:rect l="l" t="t" r="r" b="b"/>
                <a:pathLst>
                  <a:path w="163" h="505">
                    <a:moveTo>
                      <a:pt x="11" y="0"/>
                    </a:moveTo>
                    <a:lnTo>
                      <a:pt x="9" y="43"/>
                    </a:lnTo>
                    <a:lnTo>
                      <a:pt x="3" y="141"/>
                    </a:lnTo>
                    <a:cubicBezTo>
                      <a:pt x="2" y="172"/>
                      <a:pt x="0" y="207"/>
                      <a:pt x="1" y="231"/>
                    </a:cubicBezTo>
                    <a:lnTo>
                      <a:pt x="7" y="285"/>
                    </a:lnTo>
                    <a:cubicBezTo>
                      <a:pt x="11" y="306"/>
                      <a:pt x="18" y="336"/>
                      <a:pt x="25" y="355"/>
                    </a:cubicBezTo>
                    <a:lnTo>
                      <a:pt x="51" y="401"/>
                    </a:lnTo>
                    <a:lnTo>
                      <a:pt x="95" y="449"/>
                    </a:lnTo>
                    <a:lnTo>
                      <a:pt x="135" y="485"/>
                    </a:lnTo>
                    <a:lnTo>
                      <a:pt x="163" y="505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293080" y="4011120"/>
              <a:ext cx="141120" cy="79560"/>
            </a:xfrm>
            <a:custGeom>
              <a:avLst/>
              <a:gdLst/>
              <a:ahLst/>
              <a:rect l="l" t="t" r="r" b="b"/>
              <a:pathLst>
                <a:path w="228" h="129">
                  <a:moveTo>
                    <a:pt x="182" y="37"/>
                  </a:moveTo>
                  <a:cubicBezTo>
                    <a:pt x="172" y="29"/>
                    <a:pt x="175" y="34"/>
                    <a:pt x="159" y="36"/>
                  </a:cubicBezTo>
                  <a:cubicBezTo>
                    <a:pt x="142" y="46"/>
                    <a:pt x="129" y="72"/>
                    <a:pt x="109" y="76"/>
                  </a:cubicBezTo>
                  <a:cubicBezTo>
                    <a:pt x="103" y="80"/>
                    <a:pt x="97" y="84"/>
                    <a:pt x="91" y="88"/>
                  </a:cubicBezTo>
                  <a:cubicBezTo>
                    <a:pt x="81" y="103"/>
                    <a:pt x="67" y="120"/>
                    <a:pt x="49" y="124"/>
                  </a:cubicBezTo>
                  <a:cubicBezTo>
                    <a:pt x="38" y="129"/>
                    <a:pt x="29" y="127"/>
                    <a:pt x="16" y="126"/>
                  </a:cubicBezTo>
                  <a:cubicBezTo>
                    <a:pt x="0" y="99"/>
                    <a:pt x="45" y="67"/>
                    <a:pt x="66" y="55"/>
                  </a:cubicBezTo>
                  <a:cubicBezTo>
                    <a:pt x="72" y="46"/>
                    <a:pt x="88" y="32"/>
                    <a:pt x="99" y="30"/>
                  </a:cubicBezTo>
                  <a:cubicBezTo>
                    <a:pt x="115" y="22"/>
                    <a:pt x="115" y="19"/>
                    <a:pt x="133" y="18"/>
                  </a:cubicBezTo>
                  <a:cubicBezTo>
                    <a:pt x="141" y="16"/>
                    <a:pt x="145" y="14"/>
                    <a:pt x="151" y="13"/>
                  </a:cubicBezTo>
                  <a:cubicBezTo>
                    <a:pt x="157" y="12"/>
                    <a:pt x="157" y="11"/>
                    <a:pt x="168" y="10"/>
                  </a:cubicBezTo>
                  <a:cubicBezTo>
                    <a:pt x="173" y="0"/>
                    <a:pt x="204" y="5"/>
                    <a:pt x="215" y="4"/>
                  </a:cubicBezTo>
                  <a:cubicBezTo>
                    <a:pt x="228" y="6"/>
                    <a:pt x="203" y="14"/>
                    <a:pt x="199" y="21"/>
                  </a:cubicBezTo>
                  <a:cubicBezTo>
                    <a:pt x="195" y="26"/>
                    <a:pt x="192" y="31"/>
                    <a:pt x="190" y="34"/>
                  </a:cubicBezTo>
                  <a:cubicBezTo>
                    <a:pt x="188" y="37"/>
                    <a:pt x="186" y="39"/>
                    <a:pt x="184" y="40"/>
                  </a:cubicBezTo>
                  <a:cubicBezTo>
                    <a:pt x="182" y="40"/>
                    <a:pt x="178" y="39"/>
                    <a:pt x="178" y="39"/>
                  </a:cubicBezTo>
                  <a:cubicBezTo>
                    <a:pt x="178" y="39"/>
                    <a:pt x="180" y="37"/>
                    <a:pt x="182" y="37"/>
                  </a:cubicBezTo>
                  <a:close/>
                </a:path>
              </a:pathLst>
            </a:custGeom>
            <a:solidFill>
              <a:srgbClr val="99ff66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204160" y="3765240"/>
              <a:ext cx="484200" cy="338040"/>
              <a:chOff x="5204160" y="3765240"/>
              <a:chExt cx="484200" cy="338040"/>
            </a:xfrm>
          </p:grpSpPr>
          <p:sp>
            <p:nvSpPr>
              <p:cNvPr id="235" name=""/>
              <p:cNvSpPr/>
              <p:nvPr/>
            </p:nvSpPr>
            <p:spPr>
              <a:xfrm>
                <a:off x="5204160" y="3765240"/>
                <a:ext cx="484200" cy="338040"/>
              </a:xfrm>
              <a:custGeom>
                <a:avLst/>
                <a:gdLst/>
                <a:ahLst/>
                <a:rect l="l" t="t" r="r" b="b"/>
                <a:pathLst>
                  <a:path w="776" h="544">
                    <a:moveTo>
                      <a:pt x="758" y="12"/>
                    </a:moveTo>
                    <a:cubicBezTo>
                      <a:pt x="765" y="15"/>
                      <a:pt x="773" y="26"/>
                      <a:pt x="773" y="34"/>
                    </a:cubicBezTo>
                    <a:lnTo>
                      <a:pt x="776" y="72"/>
                    </a:lnTo>
                    <a:lnTo>
                      <a:pt x="764" y="138"/>
                    </a:lnTo>
                    <a:lnTo>
                      <a:pt x="720" y="211"/>
                    </a:lnTo>
                    <a:cubicBezTo>
                      <a:pt x="713" y="219"/>
                      <a:pt x="668" y="286"/>
                      <a:pt x="636" y="292"/>
                    </a:cubicBezTo>
                    <a:cubicBezTo>
                      <a:pt x="635" y="293"/>
                      <a:pt x="632" y="294"/>
                      <a:pt x="632" y="294"/>
                    </a:cubicBezTo>
                    <a:lnTo>
                      <a:pt x="569" y="309"/>
                    </a:lnTo>
                    <a:lnTo>
                      <a:pt x="528" y="307"/>
                    </a:lnTo>
                    <a:lnTo>
                      <a:pt x="495" y="304"/>
                    </a:lnTo>
                    <a:lnTo>
                      <a:pt x="503" y="286"/>
                    </a:lnTo>
                    <a:lnTo>
                      <a:pt x="503" y="250"/>
                    </a:lnTo>
                    <a:lnTo>
                      <a:pt x="501" y="240"/>
                    </a:lnTo>
                    <a:lnTo>
                      <a:pt x="504" y="270"/>
                    </a:lnTo>
                    <a:lnTo>
                      <a:pt x="498" y="307"/>
                    </a:lnTo>
                    <a:lnTo>
                      <a:pt x="476" y="322"/>
                    </a:lnTo>
                    <a:lnTo>
                      <a:pt x="446" y="337"/>
                    </a:lnTo>
                    <a:lnTo>
                      <a:pt x="387" y="364"/>
                    </a:lnTo>
                    <a:lnTo>
                      <a:pt x="345" y="382"/>
                    </a:lnTo>
                    <a:lnTo>
                      <a:pt x="291" y="391"/>
                    </a:lnTo>
                    <a:lnTo>
                      <a:pt x="258" y="405"/>
                    </a:lnTo>
                    <a:lnTo>
                      <a:pt x="245" y="402"/>
                    </a:lnTo>
                    <a:lnTo>
                      <a:pt x="221" y="432"/>
                    </a:lnTo>
                    <a:lnTo>
                      <a:pt x="171" y="459"/>
                    </a:lnTo>
                    <a:lnTo>
                      <a:pt x="134" y="496"/>
                    </a:lnTo>
                    <a:cubicBezTo>
                      <a:pt x="124" y="513"/>
                      <a:pt x="116" y="526"/>
                      <a:pt x="99" y="535"/>
                    </a:cubicBezTo>
                    <a:cubicBezTo>
                      <a:pt x="94" y="541"/>
                      <a:pt x="92" y="540"/>
                      <a:pt x="86" y="543"/>
                    </a:cubicBezTo>
                    <a:cubicBezTo>
                      <a:pt x="74" y="542"/>
                      <a:pt x="59" y="544"/>
                      <a:pt x="48" y="537"/>
                    </a:cubicBezTo>
                    <a:cubicBezTo>
                      <a:pt x="43" y="534"/>
                      <a:pt x="38" y="528"/>
                      <a:pt x="35" y="525"/>
                    </a:cubicBezTo>
                    <a:cubicBezTo>
                      <a:pt x="33" y="523"/>
                      <a:pt x="30" y="520"/>
                      <a:pt x="30" y="520"/>
                    </a:cubicBezTo>
                    <a:cubicBezTo>
                      <a:pt x="26" y="510"/>
                      <a:pt x="19" y="503"/>
                      <a:pt x="15" y="493"/>
                    </a:cubicBezTo>
                    <a:cubicBezTo>
                      <a:pt x="15" y="488"/>
                      <a:pt x="16" y="477"/>
                      <a:pt x="11" y="477"/>
                    </a:cubicBezTo>
                    <a:lnTo>
                      <a:pt x="5" y="397"/>
                    </a:lnTo>
                    <a:lnTo>
                      <a:pt x="0" y="348"/>
                    </a:lnTo>
                    <a:lnTo>
                      <a:pt x="14" y="238"/>
                    </a:lnTo>
                    <a:lnTo>
                      <a:pt x="30" y="169"/>
                    </a:lnTo>
                    <a:lnTo>
                      <a:pt x="53" y="94"/>
                    </a:lnTo>
                    <a:lnTo>
                      <a:pt x="99" y="34"/>
                    </a:lnTo>
                    <a:lnTo>
                      <a:pt x="122" y="21"/>
                    </a:lnTo>
                    <a:lnTo>
                      <a:pt x="156" y="7"/>
                    </a:lnTo>
                    <a:lnTo>
                      <a:pt x="201" y="4"/>
                    </a:lnTo>
                    <a:lnTo>
                      <a:pt x="237" y="0"/>
                    </a:lnTo>
                    <a:lnTo>
                      <a:pt x="293" y="6"/>
                    </a:lnTo>
                    <a:lnTo>
                      <a:pt x="329" y="9"/>
                    </a:lnTo>
                    <a:lnTo>
                      <a:pt x="372" y="22"/>
                    </a:lnTo>
                    <a:lnTo>
                      <a:pt x="417" y="28"/>
                    </a:lnTo>
                    <a:lnTo>
                      <a:pt x="522" y="31"/>
                    </a:lnTo>
                    <a:lnTo>
                      <a:pt x="630" y="31"/>
                    </a:lnTo>
                    <a:lnTo>
                      <a:pt x="681" y="21"/>
                    </a:lnTo>
                    <a:lnTo>
                      <a:pt x="729" y="13"/>
                    </a:lnTo>
                    <a:lnTo>
                      <a:pt x="758" y="12"/>
                    </a:lnTo>
                    <a:close/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55720" y="3992760"/>
                <a:ext cx="18360" cy="248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40"/>
                    </a:moveTo>
                    <a:cubicBezTo>
                      <a:pt x="7" y="39"/>
                      <a:pt x="11" y="32"/>
                      <a:pt x="17" y="28"/>
                    </a:cubicBezTo>
                    <a:cubicBezTo>
                      <a:pt x="21" y="22"/>
                      <a:pt x="25" y="18"/>
                      <a:pt x="29" y="12"/>
                    </a:cubicBezTo>
                    <a:cubicBezTo>
                      <a:pt x="30" y="1"/>
                      <a:pt x="30" y="5"/>
                      <a:pt x="30" y="0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73240" y="3793680"/>
                <a:ext cx="7200" cy="4068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" y="0"/>
                    </a:moveTo>
                    <a:cubicBezTo>
                      <a:pt x="9" y="3"/>
                      <a:pt x="8" y="8"/>
                      <a:pt x="12" y="15"/>
                    </a:cubicBezTo>
                    <a:cubicBezTo>
                      <a:pt x="11" y="28"/>
                      <a:pt x="12" y="54"/>
                      <a:pt x="0" y="66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26440" y="3871440"/>
                <a:ext cx="15480" cy="37800"/>
              </a:xfrm>
              <a:custGeom>
                <a:avLst/>
                <a:gdLst/>
                <a:ahLst/>
                <a:rect l="l" t="t" r="r" b="b"/>
                <a:pathLst>
                  <a:path w="25" h="61">
                    <a:moveTo>
                      <a:pt x="25" y="0"/>
                    </a:moveTo>
                    <a:cubicBezTo>
                      <a:pt x="22" y="20"/>
                      <a:pt x="21" y="29"/>
                      <a:pt x="10" y="45"/>
                    </a:cubicBezTo>
                    <a:cubicBezTo>
                      <a:pt x="8" y="48"/>
                      <a:pt x="3" y="61"/>
                      <a:pt x="0" y="61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6334200" y="2581200"/>
            <a:ext cx="2733120" cy="2746080"/>
            <a:chOff x="6334200" y="2581200"/>
            <a:chExt cx="2733120" cy="2746080"/>
          </a:xfrm>
        </p:grpSpPr>
        <p:sp>
          <p:nvSpPr>
            <p:cNvPr id="240" name=""/>
            <p:cNvSpPr/>
            <p:nvPr/>
          </p:nvSpPr>
          <p:spPr>
            <a:xfrm>
              <a:off x="6334200" y="2583000"/>
              <a:ext cx="2733120" cy="2744280"/>
            </a:xfrm>
            <a:custGeom>
              <a:avLst/>
              <a:gdLst/>
              <a:ahLst/>
              <a:rect l="l" t="t" r="r" b="b"/>
              <a:pathLst>
                <a:path w="4477" h="4520">
                  <a:moveTo>
                    <a:pt x="2647" y="274"/>
                  </a:moveTo>
                  <a:lnTo>
                    <a:pt x="2660" y="256"/>
                  </a:lnTo>
                  <a:lnTo>
                    <a:pt x="2674" y="236"/>
                  </a:lnTo>
                  <a:lnTo>
                    <a:pt x="2684" y="214"/>
                  </a:lnTo>
                  <a:lnTo>
                    <a:pt x="2691" y="192"/>
                  </a:lnTo>
                  <a:lnTo>
                    <a:pt x="2692" y="168"/>
                  </a:lnTo>
                  <a:lnTo>
                    <a:pt x="2688" y="143"/>
                  </a:lnTo>
                  <a:lnTo>
                    <a:pt x="2675" y="116"/>
                  </a:lnTo>
                  <a:lnTo>
                    <a:pt x="2652" y="91"/>
                  </a:lnTo>
                  <a:lnTo>
                    <a:pt x="2638" y="79"/>
                  </a:lnTo>
                  <a:lnTo>
                    <a:pt x="2622" y="67"/>
                  </a:lnTo>
                  <a:lnTo>
                    <a:pt x="2606" y="56"/>
                  </a:lnTo>
                  <a:lnTo>
                    <a:pt x="2589" y="45"/>
                  </a:lnTo>
                  <a:lnTo>
                    <a:pt x="2571" y="36"/>
                  </a:lnTo>
                  <a:lnTo>
                    <a:pt x="2554" y="28"/>
                  </a:lnTo>
                  <a:lnTo>
                    <a:pt x="2535" y="21"/>
                  </a:lnTo>
                  <a:lnTo>
                    <a:pt x="2517" y="15"/>
                  </a:lnTo>
                  <a:lnTo>
                    <a:pt x="2499" y="9"/>
                  </a:lnTo>
                  <a:lnTo>
                    <a:pt x="2482" y="5"/>
                  </a:lnTo>
                  <a:lnTo>
                    <a:pt x="2465" y="3"/>
                  </a:lnTo>
                  <a:lnTo>
                    <a:pt x="2449" y="0"/>
                  </a:lnTo>
                  <a:lnTo>
                    <a:pt x="2433" y="0"/>
                  </a:lnTo>
                  <a:lnTo>
                    <a:pt x="2418" y="0"/>
                  </a:lnTo>
                  <a:lnTo>
                    <a:pt x="2405" y="0"/>
                  </a:lnTo>
                  <a:lnTo>
                    <a:pt x="2393" y="3"/>
                  </a:lnTo>
                  <a:lnTo>
                    <a:pt x="2372" y="9"/>
                  </a:lnTo>
                  <a:lnTo>
                    <a:pt x="2350" y="20"/>
                  </a:lnTo>
                  <a:lnTo>
                    <a:pt x="2330" y="32"/>
                  </a:lnTo>
                  <a:lnTo>
                    <a:pt x="2312" y="47"/>
                  </a:lnTo>
                  <a:lnTo>
                    <a:pt x="2293" y="60"/>
                  </a:lnTo>
                  <a:lnTo>
                    <a:pt x="2277" y="72"/>
                  </a:lnTo>
                  <a:lnTo>
                    <a:pt x="2261" y="83"/>
                  </a:lnTo>
                  <a:lnTo>
                    <a:pt x="2246" y="91"/>
                  </a:lnTo>
                  <a:lnTo>
                    <a:pt x="2231" y="96"/>
                  </a:lnTo>
                  <a:lnTo>
                    <a:pt x="2212" y="104"/>
                  </a:lnTo>
                  <a:lnTo>
                    <a:pt x="2192" y="115"/>
                  </a:lnTo>
                  <a:lnTo>
                    <a:pt x="2171" y="125"/>
                  </a:lnTo>
                  <a:lnTo>
                    <a:pt x="2149" y="140"/>
                  </a:lnTo>
                  <a:lnTo>
                    <a:pt x="2128" y="156"/>
                  </a:lnTo>
                  <a:lnTo>
                    <a:pt x="2108" y="173"/>
                  </a:lnTo>
                  <a:lnTo>
                    <a:pt x="2091" y="193"/>
                  </a:lnTo>
                  <a:lnTo>
                    <a:pt x="2081" y="186"/>
                  </a:lnTo>
                  <a:lnTo>
                    <a:pt x="2071" y="180"/>
                  </a:lnTo>
                  <a:lnTo>
                    <a:pt x="2059" y="175"/>
                  </a:lnTo>
                  <a:lnTo>
                    <a:pt x="2047" y="169"/>
                  </a:lnTo>
                  <a:lnTo>
                    <a:pt x="2032" y="164"/>
                  </a:lnTo>
                  <a:lnTo>
                    <a:pt x="2019" y="160"/>
                  </a:lnTo>
                  <a:lnTo>
                    <a:pt x="2003" y="156"/>
                  </a:lnTo>
                  <a:lnTo>
                    <a:pt x="1987" y="153"/>
                  </a:lnTo>
                  <a:lnTo>
                    <a:pt x="1971" y="151"/>
                  </a:lnTo>
                  <a:lnTo>
                    <a:pt x="1955" y="149"/>
                  </a:lnTo>
                  <a:lnTo>
                    <a:pt x="1939" y="148"/>
                  </a:lnTo>
                  <a:lnTo>
                    <a:pt x="1922" y="148"/>
                  </a:lnTo>
                  <a:lnTo>
                    <a:pt x="1906" y="148"/>
                  </a:lnTo>
                  <a:lnTo>
                    <a:pt x="1890" y="149"/>
                  </a:lnTo>
                  <a:lnTo>
                    <a:pt x="1874" y="152"/>
                  </a:lnTo>
                  <a:lnTo>
                    <a:pt x="1859" y="155"/>
                  </a:lnTo>
                  <a:lnTo>
                    <a:pt x="1830" y="161"/>
                  </a:lnTo>
                  <a:lnTo>
                    <a:pt x="1802" y="168"/>
                  </a:lnTo>
                  <a:lnTo>
                    <a:pt x="1774" y="175"/>
                  </a:lnTo>
                  <a:lnTo>
                    <a:pt x="1747" y="178"/>
                  </a:lnTo>
                  <a:lnTo>
                    <a:pt x="1722" y="180"/>
                  </a:lnTo>
                  <a:lnTo>
                    <a:pt x="1699" y="178"/>
                  </a:lnTo>
                  <a:lnTo>
                    <a:pt x="1678" y="173"/>
                  </a:lnTo>
                  <a:lnTo>
                    <a:pt x="1660" y="164"/>
                  </a:lnTo>
                  <a:lnTo>
                    <a:pt x="1674" y="190"/>
                  </a:lnTo>
                  <a:lnTo>
                    <a:pt x="1690" y="210"/>
                  </a:lnTo>
                  <a:lnTo>
                    <a:pt x="1707" y="226"/>
                  </a:lnTo>
                  <a:lnTo>
                    <a:pt x="1725" y="241"/>
                  </a:lnTo>
                  <a:lnTo>
                    <a:pt x="1741" y="254"/>
                  </a:lnTo>
                  <a:lnTo>
                    <a:pt x="1754" y="269"/>
                  </a:lnTo>
                  <a:lnTo>
                    <a:pt x="1766" y="286"/>
                  </a:lnTo>
                  <a:lnTo>
                    <a:pt x="1775" y="308"/>
                  </a:lnTo>
                  <a:lnTo>
                    <a:pt x="1781" y="320"/>
                  </a:lnTo>
                  <a:lnTo>
                    <a:pt x="1790" y="330"/>
                  </a:lnTo>
                  <a:lnTo>
                    <a:pt x="1803" y="342"/>
                  </a:lnTo>
                  <a:lnTo>
                    <a:pt x="1818" y="352"/>
                  </a:lnTo>
                  <a:lnTo>
                    <a:pt x="1837" y="361"/>
                  </a:lnTo>
                  <a:lnTo>
                    <a:pt x="1857" y="369"/>
                  </a:lnTo>
                  <a:lnTo>
                    <a:pt x="1878" y="377"/>
                  </a:lnTo>
                  <a:lnTo>
                    <a:pt x="1900" y="382"/>
                  </a:lnTo>
                  <a:lnTo>
                    <a:pt x="1923" y="388"/>
                  </a:lnTo>
                  <a:lnTo>
                    <a:pt x="1947" y="390"/>
                  </a:lnTo>
                  <a:lnTo>
                    <a:pt x="1970" y="392"/>
                  </a:lnTo>
                  <a:lnTo>
                    <a:pt x="1992" y="390"/>
                  </a:lnTo>
                  <a:lnTo>
                    <a:pt x="2014" y="389"/>
                  </a:lnTo>
                  <a:lnTo>
                    <a:pt x="2034" y="384"/>
                  </a:lnTo>
                  <a:lnTo>
                    <a:pt x="2051" y="377"/>
                  </a:lnTo>
                  <a:lnTo>
                    <a:pt x="2067" y="368"/>
                  </a:lnTo>
                  <a:lnTo>
                    <a:pt x="2079" y="401"/>
                  </a:lnTo>
                  <a:lnTo>
                    <a:pt x="2085" y="433"/>
                  </a:lnTo>
                  <a:lnTo>
                    <a:pt x="2083" y="468"/>
                  </a:lnTo>
                  <a:lnTo>
                    <a:pt x="2071" y="516"/>
                  </a:lnTo>
                  <a:lnTo>
                    <a:pt x="2067" y="542"/>
                  </a:lnTo>
                  <a:lnTo>
                    <a:pt x="2069" y="567"/>
                  </a:lnTo>
                  <a:lnTo>
                    <a:pt x="2077" y="590"/>
                  </a:lnTo>
                  <a:lnTo>
                    <a:pt x="2091" y="610"/>
                  </a:lnTo>
                  <a:lnTo>
                    <a:pt x="2107" y="627"/>
                  </a:lnTo>
                  <a:lnTo>
                    <a:pt x="2124" y="643"/>
                  </a:lnTo>
                  <a:lnTo>
                    <a:pt x="2143" y="655"/>
                  </a:lnTo>
                  <a:lnTo>
                    <a:pt x="2159" y="663"/>
                  </a:lnTo>
                  <a:lnTo>
                    <a:pt x="2173" y="673"/>
                  </a:lnTo>
                  <a:lnTo>
                    <a:pt x="2189" y="685"/>
                  </a:lnTo>
                  <a:lnTo>
                    <a:pt x="2204" y="698"/>
                  </a:lnTo>
                  <a:lnTo>
                    <a:pt x="2219" y="711"/>
                  </a:lnTo>
                  <a:lnTo>
                    <a:pt x="2232" y="723"/>
                  </a:lnTo>
                  <a:lnTo>
                    <a:pt x="2246" y="733"/>
                  </a:lnTo>
                  <a:lnTo>
                    <a:pt x="2260" y="738"/>
                  </a:lnTo>
                  <a:lnTo>
                    <a:pt x="2274" y="738"/>
                  </a:lnTo>
                  <a:lnTo>
                    <a:pt x="2278" y="759"/>
                  </a:lnTo>
                  <a:lnTo>
                    <a:pt x="2281" y="783"/>
                  </a:lnTo>
                  <a:lnTo>
                    <a:pt x="2282" y="803"/>
                  </a:lnTo>
                  <a:lnTo>
                    <a:pt x="2284" y="811"/>
                  </a:lnTo>
                  <a:lnTo>
                    <a:pt x="2262" y="815"/>
                  </a:lnTo>
                  <a:lnTo>
                    <a:pt x="2239" y="818"/>
                  </a:lnTo>
                  <a:lnTo>
                    <a:pt x="2213" y="822"/>
                  </a:lnTo>
                  <a:lnTo>
                    <a:pt x="2185" y="825"/>
                  </a:lnTo>
                  <a:lnTo>
                    <a:pt x="2156" y="829"/>
                  </a:lnTo>
                  <a:lnTo>
                    <a:pt x="2128" y="833"/>
                  </a:lnTo>
                  <a:lnTo>
                    <a:pt x="2101" y="835"/>
                  </a:lnTo>
                  <a:lnTo>
                    <a:pt x="2076" y="839"/>
                  </a:lnTo>
                  <a:lnTo>
                    <a:pt x="2054" y="843"/>
                  </a:lnTo>
                  <a:lnTo>
                    <a:pt x="2035" y="846"/>
                  </a:lnTo>
                  <a:lnTo>
                    <a:pt x="2018" y="849"/>
                  </a:lnTo>
                  <a:lnTo>
                    <a:pt x="2003" y="851"/>
                  </a:lnTo>
                  <a:lnTo>
                    <a:pt x="1987" y="853"/>
                  </a:lnTo>
                  <a:lnTo>
                    <a:pt x="1971" y="853"/>
                  </a:lnTo>
                  <a:lnTo>
                    <a:pt x="1954" y="851"/>
                  </a:lnTo>
                  <a:lnTo>
                    <a:pt x="1932" y="849"/>
                  </a:lnTo>
                  <a:lnTo>
                    <a:pt x="1920" y="847"/>
                  </a:lnTo>
                  <a:lnTo>
                    <a:pt x="1907" y="845"/>
                  </a:lnTo>
                  <a:lnTo>
                    <a:pt x="1892" y="843"/>
                  </a:lnTo>
                  <a:lnTo>
                    <a:pt x="1878" y="842"/>
                  </a:lnTo>
                  <a:lnTo>
                    <a:pt x="1862" y="841"/>
                  </a:lnTo>
                  <a:lnTo>
                    <a:pt x="1845" y="841"/>
                  </a:lnTo>
                  <a:lnTo>
                    <a:pt x="1826" y="841"/>
                  </a:lnTo>
                  <a:lnTo>
                    <a:pt x="1806" y="841"/>
                  </a:lnTo>
                  <a:lnTo>
                    <a:pt x="1786" y="843"/>
                  </a:lnTo>
                  <a:lnTo>
                    <a:pt x="1766" y="846"/>
                  </a:lnTo>
                  <a:lnTo>
                    <a:pt x="1745" y="849"/>
                  </a:lnTo>
                  <a:lnTo>
                    <a:pt x="1723" y="854"/>
                  </a:lnTo>
                  <a:lnTo>
                    <a:pt x="1701" y="859"/>
                  </a:lnTo>
                  <a:lnTo>
                    <a:pt x="1678" y="867"/>
                  </a:lnTo>
                  <a:lnTo>
                    <a:pt x="1656" y="875"/>
                  </a:lnTo>
                  <a:lnTo>
                    <a:pt x="1632" y="886"/>
                  </a:lnTo>
                  <a:lnTo>
                    <a:pt x="1614" y="885"/>
                  </a:lnTo>
                  <a:lnTo>
                    <a:pt x="1597" y="882"/>
                  </a:lnTo>
                  <a:lnTo>
                    <a:pt x="1577" y="881"/>
                  </a:lnTo>
                  <a:lnTo>
                    <a:pt x="1557" y="879"/>
                  </a:lnTo>
                  <a:lnTo>
                    <a:pt x="1536" y="878"/>
                  </a:lnTo>
                  <a:lnTo>
                    <a:pt x="1515" y="875"/>
                  </a:lnTo>
                  <a:lnTo>
                    <a:pt x="1492" y="874"/>
                  </a:lnTo>
                  <a:lnTo>
                    <a:pt x="1471" y="871"/>
                  </a:lnTo>
                  <a:lnTo>
                    <a:pt x="1448" y="869"/>
                  </a:lnTo>
                  <a:lnTo>
                    <a:pt x="1425" y="866"/>
                  </a:lnTo>
                  <a:lnTo>
                    <a:pt x="1404" y="862"/>
                  </a:lnTo>
                  <a:lnTo>
                    <a:pt x="1383" y="858"/>
                  </a:lnTo>
                  <a:lnTo>
                    <a:pt x="1361" y="854"/>
                  </a:lnTo>
                  <a:lnTo>
                    <a:pt x="1341" y="849"/>
                  </a:lnTo>
                  <a:lnTo>
                    <a:pt x="1323" y="842"/>
                  </a:lnTo>
                  <a:lnTo>
                    <a:pt x="1306" y="835"/>
                  </a:lnTo>
                  <a:lnTo>
                    <a:pt x="1288" y="827"/>
                  </a:lnTo>
                  <a:lnTo>
                    <a:pt x="1271" y="821"/>
                  </a:lnTo>
                  <a:lnTo>
                    <a:pt x="1252" y="814"/>
                  </a:lnTo>
                  <a:lnTo>
                    <a:pt x="1235" y="807"/>
                  </a:lnTo>
                  <a:lnTo>
                    <a:pt x="1216" y="801"/>
                  </a:lnTo>
                  <a:lnTo>
                    <a:pt x="1196" y="794"/>
                  </a:lnTo>
                  <a:lnTo>
                    <a:pt x="1178" y="789"/>
                  </a:lnTo>
                  <a:lnTo>
                    <a:pt x="1158" y="783"/>
                  </a:lnTo>
                  <a:lnTo>
                    <a:pt x="1138" y="778"/>
                  </a:lnTo>
                  <a:lnTo>
                    <a:pt x="1118" y="774"/>
                  </a:lnTo>
                  <a:lnTo>
                    <a:pt x="1098" y="770"/>
                  </a:lnTo>
                  <a:lnTo>
                    <a:pt x="1078" y="767"/>
                  </a:lnTo>
                  <a:lnTo>
                    <a:pt x="1059" y="765"/>
                  </a:lnTo>
                  <a:lnTo>
                    <a:pt x="1039" y="762"/>
                  </a:lnTo>
                  <a:lnTo>
                    <a:pt x="1019" y="761"/>
                  </a:lnTo>
                  <a:lnTo>
                    <a:pt x="1001" y="761"/>
                  </a:lnTo>
                  <a:lnTo>
                    <a:pt x="978" y="761"/>
                  </a:lnTo>
                  <a:lnTo>
                    <a:pt x="952" y="761"/>
                  </a:lnTo>
                  <a:lnTo>
                    <a:pt x="920" y="761"/>
                  </a:lnTo>
                  <a:lnTo>
                    <a:pt x="884" y="759"/>
                  </a:lnTo>
                  <a:lnTo>
                    <a:pt x="845" y="758"/>
                  </a:lnTo>
                  <a:lnTo>
                    <a:pt x="805" y="755"/>
                  </a:lnTo>
                  <a:lnTo>
                    <a:pt x="765" y="751"/>
                  </a:lnTo>
                  <a:lnTo>
                    <a:pt x="724" y="746"/>
                  </a:lnTo>
                  <a:lnTo>
                    <a:pt x="683" y="738"/>
                  </a:lnTo>
                  <a:lnTo>
                    <a:pt x="644" y="730"/>
                  </a:lnTo>
                  <a:lnTo>
                    <a:pt x="608" y="718"/>
                  </a:lnTo>
                  <a:lnTo>
                    <a:pt x="575" y="705"/>
                  </a:lnTo>
                  <a:lnTo>
                    <a:pt x="547" y="689"/>
                  </a:lnTo>
                  <a:lnTo>
                    <a:pt x="523" y="670"/>
                  </a:lnTo>
                  <a:lnTo>
                    <a:pt x="506" y="649"/>
                  </a:lnTo>
                  <a:lnTo>
                    <a:pt x="495" y="623"/>
                  </a:lnTo>
                  <a:lnTo>
                    <a:pt x="487" y="601"/>
                  </a:lnTo>
                  <a:lnTo>
                    <a:pt x="479" y="582"/>
                  </a:lnTo>
                  <a:lnTo>
                    <a:pt x="468" y="566"/>
                  </a:lnTo>
                  <a:lnTo>
                    <a:pt x="458" y="553"/>
                  </a:lnTo>
                  <a:lnTo>
                    <a:pt x="446" y="542"/>
                  </a:lnTo>
                  <a:lnTo>
                    <a:pt x="433" y="533"/>
                  </a:lnTo>
                  <a:lnTo>
                    <a:pt x="421" y="525"/>
                  </a:lnTo>
                  <a:lnTo>
                    <a:pt x="409" y="517"/>
                  </a:lnTo>
                  <a:lnTo>
                    <a:pt x="397" y="508"/>
                  </a:lnTo>
                  <a:lnTo>
                    <a:pt x="383" y="494"/>
                  </a:lnTo>
                  <a:lnTo>
                    <a:pt x="370" y="481"/>
                  </a:lnTo>
                  <a:lnTo>
                    <a:pt x="357" y="466"/>
                  </a:lnTo>
                  <a:lnTo>
                    <a:pt x="343" y="456"/>
                  </a:lnTo>
                  <a:lnTo>
                    <a:pt x="331" y="448"/>
                  </a:lnTo>
                  <a:lnTo>
                    <a:pt x="319" y="445"/>
                  </a:lnTo>
                  <a:lnTo>
                    <a:pt x="310" y="449"/>
                  </a:lnTo>
                  <a:lnTo>
                    <a:pt x="303" y="458"/>
                  </a:lnTo>
                  <a:lnTo>
                    <a:pt x="302" y="470"/>
                  </a:lnTo>
                  <a:lnTo>
                    <a:pt x="302" y="484"/>
                  </a:lnTo>
                  <a:lnTo>
                    <a:pt x="305" y="498"/>
                  </a:lnTo>
                  <a:lnTo>
                    <a:pt x="310" y="513"/>
                  </a:lnTo>
                  <a:lnTo>
                    <a:pt x="317" y="528"/>
                  </a:lnTo>
                  <a:lnTo>
                    <a:pt x="323" y="541"/>
                  </a:lnTo>
                  <a:lnTo>
                    <a:pt x="331" y="553"/>
                  </a:lnTo>
                  <a:lnTo>
                    <a:pt x="346" y="571"/>
                  </a:lnTo>
                  <a:lnTo>
                    <a:pt x="355" y="589"/>
                  </a:lnTo>
                  <a:lnTo>
                    <a:pt x="359" y="606"/>
                  </a:lnTo>
                  <a:lnTo>
                    <a:pt x="357" y="629"/>
                  </a:lnTo>
                  <a:lnTo>
                    <a:pt x="353" y="639"/>
                  </a:lnTo>
                  <a:lnTo>
                    <a:pt x="349" y="647"/>
                  </a:lnTo>
                  <a:lnTo>
                    <a:pt x="343" y="651"/>
                  </a:lnTo>
                  <a:lnTo>
                    <a:pt x="338" y="654"/>
                  </a:lnTo>
                  <a:lnTo>
                    <a:pt x="331" y="655"/>
                  </a:lnTo>
                  <a:lnTo>
                    <a:pt x="325" y="657"/>
                  </a:lnTo>
                  <a:lnTo>
                    <a:pt x="318" y="657"/>
                  </a:lnTo>
                  <a:lnTo>
                    <a:pt x="311" y="658"/>
                  </a:lnTo>
                  <a:lnTo>
                    <a:pt x="306" y="647"/>
                  </a:lnTo>
                  <a:lnTo>
                    <a:pt x="299" y="637"/>
                  </a:lnTo>
                  <a:lnTo>
                    <a:pt x="294" y="627"/>
                  </a:lnTo>
                  <a:lnTo>
                    <a:pt x="287" y="618"/>
                  </a:lnTo>
                  <a:lnTo>
                    <a:pt x="281" y="611"/>
                  </a:lnTo>
                  <a:lnTo>
                    <a:pt x="275" y="605"/>
                  </a:lnTo>
                  <a:lnTo>
                    <a:pt x="267" y="599"/>
                  </a:lnTo>
                  <a:lnTo>
                    <a:pt x="261" y="595"/>
                  </a:lnTo>
                  <a:lnTo>
                    <a:pt x="252" y="594"/>
                  </a:lnTo>
                  <a:lnTo>
                    <a:pt x="244" y="594"/>
                  </a:lnTo>
                  <a:lnTo>
                    <a:pt x="237" y="598"/>
                  </a:lnTo>
                  <a:lnTo>
                    <a:pt x="230" y="603"/>
                  </a:lnTo>
                  <a:lnTo>
                    <a:pt x="225" y="611"/>
                  </a:lnTo>
                  <a:lnTo>
                    <a:pt x="222" y="621"/>
                  </a:lnTo>
                  <a:lnTo>
                    <a:pt x="221" y="631"/>
                  </a:lnTo>
                  <a:lnTo>
                    <a:pt x="222" y="642"/>
                  </a:lnTo>
                  <a:lnTo>
                    <a:pt x="212" y="634"/>
                  </a:lnTo>
                  <a:lnTo>
                    <a:pt x="197" y="625"/>
                  </a:lnTo>
                  <a:lnTo>
                    <a:pt x="181" y="615"/>
                  </a:lnTo>
                  <a:lnTo>
                    <a:pt x="162" y="610"/>
                  </a:lnTo>
                  <a:lnTo>
                    <a:pt x="144" y="607"/>
                  </a:lnTo>
                  <a:lnTo>
                    <a:pt x="126" y="609"/>
                  </a:lnTo>
                  <a:lnTo>
                    <a:pt x="110" y="617"/>
                  </a:lnTo>
                  <a:lnTo>
                    <a:pt x="96" y="633"/>
                  </a:lnTo>
                  <a:lnTo>
                    <a:pt x="80" y="625"/>
                  </a:lnTo>
                  <a:lnTo>
                    <a:pt x="64" y="622"/>
                  </a:lnTo>
                  <a:lnTo>
                    <a:pt x="49" y="625"/>
                  </a:lnTo>
                  <a:lnTo>
                    <a:pt x="37" y="631"/>
                  </a:lnTo>
                  <a:lnTo>
                    <a:pt x="29" y="642"/>
                  </a:lnTo>
                  <a:lnTo>
                    <a:pt x="24" y="654"/>
                  </a:lnTo>
                  <a:lnTo>
                    <a:pt x="25" y="667"/>
                  </a:lnTo>
                  <a:lnTo>
                    <a:pt x="32" y="682"/>
                  </a:lnTo>
                  <a:lnTo>
                    <a:pt x="21" y="683"/>
                  </a:lnTo>
                  <a:lnTo>
                    <a:pt x="12" y="689"/>
                  </a:lnTo>
                  <a:lnTo>
                    <a:pt x="5" y="697"/>
                  </a:lnTo>
                  <a:lnTo>
                    <a:pt x="1" y="706"/>
                  </a:lnTo>
                  <a:lnTo>
                    <a:pt x="0" y="717"/>
                  </a:lnTo>
                  <a:lnTo>
                    <a:pt x="3" y="726"/>
                  </a:lnTo>
                  <a:lnTo>
                    <a:pt x="9" y="734"/>
                  </a:lnTo>
                  <a:lnTo>
                    <a:pt x="21" y="739"/>
                  </a:lnTo>
                  <a:lnTo>
                    <a:pt x="36" y="745"/>
                  </a:lnTo>
                  <a:lnTo>
                    <a:pt x="53" y="753"/>
                  </a:lnTo>
                  <a:lnTo>
                    <a:pt x="71" y="763"/>
                  </a:lnTo>
                  <a:lnTo>
                    <a:pt x="88" y="774"/>
                  </a:lnTo>
                  <a:lnTo>
                    <a:pt x="106" y="785"/>
                  </a:lnTo>
                  <a:lnTo>
                    <a:pt x="124" y="795"/>
                  </a:lnTo>
                  <a:lnTo>
                    <a:pt x="141" y="803"/>
                  </a:lnTo>
                  <a:lnTo>
                    <a:pt x="157" y="809"/>
                  </a:lnTo>
                  <a:lnTo>
                    <a:pt x="176" y="810"/>
                  </a:lnTo>
                  <a:lnTo>
                    <a:pt x="198" y="809"/>
                  </a:lnTo>
                  <a:lnTo>
                    <a:pt x="225" y="806"/>
                  </a:lnTo>
                  <a:lnTo>
                    <a:pt x="253" y="803"/>
                  </a:lnTo>
                  <a:lnTo>
                    <a:pt x="281" y="802"/>
                  </a:lnTo>
                  <a:lnTo>
                    <a:pt x="307" y="803"/>
                  </a:lnTo>
                  <a:lnTo>
                    <a:pt x="331" y="809"/>
                  </a:lnTo>
                  <a:lnTo>
                    <a:pt x="350" y="819"/>
                  </a:lnTo>
                  <a:lnTo>
                    <a:pt x="369" y="831"/>
                  </a:lnTo>
                  <a:lnTo>
                    <a:pt x="390" y="842"/>
                  </a:lnTo>
                  <a:lnTo>
                    <a:pt x="414" y="849"/>
                  </a:lnTo>
                  <a:lnTo>
                    <a:pt x="439" y="854"/>
                  </a:lnTo>
                  <a:lnTo>
                    <a:pt x="466" y="858"/>
                  </a:lnTo>
                  <a:lnTo>
                    <a:pt x="494" y="861"/>
                  </a:lnTo>
                  <a:lnTo>
                    <a:pt x="523" y="862"/>
                  </a:lnTo>
                  <a:lnTo>
                    <a:pt x="551" y="862"/>
                  </a:lnTo>
                  <a:lnTo>
                    <a:pt x="566" y="862"/>
                  </a:lnTo>
                  <a:lnTo>
                    <a:pt x="580" y="863"/>
                  </a:lnTo>
                  <a:lnTo>
                    <a:pt x="595" y="865"/>
                  </a:lnTo>
                  <a:lnTo>
                    <a:pt x="611" y="866"/>
                  </a:lnTo>
                  <a:lnTo>
                    <a:pt x="627" y="869"/>
                  </a:lnTo>
                  <a:lnTo>
                    <a:pt x="643" y="871"/>
                  </a:lnTo>
                  <a:lnTo>
                    <a:pt x="659" y="874"/>
                  </a:lnTo>
                  <a:lnTo>
                    <a:pt x="676" y="878"/>
                  </a:lnTo>
                  <a:lnTo>
                    <a:pt x="692" y="882"/>
                  </a:lnTo>
                  <a:lnTo>
                    <a:pt x="709" y="887"/>
                  </a:lnTo>
                  <a:lnTo>
                    <a:pt x="725" y="891"/>
                  </a:lnTo>
                  <a:lnTo>
                    <a:pt x="741" y="897"/>
                  </a:lnTo>
                  <a:lnTo>
                    <a:pt x="756" y="902"/>
                  </a:lnTo>
                  <a:lnTo>
                    <a:pt x="772" y="909"/>
                  </a:lnTo>
                  <a:lnTo>
                    <a:pt x="787" y="914"/>
                  </a:lnTo>
                  <a:lnTo>
                    <a:pt x="800" y="921"/>
                  </a:lnTo>
                  <a:lnTo>
                    <a:pt x="821" y="931"/>
                  </a:lnTo>
                  <a:lnTo>
                    <a:pt x="845" y="942"/>
                  </a:lnTo>
                  <a:lnTo>
                    <a:pt x="873" y="954"/>
                  </a:lnTo>
                  <a:lnTo>
                    <a:pt x="901" y="966"/>
                  </a:lnTo>
                  <a:lnTo>
                    <a:pt x="932" y="979"/>
                  </a:lnTo>
                  <a:lnTo>
                    <a:pt x="965" y="991"/>
                  </a:lnTo>
                  <a:lnTo>
                    <a:pt x="998" y="1003"/>
                  </a:lnTo>
                  <a:lnTo>
                    <a:pt x="1031" y="1015"/>
                  </a:lnTo>
                  <a:lnTo>
                    <a:pt x="1066" y="1026"/>
                  </a:lnTo>
                  <a:lnTo>
                    <a:pt x="1102" y="1036"/>
                  </a:lnTo>
                  <a:lnTo>
                    <a:pt x="1137" y="1046"/>
                  </a:lnTo>
                  <a:lnTo>
                    <a:pt x="1170" y="1052"/>
                  </a:lnTo>
                  <a:lnTo>
                    <a:pt x="1203" y="1059"/>
                  </a:lnTo>
                  <a:lnTo>
                    <a:pt x="1235" y="1063"/>
                  </a:lnTo>
                  <a:lnTo>
                    <a:pt x="1266" y="1066"/>
                  </a:lnTo>
                  <a:lnTo>
                    <a:pt x="1295" y="1066"/>
                  </a:lnTo>
                  <a:lnTo>
                    <a:pt x="1323" y="1066"/>
                  </a:lnTo>
                  <a:lnTo>
                    <a:pt x="1349" y="1067"/>
                  </a:lnTo>
                  <a:lnTo>
                    <a:pt x="1376" y="1070"/>
                  </a:lnTo>
                  <a:lnTo>
                    <a:pt x="1403" y="1072"/>
                  </a:lnTo>
                  <a:lnTo>
                    <a:pt x="1429" y="1076"/>
                  </a:lnTo>
                  <a:lnTo>
                    <a:pt x="1456" y="1082"/>
                  </a:lnTo>
                  <a:lnTo>
                    <a:pt x="1481" y="1087"/>
                  </a:lnTo>
                  <a:lnTo>
                    <a:pt x="1507" y="1091"/>
                  </a:lnTo>
                  <a:lnTo>
                    <a:pt x="1532" y="1096"/>
                  </a:lnTo>
                  <a:lnTo>
                    <a:pt x="1556" y="1102"/>
                  </a:lnTo>
                  <a:lnTo>
                    <a:pt x="1580" y="1106"/>
                  </a:lnTo>
                  <a:lnTo>
                    <a:pt x="1604" y="1110"/>
                  </a:lnTo>
                  <a:lnTo>
                    <a:pt x="1628" y="1114"/>
                  </a:lnTo>
                  <a:lnTo>
                    <a:pt x="1652" y="1115"/>
                  </a:lnTo>
                  <a:lnTo>
                    <a:pt x="1674" y="1116"/>
                  </a:lnTo>
                  <a:lnTo>
                    <a:pt x="1697" y="1116"/>
                  </a:lnTo>
                  <a:lnTo>
                    <a:pt x="1719" y="1116"/>
                  </a:lnTo>
                  <a:lnTo>
                    <a:pt x="1741" y="1118"/>
                  </a:lnTo>
                  <a:lnTo>
                    <a:pt x="1762" y="1120"/>
                  </a:lnTo>
                  <a:lnTo>
                    <a:pt x="1783" y="1124"/>
                  </a:lnTo>
                  <a:lnTo>
                    <a:pt x="1803" y="1130"/>
                  </a:lnTo>
                  <a:lnTo>
                    <a:pt x="1821" y="1136"/>
                  </a:lnTo>
                  <a:lnTo>
                    <a:pt x="1838" y="1146"/>
                  </a:lnTo>
                  <a:lnTo>
                    <a:pt x="1854" y="1156"/>
                  </a:lnTo>
                  <a:lnTo>
                    <a:pt x="1869" y="1168"/>
                  </a:lnTo>
                  <a:lnTo>
                    <a:pt x="1880" y="1183"/>
                  </a:lnTo>
                  <a:lnTo>
                    <a:pt x="1890" y="1199"/>
                  </a:lnTo>
                  <a:lnTo>
                    <a:pt x="1898" y="1218"/>
                  </a:lnTo>
                  <a:lnTo>
                    <a:pt x="1902" y="1239"/>
                  </a:lnTo>
                  <a:lnTo>
                    <a:pt x="1904" y="1263"/>
                  </a:lnTo>
                  <a:lnTo>
                    <a:pt x="1904" y="1288"/>
                  </a:lnTo>
                  <a:lnTo>
                    <a:pt x="1900" y="1316"/>
                  </a:lnTo>
                  <a:lnTo>
                    <a:pt x="1877" y="1335"/>
                  </a:lnTo>
                  <a:lnTo>
                    <a:pt x="1873" y="1360"/>
                  </a:lnTo>
                  <a:lnTo>
                    <a:pt x="1867" y="1391"/>
                  </a:lnTo>
                  <a:lnTo>
                    <a:pt x="1863" y="1425"/>
                  </a:lnTo>
                  <a:lnTo>
                    <a:pt x="1857" y="1463"/>
                  </a:lnTo>
                  <a:lnTo>
                    <a:pt x="1850" y="1500"/>
                  </a:lnTo>
                  <a:lnTo>
                    <a:pt x="1841" y="1537"/>
                  </a:lnTo>
                  <a:lnTo>
                    <a:pt x="1829" y="1573"/>
                  </a:lnTo>
                  <a:lnTo>
                    <a:pt x="1813" y="1607"/>
                  </a:lnTo>
                  <a:lnTo>
                    <a:pt x="1802" y="1583"/>
                  </a:lnTo>
                  <a:lnTo>
                    <a:pt x="1786" y="1559"/>
                  </a:lnTo>
                  <a:lnTo>
                    <a:pt x="1769" y="1536"/>
                  </a:lnTo>
                  <a:lnTo>
                    <a:pt x="1747" y="1515"/>
                  </a:lnTo>
                  <a:lnTo>
                    <a:pt x="1723" y="1495"/>
                  </a:lnTo>
                  <a:lnTo>
                    <a:pt x="1697" y="1475"/>
                  </a:lnTo>
                  <a:lnTo>
                    <a:pt x="1669" y="1457"/>
                  </a:lnTo>
                  <a:lnTo>
                    <a:pt x="1637" y="1443"/>
                  </a:lnTo>
                  <a:lnTo>
                    <a:pt x="1605" y="1429"/>
                  </a:lnTo>
                  <a:lnTo>
                    <a:pt x="1570" y="1419"/>
                  </a:lnTo>
                  <a:lnTo>
                    <a:pt x="1534" y="1411"/>
                  </a:lnTo>
                  <a:lnTo>
                    <a:pt x="1497" y="1405"/>
                  </a:lnTo>
                  <a:lnTo>
                    <a:pt x="1459" y="1403"/>
                  </a:lnTo>
                  <a:lnTo>
                    <a:pt x="1420" y="1404"/>
                  </a:lnTo>
                  <a:lnTo>
                    <a:pt x="1381" y="1409"/>
                  </a:lnTo>
                  <a:lnTo>
                    <a:pt x="1341" y="1417"/>
                  </a:lnTo>
                  <a:lnTo>
                    <a:pt x="1332" y="1424"/>
                  </a:lnTo>
                  <a:lnTo>
                    <a:pt x="1336" y="1432"/>
                  </a:lnTo>
                  <a:lnTo>
                    <a:pt x="1347" y="1440"/>
                  </a:lnTo>
                  <a:lnTo>
                    <a:pt x="1360" y="1448"/>
                  </a:lnTo>
                  <a:lnTo>
                    <a:pt x="1375" y="1457"/>
                  </a:lnTo>
                  <a:lnTo>
                    <a:pt x="1384" y="1467"/>
                  </a:lnTo>
                  <a:lnTo>
                    <a:pt x="1385" y="1476"/>
                  </a:lnTo>
                  <a:lnTo>
                    <a:pt x="1373" y="1487"/>
                  </a:lnTo>
                  <a:lnTo>
                    <a:pt x="1353" y="1497"/>
                  </a:lnTo>
                  <a:lnTo>
                    <a:pt x="1335" y="1508"/>
                  </a:lnTo>
                  <a:lnTo>
                    <a:pt x="1316" y="1520"/>
                  </a:lnTo>
                  <a:lnTo>
                    <a:pt x="1302" y="1532"/>
                  </a:lnTo>
                  <a:lnTo>
                    <a:pt x="1290" y="1547"/>
                  </a:lnTo>
                  <a:lnTo>
                    <a:pt x="1284" y="1561"/>
                  </a:lnTo>
                  <a:lnTo>
                    <a:pt x="1286" y="1579"/>
                  </a:lnTo>
                  <a:lnTo>
                    <a:pt x="1295" y="1599"/>
                  </a:lnTo>
                  <a:lnTo>
                    <a:pt x="1310" y="1619"/>
                  </a:lnTo>
                  <a:lnTo>
                    <a:pt x="1323" y="1636"/>
                  </a:lnTo>
                  <a:lnTo>
                    <a:pt x="1335" y="1652"/>
                  </a:lnTo>
                  <a:lnTo>
                    <a:pt x="1344" y="1667"/>
                  </a:lnTo>
                  <a:lnTo>
                    <a:pt x="1349" y="1681"/>
                  </a:lnTo>
                  <a:lnTo>
                    <a:pt x="1351" y="1697"/>
                  </a:lnTo>
                  <a:lnTo>
                    <a:pt x="1345" y="1713"/>
                  </a:lnTo>
                  <a:lnTo>
                    <a:pt x="1332" y="1732"/>
                  </a:lnTo>
                  <a:lnTo>
                    <a:pt x="1316" y="1752"/>
                  </a:lnTo>
                  <a:lnTo>
                    <a:pt x="1306" y="1773"/>
                  </a:lnTo>
                  <a:lnTo>
                    <a:pt x="1299" y="1796"/>
                  </a:lnTo>
                  <a:lnTo>
                    <a:pt x="1299" y="1817"/>
                  </a:lnTo>
                  <a:lnTo>
                    <a:pt x="1307" y="1838"/>
                  </a:lnTo>
                  <a:lnTo>
                    <a:pt x="1323" y="1858"/>
                  </a:lnTo>
                  <a:lnTo>
                    <a:pt x="1349" y="1876"/>
                  </a:lnTo>
                  <a:lnTo>
                    <a:pt x="1387" y="1889"/>
                  </a:lnTo>
                  <a:lnTo>
                    <a:pt x="1365" y="1909"/>
                  </a:lnTo>
                  <a:lnTo>
                    <a:pt x="1352" y="1930"/>
                  </a:lnTo>
                  <a:lnTo>
                    <a:pt x="1344" y="1950"/>
                  </a:lnTo>
                  <a:lnTo>
                    <a:pt x="1343" y="1969"/>
                  </a:lnTo>
                  <a:lnTo>
                    <a:pt x="1348" y="1986"/>
                  </a:lnTo>
                  <a:lnTo>
                    <a:pt x="1360" y="1998"/>
                  </a:lnTo>
                  <a:lnTo>
                    <a:pt x="1379" y="2005"/>
                  </a:lnTo>
                  <a:lnTo>
                    <a:pt x="1405" y="2005"/>
                  </a:lnTo>
                  <a:lnTo>
                    <a:pt x="1391" y="2052"/>
                  </a:lnTo>
                  <a:lnTo>
                    <a:pt x="1381" y="2098"/>
                  </a:lnTo>
                  <a:lnTo>
                    <a:pt x="1379" y="2143"/>
                  </a:lnTo>
                  <a:lnTo>
                    <a:pt x="1380" y="2187"/>
                  </a:lnTo>
                  <a:lnTo>
                    <a:pt x="1387" y="2231"/>
                  </a:lnTo>
                  <a:lnTo>
                    <a:pt x="1395" y="2274"/>
                  </a:lnTo>
                  <a:lnTo>
                    <a:pt x="1404" y="2317"/>
                  </a:lnTo>
                  <a:lnTo>
                    <a:pt x="1415" y="2357"/>
                  </a:lnTo>
                  <a:lnTo>
                    <a:pt x="1425" y="2399"/>
                  </a:lnTo>
                  <a:lnTo>
                    <a:pt x="1437" y="2445"/>
                  </a:lnTo>
                  <a:lnTo>
                    <a:pt x="1448" y="2492"/>
                  </a:lnTo>
                  <a:lnTo>
                    <a:pt x="1459" y="2540"/>
                  </a:lnTo>
                  <a:lnTo>
                    <a:pt x="1467" y="2586"/>
                  </a:lnTo>
                  <a:lnTo>
                    <a:pt x="1473" y="2627"/>
                  </a:lnTo>
                  <a:lnTo>
                    <a:pt x="1476" y="2664"/>
                  </a:lnTo>
                  <a:lnTo>
                    <a:pt x="1475" y="2692"/>
                  </a:lnTo>
                  <a:lnTo>
                    <a:pt x="1457" y="2708"/>
                  </a:lnTo>
                  <a:lnTo>
                    <a:pt x="1441" y="2726"/>
                  </a:lnTo>
                  <a:lnTo>
                    <a:pt x="1427" y="2744"/>
                  </a:lnTo>
                  <a:lnTo>
                    <a:pt x="1412" y="2766"/>
                  </a:lnTo>
                  <a:lnTo>
                    <a:pt x="1399" y="2787"/>
                  </a:lnTo>
                  <a:lnTo>
                    <a:pt x="1385" y="2811"/>
                  </a:lnTo>
                  <a:lnTo>
                    <a:pt x="1372" y="2835"/>
                  </a:lnTo>
                  <a:lnTo>
                    <a:pt x="1360" y="2859"/>
                  </a:lnTo>
                  <a:lnTo>
                    <a:pt x="1347" y="2884"/>
                  </a:lnTo>
                  <a:lnTo>
                    <a:pt x="1335" y="2911"/>
                  </a:lnTo>
                  <a:lnTo>
                    <a:pt x="1323" y="2937"/>
                  </a:lnTo>
                  <a:lnTo>
                    <a:pt x="1310" y="2964"/>
                  </a:lnTo>
                  <a:lnTo>
                    <a:pt x="1298" y="2991"/>
                  </a:lnTo>
                  <a:lnTo>
                    <a:pt x="1284" y="3016"/>
                  </a:lnTo>
                  <a:lnTo>
                    <a:pt x="1271" y="3043"/>
                  </a:lnTo>
                  <a:lnTo>
                    <a:pt x="1258" y="3068"/>
                  </a:lnTo>
                  <a:lnTo>
                    <a:pt x="1243" y="3093"/>
                  </a:lnTo>
                  <a:lnTo>
                    <a:pt x="1227" y="3120"/>
                  </a:lnTo>
                  <a:lnTo>
                    <a:pt x="1210" y="3148"/>
                  </a:lnTo>
                  <a:lnTo>
                    <a:pt x="1191" y="3176"/>
                  </a:lnTo>
                  <a:lnTo>
                    <a:pt x="1172" y="3204"/>
                  </a:lnTo>
                  <a:lnTo>
                    <a:pt x="1153" y="3233"/>
                  </a:lnTo>
                  <a:lnTo>
                    <a:pt x="1133" y="3261"/>
                  </a:lnTo>
                  <a:lnTo>
                    <a:pt x="1114" y="3290"/>
                  </a:lnTo>
                  <a:lnTo>
                    <a:pt x="1095" y="3320"/>
                  </a:lnTo>
                  <a:lnTo>
                    <a:pt x="1077" y="3349"/>
                  </a:lnTo>
                  <a:lnTo>
                    <a:pt x="1061" y="3377"/>
                  </a:lnTo>
                  <a:lnTo>
                    <a:pt x="1045" y="3405"/>
                  </a:lnTo>
                  <a:lnTo>
                    <a:pt x="1031" y="3432"/>
                  </a:lnTo>
                  <a:lnTo>
                    <a:pt x="1019" y="3458"/>
                  </a:lnTo>
                  <a:lnTo>
                    <a:pt x="1010" y="3484"/>
                  </a:lnTo>
                  <a:lnTo>
                    <a:pt x="1003" y="3508"/>
                  </a:lnTo>
                  <a:lnTo>
                    <a:pt x="979" y="3534"/>
                  </a:lnTo>
                  <a:lnTo>
                    <a:pt x="956" y="3554"/>
                  </a:lnTo>
                  <a:lnTo>
                    <a:pt x="929" y="3570"/>
                  </a:lnTo>
                  <a:lnTo>
                    <a:pt x="904" y="3583"/>
                  </a:lnTo>
                  <a:lnTo>
                    <a:pt x="877" y="3595"/>
                  </a:lnTo>
                  <a:lnTo>
                    <a:pt x="853" y="3606"/>
                  </a:lnTo>
                  <a:lnTo>
                    <a:pt x="830" y="3618"/>
                  </a:lnTo>
                  <a:lnTo>
                    <a:pt x="809" y="3631"/>
                  </a:lnTo>
                  <a:lnTo>
                    <a:pt x="793" y="3649"/>
                  </a:lnTo>
                  <a:lnTo>
                    <a:pt x="781" y="3670"/>
                  </a:lnTo>
                  <a:lnTo>
                    <a:pt x="771" y="3693"/>
                  </a:lnTo>
                  <a:lnTo>
                    <a:pt x="764" y="3718"/>
                  </a:lnTo>
                  <a:lnTo>
                    <a:pt x="756" y="3745"/>
                  </a:lnTo>
                  <a:lnTo>
                    <a:pt x="745" y="3770"/>
                  </a:lnTo>
                  <a:lnTo>
                    <a:pt x="733" y="3797"/>
                  </a:lnTo>
                  <a:lnTo>
                    <a:pt x="717" y="3822"/>
                  </a:lnTo>
                  <a:lnTo>
                    <a:pt x="696" y="3847"/>
                  </a:lnTo>
                  <a:lnTo>
                    <a:pt x="673" y="3877"/>
                  </a:lnTo>
                  <a:lnTo>
                    <a:pt x="648" y="3907"/>
                  </a:lnTo>
                  <a:lnTo>
                    <a:pt x="623" y="3938"/>
                  </a:lnTo>
                  <a:lnTo>
                    <a:pt x="599" y="3967"/>
                  </a:lnTo>
                  <a:lnTo>
                    <a:pt x="578" y="3996"/>
                  </a:lnTo>
                  <a:lnTo>
                    <a:pt x="559" y="4022"/>
                  </a:lnTo>
                  <a:lnTo>
                    <a:pt x="546" y="4043"/>
                  </a:lnTo>
                  <a:lnTo>
                    <a:pt x="536" y="4063"/>
                  </a:lnTo>
                  <a:lnTo>
                    <a:pt x="528" y="4084"/>
                  </a:lnTo>
                  <a:lnTo>
                    <a:pt x="523" y="4107"/>
                  </a:lnTo>
                  <a:lnTo>
                    <a:pt x="520" y="4128"/>
                  </a:lnTo>
                  <a:lnTo>
                    <a:pt x="519" y="4151"/>
                  </a:lnTo>
                  <a:lnTo>
                    <a:pt x="523" y="4172"/>
                  </a:lnTo>
                  <a:lnTo>
                    <a:pt x="530" y="4191"/>
                  </a:lnTo>
                  <a:lnTo>
                    <a:pt x="542" y="4210"/>
                  </a:lnTo>
                  <a:lnTo>
                    <a:pt x="530" y="4227"/>
                  </a:lnTo>
                  <a:lnTo>
                    <a:pt x="516" y="4244"/>
                  </a:lnTo>
                  <a:lnTo>
                    <a:pt x="502" y="4262"/>
                  </a:lnTo>
                  <a:lnTo>
                    <a:pt x="488" y="4279"/>
                  </a:lnTo>
                  <a:lnTo>
                    <a:pt x="478" y="4295"/>
                  </a:lnTo>
                  <a:lnTo>
                    <a:pt x="471" y="4310"/>
                  </a:lnTo>
                  <a:lnTo>
                    <a:pt x="471" y="4322"/>
                  </a:lnTo>
                  <a:lnTo>
                    <a:pt x="476" y="4331"/>
                  </a:lnTo>
                  <a:lnTo>
                    <a:pt x="488" y="4335"/>
                  </a:lnTo>
                  <a:lnTo>
                    <a:pt x="500" y="4335"/>
                  </a:lnTo>
                  <a:lnTo>
                    <a:pt x="514" y="4331"/>
                  </a:lnTo>
                  <a:lnTo>
                    <a:pt x="526" y="4324"/>
                  </a:lnTo>
                  <a:lnTo>
                    <a:pt x="538" y="4316"/>
                  </a:lnTo>
                  <a:lnTo>
                    <a:pt x="547" y="4310"/>
                  </a:lnTo>
                  <a:lnTo>
                    <a:pt x="552" y="4304"/>
                  </a:lnTo>
                  <a:lnTo>
                    <a:pt x="555" y="4303"/>
                  </a:lnTo>
                  <a:lnTo>
                    <a:pt x="598" y="4219"/>
                  </a:lnTo>
                  <a:lnTo>
                    <a:pt x="612" y="4222"/>
                  </a:lnTo>
                  <a:lnTo>
                    <a:pt x="627" y="4223"/>
                  </a:lnTo>
                  <a:lnTo>
                    <a:pt x="641" y="4224"/>
                  </a:lnTo>
                  <a:lnTo>
                    <a:pt x="656" y="4224"/>
                  </a:lnTo>
                  <a:lnTo>
                    <a:pt x="671" y="4224"/>
                  </a:lnTo>
                  <a:lnTo>
                    <a:pt x="685" y="4222"/>
                  </a:lnTo>
                  <a:lnTo>
                    <a:pt x="700" y="4220"/>
                  </a:lnTo>
                  <a:lnTo>
                    <a:pt x="715" y="4216"/>
                  </a:lnTo>
                  <a:lnTo>
                    <a:pt x="728" y="4214"/>
                  </a:lnTo>
                  <a:lnTo>
                    <a:pt x="743" y="4208"/>
                  </a:lnTo>
                  <a:lnTo>
                    <a:pt x="755" y="4203"/>
                  </a:lnTo>
                  <a:lnTo>
                    <a:pt x="768" y="4196"/>
                  </a:lnTo>
                  <a:lnTo>
                    <a:pt x="780" y="4188"/>
                  </a:lnTo>
                  <a:lnTo>
                    <a:pt x="792" y="4179"/>
                  </a:lnTo>
                  <a:lnTo>
                    <a:pt x="804" y="4170"/>
                  </a:lnTo>
                  <a:lnTo>
                    <a:pt x="814" y="4159"/>
                  </a:lnTo>
                  <a:lnTo>
                    <a:pt x="836" y="4135"/>
                  </a:lnTo>
                  <a:lnTo>
                    <a:pt x="858" y="4107"/>
                  </a:lnTo>
                  <a:lnTo>
                    <a:pt x="882" y="4078"/>
                  </a:lnTo>
                  <a:lnTo>
                    <a:pt x="905" y="4048"/>
                  </a:lnTo>
                  <a:lnTo>
                    <a:pt x="925" y="4019"/>
                  </a:lnTo>
                  <a:lnTo>
                    <a:pt x="942" y="3992"/>
                  </a:lnTo>
                  <a:lnTo>
                    <a:pt x="957" y="3970"/>
                  </a:lnTo>
                  <a:lnTo>
                    <a:pt x="966" y="3951"/>
                  </a:lnTo>
                  <a:lnTo>
                    <a:pt x="976" y="3935"/>
                  </a:lnTo>
                  <a:lnTo>
                    <a:pt x="987" y="3917"/>
                  </a:lnTo>
                  <a:lnTo>
                    <a:pt x="1002" y="3898"/>
                  </a:lnTo>
                  <a:lnTo>
                    <a:pt x="1018" y="3878"/>
                  </a:lnTo>
                  <a:lnTo>
                    <a:pt x="1034" y="3858"/>
                  </a:lnTo>
                  <a:lnTo>
                    <a:pt x="1047" y="3838"/>
                  </a:lnTo>
                  <a:lnTo>
                    <a:pt x="1057" y="3818"/>
                  </a:lnTo>
                  <a:lnTo>
                    <a:pt x="1063" y="3798"/>
                  </a:lnTo>
                  <a:lnTo>
                    <a:pt x="1067" y="3781"/>
                  </a:lnTo>
                  <a:lnTo>
                    <a:pt x="1071" y="3769"/>
                  </a:lnTo>
                  <a:lnTo>
                    <a:pt x="1077" y="3759"/>
                  </a:lnTo>
                  <a:lnTo>
                    <a:pt x="1083" y="3751"/>
                  </a:lnTo>
                  <a:lnTo>
                    <a:pt x="1090" y="3746"/>
                  </a:lnTo>
                  <a:lnTo>
                    <a:pt x="1099" y="3739"/>
                  </a:lnTo>
                  <a:lnTo>
                    <a:pt x="1110" y="3734"/>
                  </a:lnTo>
                  <a:lnTo>
                    <a:pt x="1122" y="3726"/>
                  </a:lnTo>
                  <a:lnTo>
                    <a:pt x="1103" y="3763"/>
                  </a:lnTo>
                  <a:lnTo>
                    <a:pt x="1090" y="3795"/>
                  </a:lnTo>
                  <a:lnTo>
                    <a:pt x="1082" y="3823"/>
                  </a:lnTo>
                  <a:lnTo>
                    <a:pt x="1075" y="3849"/>
                  </a:lnTo>
                  <a:lnTo>
                    <a:pt x="1071" y="3871"/>
                  </a:lnTo>
                  <a:lnTo>
                    <a:pt x="1066" y="3893"/>
                  </a:lnTo>
                  <a:lnTo>
                    <a:pt x="1058" y="3913"/>
                  </a:lnTo>
                  <a:lnTo>
                    <a:pt x="1047" y="3934"/>
                  </a:lnTo>
                  <a:lnTo>
                    <a:pt x="1029" y="3962"/>
                  </a:lnTo>
                  <a:lnTo>
                    <a:pt x="1006" y="3996"/>
                  </a:lnTo>
                  <a:lnTo>
                    <a:pt x="981" y="4035"/>
                  </a:lnTo>
                  <a:lnTo>
                    <a:pt x="957" y="4079"/>
                  </a:lnTo>
                  <a:lnTo>
                    <a:pt x="934" y="4126"/>
                  </a:lnTo>
                  <a:lnTo>
                    <a:pt x="917" y="4176"/>
                  </a:lnTo>
                  <a:lnTo>
                    <a:pt x="906" y="4227"/>
                  </a:lnTo>
                  <a:lnTo>
                    <a:pt x="905" y="4279"/>
                  </a:lnTo>
                  <a:lnTo>
                    <a:pt x="901" y="4296"/>
                  </a:lnTo>
                  <a:lnTo>
                    <a:pt x="901" y="4312"/>
                  </a:lnTo>
                  <a:lnTo>
                    <a:pt x="904" y="4328"/>
                  </a:lnTo>
                  <a:lnTo>
                    <a:pt x="909" y="4343"/>
                  </a:lnTo>
                  <a:lnTo>
                    <a:pt x="917" y="4356"/>
                  </a:lnTo>
                  <a:lnTo>
                    <a:pt x="928" y="4369"/>
                  </a:lnTo>
                  <a:lnTo>
                    <a:pt x="941" y="4383"/>
                  </a:lnTo>
                  <a:lnTo>
                    <a:pt x="957" y="4395"/>
                  </a:lnTo>
                  <a:lnTo>
                    <a:pt x="934" y="4451"/>
                  </a:lnTo>
                  <a:lnTo>
                    <a:pt x="934" y="4461"/>
                  </a:lnTo>
                  <a:lnTo>
                    <a:pt x="936" y="4484"/>
                  </a:lnTo>
                  <a:lnTo>
                    <a:pt x="941" y="4508"/>
                  </a:lnTo>
                  <a:lnTo>
                    <a:pt x="953" y="4520"/>
                  </a:lnTo>
                  <a:lnTo>
                    <a:pt x="962" y="4516"/>
                  </a:lnTo>
                  <a:lnTo>
                    <a:pt x="974" y="4505"/>
                  </a:lnTo>
                  <a:lnTo>
                    <a:pt x="986" y="4488"/>
                  </a:lnTo>
                  <a:lnTo>
                    <a:pt x="998" y="4468"/>
                  </a:lnTo>
                  <a:lnTo>
                    <a:pt x="1010" y="4448"/>
                  </a:lnTo>
                  <a:lnTo>
                    <a:pt x="1019" y="4431"/>
                  </a:lnTo>
                  <a:lnTo>
                    <a:pt x="1025" y="4419"/>
                  </a:lnTo>
                  <a:lnTo>
                    <a:pt x="1027" y="4413"/>
                  </a:lnTo>
                  <a:lnTo>
                    <a:pt x="1034" y="4420"/>
                  </a:lnTo>
                  <a:lnTo>
                    <a:pt x="1042" y="4425"/>
                  </a:lnTo>
                  <a:lnTo>
                    <a:pt x="1050" y="4431"/>
                  </a:lnTo>
                  <a:lnTo>
                    <a:pt x="1059" y="4435"/>
                  </a:lnTo>
                  <a:lnTo>
                    <a:pt x="1069" y="4436"/>
                  </a:lnTo>
                  <a:lnTo>
                    <a:pt x="1081" y="4436"/>
                  </a:lnTo>
                  <a:lnTo>
                    <a:pt x="1093" y="4433"/>
                  </a:lnTo>
                  <a:lnTo>
                    <a:pt x="1106" y="4428"/>
                  </a:lnTo>
                  <a:lnTo>
                    <a:pt x="1121" y="4419"/>
                  </a:lnTo>
                  <a:lnTo>
                    <a:pt x="1138" y="4405"/>
                  </a:lnTo>
                  <a:lnTo>
                    <a:pt x="1155" y="4389"/>
                  </a:lnTo>
                  <a:lnTo>
                    <a:pt x="1174" y="4371"/>
                  </a:lnTo>
                  <a:lnTo>
                    <a:pt x="1191" y="4351"/>
                  </a:lnTo>
                  <a:lnTo>
                    <a:pt x="1208" y="4330"/>
                  </a:lnTo>
                  <a:lnTo>
                    <a:pt x="1223" y="4308"/>
                  </a:lnTo>
                  <a:lnTo>
                    <a:pt x="1235" y="4288"/>
                  </a:lnTo>
                  <a:lnTo>
                    <a:pt x="1244" y="4268"/>
                  </a:lnTo>
                  <a:lnTo>
                    <a:pt x="1254" y="4246"/>
                  </a:lnTo>
                  <a:lnTo>
                    <a:pt x="1262" y="4224"/>
                  </a:lnTo>
                  <a:lnTo>
                    <a:pt x="1270" y="4202"/>
                  </a:lnTo>
                  <a:lnTo>
                    <a:pt x="1278" y="4180"/>
                  </a:lnTo>
                  <a:lnTo>
                    <a:pt x="1286" y="4160"/>
                  </a:lnTo>
                  <a:lnTo>
                    <a:pt x="1295" y="4144"/>
                  </a:lnTo>
                  <a:lnTo>
                    <a:pt x="1304" y="4131"/>
                  </a:lnTo>
                  <a:lnTo>
                    <a:pt x="1314" y="4120"/>
                  </a:lnTo>
                  <a:lnTo>
                    <a:pt x="1323" y="4108"/>
                  </a:lnTo>
                  <a:lnTo>
                    <a:pt x="1330" y="4095"/>
                  </a:lnTo>
                  <a:lnTo>
                    <a:pt x="1335" y="4080"/>
                  </a:lnTo>
                  <a:lnTo>
                    <a:pt x="1339" y="4062"/>
                  </a:lnTo>
                  <a:lnTo>
                    <a:pt x="1340" y="4039"/>
                  </a:lnTo>
                  <a:lnTo>
                    <a:pt x="1341" y="4011"/>
                  </a:lnTo>
                  <a:lnTo>
                    <a:pt x="1341" y="3979"/>
                  </a:lnTo>
                  <a:lnTo>
                    <a:pt x="1343" y="3951"/>
                  </a:lnTo>
                  <a:lnTo>
                    <a:pt x="1347" y="3921"/>
                  </a:lnTo>
                  <a:lnTo>
                    <a:pt x="1355" y="3890"/>
                  </a:lnTo>
                  <a:lnTo>
                    <a:pt x="1364" y="3859"/>
                  </a:lnTo>
                  <a:lnTo>
                    <a:pt x="1376" y="3827"/>
                  </a:lnTo>
                  <a:lnTo>
                    <a:pt x="1391" y="3794"/>
                  </a:lnTo>
                  <a:lnTo>
                    <a:pt x="1407" y="3762"/>
                  </a:lnTo>
                  <a:lnTo>
                    <a:pt x="1424" y="3729"/>
                  </a:lnTo>
                  <a:lnTo>
                    <a:pt x="1441" y="3693"/>
                  </a:lnTo>
                  <a:lnTo>
                    <a:pt x="1460" y="3650"/>
                  </a:lnTo>
                  <a:lnTo>
                    <a:pt x="1480" y="3602"/>
                  </a:lnTo>
                  <a:lnTo>
                    <a:pt x="1501" y="3550"/>
                  </a:lnTo>
                  <a:lnTo>
                    <a:pt x="1525" y="3493"/>
                  </a:lnTo>
                  <a:lnTo>
                    <a:pt x="1552" y="3432"/>
                  </a:lnTo>
                  <a:lnTo>
                    <a:pt x="1581" y="3366"/>
                  </a:lnTo>
                  <a:lnTo>
                    <a:pt x="1614" y="3298"/>
                  </a:lnTo>
                  <a:lnTo>
                    <a:pt x="1632" y="3264"/>
                  </a:lnTo>
                  <a:lnTo>
                    <a:pt x="1652" y="3228"/>
                  </a:lnTo>
                  <a:lnTo>
                    <a:pt x="1672" y="3191"/>
                  </a:lnTo>
                  <a:lnTo>
                    <a:pt x="1692" y="3153"/>
                  </a:lnTo>
                  <a:lnTo>
                    <a:pt x="1713" y="3116"/>
                  </a:lnTo>
                  <a:lnTo>
                    <a:pt x="1734" y="3079"/>
                  </a:lnTo>
                  <a:lnTo>
                    <a:pt x="1754" y="3043"/>
                  </a:lnTo>
                  <a:lnTo>
                    <a:pt x="1774" y="3007"/>
                  </a:lnTo>
                  <a:lnTo>
                    <a:pt x="1793" y="2971"/>
                  </a:lnTo>
                  <a:lnTo>
                    <a:pt x="1811" y="2936"/>
                  </a:lnTo>
                  <a:lnTo>
                    <a:pt x="1827" y="2903"/>
                  </a:lnTo>
                  <a:lnTo>
                    <a:pt x="1841" y="2871"/>
                  </a:lnTo>
                  <a:lnTo>
                    <a:pt x="1853" y="2841"/>
                  </a:lnTo>
                  <a:lnTo>
                    <a:pt x="1862" y="2812"/>
                  </a:lnTo>
                  <a:lnTo>
                    <a:pt x="1869" y="2787"/>
                  </a:lnTo>
                  <a:lnTo>
                    <a:pt x="1873" y="2763"/>
                  </a:lnTo>
                  <a:lnTo>
                    <a:pt x="1887" y="2754"/>
                  </a:lnTo>
                  <a:lnTo>
                    <a:pt x="1904" y="2742"/>
                  </a:lnTo>
                  <a:lnTo>
                    <a:pt x="1922" y="2727"/>
                  </a:lnTo>
                  <a:lnTo>
                    <a:pt x="1942" y="2712"/>
                  </a:lnTo>
                  <a:lnTo>
                    <a:pt x="1962" y="2695"/>
                  </a:lnTo>
                  <a:lnTo>
                    <a:pt x="1983" y="2676"/>
                  </a:lnTo>
                  <a:lnTo>
                    <a:pt x="2004" y="2656"/>
                  </a:lnTo>
                  <a:lnTo>
                    <a:pt x="2026" y="2634"/>
                  </a:lnTo>
                  <a:lnTo>
                    <a:pt x="2048" y="2611"/>
                  </a:lnTo>
                  <a:lnTo>
                    <a:pt x="2069" y="2588"/>
                  </a:lnTo>
                  <a:lnTo>
                    <a:pt x="2091" y="2563"/>
                  </a:lnTo>
                  <a:lnTo>
                    <a:pt x="2112" y="2538"/>
                  </a:lnTo>
                  <a:lnTo>
                    <a:pt x="2131" y="2511"/>
                  </a:lnTo>
                  <a:lnTo>
                    <a:pt x="2149" y="2484"/>
                  </a:lnTo>
                  <a:lnTo>
                    <a:pt x="2167" y="2458"/>
                  </a:lnTo>
                  <a:lnTo>
                    <a:pt x="2183" y="2430"/>
                  </a:lnTo>
                  <a:lnTo>
                    <a:pt x="2203" y="2437"/>
                  </a:lnTo>
                  <a:lnTo>
                    <a:pt x="2221" y="2439"/>
                  </a:lnTo>
                  <a:lnTo>
                    <a:pt x="2240" y="2438"/>
                  </a:lnTo>
                  <a:lnTo>
                    <a:pt x="2257" y="2434"/>
                  </a:lnTo>
                  <a:lnTo>
                    <a:pt x="2272" y="2427"/>
                  </a:lnTo>
                  <a:lnTo>
                    <a:pt x="2285" y="2418"/>
                  </a:lnTo>
                  <a:lnTo>
                    <a:pt x="2297" y="2407"/>
                  </a:lnTo>
                  <a:lnTo>
                    <a:pt x="2306" y="2394"/>
                  </a:lnTo>
                  <a:lnTo>
                    <a:pt x="2316" y="2379"/>
                  </a:lnTo>
                  <a:lnTo>
                    <a:pt x="2326" y="2365"/>
                  </a:lnTo>
                  <a:lnTo>
                    <a:pt x="2338" y="2351"/>
                  </a:lnTo>
                  <a:lnTo>
                    <a:pt x="2350" y="2341"/>
                  </a:lnTo>
                  <a:lnTo>
                    <a:pt x="2364" y="2333"/>
                  </a:lnTo>
                  <a:lnTo>
                    <a:pt x="2377" y="2330"/>
                  </a:lnTo>
                  <a:lnTo>
                    <a:pt x="2390" y="2333"/>
                  </a:lnTo>
                  <a:lnTo>
                    <a:pt x="2402" y="2343"/>
                  </a:lnTo>
                  <a:lnTo>
                    <a:pt x="2414" y="2354"/>
                  </a:lnTo>
                  <a:lnTo>
                    <a:pt x="2427" y="2361"/>
                  </a:lnTo>
                  <a:lnTo>
                    <a:pt x="2441" y="2363"/>
                  </a:lnTo>
                  <a:lnTo>
                    <a:pt x="2454" y="2362"/>
                  </a:lnTo>
                  <a:lnTo>
                    <a:pt x="2467" y="2357"/>
                  </a:lnTo>
                  <a:lnTo>
                    <a:pt x="2481" y="2350"/>
                  </a:lnTo>
                  <a:lnTo>
                    <a:pt x="2495" y="2339"/>
                  </a:lnTo>
                  <a:lnTo>
                    <a:pt x="2509" y="2329"/>
                  </a:lnTo>
                  <a:lnTo>
                    <a:pt x="2526" y="2317"/>
                  </a:lnTo>
                  <a:lnTo>
                    <a:pt x="2549" y="2303"/>
                  </a:lnTo>
                  <a:lnTo>
                    <a:pt x="2575" y="2291"/>
                  </a:lnTo>
                  <a:lnTo>
                    <a:pt x="2603" y="2282"/>
                  </a:lnTo>
                  <a:lnTo>
                    <a:pt x="2634" y="2277"/>
                  </a:lnTo>
                  <a:lnTo>
                    <a:pt x="2662" y="2278"/>
                  </a:lnTo>
                  <a:lnTo>
                    <a:pt x="2690" y="2285"/>
                  </a:lnTo>
                  <a:lnTo>
                    <a:pt x="2712" y="2301"/>
                  </a:lnTo>
                  <a:lnTo>
                    <a:pt x="2716" y="2285"/>
                  </a:lnTo>
                  <a:lnTo>
                    <a:pt x="2718" y="2267"/>
                  </a:lnTo>
                  <a:lnTo>
                    <a:pt x="2716" y="2249"/>
                  </a:lnTo>
                  <a:lnTo>
                    <a:pt x="2714" y="2229"/>
                  </a:lnTo>
                  <a:lnTo>
                    <a:pt x="2708" y="2209"/>
                  </a:lnTo>
                  <a:lnTo>
                    <a:pt x="2702" y="2186"/>
                  </a:lnTo>
                  <a:lnTo>
                    <a:pt x="2691" y="2163"/>
                  </a:lnTo>
                  <a:lnTo>
                    <a:pt x="2679" y="2141"/>
                  </a:lnTo>
                  <a:lnTo>
                    <a:pt x="2663" y="2118"/>
                  </a:lnTo>
                  <a:lnTo>
                    <a:pt x="2644" y="2095"/>
                  </a:lnTo>
                  <a:lnTo>
                    <a:pt x="2622" y="2071"/>
                  </a:lnTo>
                  <a:lnTo>
                    <a:pt x="2597" y="2050"/>
                  </a:lnTo>
                  <a:lnTo>
                    <a:pt x="2567" y="2028"/>
                  </a:lnTo>
                  <a:lnTo>
                    <a:pt x="2535" y="2006"/>
                  </a:lnTo>
                  <a:lnTo>
                    <a:pt x="2498" y="1986"/>
                  </a:lnTo>
                  <a:lnTo>
                    <a:pt x="2458" y="1968"/>
                  </a:lnTo>
                  <a:lnTo>
                    <a:pt x="2469" y="1950"/>
                  </a:lnTo>
                  <a:lnTo>
                    <a:pt x="2479" y="1934"/>
                  </a:lnTo>
                  <a:lnTo>
                    <a:pt x="2491" y="1920"/>
                  </a:lnTo>
                  <a:lnTo>
                    <a:pt x="2505" y="1906"/>
                  </a:lnTo>
                  <a:lnTo>
                    <a:pt x="2519" y="1893"/>
                  </a:lnTo>
                  <a:lnTo>
                    <a:pt x="2534" y="1878"/>
                  </a:lnTo>
                  <a:lnTo>
                    <a:pt x="2550" y="1864"/>
                  </a:lnTo>
                  <a:lnTo>
                    <a:pt x="2569" y="1848"/>
                  </a:lnTo>
                  <a:lnTo>
                    <a:pt x="2587" y="1826"/>
                  </a:lnTo>
                  <a:lnTo>
                    <a:pt x="2603" y="1800"/>
                  </a:lnTo>
                  <a:lnTo>
                    <a:pt x="2619" y="1768"/>
                  </a:lnTo>
                  <a:lnTo>
                    <a:pt x="2635" y="1734"/>
                  </a:lnTo>
                  <a:lnTo>
                    <a:pt x="2651" y="1701"/>
                  </a:lnTo>
                  <a:lnTo>
                    <a:pt x="2670" y="1668"/>
                  </a:lnTo>
                  <a:lnTo>
                    <a:pt x="2690" y="1637"/>
                  </a:lnTo>
                  <a:lnTo>
                    <a:pt x="2712" y="1612"/>
                  </a:lnTo>
                  <a:lnTo>
                    <a:pt x="2736" y="1591"/>
                  </a:lnTo>
                  <a:lnTo>
                    <a:pt x="2758" y="1572"/>
                  </a:lnTo>
                  <a:lnTo>
                    <a:pt x="2776" y="1551"/>
                  </a:lnTo>
                  <a:lnTo>
                    <a:pt x="2792" y="1524"/>
                  </a:lnTo>
                  <a:lnTo>
                    <a:pt x="2803" y="1489"/>
                  </a:lnTo>
                  <a:lnTo>
                    <a:pt x="2809" y="1445"/>
                  </a:lnTo>
                  <a:lnTo>
                    <a:pt x="2809" y="1387"/>
                  </a:lnTo>
                  <a:lnTo>
                    <a:pt x="2804" y="1311"/>
                  </a:lnTo>
                  <a:lnTo>
                    <a:pt x="2823" y="1292"/>
                  </a:lnTo>
                  <a:lnTo>
                    <a:pt x="2844" y="1270"/>
                  </a:lnTo>
                  <a:lnTo>
                    <a:pt x="2868" y="1246"/>
                  </a:lnTo>
                  <a:lnTo>
                    <a:pt x="2895" y="1222"/>
                  </a:lnTo>
                  <a:lnTo>
                    <a:pt x="2921" y="1198"/>
                  </a:lnTo>
                  <a:lnTo>
                    <a:pt x="2949" y="1176"/>
                  </a:lnTo>
                  <a:lnTo>
                    <a:pt x="2974" y="1158"/>
                  </a:lnTo>
                  <a:lnTo>
                    <a:pt x="2998" y="1144"/>
                  </a:lnTo>
                  <a:lnTo>
                    <a:pt x="3013" y="1151"/>
                  </a:lnTo>
                  <a:lnTo>
                    <a:pt x="3030" y="1156"/>
                  </a:lnTo>
                  <a:lnTo>
                    <a:pt x="3050" y="1162"/>
                  </a:lnTo>
                  <a:lnTo>
                    <a:pt x="3073" y="1167"/>
                  </a:lnTo>
                  <a:lnTo>
                    <a:pt x="3096" y="1172"/>
                  </a:lnTo>
                  <a:lnTo>
                    <a:pt x="3121" y="1176"/>
                  </a:lnTo>
                  <a:lnTo>
                    <a:pt x="3147" y="1180"/>
                  </a:lnTo>
                  <a:lnTo>
                    <a:pt x="3174" y="1184"/>
                  </a:lnTo>
                  <a:lnTo>
                    <a:pt x="3201" y="1187"/>
                  </a:lnTo>
                  <a:lnTo>
                    <a:pt x="3227" y="1188"/>
                  </a:lnTo>
                  <a:lnTo>
                    <a:pt x="3253" y="1190"/>
                  </a:lnTo>
                  <a:lnTo>
                    <a:pt x="3278" y="1190"/>
                  </a:lnTo>
                  <a:lnTo>
                    <a:pt x="3301" y="1190"/>
                  </a:lnTo>
                  <a:lnTo>
                    <a:pt x="3323" y="1188"/>
                  </a:lnTo>
                  <a:lnTo>
                    <a:pt x="3342" y="1186"/>
                  </a:lnTo>
                  <a:lnTo>
                    <a:pt x="3359" y="1182"/>
                  </a:lnTo>
                  <a:lnTo>
                    <a:pt x="3370" y="1186"/>
                  </a:lnTo>
                  <a:lnTo>
                    <a:pt x="3382" y="1191"/>
                  </a:lnTo>
                  <a:lnTo>
                    <a:pt x="3395" y="1195"/>
                  </a:lnTo>
                  <a:lnTo>
                    <a:pt x="3411" y="1200"/>
                  </a:lnTo>
                  <a:lnTo>
                    <a:pt x="3427" y="1204"/>
                  </a:lnTo>
                  <a:lnTo>
                    <a:pt x="3444" y="1210"/>
                  </a:lnTo>
                  <a:lnTo>
                    <a:pt x="3463" y="1214"/>
                  </a:lnTo>
                  <a:lnTo>
                    <a:pt x="3482" y="1218"/>
                  </a:lnTo>
                  <a:lnTo>
                    <a:pt x="3500" y="1220"/>
                  </a:lnTo>
                  <a:lnTo>
                    <a:pt x="3519" y="1223"/>
                  </a:lnTo>
                  <a:lnTo>
                    <a:pt x="3539" y="1224"/>
                  </a:lnTo>
                  <a:lnTo>
                    <a:pt x="3557" y="1226"/>
                  </a:lnTo>
                  <a:lnTo>
                    <a:pt x="3576" y="1226"/>
                  </a:lnTo>
                  <a:lnTo>
                    <a:pt x="3593" y="1224"/>
                  </a:lnTo>
                  <a:lnTo>
                    <a:pt x="3611" y="1223"/>
                  </a:lnTo>
                  <a:lnTo>
                    <a:pt x="3627" y="1219"/>
                  </a:lnTo>
                  <a:lnTo>
                    <a:pt x="3643" y="1215"/>
                  </a:lnTo>
                  <a:lnTo>
                    <a:pt x="3660" y="1211"/>
                  </a:lnTo>
                  <a:lnTo>
                    <a:pt x="3677" y="1207"/>
                  </a:lnTo>
                  <a:lnTo>
                    <a:pt x="3694" y="1204"/>
                  </a:lnTo>
                  <a:lnTo>
                    <a:pt x="3713" y="1202"/>
                  </a:lnTo>
                  <a:lnTo>
                    <a:pt x="3732" y="1199"/>
                  </a:lnTo>
                  <a:lnTo>
                    <a:pt x="3750" y="1196"/>
                  </a:lnTo>
                  <a:lnTo>
                    <a:pt x="3769" y="1194"/>
                  </a:lnTo>
                  <a:lnTo>
                    <a:pt x="3786" y="1191"/>
                  </a:lnTo>
                  <a:lnTo>
                    <a:pt x="3805" y="1188"/>
                  </a:lnTo>
                  <a:lnTo>
                    <a:pt x="3822" y="1186"/>
                  </a:lnTo>
                  <a:lnTo>
                    <a:pt x="3840" y="1183"/>
                  </a:lnTo>
                  <a:lnTo>
                    <a:pt x="3856" y="1179"/>
                  </a:lnTo>
                  <a:lnTo>
                    <a:pt x="3871" y="1176"/>
                  </a:lnTo>
                  <a:lnTo>
                    <a:pt x="3886" y="1172"/>
                  </a:lnTo>
                  <a:lnTo>
                    <a:pt x="3899" y="1168"/>
                  </a:lnTo>
                  <a:lnTo>
                    <a:pt x="3913" y="1164"/>
                  </a:lnTo>
                  <a:lnTo>
                    <a:pt x="3927" y="1160"/>
                  </a:lnTo>
                  <a:lnTo>
                    <a:pt x="3942" y="1156"/>
                  </a:lnTo>
                  <a:lnTo>
                    <a:pt x="3957" y="1152"/>
                  </a:lnTo>
                  <a:lnTo>
                    <a:pt x="3973" y="1148"/>
                  </a:lnTo>
                  <a:lnTo>
                    <a:pt x="3989" y="1144"/>
                  </a:lnTo>
                  <a:lnTo>
                    <a:pt x="4006" y="1142"/>
                  </a:lnTo>
                  <a:lnTo>
                    <a:pt x="4022" y="1139"/>
                  </a:lnTo>
                  <a:lnTo>
                    <a:pt x="4039" y="1136"/>
                  </a:lnTo>
                  <a:lnTo>
                    <a:pt x="4056" y="1134"/>
                  </a:lnTo>
                  <a:lnTo>
                    <a:pt x="4074" y="1132"/>
                  </a:lnTo>
                  <a:lnTo>
                    <a:pt x="4091" y="1130"/>
                  </a:lnTo>
                  <a:lnTo>
                    <a:pt x="4108" y="1128"/>
                  </a:lnTo>
                  <a:lnTo>
                    <a:pt x="4126" y="1127"/>
                  </a:lnTo>
                  <a:lnTo>
                    <a:pt x="4143" y="1126"/>
                  </a:lnTo>
                  <a:lnTo>
                    <a:pt x="4159" y="1126"/>
                  </a:lnTo>
                  <a:lnTo>
                    <a:pt x="4187" y="1124"/>
                  </a:lnTo>
                  <a:lnTo>
                    <a:pt x="4212" y="1123"/>
                  </a:lnTo>
                  <a:lnTo>
                    <a:pt x="4237" y="1120"/>
                  </a:lnTo>
                  <a:lnTo>
                    <a:pt x="4260" y="1118"/>
                  </a:lnTo>
                  <a:lnTo>
                    <a:pt x="4281" y="1114"/>
                  </a:lnTo>
                  <a:lnTo>
                    <a:pt x="4301" y="1110"/>
                  </a:lnTo>
                  <a:lnTo>
                    <a:pt x="4320" y="1106"/>
                  </a:lnTo>
                  <a:lnTo>
                    <a:pt x="4337" y="1100"/>
                  </a:lnTo>
                  <a:lnTo>
                    <a:pt x="4353" y="1095"/>
                  </a:lnTo>
                  <a:lnTo>
                    <a:pt x="4368" y="1091"/>
                  </a:lnTo>
                  <a:lnTo>
                    <a:pt x="4381" y="1086"/>
                  </a:lnTo>
                  <a:lnTo>
                    <a:pt x="4395" y="1079"/>
                  </a:lnTo>
                  <a:lnTo>
                    <a:pt x="4406" y="1074"/>
                  </a:lnTo>
                  <a:lnTo>
                    <a:pt x="4417" y="1068"/>
                  </a:lnTo>
                  <a:lnTo>
                    <a:pt x="4426" y="1063"/>
                  </a:lnTo>
                  <a:lnTo>
                    <a:pt x="4436" y="1058"/>
                  </a:lnTo>
                  <a:lnTo>
                    <a:pt x="4445" y="1051"/>
                  </a:lnTo>
                  <a:lnTo>
                    <a:pt x="4454" y="1043"/>
                  </a:lnTo>
                  <a:lnTo>
                    <a:pt x="4462" y="1035"/>
                  </a:lnTo>
                  <a:lnTo>
                    <a:pt x="4469" y="1026"/>
                  </a:lnTo>
                  <a:lnTo>
                    <a:pt x="4470" y="1016"/>
                  </a:lnTo>
                  <a:lnTo>
                    <a:pt x="4469" y="1008"/>
                  </a:lnTo>
                  <a:lnTo>
                    <a:pt x="4462" y="1000"/>
                  </a:lnTo>
                  <a:lnTo>
                    <a:pt x="4449" y="995"/>
                  </a:lnTo>
                  <a:lnTo>
                    <a:pt x="4462" y="980"/>
                  </a:lnTo>
                  <a:lnTo>
                    <a:pt x="4472" y="967"/>
                  </a:lnTo>
                  <a:lnTo>
                    <a:pt x="4476" y="955"/>
                  </a:lnTo>
                  <a:lnTo>
                    <a:pt x="4477" y="944"/>
                  </a:lnTo>
                  <a:lnTo>
                    <a:pt x="4474" y="935"/>
                  </a:lnTo>
                  <a:lnTo>
                    <a:pt x="4468" y="930"/>
                  </a:lnTo>
                  <a:lnTo>
                    <a:pt x="4457" y="927"/>
                  </a:lnTo>
                  <a:lnTo>
                    <a:pt x="4444" y="930"/>
                  </a:lnTo>
                  <a:lnTo>
                    <a:pt x="4452" y="921"/>
                  </a:lnTo>
                  <a:lnTo>
                    <a:pt x="4460" y="911"/>
                  </a:lnTo>
                  <a:lnTo>
                    <a:pt x="4466" y="901"/>
                  </a:lnTo>
                  <a:lnTo>
                    <a:pt x="4470" y="890"/>
                  </a:lnTo>
                  <a:lnTo>
                    <a:pt x="4473" y="881"/>
                  </a:lnTo>
                  <a:lnTo>
                    <a:pt x="4474" y="873"/>
                  </a:lnTo>
                  <a:lnTo>
                    <a:pt x="4472" y="865"/>
                  </a:lnTo>
                  <a:lnTo>
                    <a:pt x="4468" y="858"/>
                  </a:lnTo>
                  <a:lnTo>
                    <a:pt x="4462" y="853"/>
                  </a:lnTo>
                  <a:lnTo>
                    <a:pt x="4456" y="849"/>
                  </a:lnTo>
                  <a:lnTo>
                    <a:pt x="4450" y="847"/>
                  </a:lnTo>
                  <a:lnTo>
                    <a:pt x="4444" y="846"/>
                  </a:lnTo>
                  <a:lnTo>
                    <a:pt x="4438" y="846"/>
                  </a:lnTo>
                  <a:lnTo>
                    <a:pt x="4432" y="847"/>
                  </a:lnTo>
                  <a:lnTo>
                    <a:pt x="4425" y="849"/>
                  </a:lnTo>
                  <a:lnTo>
                    <a:pt x="4418" y="851"/>
                  </a:lnTo>
                  <a:lnTo>
                    <a:pt x="4413" y="843"/>
                  </a:lnTo>
                  <a:lnTo>
                    <a:pt x="4409" y="838"/>
                  </a:lnTo>
                  <a:lnTo>
                    <a:pt x="4403" y="835"/>
                  </a:lnTo>
                  <a:lnTo>
                    <a:pt x="4397" y="834"/>
                  </a:lnTo>
                  <a:lnTo>
                    <a:pt x="4391" y="835"/>
                  </a:lnTo>
                  <a:lnTo>
                    <a:pt x="4383" y="838"/>
                  </a:lnTo>
                  <a:lnTo>
                    <a:pt x="4375" y="842"/>
                  </a:lnTo>
                  <a:lnTo>
                    <a:pt x="4367" y="849"/>
                  </a:lnTo>
                  <a:lnTo>
                    <a:pt x="4357" y="855"/>
                  </a:lnTo>
                  <a:lnTo>
                    <a:pt x="4347" y="863"/>
                  </a:lnTo>
                  <a:lnTo>
                    <a:pt x="4335" y="871"/>
                  </a:lnTo>
                  <a:lnTo>
                    <a:pt x="4321" y="878"/>
                  </a:lnTo>
                  <a:lnTo>
                    <a:pt x="4307" y="885"/>
                  </a:lnTo>
                  <a:lnTo>
                    <a:pt x="4292" y="890"/>
                  </a:lnTo>
                  <a:lnTo>
                    <a:pt x="4275" y="894"/>
                  </a:lnTo>
                  <a:lnTo>
                    <a:pt x="4256" y="897"/>
                  </a:lnTo>
                  <a:lnTo>
                    <a:pt x="4237" y="898"/>
                  </a:lnTo>
                  <a:lnTo>
                    <a:pt x="4224" y="898"/>
                  </a:lnTo>
                  <a:lnTo>
                    <a:pt x="4212" y="899"/>
                  </a:lnTo>
                  <a:lnTo>
                    <a:pt x="4202" y="899"/>
                  </a:lnTo>
                  <a:lnTo>
                    <a:pt x="4194" y="901"/>
                  </a:lnTo>
                  <a:lnTo>
                    <a:pt x="4186" y="902"/>
                  </a:lnTo>
                  <a:lnTo>
                    <a:pt x="4178" y="903"/>
                  </a:lnTo>
                  <a:lnTo>
                    <a:pt x="4170" y="906"/>
                  </a:lnTo>
                  <a:lnTo>
                    <a:pt x="4172" y="879"/>
                  </a:lnTo>
                  <a:lnTo>
                    <a:pt x="4176" y="859"/>
                  </a:lnTo>
                  <a:lnTo>
                    <a:pt x="4182" y="841"/>
                  </a:lnTo>
                  <a:lnTo>
                    <a:pt x="4194" y="822"/>
                  </a:lnTo>
                  <a:lnTo>
                    <a:pt x="4202" y="811"/>
                  </a:lnTo>
                  <a:lnTo>
                    <a:pt x="4210" y="799"/>
                  </a:lnTo>
                  <a:lnTo>
                    <a:pt x="4216" y="786"/>
                  </a:lnTo>
                  <a:lnTo>
                    <a:pt x="4219" y="771"/>
                  </a:lnTo>
                  <a:lnTo>
                    <a:pt x="4219" y="758"/>
                  </a:lnTo>
                  <a:lnTo>
                    <a:pt x="4212" y="745"/>
                  </a:lnTo>
                  <a:lnTo>
                    <a:pt x="4200" y="731"/>
                  </a:lnTo>
                  <a:lnTo>
                    <a:pt x="4182" y="721"/>
                  </a:lnTo>
                  <a:lnTo>
                    <a:pt x="4175" y="726"/>
                  </a:lnTo>
                  <a:lnTo>
                    <a:pt x="4168" y="734"/>
                  </a:lnTo>
                  <a:lnTo>
                    <a:pt x="4163" y="743"/>
                  </a:lnTo>
                  <a:lnTo>
                    <a:pt x="4158" y="754"/>
                  </a:lnTo>
                  <a:lnTo>
                    <a:pt x="4151" y="763"/>
                  </a:lnTo>
                  <a:lnTo>
                    <a:pt x="4143" y="774"/>
                  </a:lnTo>
                  <a:lnTo>
                    <a:pt x="4132" y="783"/>
                  </a:lnTo>
                  <a:lnTo>
                    <a:pt x="4120" y="791"/>
                  </a:lnTo>
                  <a:lnTo>
                    <a:pt x="4107" y="799"/>
                  </a:lnTo>
                  <a:lnTo>
                    <a:pt x="4095" y="810"/>
                  </a:lnTo>
                  <a:lnTo>
                    <a:pt x="4084" y="821"/>
                  </a:lnTo>
                  <a:lnTo>
                    <a:pt x="4074" y="834"/>
                  </a:lnTo>
                  <a:lnTo>
                    <a:pt x="4066" y="847"/>
                  </a:lnTo>
                  <a:lnTo>
                    <a:pt x="4059" y="862"/>
                  </a:lnTo>
                  <a:lnTo>
                    <a:pt x="4054" y="877"/>
                  </a:lnTo>
                  <a:lnTo>
                    <a:pt x="4050" y="890"/>
                  </a:lnTo>
                  <a:lnTo>
                    <a:pt x="4046" y="905"/>
                  </a:lnTo>
                  <a:lnTo>
                    <a:pt x="4039" y="918"/>
                  </a:lnTo>
                  <a:lnTo>
                    <a:pt x="4031" y="931"/>
                  </a:lnTo>
                  <a:lnTo>
                    <a:pt x="4021" y="943"/>
                  </a:lnTo>
                  <a:lnTo>
                    <a:pt x="4009" y="954"/>
                  </a:lnTo>
                  <a:lnTo>
                    <a:pt x="3994" y="963"/>
                  </a:lnTo>
                  <a:lnTo>
                    <a:pt x="3977" y="968"/>
                  </a:lnTo>
                  <a:lnTo>
                    <a:pt x="3957" y="970"/>
                  </a:lnTo>
                  <a:lnTo>
                    <a:pt x="3937" y="970"/>
                  </a:lnTo>
                  <a:lnTo>
                    <a:pt x="3914" y="968"/>
                  </a:lnTo>
                  <a:lnTo>
                    <a:pt x="3887" y="966"/>
                  </a:lnTo>
                  <a:lnTo>
                    <a:pt x="3858" y="963"/>
                  </a:lnTo>
                  <a:lnTo>
                    <a:pt x="3825" y="960"/>
                  </a:lnTo>
                  <a:lnTo>
                    <a:pt x="3792" y="956"/>
                  </a:lnTo>
                  <a:lnTo>
                    <a:pt x="3757" y="954"/>
                  </a:lnTo>
                  <a:lnTo>
                    <a:pt x="3721" y="950"/>
                  </a:lnTo>
                  <a:lnTo>
                    <a:pt x="3684" y="947"/>
                  </a:lnTo>
                  <a:lnTo>
                    <a:pt x="3649" y="944"/>
                  </a:lnTo>
                  <a:lnTo>
                    <a:pt x="3613" y="943"/>
                  </a:lnTo>
                  <a:lnTo>
                    <a:pt x="3580" y="942"/>
                  </a:lnTo>
                  <a:lnTo>
                    <a:pt x="3548" y="942"/>
                  </a:lnTo>
                  <a:lnTo>
                    <a:pt x="3519" y="943"/>
                  </a:lnTo>
                  <a:lnTo>
                    <a:pt x="3492" y="944"/>
                  </a:lnTo>
                  <a:lnTo>
                    <a:pt x="3470" y="948"/>
                  </a:lnTo>
                  <a:lnTo>
                    <a:pt x="3456" y="947"/>
                  </a:lnTo>
                  <a:lnTo>
                    <a:pt x="3442" y="946"/>
                  </a:lnTo>
                  <a:lnTo>
                    <a:pt x="3426" y="944"/>
                  </a:lnTo>
                  <a:lnTo>
                    <a:pt x="3407" y="942"/>
                  </a:lnTo>
                  <a:lnTo>
                    <a:pt x="3387" y="940"/>
                  </a:lnTo>
                  <a:lnTo>
                    <a:pt x="3367" y="938"/>
                  </a:lnTo>
                  <a:lnTo>
                    <a:pt x="3346" y="935"/>
                  </a:lnTo>
                  <a:lnTo>
                    <a:pt x="3323" y="933"/>
                  </a:lnTo>
                  <a:lnTo>
                    <a:pt x="3301" y="929"/>
                  </a:lnTo>
                  <a:lnTo>
                    <a:pt x="3277" y="925"/>
                  </a:lnTo>
                  <a:lnTo>
                    <a:pt x="3254" y="921"/>
                  </a:lnTo>
                  <a:lnTo>
                    <a:pt x="3231" y="917"/>
                  </a:lnTo>
                  <a:lnTo>
                    <a:pt x="3209" y="913"/>
                  </a:lnTo>
                  <a:lnTo>
                    <a:pt x="3186" y="907"/>
                  </a:lnTo>
                  <a:lnTo>
                    <a:pt x="3165" y="902"/>
                  </a:lnTo>
                  <a:lnTo>
                    <a:pt x="3143" y="897"/>
                  </a:lnTo>
                  <a:lnTo>
                    <a:pt x="3124" y="891"/>
                  </a:lnTo>
                  <a:lnTo>
                    <a:pt x="3102" y="886"/>
                  </a:lnTo>
                  <a:lnTo>
                    <a:pt x="3080" y="882"/>
                  </a:lnTo>
                  <a:lnTo>
                    <a:pt x="3057" y="878"/>
                  </a:lnTo>
                  <a:lnTo>
                    <a:pt x="3034" y="874"/>
                  </a:lnTo>
                  <a:lnTo>
                    <a:pt x="3012" y="871"/>
                  </a:lnTo>
                  <a:lnTo>
                    <a:pt x="2988" y="869"/>
                  </a:lnTo>
                  <a:lnTo>
                    <a:pt x="2965" y="867"/>
                  </a:lnTo>
                  <a:lnTo>
                    <a:pt x="2941" y="866"/>
                  </a:lnTo>
                  <a:lnTo>
                    <a:pt x="2919" y="865"/>
                  </a:lnTo>
                  <a:lnTo>
                    <a:pt x="2896" y="866"/>
                  </a:lnTo>
                  <a:lnTo>
                    <a:pt x="2873" y="866"/>
                  </a:lnTo>
                  <a:lnTo>
                    <a:pt x="2852" y="869"/>
                  </a:lnTo>
                  <a:lnTo>
                    <a:pt x="2831" y="870"/>
                  </a:lnTo>
                  <a:lnTo>
                    <a:pt x="2809" y="874"/>
                  </a:lnTo>
                  <a:lnTo>
                    <a:pt x="2789" y="878"/>
                  </a:lnTo>
                  <a:lnTo>
                    <a:pt x="2752" y="885"/>
                  </a:lnTo>
                  <a:lnTo>
                    <a:pt x="2718" y="885"/>
                  </a:lnTo>
                  <a:lnTo>
                    <a:pt x="2687" y="879"/>
                  </a:lnTo>
                  <a:lnTo>
                    <a:pt x="2662" y="869"/>
                  </a:lnTo>
                  <a:lnTo>
                    <a:pt x="2642" y="853"/>
                  </a:lnTo>
                  <a:lnTo>
                    <a:pt x="2627" y="833"/>
                  </a:lnTo>
                  <a:lnTo>
                    <a:pt x="2620" y="806"/>
                  </a:lnTo>
                  <a:lnTo>
                    <a:pt x="2619" y="777"/>
                  </a:lnTo>
                  <a:lnTo>
                    <a:pt x="2636" y="762"/>
                  </a:lnTo>
                  <a:lnTo>
                    <a:pt x="2654" y="743"/>
                  </a:lnTo>
                  <a:lnTo>
                    <a:pt x="2668" y="719"/>
                  </a:lnTo>
                  <a:lnTo>
                    <a:pt x="2683" y="694"/>
                  </a:lnTo>
                  <a:lnTo>
                    <a:pt x="2694" y="666"/>
                  </a:lnTo>
                  <a:lnTo>
                    <a:pt x="2702" y="638"/>
                  </a:lnTo>
                  <a:lnTo>
                    <a:pt x="2706" y="610"/>
                  </a:lnTo>
                  <a:lnTo>
                    <a:pt x="2706" y="582"/>
                  </a:lnTo>
                  <a:lnTo>
                    <a:pt x="2706" y="532"/>
                  </a:lnTo>
                  <a:lnTo>
                    <a:pt x="2710" y="486"/>
                  </a:lnTo>
                  <a:lnTo>
                    <a:pt x="2708" y="446"/>
                  </a:lnTo>
                  <a:lnTo>
                    <a:pt x="2694" y="412"/>
                  </a:lnTo>
                  <a:lnTo>
                    <a:pt x="2683" y="396"/>
                  </a:lnTo>
                  <a:lnTo>
                    <a:pt x="2674" y="378"/>
                  </a:lnTo>
                  <a:lnTo>
                    <a:pt x="2668" y="361"/>
                  </a:lnTo>
                  <a:lnTo>
                    <a:pt x="2663" y="344"/>
                  </a:lnTo>
                  <a:lnTo>
                    <a:pt x="2659" y="326"/>
                  </a:lnTo>
                  <a:lnTo>
                    <a:pt x="2655" y="309"/>
                  </a:lnTo>
                  <a:lnTo>
                    <a:pt x="2651" y="292"/>
                  </a:lnTo>
                  <a:lnTo>
                    <a:pt x="2647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0160" y="2706480"/>
              <a:ext cx="25200" cy="77400"/>
            </a:xfrm>
            <a:custGeom>
              <a:avLst/>
              <a:gdLst/>
              <a:ahLst/>
              <a:rect l="l" t="t" r="r" b="b"/>
              <a:pathLst>
                <a:path w="41" h="127">
                  <a:moveTo>
                    <a:pt x="41" y="0"/>
                  </a:moveTo>
                  <a:lnTo>
                    <a:pt x="29" y="24"/>
                  </a:lnTo>
                  <a:lnTo>
                    <a:pt x="20" y="57"/>
                  </a:lnTo>
                  <a:lnTo>
                    <a:pt x="17" y="95"/>
                  </a:lnTo>
                  <a:lnTo>
                    <a:pt x="25" y="127"/>
                  </a:lnTo>
                  <a:lnTo>
                    <a:pt x="12" y="116"/>
                  </a:lnTo>
                  <a:lnTo>
                    <a:pt x="4" y="101"/>
                  </a:lnTo>
                  <a:lnTo>
                    <a:pt x="0" y="81"/>
                  </a:lnTo>
                  <a:lnTo>
                    <a:pt x="2" y="61"/>
                  </a:lnTo>
                  <a:lnTo>
                    <a:pt x="7" y="41"/>
                  </a:lnTo>
                  <a:lnTo>
                    <a:pt x="15" y="23"/>
                  </a:lnTo>
                  <a:lnTo>
                    <a:pt x="27" y="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48200" y="2697480"/>
              <a:ext cx="322560" cy="688320"/>
            </a:xfrm>
            <a:custGeom>
              <a:avLst/>
              <a:gdLst/>
              <a:ahLst/>
              <a:rect l="l" t="t" r="r" b="b"/>
              <a:pathLst>
                <a:path w="524" h="1118">
                  <a:moveTo>
                    <a:pt x="238" y="515"/>
                  </a:moveTo>
                  <a:lnTo>
                    <a:pt x="250" y="525"/>
                  </a:lnTo>
                  <a:lnTo>
                    <a:pt x="266" y="536"/>
                  </a:lnTo>
                  <a:lnTo>
                    <a:pt x="287" y="545"/>
                  </a:lnTo>
                  <a:lnTo>
                    <a:pt x="310" y="555"/>
                  </a:lnTo>
                  <a:lnTo>
                    <a:pt x="335" y="561"/>
                  </a:lnTo>
                  <a:lnTo>
                    <a:pt x="362" y="564"/>
                  </a:lnTo>
                  <a:lnTo>
                    <a:pt x="389" y="563"/>
                  </a:lnTo>
                  <a:lnTo>
                    <a:pt x="415" y="556"/>
                  </a:lnTo>
                  <a:lnTo>
                    <a:pt x="440" y="544"/>
                  </a:lnTo>
                  <a:lnTo>
                    <a:pt x="463" y="529"/>
                  </a:lnTo>
                  <a:lnTo>
                    <a:pt x="482" y="511"/>
                  </a:lnTo>
                  <a:lnTo>
                    <a:pt x="498" y="491"/>
                  </a:lnTo>
                  <a:lnTo>
                    <a:pt x="510" y="468"/>
                  </a:lnTo>
                  <a:lnTo>
                    <a:pt x="518" y="447"/>
                  </a:lnTo>
                  <a:lnTo>
                    <a:pt x="522" y="425"/>
                  </a:lnTo>
                  <a:lnTo>
                    <a:pt x="520" y="405"/>
                  </a:lnTo>
                  <a:lnTo>
                    <a:pt x="518" y="365"/>
                  </a:lnTo>
                  <a:lnTo>
                    <a:pt x="522" y="323"/>
                  </a:lnTo>
                  <a:lnTo>
                    <a:pt x="524" y="286"/>
                  </a:lnTo>
                  <a:lnTo>
                    <a:pt x="520" y="258"/>
                  </a:lnTo>
                  <a:lnTo>
                    <a:pt x="514" y="243"/>
                  </a:lnTo>
                  <a:lnTo>
                    <a:pt x="506" y="224"/>
                  </a:lnTo>
                  <a:lnTo>
                    <a:pt x="498" y="200"/>
                  </a:lnTo>
                  <a:lnTo>
                    <a:pt x="488" y="176"/>
                  </a:lnTo>
                  <a:lnTo>
                    <a:pt x="480" y="151"/>
                  </a:lnTo>
                  <a:lnTo>
                    <a:pt x="471" y="126"/>
                  </a:lnTo>
                  <a:lnTo>
                    <a:pt x="464" y="103"/>
                  </a:lnTo>
                  <a:lnTo>
                    <a:pt x="459" y="84"/>
                  </a:lnTo>
                  <a:lnTo>
                    <a:pt x="454" y="68"/>
                  </a:lnTo>
                  <a:lnTo>
                    <a:pt x="446" y="52"/>
                  </a:lnTo>
                  <a:lnTo>
                    <a:pt x="435" y="39"/>
                  </a:lnTo>
                  <a:lnTo>
                    <a:pt x="423" y="26"/>
                  </a:lnTo>
                  <a:lnTo>
                    <a:pt x="409" y="15"/>
                  </a:lnTo>
                  <a:lnTo>
                    <a:pt x="393" y="7"/>
                  </a:lnTo>
                  <a:lnTo>
                    <a:pt x="375" y="2"/>
                  </a:lnTo>
                  <a:lnTo>
                    <a:pt x="355" y="0"/>
                  </a:lnTo>
                  <a:lnTo>
                    <a:pt x="337" y="2"/>
                  </a:lnTo>
                  <a:lnTo>
                    <a:pt x="321" y="7"/>
                  </a:lnTo>
                  <a:lnTo>
                    <a:pt x="307" y="14"/>
                  </a:lnTo>
                  <a:lnTo>
                    <a:pt x="295" y="23"/>
                  </a:lnTo>
                  <a:lnTo>
                    <a:pt x="282" y="32"/>
                  </a:lnTo>
                  <a:lnTo>
                    <a:pt x="270" y="42"/>
                  </a:lnTo>
                  <a:lnTo>
                    <a:pt x="257" y="50"/>
                  </a:lnTo>
                  <a:lnTo>
                    <a:pt x="242" y="56"/>
                  </a:lnTo>
                  <a:lnTo>
                    <a:pt x="224" y="60"/>
                  </a:lnTo>
                  <a:lnTo>
                    <a:pt x="202" y="64"/>
                  </a:lnTo>
                  <a:lnTo>
                    <a:pt x="177" y="68"/>
                  </a:lnTo>
                  <a:lnTo>
                    <a:pt x="153" y="72"/>
                  </a:lnTo>
                  <a:lnTo>
                    <a:pt x="129" y="80"/>
                  </a:lnTo>
                  <a:lnTo>
                    <a:pt x="110" y="92"/>
                  </a:lnTo>
                  <a:lnTo>
                    <a:pt x="96" y="108"/>
                  </a:lnTo>
                  <a:lnTo>
                    <a:pt x="89" y="130"/>
                  </a:lnTo>
                  <a:lnTo>
                    <a:pt x="89" y="155"/>
                  </a:lnTo>
                  <a:lnTo>
                    <a:pt x="94" y="180"/>
                  </a:lnTo>
                  <a:lnTo>
                    <a:pt x="101" y="204"/>
                  </a:lnTo>
                  <a:lnTo>
                    <a:pt x="109" y="227"/>
                  </a:lnTo>
                  <a:lnTo>
                    <a:pt x="116" y="250"/>
                  </a:lnTo>
                  <a:lnTo>
                    <a:pt x="120" y="271"/>
                  </a:lnTo>
                  <a:lnTo>
                    <a:pt x="120" y="292"/>
                  </a:lnTo>
                  <a:lnTo>
                    <a:pt x="114" y="311"/>
                  </a:lnTo>
                  <a:lnTo>
                    <a:pt x="106" y="311"/>
                  </a:lnTo>
                  <a:lnTo>
                    <a:pt x="98" y="307"/>
                  </a:lnTo>
                  <a:lnTo>
                    <a:pt x="90" y="302"/>
                  </a:lnTo>
                  <a:lnTo>
                    <a:pt x="81" y="294"/>
                  </a:lnTo>
                  <a:lnTo>
                    <a:pt x="71" y="287"/>
                  </a:lnTo>
                  <a:lnTo>
                    <a:pt x="61" y="280"/>
                  </a:lnTo>
                  <a:lnTo>
                    <a:pt x="51" y="276"/>
                  </a:lnTo>
                  <a:lnTo>
                    <a:pt x="40" y="276"/>
                  </a:lnTo>
                  <a:lnTo>
                    <a:pt x="31" y="279"/>
                  </a:lnTo>
                  <a:lnTo>
                    <a:pt x="21" y="282"/>
                  </a:lnTo>
                  <a:lnTo>
                    <a:pt x="15" y="287"/>
                  </a:lnTo>
                  <a:lnTo>
                    <a:pt x="9" y="294"/>
                  </a:lnTo>
                  <a:lnTo>
                    <a:pt x="4" y="302"/>
                  </a:lnTo>
                  <a:lnTo>
                    <a:pt x="1" y="312"/>
                  </a:lnTo>
                  <a:lnTo>
                    <a:pt x="0" y="324"/>
                  </a:lnTo>
                  <a:lnTo>
                    <a:pt x="1" y="339"/>
                  </a:lnTo>
                  <a:lnTo>
                    <a:pt x="5" y="356"/>
                  </a:lnTo>
                  <a:lnTo>
                    <a:pt x="15" y="377"/>
                  </a:lnTo>
                  <a:lnTo>
                    <a:pt x="28" y="399"/>
                  </a:lnTo>
                  <a:lnTo>
                    <a:pt x="45" y="417"/>
                  </a:lnTo>
                  <a:lnTo>
                    <a:pt x="65" y="432"/>
                  </a:lnTo>
                  <a:lnTo>
                    <a:pt x="88" y="440"/>
                  </a:lnTo>
                  <a:lnTo>
                    <a:pt x="113" y="439"/>
                  </a:lnTo>
                  <a:lnTo>
                    <a:pt x="140" y="424"/>
                  </a:lnTo>
                  <a:lnTo>
                    <a:pt x="142" y="437"/>
                  </a:lnTo>
                  <a:lnTo>
                    <a:pt x="142" y="451"/>
                  </a:lnTo>
                  <a:lnTo>
                    <a:pt x="138" y="463"/>
                  </a:lnTo>
                  <a:lnTo>
                    <a:pt x="126" y="472"/>
                  </a:lnTo>
                  <a:lnTo>
                    <a:pt x="126" y="488"/>
                  </a:lnTo>
                  <a:lnTo>
                    <a:pt x="129" y="509"/>
                  </a:lnTo>
                  <a:lnTo>
                    <a:pt x="133" y="535"/>
                  </a:lnTo>
                  <a:lnTo>
                    <a:pt x="140" y="563"/>
                  </a:lnTo>
                  <a:lnTo>
                    <a:pt x="148" y="601"/>
                  </a:lnTo>
                  <a:lnTo>
                    <a:pt x="152" y="651"/>
                  </a:lnTo>
                  <a:lnTo>
                    <a:pt x="148" y="700"/>
                  </a:lnTo>
                  <a:lnTo>
                    <a:pt x="128" y="735"/>
                  </a:lnTo>
                  <a:lnTo>
                    <a:pt x="130" y="715"/>
                  </a:lnTo>
                  <a:lnTo>
                    <a:pt x="132" y="691"/>
                  </a:lnTo>
                  <a:lnTo>
                    <a:pt x="130" y="664"/>
                  </a:lnTo>
                  <a:lnTo>
                    <a:pt x="124" y="639"/>
                  </a:lnTo>
                  <a:lnTo>
                    <a:pt x="118" y="640"/>
                  </a:lnTo>
                  <a:lnTo>
                    <a:pt x="112" y="641"/>
                  </a:lnTo>
                  <a:lnTo>
                    <a:pt x="104" y="643"/>
                  </a:lnTo>
                  <a:lnTo>
                    <a:pt x="96" y="643"/>
                  </a:lnTo>
                  <a:lnTo>
                    <a:pt x="88" y="644"/>
                  </a:lnTo>
                  <a:lnTo>
                    <a:pt x="79" y="645"/>
                  </a:lnTo>
                  <a:lnTo>
                    <a:pt x="69" y="648"/>
                  </a:lnTo>
                  <a:lnTo>
                    <a:pt x="61" y="651"/>
                  </a:lnTo>
                  <a:lnTo>
                    <a:pt x="69" y="693"/>
                  </a:lnTo>
                  <a:lnTo>
                    <a:pt x="76" y="746"/>
                  </a:lnTo>
                  <a:lnTo>
                    <a:pt x="81" y="802"/>
                  </a:lnTo>
                  <a:lnTo>
                    <a:pt x="82" y="852"/>
                  </a:lnTo>
                  <a:lnTo>
                    <a:pt x="85" y="873"/>
                  </a:lnTo>
                  <a:lnTo>
                    <a:pt x="90" y="892"/>
                  </a:lnTo>
                  <a:lnTo>
                    <a:pt x="100" y="912"/>
                  </a:lnTo>
                  <a:lnTo>
                    <a:pt x="110" y="929"/>
                  </a:lnTo>
                  <a:lnTo>
                    <a:pt x="124" y="945"/>
                  </a:lnTo>
                  <a:lnTo>
                    <a:pt x="138" y="960"/>
                  </a:lnTo>
                  <a:lnTo>
                    <a:pt x="153" y="972"/>
                  </a:lnTo>
                  <a:lnTo>
                    <a:pt x="166" y="981"/>
                  </a:lnTo>
                  <a:lnTo>
                    <a:pt x="181" y="992"/>
                  </a:lnTo>
                  <a:lnTo>
                    <a:pt x="196" y="1005"/>
                  </a:lnTo>
                  <a:lnTo>
                    <a:pt x="212" y="1020"/>
                  </a:lnTo>
                  <a:lnTo>
                    <a:pt x="228" y="1037"/>
                  </a:lnTo>
                  <a:lnTo>
                    <a:pt x="244" y="1057"/>
                  </a:lnTo>
                  <a:lnTo>
                    <a:pt x="259" y="1077"/>
                  </a:lnTo>
                  <a:lnTo>
                    <a:pt x="275" y="1097"/>
                  </a:lnTo>
                  <a:lnTo>
                    <a:pt x="291" y="1118"/>
                  </a:lnTo>
                  <a:lnTo>
                    <a:pt x="306" y="1102"/>
                  </a:lnTo>
                  <a:lnTo>
                    <a:pt x="325" y="1088"/>
                  </a:lnTo>
                  <a:lnTo>
                    <a:pt x="345" y="1073"/>
                  </a:lnTo>
                  <a:lnTo>
                    <a:pt x="367" y="1057"/>
                  </a:lnTo>
                  <a:lnTo>
                    <a:pt x="390" y="1042"/>
                  </a:lnTo>
                  <a:lnTo>
                    <a:pt x="410" y="1026"/>
                  </a:lnTo>
                  <a:lnTo>
                    <a:pt x="429" y="1009"/>
                  </a:lnTo>
                  <a:lnTo>
                    <a:pt x="443" y="990"/>
                  </a:lnTo>
                  <a:lnTo>
                    <a:pt x="455" y="968"/>
                  </a:lnTo>
                  <a:lnTo>
                    <a:pt x="467" y="937"/>
                  </a:lnTo>
                  <a:lnTo>
                    <a:pt x="478" y="902"/>
                  </a:lnTo>
                  <a:lnTo>
                    <a:pt x="488" y="865"/>
                  </a:lnTo>
                  <a:lnTo>
                    <a:pt x="496" y="826"/>
                  </a:lnTo>
                  <a:lnTo>
                    <a:pt x="504" y="788"/>
                  </a:lnTo>
                  <a:lnTo>
                    <a:pt x="511" y="753"/>
                  </a:lnTo>
                  <a:lnTo>
                    <a:pt x="515" y="723"/>
                  </a:lnTo>
                  <a:lnTo>
                    <a:pt x="510" y="723"/>
                  </a:lnTo>
                  <a:lnTo>
                    <a:pt x="503" y="723"/>
                  </a:lnTo>
                  <a:lnTo>
                    <a:pt x="495" y="721"/>
                  </a:lnTo>
                  <a:lnTo>
                    <a:pt x="488" y="719"/>
                  </a:lnTo>
                  <a:lnTo>
                    <a:pt x="479" y="713"/>
                  </a:lnTo>
                  <a:lnTo>
                    <a:pt x="471" y="707"/>
                  </a:lnTo>
                  <a:lnTo>
                    <a:pt x="462" y="699"/>
                  </a:lnTo>
                  <a:lnTo>
                    <a:pt x="452" y="688"/>
                  </a:lnTo>
                  <a:lnTo>
                    <a:pt x="454" y="703"/>
                  </a:lnTo>
                  <a:lnTo>
                    <a:pt x="454" y="719"/>
                  </a:lnTo>
                  <a:lnTo>
                    <a:pt x="458" y="737"/>
                  </a:lnTo>
                  <a:lnTo>
                    <a:pt x="467" y="761"/>
                  </a:lnTo>
                  <a:lnTo>
                    <a:pt x="455" y="756"/>
                  </a:lnTo>
                  <a:lnTo>
                    <a:pt x="444" y="749"/>
                  </a:lnTo>
                  <a:lnTo>
                    <a:pt x="434" y="740"/>
                  </a:lnTo>
                  <a:lnTo>
                    <a:pt x="425" y="728"/>
                  </a:lnTo>
                  <a:lnTo>
                    <a:pt x="417" y="716"/>
                  </a:lnTo>
                  <a:lnTo>
                    <a:pt x="410" y="704"/>
                  </a:lnTo>
                  <a:lnTo>
                    <a:pt x="406" y="691"/>
                  </a:lnTo>
                  <a:lnTo>
                    <a:pt x="402" y="679"/>
                  </a:lnTo>
                  <a:lnTo>
                    <a:pt x="399" y="667"/>
                  </a:lnTo>
                  <a:lnTo>
                    <a:pt x="398" y="657"/>
                  </a:lnTo>
                  <a:lnTo>
                    <a:pt x="397" y="647"/>
                  </a:lnTo>
                  <a:lnTo>
                    <a:pt x="394" y="639"/>
                  </a:lnTo>
                  <a:lnTo>
                    <a:pt x="389" y="632"/>
                  </a:lnTo>
                  <a:lnTo>
                    <a:pt x="382" y="625"/>
                  </a:lnTo>
                  <a:lnTo>
                    <a:pt x="373" y="620"/>
                  </a:lnTo>
                  <a:lnTo>
                    <a:pt x="361" y="616"/>
                  </a:lnTo>
                  <a:lnTo>
                    <a:pt x="345" y="612"/>
                  </a:lnTo>
                  <a:lnTo>
                    <a:pt x="327" y="604"/>
                  </a:lnTo>
                  <a:lnTo>
                    <a:pt x="309" y="596"/>
                  </a:lnTo>
                  <a:lnTo>
                    <a:pt x="290" y="584"/>
                  </a:lnTo>
                  <a:lnTo>
                    <a:pt x="273" y="571"/>
                  </a:lnTo>
                  <a:lnTo>
                    <a:pt x="258" y="555"/>
                  </a:lnTo>
                  <a:lnTo>
                    <a:pt x="246" y="536"/>
                  </a:lnTo>
                  <a:lnTo>
                    <a:pt x="238" y="515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53040" y="2778480"/>
              <a:ext cx="90360" cy="129240"/>
            </a:xfrm>
            <a:custGeom>
              <a:avLst/>
              <a:gdLst/>
              <a:ahLst/>
              <a:rect l="l" t="t" r="r" b="b"/>
              <a:pathLst>
                <a:path w="145" h="212">
                  <a:moveTo>
                    <a:pt x="70" y="0"/>
                  </a:moveTo>
                  <a:lnTo>
                    <a:pt x="69" y="20"/>
                  </a:lnTo>
                  <a:lnTo>
                    <a:pt x="72" y="49"/>
                  </a:lnTo>
                  <a:lnTo>
                    <a:pt x="80" y="80"/>
                  </a:lnTo>
                  <a:lnTo>
                    <a:pt x="94" y="104"/>
                  </a:lnTo>
                  <a:lnTo>
                    <a:pt x="105" y="113"/>
                  </a:lnTo>
                  <a:lnTo>
                    <a:pt x="115" y="124"/>
                  </a:lnTo>
                  <a:lnTo>
                    <a:pt x="126" y="136"/>
                  </a:lnTo>
                  <a:lnTo>
                    <a:pt x="135" y="147"/>
                  </a:lnTo>
                  <a:lnTo>
                    <a:pt x="142" y="159"/>
                  </a:lnTo>
                  <a:lnTo>
                    <a:pt x="145" y="171"/>
                  </a:lnTo>
                  <a:lnTo>
                    <a:pt x="142" y="180"/>
                  </a:lnTo>
                  <a:lnTo>
                    <a:pt x="131" y="189"/>
                  </a:lnTo>
                  <a:lnTo>
                    <a:pt x="125" y="187"/>
                  </a:lnTo>
                  <a:lnTo>
                    <a:pt x="119" y="187"/>
                  </a:lnTo>
                  <a:lnTo>
                    <a:pt x="114" y="189"/>
                  </a:lnTo>
                  <a:lnTo>
                    <a:pt x="110" y="196"/>
                  </a:lnTo>
                  <a:lnTo>
                    <a:pt x="105" y="203"/>
                  </a:lnTo>
                  <a:lnTo>
                    <a:pt x="98" y="205"/>
                  </a:lnTo>
                  <a:lnTo>
                    <a:pt x="90" y="205"/>
                  </a:lnTo>
                  <a:lnTo>
                    <a:pt x="81" y="203"/>
                  </a:lnTo>
                  <a:lnTo>
                    <a:pt x="72" y="200"/>
                  </a:lnTo>
                  <a:lnTo>
                    <a:pt x="64" y="200"/>
                  </a:lnTo>
                  <a:lnTo>
                    <a:pt x="58" y="203"/>
                  </a:lnTo>
                  <a:lnTo>
                    <a:pt x="50" y="208"/>
                  </a:lnTo>
                  <a:lnTo>
                    <a:pt x="44" y="211"/>
                  </a:lnTo>
                  <a:lnTo>
                    <a:pt x="36" y="212"/>
                  </a:lnTo>
                  <a:lnTo>
                    <a:pt x="26" y="212"/>
                  </a:lnTo>
                  <a:lnTo>
                    <a:pt x="17" y="209"/>
                  </a:lnTo>
                  <a:lnTo>
                    <a:pt x="8" y="204"/>
                  </a:lnTo>
                  <a:lnTo>
                    <a:pt x="2" y="195"/>
                  </a:lnTo>
                  <a:lnTo>
                    <a:pt x="0" y="184"/>
                  </a:lnTo>
                  <a:lnTo>
                    <a:pt x="2" y="168"/>
                  </a:lnTo>
                  <a:lnTo>
                    <a:pt x="4" y="177"/>
                  </a:lnTo>
                  <a:lnTo>
                    <a:pt x="6" y="185"/>
                  </a:lnTo>
                  <a:lnTo>
                    <a:pt x="10" y="192"/>
                  </a:lnTo>
                  <a:lnTo>
                    <a:pt x="16" y="196"/>
                  </a:lnTo>
                  <a:lnTo>
                    <a:pt x="21" y="199"/>
                  </a:lnTo>
                  <a:lnTo>
                    <a:pt x="29" y="199"/>
                  </a:lnTo>
                  <a:lnTo>
                    <a:pt x="37" y="197"/>
                  </a:lnTo>
                  <a:lnTo>
                    <a:pt x="45" y="192"/>
                  </a:lnTo>
                  <a:lnTo>
                    <a:pt x="50" y="188"/>
                  </a:lnTo>
                  <a:lnTo>
                    <a:pt x="56" y="185"/>
                  </a:lnTo>
                  <a:lnTo>
                    <a:pt x="61" y="184"/>
                  </a:lnTo>
                  <a:lnTo>
                    <a:pt x="66" y="181"/>
                  </a:lnTo>
                  <a:lnTo>
                    <a:pt x="72" y="181"/>
                  </a:lnTo>
                  <a:lnTo>
                    <a:pt x="77" y="181"/>
                  </a:lnTo>
                  <a:lnTo>
                    <a:pt x="81" y="183"/>
                  </a:lnTo>
                  <a:lnTo>
                    <a:pt x="85" y="184"/>
                  </a:lnTo>
                  <a:lnTo>
                    <a:pt x="92" y="184"/>
                  </a:lnTo>
                  <a:lnTo>
                    <a:pt x="100" y="179"/>
                  </a:lnTo>
                  <a:lnTo>
                    <a:pt x="107" y="175"/>
                  </a:lnTo>
                  <a:lnTo>
                    <a:pt x="118" y="175"/>
                  </a:lnTo>
                  <a:lnTo>
                    <a:pt x="125" y="171"/>
                  </a:lnTo>
                  <a:lnTo>
                    <a:pt x="126" y="164"/>
                  </a:lnTo>
                  <a:lnTo>
                    <a:pt x="123" y="156"/>
                  </a:lnTo>
                  <a:lnTo>
                    <a:pt x="118" y="147"/>
                  </a:lnTo>
                  <a:lnTo>
                    <a:pt x="111" y="139"/>
                  </a:lnTo>
                  <a:lnTo>
                    <a:pt x="104" y="129"/>
                  </a:lnTo>
                  <a:lnTo>
                    <a:pt x="96" y="121"/>
                  </a:lnTo>
                  <a:lnTo>
                    <a:pt x="89" y="116"/>
                  </a:lnTo>
                  <a:lnTo>
                    <a:pt x="82" y="109"/>
                  </a:lnTo>
                  <a:lnTo>
                    <a:pt x="76" y="97"/>
                  </a:lnTo>
                  <a:lnTo>
                    <a:pt x="69" y="83"/>
                  </a:lnTo>
                  <a:lnTo>
                    <a:pt x="64" y="65"/>
                  </a:lnTo>
                  <a:lnTo>
                    <a:pt x="60" y="48"/>
                  </a:lnTo>
                  <a:lnTo>
                    <a:pt x="60" y="29"/>
                  </a:lnTo>
                  <a:lnTo>
                    <a:pt x="62" y="1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60880" y="2778480"/>
              <a:ext cx="78840" cy="42480"/>
            </a:xfrm>
            <a:custGeom>
              <a:avLst/>
              <a:gdLst/>
              <a:ahLst/>
              <a:rect l="l" t="t" r="r" b="b"/>
              <a:pathLst>
                <a:path w="128" h="68">
                  <a:moveTo>
                    <a:pt x="0" y="68"/>
                  </a:moveTo>
                  <a:lnTo>
                    <a:pt x="10" y="51"/>
                  </a:lnTo>
                  <a:lnTo>
                    <a:pt x="23" y="36"/>
                  </a:lnTo>
                  <a:lnTo>
                    <a:pt x="38" y="24"/>
                  </a:lnTo>
                  <a:lnTo>
                    <a:pt x="54" y="14"/>
                  </a:lnTo>
                  <a:lnTo>
                    <a:pt x="70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24" y="6"/>
                  </a:lnTo>
                  <a:lnTo>
                    <a:pt x="128" y="12"/>
                  </a:lnTo>
                  <a:lnTo>
                    <a:pt x="125" y="19"/>
                  </a:lnTo>
                  <a:lnTo>
                    <a:pt x="113" y="22"/>
                  </a:lnTo>
                  <a:lnTo>
                    <a:pt x="104" y="22"/>
                  </a:lnTo>
                  <a:lnTo>
                    <a:pt x="92" y="22"/>
                  </a:lnTo>
                  <a:lnTo>
                    <a:pt x="79" y="23"/>
                  </a:lnTo>
                  <a:lnTo>
                    <a:pt x="64" y="27"/>
                  </a:lnTo>
                  <a:lnTo>
                    <a:pt x="48" y="32"/>
                  </a:lnTo>
                  <a:lnTo>
                    <a:pt x="31" y="40"/>
                  </a:lnTo>
                  <a:lnTo>
                    <a:pt x="15" y="5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69880" y="2809800"/>
              <a:ext cx="81000" cy="34920"/>
            </a:xfrm>
            <a:custGeom>
              <a:avLst/>
              <a:gdLst/>
              <a:ahLst/>
              <a:rect l="l" t="t" r="r" b="b"/>
              <a:pathLst>
                <a:path w="131" h="56">
                  <a:moveTo>
                    <a:pt x="0" y="56"/>
                  </a:moveTo>
                  <a:lnTo>
                    <a:pt x="6" y="47"/>
                  </a:lnTo>
                  <a:lnTo>
                    <a:pt x="16" y="36"/>
                  </a:lnTo>
                  <a:lnTo>
                    <a:pt x="30" y="23"/>
                  </a:lnTo>
                  <a:lnTo>
                    <a:pt x="47" y="12"/>
                  </a:lnTo>
                  <a:lnTo>
                    <a:pt x="67" y="3"/>
                  </a:lnTo>
                  <a:lnTo>
                    <a:pt x="87" y="0"/>
                  </a:lnTo>
                  <a:lnTo>
                    <a:pt x="108" y="3"/>
                  </a:lnTo>
                  <a:lnTo>
                    <a:pt x="131" y="13"/>
                  </a:lnTo>
                  <a:lnTo>
                    <a:pt x="113" y="16"/>
                  </a:lnTo>
                  <a:lnTo>
                    <a:pt x="115" y="31"/>
                  </a:lnTo>
                  <a:lnTo>
                    <a:pt x="112" y="41"/>
                  </a:lnTo>
                  <a:lnTo>
                    <a:pt x="104" y="51"/>
                  </a:lnTo>
                  <a:lnTo>
                    <a:pt x="92" y="55"/>
                  </a:lnTo>
                  <a:lnTo>
                    <a:pt x="80" y="55"/>
                  </a:lnTo>
                  <a:lnTo>
                    <a:pt x="71" y="49"/>
                  </a:lnTo>
                  <a:lnTo>
                    <a:pt x="64" y="41"/>
                  </a:lnTo>
                  <a:lnTo>
                    <a:pt x="60" y="28"/>
                  </a:lnTo>
                  <a:lnTo>
                    <a:pt x="55" y="29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5" y="35"/>
                  </a:lnTo>
                  <a:lnTo>
                    <a:pt x="28" y="39"/>
                  </a:lnTo>
                  <a:lnTo>
                    <a:pt x="20" y="43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93360" y="2795400"/>
              <a:ext cx="58680" cy="2592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4" y="36"/>
                  </a:moveTo>
                  <a:lnTo>
                    <a:pt x="1" y="37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11" y="21"/>
                  </a:lnTo>
                  <a:lnTo>
                    <a:pt x="21" y="14"/>
                  </a:lnTo>
                  <a:lnTo>
                    <a:pt x="32" y="8"/>
                  </a:lnTo>
                  <a:lnTo>
                    <a:pt x="44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7" y="10"/>
                  </a:lnTo>
                  <a:lnTo>
                    <a:pt x="84" y="13"/>
                  </a:lnTo>
                  <a:lnTo>
                    <a:pt x="85" y="25"/>
                  </a:lnTo>
                  <a:lnTo>
                    <a:pt x="82" y="34"/>
                  </a:lnTo>
                  <a:lnTo>
                    <a:pt x="76" y="41"/>
                  </a:lnTo>
                  <a:lnTo>
                    <a:pt x="66" y="44"/>
                  </a:lnTo>
                  <a:lnTo>
                    <a:pt x="57" y="44"/>
                  </a:lnTo>
                  <a:lnTo>
                    <a:pt x="49" y="41"/>
                  </a:lnTo>
                  <a:lnTo>
                    <a:pt x="42" y="33"/>
                  </a:lnTo>
                  <a:lnTo>
                    <a:pt x="39" y="22"/>
                  </a:lnTo>
                  <a:lnTo>
                    <a:pt x="32" y="24"/>
                  </a:lnTo>
                  <a:lnTo>
                    <a:pt x="24" y="26"/>
                  </a:lnTo>
                  <a:lnTo>
                    <a:pt x="15" y="30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8280" y="2917080"/>
              <a:ext cx="110160" cy="5868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0" y="47"/>
                  </a:moveTo>
                  <a:lnTo>
                    <a:pt x="8" y="43"/>
                  </a:lnTo>
                  <a:lnTo>
                    <a:pt x="18" y="37"/>
                  </a:lnTo>
                  <a:lnTo>
                    <a:pt x="28" y="33"/>
                  </a:lnTo>
                  <a:lnTo>
                    <a:pt x="38" y="28"/>
                  </a:lnTo>
                  <a:lnTo>
                    <a:pt x="48" y="23"/>
                  </a:lnTo>
                  <a:lnTo>
                    <a:pt x="56" y="19"/>
                  </a:lnTo>
                  <a:lnTo>
                    <a:pt x="64" y="15"/>
                  </a:lnTo>
                  <a:lnTo>
                    <a:pt x="70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6" y="5"/>
                  </a:lnTo>
                  <a:lnTo>
                    <a:pt x="104" y="7"/>
                  </a:lnTo>
                  <a:lnTo>
                    <a:pt x="112" y="11"/>
                  </a:lnTo>
                  <a:lnTo>
                    <a:pt x="120" y="16"/>
                  </a:lnTo>
                  <a:lnTo>
                    <a:pt x="127" y="11"/>
                  </a:lnTo>
                  <a:lnTo>
                    <a:pt x="135" y="5"/>
                  </a:lnTo>
                  <a:lnTo>
                    <a:pt x="143" y="3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1"/>
                  </a:lnTo>
                  <a:lnTo>
                    <a:pt x="172" y="4"/>
                  </a:lnTo>
                  <a:lnTo>
                    <a:pt x="177" y="9"/>
                  </a:lnTo>
                  <a:lnTo>
                    <a:pt x="181" y="19"/>
                  </a:lnTo>
                  <a:lnTo>
                    <a:pt x="180" y="25"/>
                  </a:lnTo>
                  <a:lnTo>
                    <a:pt x="176" y="31"/>
                  </a:lnTo>
                  <a:lnTo>
                    <a:pt x="169" y="36"/>
                  </a:lnTo>
                  <a:lnTo>
                    <a:pt x="176" y="47"/>
                  </a:lnTo>
                  <a:lnTo>
                    <a:pt x="180" y="60"/>
                  </a:lnTo>
                  <a:lnTo>
                    <a:pt x="177" y="73"/>
                  </a:lnTo>
                  <a:lnTo>
                    <a:pt x="169" y="85"/>
                  </a:lnTo>
                  <a:lnTo>
                    <a:pt x="161" y="91"/>
                  </a:lnTo>
                  <a:lnTo>
                    <a:pt x="149" y="95"/>
                  </a:lnTo>
                  <a:lnTo>
                    <a:pt x="133" y="97"/>
                  </a:lnTo>
                  <a:lnTo>
                    <a:pt x="116" y="97"/>
                  </a:lnTo>
                  <a:lnTo>
                    <a:pt x="100" y="97"/>
                  </a:lnTo>
                  <a:lnTo>
                    <a:pt x="84" y="95"/>
                  </a:lnTo>
                  <a:lnTo>
                    <a:pt x="71" y="91"/>
                  </a:lnTo>
                  <a:lnTo>
                    <a:pt x="63" y="85"/>
                  </a:lnTo>
                  <a:lnTo>
                    <a:pt x="56" y="79"/>
                  </a:lnTo>
                  <a:lnTo>
                    <a:pt x="50" y="72"/>
                  </a:lnTo>
                  <a:lnTo>
                    <a:pt x="42" y="65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16" y="52"/>
                  </a:lnTo>
                  <a:lnTo>
                    <a:pt x="8" y="4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9600" y="2940840"/>
              <a:ext cx="58680" cy="9000"/>
            </a:xfrm>
            <a:custGeom>
              <a:avLst/>
              <a:gdLst/>
              <a:ahLst/>
              <a:rect l="l" t="t" r="r" b="b"/>
              <a:pathLst>
                <a:path w="107" h="16">
                  <a:moveTo>
                    <a:pt x="107" y="0"/>
                  </a:moveTo>
                  <a:lnTo>
                    <a:pt x="104" y="4"/>
                  </a:lnTo>
                  <a:lnTo>
                    <a:pt x="97" y="8"/>
                  </a:lnTo>
                  <a:lnTo>
                    <a:pt x="89" y="12"/>
                  </a:lnTo>
                  <a:lnTo>
                    <a:pt x="78" y="15"/>
                  </a:lnTo>
                  <a:lnTo>
                    <a:pt x="62" y="16"/>
                  </a:lnTo>
                  <a:lnTo>
                    <a:pt x="44" y="16"/>
                  </a:lnTo>
                  <a:lnTo>
                    <a:pt x="24" y="13"/>
                  </a:lnTo>
                  <a:lnTo>
                    <a:pt x="0" y="9"/>
                  </a:lnTo>
                  <a:lnTo>
                    <a:pt x="11" y="8"/>
                  </a:lnTo>
                  <a:lnTo>
                    <a:pt x="24" y="8"/>
                  </a:lnTo>
                  <a:lnTo>
                    <a:pt x="38" y="8"/>
                  </a:lnTo>
                  <a:lnTo>
                    <a:pt x="52" y="7"/>
                  </a:lnTo>
                  <a:lnTo>
                    <a:pt x="67" y="7"/>
                  </a:lnTo>
                  <a:lnTo>
                    <a:pt x="81" y="5"/>
                  </a:lnTo>
                  <a:lnTo>
                    <a:pt x="95" y="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84360" y="2751120"/>
              <a:ext cx="58680" cy="2376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0" y="38"/>
                  </a:moveTo>
                  <a:lnTo>
                    <a:pt x="5" y="34"/>
                  </a:lnTo>
                  <a:lnTo>
                    <a:pt x="15" y="30"/>
                  </a:lnTo>
                  <a:lnTo>
                    <a:pt x="25" y="24"/>
                  </a:lnTo>
                  <a:lnTo>
                    <a:pt x="39" y="22"/>
                  </a:lnTo>
                  <a:lnTo>
                    <a:pt x="52" y="19"/>
                  </a:lnTo>
                  <a:lnTo>
                    <a:pt x="65" y="18"/>
                  </a:lnTo>
                  <a:lnTo>
                    <a:pt x="78" y="18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97" y="11"/>
                  </a:lnTo>
                  <a:lnTo>
                    <a:pt x="92" y="3"/>
                  </a:lnTo>
                  <a:lnTo>
                    <a:pt x="82" y="0"/>
                  </a:lnTo>
                  <a:lnTo>
                    <a:pt x="68" y="2"/>
                  </a:lnTo>
                  <a:lnTo>
                    <a:pt x="55" y="4"/>
                  </a:lnTo>
                  <a:lnTo>
                    <a:pt x="43" y="8"/>
                  </a:lnTo>
                  <a:lnTo>
                    <a:pt x="32" y="14"/>
                  </a:lnTo>
                  <a:lnTo>
                    <a:pt x="21" y="20"/>
                  </a:lnTo>
                  <a:lnTo>
                    <a:pt x="13" y="26"/>
                  </a:lnTo>
                  <a:lnTo>
                    <a:pt x="5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64400" y="2881800"/>
              <a:ext cx="34920" cy="5184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57" y="16"/>
                  </a:moveTo>
                  <a:lnTo>
                    <a:pt x="51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5"/>
                  </a:lnTo>
                  <a:lnTo>
                    <a:pt x="2" y="19"/>
                  </a:lnTo>
                  <a:lnTo>
                    <a:pt x="0" y="39"/>
                  </a:lnTo>
                  <a:lnTo>
                    <a:pt x="10" y="61"/>
                  </a:lnTo>
                  <a:lnTo>
                    <a:pt x="30" y="85"/>
                  </a:lnTo>
                  <a:lnTo>
                    <a:pt x="23" y="69"/>
                  </a:lnTo>
                  <a:lnTo>
                    <a:pt x="16" y="55"/>
                  </a:lnTo>
                  <a:lnTo>
                    <a:pt x="14" y="40"/>
                  </a:lnTo>
                  <a:lnTo>
                    <a:pt x="12" y="28"/>
                  </a:lnTo>
                  <a:lnTo>
                    <a:pt x="16" y="20"/>
                  </a:lnTo>
                  <a:lnTo>
                    <a:pt x="24" y="13"/>
                  </a:lnTo>
                  <a:lnTo>
                    <a:pt x="38" y="12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68840" y="2862000"/>
              <a:ext cx="1197720" cy="487080"/>
            </a:xfrm>
            <a:custGeom>
              <a:avLst/>
              <a:gdLst/>
              <a:ahLst/>
              <a:rect l="l" t="t" r="r" b="b"/>
              <a:pathLst>
                <a:path w="1947" h="791">
                  <a:moveTo>
                    <a:pt x="83" y="0"/>
                  </a:moveTo>
                  <a:lnTo>
                    <a:pt x="80" y="7"/>
                  </a:lnTo>
                  <a:lnTo>
                    <a:pt x="80" y="15"/>
                  </a:lnTo>
                  <a:lnTo>
                    <a:pt x="83" y="25"/>
                  </a:lnTo>
                  <a:lnTo>
                    <a:pt x="85" y="37"/>
                  </a:lnTo>
                  <a:lnTo>
                    <a:pt x="91" y="51"/>
                  </a:lnTo>
                  <a:lnTo>
                    <a:pt x="97" y="63"/>
                  </a:lnTo>
                  <a:lnTo>
                    <a:pt x="105" y="75"/>
                  </a:lnTo>
                  <a:lnTo>
                    <a:pt x="115" y="85"/>
                  </a:lnTo>
                  <a:lnTo>
                    <a:pt x="124" y="97"/>
                  </a:lnTo>
                  <a:lnTo>
                    <a:pt x="131" y="114"/>
                  </a:lnTo>
                  <a:lnTo>
                    <a:pt x="136" y="134"/>
                  </a:lnTo>
                  <a:lnTo>
                    <a:pt x="137" y="154"/>
                  </a:lnTo>
                  <a:lnTo>
                    <a:pt x="132" y="174"/>
                  </a:lnTo>
                  <a:lnTo>
                    <a:pt x="123" y="192"/>
                  </a:lnTo>
                  <a:lnTo>
                    <a:pt x="104" y="204"/>
                  </a:lnTo>
                  <a:lnTo>
                    <a:pt x="79" y="209"/>
                  </a:lnTo>
                  <a:lnTo>
                    <a:pt x="83" y="216"/>
                  </a:lnTo>
                  <a:lnTo>
                    <a:pt x="89" y="225"/>
                  </a:lnTo>
                  <a:lnTo>
                    <a:pt x="99" y="236"/>
                  </a:lnTo>
                  <a:lnTo>
                    <a:pt x="108" y="246"/>
                  </a:lnTo>
                  <a:lnTo>
                    <a:pt x="120" y="256"/>
                  </a:lnTo>
                  <a:lnTo>
                    <a:pt x="132" y="262"/>
                  </a:lnTo>
                  <a:lnTo>
                    <a:pt x="147" y="268"/>
                  </a:lnTo>
                  <a:lnTo>
                    <a:pt x="161" y="268"/>
                  </a:lnTo>
                  <a:lnTo>
                    <a:pt x="147" y="274"/>
                  </a:lnTo>
                  <a:lnTo>
                    <a:pt x="132" y="277"/>
                  </a:lnTo>
                  <a:lnTo>
                    <a:pt x="120" y="276"/>
                  </a:lnTo>
                  <a:lnTo>
                    <a:pt x="108" y="272"/>
                  </a:lnTo>
                  <a:lnTo>
                    <a:pt x="96" y="264"/>
                  </a:lnTo>
                  <a:lnTo>
                    <a:pt x="87" y="254"/>
                  </a:lnTo>
                  <a:lnTo>
                    <a:pt x="79" y="242"/>
                  </a:lnTo>
                  <a:lnTo>
                    <a:pt x="71" y="230"/>
                  </a:lnTo>
                  <a:lnTo>
                    <a:pt x="64" y="217"/>
                  </a:lnTo>
                  <a:lnTo>
                    <a:pt x="56" y="205"/>
                  </a:lnTo>
                  <a:lnTo>
                    <a:pt x="48" y="192"/>
                  </a:lnTo>
                  <a:lnTo>
                    <a:pt x="40" y="181"/>
                  </a:lnTo>
                  <a:lnTo>
                    <a:pt x="31" y="170"/>
                  </a:lnTo>
                  <a:lnTo>
                    <a:pt x="23" y="162"/>
                  </a:lnTo>
                  <a:lnTo>
                    <a:pt x="15" y="156"/>
                  </a:lnTo>
                  <a:lnTo>
                    <a:pt x="8" y="152"/>
                  </a:lnTo>
                  <a:lnTo>
                    <a:pt x="3" y="153"/>
                  </a:lnTo>
                  <a:lnTo>
                    <a:pt x="0" y="160"/>
                  </a:lnTo>
                  <a:lnTo>
                    <a:pt x="2" y="170"/>
                  </a:lnTo>
                  <a:lnTo>
                    <a:pt x="4" y="185"/>
                  </a:lnTo>
                  <a:lnTo>
                    <a:pt x="8" y="200"/>
                  </a:lnTo>
                  <a:lnTo>
                    <a:pt x="15" y="216"/>
                  </a:lnTo>
                  <a:lnTo>
                    <a:pt x="21" y="229"/>
                  </a:lnTo>
                  <a:lnTo>
                    <a:pt x="29" y="240"/>
                  </a:lnTo>
                  <a:lnTo>
                    <a:pt x="37" y="249"/>
                  </a:lnTo>
                  <a:lnTo>
                    <a:pt x="45" y="260"/>
                  </a:lnTo>
                  <a:lnTo>
                    <a:pt x="55" y="272"/>
                  </a:lnTo>
                  <a:lnTo>
                    <a:pt x="64" y="282"/>
                  </a:lnTo>
                  <a:lnTo>
                    <a:pt x="73" y="294"/>
                  </a:lnTo>
                  <a:lnTo>
                    <a:pt x="83" y="305"/>
                  </a:lnTo>
                  <a:lnTo>
                    <a:pt x="92" y="314"/>
                  </a:lnTo>
                  <a:lnTo>
                    <a:pt x="101" y="324"/>
                  </a:lnTo>
                  <a:lnTo>
                    <a:pt x="111" y="332"/>
                  </a:lnTo>
                  <a:lnTo>
                    <a:pt x="124" y="341"/>
                  </a:lnTo>
                  <a:lnTo>
                    <a:pt x="141" y="349"/>
                  </a:lnTo>
                  <a:lnTo>
                    <a:pt x="164" y="357"/>
                  </a:lnTo>
                  <a:lnTo>
                    <a:pt x="191" y="365"/>
                  </a:lnTo>
                  <a:lnTo>
                    <a:pt x="222" y="370"/>
                  </a:lnTo>
                  <a:lnTo>
                    <a:pt x="262" y="374"/>
                  </a:lnTo>
                  <a:lnTo>
                    <a:pt x="309" y="376"/>
                  </a:lnTo>
                  <a:lnTo>
                    <a:pt x="334" y="376"/>
                  </a:lnTo>
                  <a:lnTo>
                    <a:pt x="358" y="377"/>
                  </a:lnTo>
                  <a:lnTo>
                    <a:pt x="382" y="380"/>
                  </a:lnTo>
                  <a:lnTo>
                    <a:pt x="405" y="382"/>
                  </a:lnTo>
                  <a:lnTo>
                    <a:pt x="427" y="386"/>
                  </a:lnTo>
                  <a:lnTo>
                    <a:pt x="449" y="390"/>
                  </a:lnTo>
                  <a:lnTo>
                    <a:pt x="470" y="394"/>
                  </a:lnTo>
                  <a:lnTo>
                    <a:pt x="490" y="400"/>
                  </a:lnTo>
                  <a:lnTo>
                    <a:pt x="509" y="405"/>
                  </a:lnTo>
                  <a:lnTo>
                    <a:pt x="526" y="412"/>
                  </a:lnTo>
                  <a:lnTo>
                    <a:pt x="543" y="417"/>
                  </a:lnTo>
                  <a:lnTo>
                    <a:pt x="559" y="422"/>
                  </a:lnTo>
                  <a:lnTo>
                    <a:pt x="575" y="429"/>
                  </a:lnTo>
                  <a:lnTo>
                    <a:pt x="588" y="434"/>
                  </a:lnTo>
                  <a:lnTo>
                    <a:pt x="602" y="441"/>
                  </a:lnTo>
                  <a:lnTo>
                    <a:pt x="614" y="446"/>
                  </a:lnTo>
                  <a:lnTo>
                    <a:pt x="638" y="458"/>
                  </a:lnTo>
                  <a:lnTo>
                    <a:pt x="663" y="469"/>
                  </a:lnTo>
                  <a:lnTo>
                    <a:pt x="690" y="481"/>
                  </a:lnTo>
                  <a:lnTo>
                    <a:pt x="715" y="491"/>
                  </a:lnTo>
                  <a:lnTo>
                    <a:pt x="741" y="502"/>
                  </a:lnTo>
                  <a:lnTo>
                    <a:pt x="769" y="513"/>
                  </a:lnTo>
                  <a:lnTo>
                    <a:pt x="796" y="522"/>
                  </a:lnTo>
                  <a:lnTo>
                    <a:pt x="824" y="530"/>
                  </a:lnTo>
                  <a:lnTo>
                    <a:pt x="852" y="538"/>
                  </a:lnTo>
                  <a:lnTo>
                    <a:pt x="880" y="545"/>
                  </a:lnTo>
                  <a:lnTo>
                    <a:pt x="907" y="551"/>
                  </a:lnTo>
                  <a:lnTo>
                    <a:pt x="934" y="557"/>
                  </a:lnTo>
                  <a:lnTo>
                    <a:pt x="961" y="559"/>
                  </a:lnTo>
                  <a:lnTo>
                    <a:pt x="988" y="562"/>
                  </a:lnTo>
                  <a:lnTo>
                    <a:pt x="1014" y="563"/>
                  </a:lnTo>
                  <a:lnTo>
                    <a:pt x="1040" y="563"/>
                  </a:lnTo>
                  <a:lnTo>
                    <a:pt x="1065" y="563"/>
                  </a:lnTo>
                  <a:lnTo>
                    <a:pt x="1089" y="565"/>
                  </a:lnTo>
                  <a:lnTo>
                    <a:pt x="1113" y="566"/>
                  </a:lnTo>
                  <a:lnTo>
                    <a:pt x="1137" y="569"/>
                  </a:lnTo>
                  <a:lnTo>
                    <a:pt x="1161" y="571"/>
                  </a:lnTo>
                  <a:lnTo>
                    <a:pt x="1183" y="575"/>
                  </a:lnTo>
                  <a:lnTo>
                    <a:pt x="1207" y="579"/>
                  </a:lnTo>
                  <a:lnTo>
                    <a:pt x="1230" y="583"/>
                  </a:lnTo>
                  <a:lnTo>
                    <a:pt x="1253" y="587"/>
                  </a:lnTo>
                  <a:lnTo>
                    <a:pt x="1275" y="591"/>
                  </a:lnTo>
                  <a:lnTo>
                    <a:pt x="1296" y="595"/>
                  </a:lnTo>
                  <a:lnTo>
                    <a:pt x="1319" y="599"/>
                  </a:lnTo>
                  <a:lnTo>
                    <a:pt x="1340" y="602"/>
                  </a:lnTo>
                  <a:lnTo>
                    <a:pt x="1362" y="605"/>
                  </a:lnTo>
                  <a:lnTo>
                    <a:pt x="1383" y="606"/>
                  </a:lnTo>
                  <a:lnTo>
                    <a:pt x="1404" y="606"/>
                  </a:lnTo>
                  <a:lnTo>
                    <a:pt x="1426" y="606"/>
                  </a:lnTo>
                  <a:lnTo>
                    <a:pt x="1447" y="606"/>
                  </a:lnTo>
                  <a:lnTo>
                    <a:pt x="1468" y="607"/>
                  </a:lnTo>
                  <a:lnTo>
                    <a:pt x="1491" y="609"/>
                  </a:lnTo>
                  <a:lnTo>
                    <a:pt x="1513" y="610"/>
                  </a:lnTo>
                  <a:lnTo>
                    <a:pt x="1536" y="614"/>
                  </a:lnTo>
                  <a:lnTo>
                    <a:pt x="1559" y="619"/>
                  </a:lnTo>
                  <a:lnTo>
                    <a:pt x="1581" y="627"/>
                  </a:lnTo>
                  <a:lnTo>
                    <a:pt x="1604" y="637"/>
                  </a:lnTo>
                  <a:lnTo>
                    <a:pt x="1627" y="649"/>
                  </a:lnTo>
                  <a:lnTo>
                    <a:pt x="1649" y="663"/>
                  </a:lnTo>
                  <a:lnTo>
                    <a:pt x="1672" y="682"/>
                  </a:lnTo>
                  <a:lnTo>
                    <a:pt x="1693" y="703"/>
                  </a:lnTo>
                  <a:lnTo>
                    <a:pt x="1714" y="729"/>
                  </a:lnTo>
                  <a:lnTo>
                    <a:pt x="1736" y="758"/>
                  </a:lnTo>
                  <a:lnTo>
                    <a:pt x="1756" y="791"/>
                  </a:lnTo>
                  <a:lnTo>
                    <a:pt x="1790" y="781"/>
                  </a:lnTo>
                  <a:lnTo>
                    <a:pt x="1822" y="769"/>
                  </a:lnTo>
                  <a:lnTo>
                    <a:pt x="1853" y="754"/>
                  </a:lnTo>
                  <a:lnTo>
                    <a:pt x="1881" y="735"/>
                  </a:lnTo>
                  <a:lnTo>
                    <a:pt x="1905" y="713"/>
                  </a:lnTo>
                  <a:lnTo>
                    <a:pt x="1925" y="686"/>
                  </a:lnTo>
                  <a:lnTo>
                    <a:pt x="1938" y="655"/>
                  </a:lnTo>
                  <a:lnTo>
                    <a:pt x="1945" y="619"/>
                  </a:lnTo>
                  <a:lnTo>
                    <a:pt x="1947" y="585"/>
                  </a:lnTo>
                  <a:lnTo>
                    <a:pt x="1947" y="554"/>
                  </a:lnTo>
                  <a:lnTo>
                    <a:pt x="1946" y="526"/>
                  </a:lnTo>
                  <a:lnTo>
                    <a:pt x="1943" y="501"/>
                  </a:lnTo>
                  <a:lnTo>
                    <a:pt x="1937" y="475"/>
                  </a:lnTo>
                  <a:lnTo>
                    <a:pt x="1929" y="449"/>
                  </a:lnTo>
                  <a:lnTo>
                    <a:pt x="1918" y="421"/>
                  </a:lnTo>
                  <a:lnTo>
                    <a:pt x="1903" y="389"/>
                  </a:lnTo>
                  <a:lnTo>
                    <a:pt x="1890" y="393"/>
                  </a:lnTo>
                  <a:lnTo>
                    <a:pt x="1877" y="397"/>
                  </a:lnTo>
                  <a:lnTo>
                    <a:pt x="1861" y="401"/>
                  </a:lnTo>
                  <a:lnTo>
                    <a:pt x="1843" y="405"/>
                  </a:lnTo>
                  <a:lnTo>
                    <a:pt x="1825" y="409"/>
                  </a:lnTo>
                  <a:lnTo>
                    <a:pt x="1804" y="410"/>
                  </a:lnTo>
                  <a:lnTo>
                    <a:pt x="1781" y="412"/>
                  </a:lnTo>
                  <a:lnTo>
                    <a:pt x="1756" y="412"/>
                  </a:lnTo>
                  <a:lnTo>
                    <a:pt x="1742" y="410"/>
                  </a:lnTo>
                  <a:lnTo>
                    <a:pt x="1726" y="409"/>
                  </a:lnTo>
                  <a:lnTo>
                    <a:pt x="1708" y="408"/>
                  </a:lnTo>
                  <a:lnTo>
                    <a:pt x="1689" y="405"/>
                  </a:lnTo>
                  <a:lnTo>
                    <a:pt x="1669" y="404"/>
                  </a:lnTo>
                  <a:lnTo>
                    <a:pt x="1648" y="402"/>
                  </a:lnTo>
                  <a:lnTo>
                    <a:pt x="1625" y="402"/>
                  </a:lnTo>
                  <a:lnTo>
                    <a:pt x="1603" y="402"/>
                  </a:lnTo>
                  <a:lnTo>
                    <a:pt x="1579" y="404"/>
                  </a:lnTo>
                  <a:lnTo>
                    <a:pt x="1555" y="405"/>
                  </a:lnTo>
                  <a:lnTo>
                    <a:pt x="1531" y="409"/>
                  </a:lnTo>
                  <a:lnTo>
                    <a:pt x="1507" y="413"/>
                  </a:lnTo>
                  <a:lnTo>
                    <a:pt x="1483" y="420"/>
                  </a:lnTo>
                  <a:lnTo>
                    <a:pt x="1459" y="428"/>
                  </a:lnTo>
                  <a:lnTo>
                    <a:pt x="1436" y="437"/>
                  </a:lnTo>
                  <a:lnTo>
                    <a:pt x="1414" y="449"/>
                  </a:lnTo>
                  <a:lnTo>
                    <a:pt x="1394" y="449"/>
                  </a:lnTo>
                  <a:lnTo>
                    <a:pt x="1372" y="449"/>
                  </a:lnTo>
                  <a:lnTo>
                    <a:pt x="1350" y="448"/>
                  </a:lnTo>
                  <a:lnTo>
                    <a:pt x="1326" y="446"/>
                  </a:lnTo>
                  <a:lnTo>
                    <a:pt x="1302" y="445"/>
                  </a:lnTo>
                  <a:lnTo>
                    <a:pt x="1276" y="444"/>
                  </a:lnTo>
                  <a:lnTo>
                    <a:pt x="1251" y="441"/>
                  </a:lnTo>
                  <a:lnTo>
                    <a:pt x="1226" y="438"/>
                  </a:lnTo>
                  <a:lnTo>
                    <a:pt x="1202" y="436"/>
                  </a:lnTo>
                  <a:lnTo>
                    <a:pt x="1177" y="432"/>
                  </a:lnTo>
                  <a:lnTo>
                    <a:pt x="1154" y="428"/>
                  </a:lnTo>
                  <a:lnTo>
                    <a:pt x="1131" y="424"/>
                  </a:lnTo>
                  <a:lnTo>
                    <a:pt x="1110" y="417"/>
                  </a:lnTo>
                  <a:lnTo>
                    <a:pt x="1090" y="412"/>
                  </a:lnTo>
                  <a:lnTo>
                    <a:pt x="1073" y="405"/>
                  </a:lnTo>
                  <a:lnTo>
                    <a:pt x="1057" y="397"/>
                  </a:lnTo>
                  <a:lnTo>
                    <a:pt x="1041" y="389"/>
                  </a:lnTo>
                  <a:lnTo>
                    <a:pt x="1025" y="381"/>
                  </a:lnTo>
                  <a:lnTo>
                    <a:pt x="1008" y="373"/>
                  </a:lnTo>
                  <a:lnTo>
                    <a:pt x="988" y="365"/>
                  </a:lnTo>
                  <a:lnTo>
                    <a:pt x="968" y="358"/>
                  </a:lnTo>
                  <a:lnTo>
                    <a:pt x="948" y="350"/>
                  </a:lnTo>
                  <a:lnTo>
                    <a:pt x="925" y="344"/>
                  </a:lnTo>
                  <a:lnTo>
                    <a:pt x="903" y="337"/>
                  </a:lnTo>
                  <a:lnTo>
                    <a:pt x="879" y="332"/>
                  </a:lnTo>
                  <a:lnTo>
                    <a:pt x="853" y="326"/>
                  </a:lnTo>
                  <a:lnTo>
                    <a:pt x="828" y="322"/>
                  </a:lnTo>
                  <a:lnTo>
                    <a:pt x="801" y="320"/>
                  </a:lnTo>
                  <a:lnTo>
                    <a:pt x="773" y="317"/>
                  </a:lnTo>
                  <a:lnTo>
                    <a:pt x="745" y="316"/>
                  </a:lnTo>
                  <a:lnTo>
                    <a:pt x="718" y="317"/>
                  </a:lnTo>
                  <a:lnTo>
                    <a:pt x="688" y="318"/>
                  </a:lnTo>
                  <a:lnTo>
                    <a:pt x="658" y="321"/>
                  </a:lnTo>
                  <a:lnTo>
                    <a:pt x="627" y="321"/>
                  </a:lnTo>
                  <a:lnTo>
                    <a:pt x="594" y="321"/>
                  </a:lnTo>
                  <a:lnTo>
                    <a:pt x="562" y="320"/>
                  </a:lnTo>
                  <a:lnTo>
                    <a:pt x="529" y="316"/>
                  </a:lnTo>
                  <a:lnTo>
                    <a:pt x="495" y="312"/>
                  </a:lnTo>
                  <a:lnTo>
                    <a:pt x="462" y="306"/>
                  </a:lnTo>
                  <a:lnTo>
                    <a:pt x="431" y="300"/>
                  </a:lnTo>
                  <a:lnTo>
                    <a:pt x="399" y="292"/>
                  </a:lnTo>
                  <a:lnTo>
                    <a:pt x="370" y="284"/>
                  </a:lnTo>
                  <a:lnTo>
                    <a:pt x="344" y="273"/>
                  </a:lnTo>
                  <a:lnTo>
                    <a:pt x="318" y="262"/>
                  </a:lnTo>
                  <a:lnTo>
                    <a:pt x="296" y="249"/>
                  </a:lnTo>
                  <a:lnTo>
                    <a:pt x="276" y="236"/>
                  </a:lnTo>
                  <a:lnTo>
                    <a:pt x="258" y="222"/>
                  </a:lnTo>
                  <a:lnTo>
                    <a:pt x="245" y="206"/>
                  </a:lnTo>
                  <a:lnTo>
                    <a:pt x="237" y="193"/>
                  </a:lnTo>
                  <a:lnTo>
                    <a:pt x="232" y="178"/>
                  </a:lnTo>
                  <a:lnTo>
                    <a:pt x="226" y="164"/>
                  </a:lnTo>
                  <a:lnTo>
                    <a:pt x="221" y="146"/>
                  </a:lnTo>
                  <a:lnTo>
                    <a:pt x="214" y="132"/>
                  </a:lnTo>
                  <a:lnTo>
                    <a:pt x="205" y="116"/>
                  </a:lnTo>
                  <a:lnTo>
                    <a:pt x="194" y="102"/>
                  </a:lnTo>
                  <a:lnTo>
                    <a:pt x="179" y="92"/>
                  </a:lnTo>
                  <a:lnTo>
                    <a:pt x="157" y="77"/>
                  </a:lnTo>
                  <a:lnTo>
                    <a:pt x="139" y="61"/>
                  </a:lnTo>
                  <a:lnTo>
                    <a:pt x="124" y="45"/>
                  </a:lnTo>
                  <a:lnTo>
                    <a:pt x="113" y="29"/>
                  </a:lnTo>
                  <a:lnTo>
                    <a:pt x="103" y="16"/>
                  </a:lnTo>
                  <a:lnTo>
                    <a:pt x="95" y="7"/>
                  </a:lnTo>
                  <a:lnTo>
                    <a:pt x="88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55640" y="3810240"/>
              <a:ext cx="415080" cy="1075680"/>
            </a:xfrm>
            <a:custGeom>
              <a:avLst/>
              <a:gdLst/>
              <a:ahLst/>
              <a:rect l="l" t="t" r="r" b="b"/>
              <a:pathLst>
                <a:path w="675" h="1751">
                  <a:moveTo>
                    <a:pt x="237" y="4"/>
                  </a:moveTo>
                  <a:lnTo>
                    <a:pt x="230" y="20"/>
                  </a:lnTo>
                  <a:lnTo>
                    <a:pt x="222" y="40"/>
                  </a:lnTo>
                  <a:lnTo>
                    <a:pt x="216" y="64"/>
                  </a:lnTo>
                  <a:lnTo>
                    <a:pt x="210" y="92"/>
                  </a:lnTo>
                  <a:lnTo>
                    <a:pt x="208" y="123"/>
                  </a:lnTo>
                  <a:lnTo>
                    <a:pt x="206" y="155"/>
                  </a:lnTo>
                  <a:lnTo>
                    <a:pt x="210" y="189"/>
                  </a:lnTo>
                  <a:lnTo>
                    <a:pt x="218" y="225"/>
                  </a:lnTo>
                  <a:lnTo>
                    <a:pt x="230" y="269"/>
                  </a:lnTo>
                  <a:lnTo>
                    <a:pt x="244" y="327"/>
                  </a:lnTo>
                  <a:lnTo>
                    <a:pt x="258" y="392"/>
                  </a:lnTo>
                  <a:lnTo>
                    <a:pt x="273" y="461"/>
                  </a:lnTo>
                  <a:lnTo>
                    <a:pt x="288" y="530"/>
                  </a:lnTo>
                  <a:lnTo>
                    <a:pt x="300" y="596"/>
                  </a:lnTo>
                  <a:lnTo>
                    <a:pt x="309" y="652"/>
                  </a:lnTo>
                  <a:lnTo>
                    <a:pt x="314" y="696"/>
                  </a:lnTo>
                  <a:lnTo>
                    <a:pt x="317" y="730"/>
                  </a:lnTo>
                  <a:lnTo>
                    <a:pt x="320" y="765"/>
                  </a:lnTo>
                  <a:lnTo>
                    <a:pt x="320" y="798"/>
                  </a:lnTo>
                  <a:lnTo>
                    <a:pt x="317" y="830"/>
                  </a:lnTo>
                  <a:lnTo>
                    <a:pt x="310" y="862"/>
                  </a:lnTo>
                  <a:lnTo>
                    <a:pt x="301" y="893"/>
                  </a:lnTo>
                  <a:lnTo>
                    <a:pt x="286" y="923"/>
                  </a:lnTo>
                  <a:lnTo>
                    <a:pt x="268" y="955"/>
                  </a:lnTo>
                  <a:lnTo>
                    <a:pt x="245" y="987"/>
                  </a:lnTo>
                  <a:lnTo>
                    <a:pt x="224" y="1019"/>
                  </a:lnTo>
                  <a:lnTo>
                    <a:pt x="201" y="1053"/>
                  </a:lnTo>
                  <a:lnTo>
                    <a:pt x="180" y="1086"/>
                  </a:lnTo>
                  <a:lnTo>
                    <a:pt x="160" y="1121"/>
                  </a:lnTo>
                  <a:lnTo>
                    <a:pt x="142" y="1154"/>
                  </a:lnTo>
                  <a:lnTo>
                    <a:pt x="127" y="1187"/>
                  </a:lnTo>
                  <a:lnTo>
                    <a:pt x="113" y="1220"/>
                  </a:lnTo>
                  <a:lnTo>
                    <a:pt x="101" y="1254"/>
                  </a:lnTo>
                  <a:lnTo>
                    <a:pt x="87" y="1291"/>
                  </a:lnTo>
                  <a:lnTo>
                    <a:pt x="72" y="1332"/>
                  </a:lnTo>
                  <a:lnTo>
                    <a:pt x="57" y="1383"/>
                  </a:lnTo>
                  <a:lnTo>
                    <a:pt x="41" y="1443"/>
                  </a:lnTo>
                  <a:lnTo>
                    <a:pt x="27" y="1515"/>
                  </a:lnTo>
                  <a:lnTo>
                    <a:pt x="12" y="1601"/>
                  </a:lnTo>
                  <a:lnTo>
                    <a:pt x="0" y="1704"/>
                  </a:lnTo>
                  <a:lnTo>
                    <a:pt x="12" y="1703"/>
                  </a:lnTo>
                  <a:lnTo>
                    <a:pt x="23" y="1704"/>
                  </a:lnTo>
                  <a:lnTo>
                    <a:pt x="33" y="1708"/>
                  </a:lnTo>
                  <a:lnTo>
                    <a:pt x="45" y="1713"/>
                  </a:lnTo>
                  <a:lnTo>
                    <a:pt x="56" y="1719"/>
                  </a:lnTo>
                  <a:lnTo>
                    <a:pt x="68" y="1724"/>
                  </a:lnTo>
                  <a:lnTo>
                    <a:pt x="80" y="1728"/>
                  </a:lnTo>
                  <a:lnTo>
                    <a:pt x="92" y="1729"/>
                  </a:lnTo>
                  <a:lnTo>
                    <a:pt x="104" y="1729"/>
                  </a:lnTo>
                  <a:lnTo>
                    <a:pt x="116" y="1729"/>
                  </a:lnTo>
                  <a:lnTo>
                    <a:pt x="127" y="1729"/>
                  </a:lnTo>
                  <a:lnTo>
                    <a:pt x="136" y="1731"/>
                  </a:lnTo>
                  <a:lnTo>
                    <a:pt x="145" y="1733"/>
                  </a:lnTo>
                  <a:lnTo>
                    <a:pt x="154" y="1737"/>
                  </a:lnTo>
                  <a:lnTo>
                    <a:pt x="162" y="1743"/>
                  </a:lnTo>
                  <a:lnTo>
                    <a:pt x="172" y="1751"/>
                  </a:lnTo>
                  <a:lnTo>
                    <a:pt x="180" y="1720"/>
                  </a:lnTo>
                  <a:lnTo>
                    <a:pt x="189" y="1692"/>
                  </a:lnTo>
                  <a:lnTo>
                    <a:pt x="200" y="1663"/>
                  </a:lnTo>
                  <a:lnTo>
                    <a:pt x="212" y="1633"/>
                  </a:lnTo>
                  <a:lnTo>
                    <a:pt x="225" y="1600"/>
                  </a:lnTo>
                  <a:lnTo>
                    <a:pt x="240" y="1562"/>
                  </a:lnTo>
                  <a:lnTo>
                    <a:pt x="257" y="1515"/>
                  </a:lnTo>
                  <a:lnTo>
                    <a:pt x="274" y="1460"/>
                  </a:lnTo>
                  <a:lnTo>
                    <a:pt x="296" y="1399"/>
                  </a:lnTo>
                  <a:lnTo>
                    <a:pt x="322" y="1339"/>
                  </a:lnTo>
                  <a:lnTo>
                    <a:pt x="350" y="1279"/>
                  </a:lnTo>
                  <a:lnTo>
                    <a:pt x="381" y="1223"/>
                  </a:lnTo>
                  <a:lnTo>
                    <a:pt x="410" y="1173"/>
                  </a:lnTo>
                  <a:lnTo>
                    <a:pt x="437" y="1127"/>
                  </a:lnTo>
                  <a:lnTo>
                    <a:pt x="459" y="1091"/>
                  </a:lnTo>
                  <a:lnTo>
                    <a:pt x="477" y="1066"/>
                  </a:lnTo>
                  <a:lnTo>
                    <a:pt x="493" y="1042"/>
                  </a:lnTo>
                  <a:lnTo>
                    <a:pt x="512" y="1013"/>
                  </a:lnTo>
                  <a:lnTo>
                    <a:pt x="534" y="977"/>
                  </a:lnTo>
                  <a:lnTo>
                    <a:pt x="556" y="937"/>
                  </a:lnTo>
                  <a:lnTo>
                    <a:pt x="575" y="894"/>
                  </a:lnTo>
                  <a:lnTo>
                    <a:pt x="592" y="851"/>
                  </a:lnTo>
                  <a:lnTo>
                    <a:pt x="603" y="810"/>
                  </a:lnTo>
                  <a:lnTo>
                    <a:pt x="607" y="770"/>
                  </a:lnTo>
                  <a:lnTo>
                    <a:pt x="607" y="725"/>
                  </a:lnTo>
                  <a:lnTo>
                    <a:pt x="607" y="668"/>
                  </a:lnTo>
                  <a:lnTo>
                    <a:pt x="610" y="602"/>
                  </a:lnTo>
                  <a:lnTo>
                    <a:pt x="614" y="532"/>
                  </a:lnTo>
                  <a:lnTo>
                    <a:pt x="622" y="462"/>
                  </a:lnTo>
                  <a:lnTo>
                    <a:pt x="634" y="395"/>
                  </a:lnTo>
                  <a:lnTo>
                    <a:pt x="651" y="336"/>
                  </a:lnTo>
                  <a:lnTo>
                    <a:pt x="675" y="288"/>
                  </a:lnTo>
                  <a:lnTo>
                    <a:pt x="659" y="287"/>
                  </a:lnTo>
                  <a:lnTo>
                    <a:pt x="642" y="284"/>
                  </a:lnTo>
                  <a:lnTo>
                    <a:pt x="626" y="279"/>
                  </a:lnTo>
                  <a:lnTo>
                    <a:pt x="611" y="271"/>
                  </a:lnTo>
                  <a:lnTo>
                    <a:pt x="599" y="260"/>
                  </a:lnTo>
                  <a:lnTo>
                    <a:pt x="588" y="247"/>
                  </a:lnTo>
                  <a:lnTo>
                    <a:pt x="582" y="232"/>
                  </a:lnTo>
                  <a:lnTo>
                    <a:pt x="579" y="213"/>
                  </a:lnTo>
                  <a:lnTo>
                    <a:pt x="578" y="195"/>
                  </a:lnTo>
                  <a:lnTo>
                    <a:pt x="575" y="177"/>
                  </a:lnTo>
                  <a:lnTo>
                    <a:pt x="572" y="164"/>
                  </a:lnTo>
                  <a:lnTo>
                    <a:pt x="568" y="152"/>
                  </a:lnTo>
                  <a:lnTo>
                    <a:pt x="562" y="143"/>
                  </a:lnTo>
                  <a:lnTo>
                    <a:pt x="554" y="137"/>
                  </a:lnTo>
                  <a:lnTo>
                    <a:pt x="544" y="135"/>
                  </a:lnTo>
                  <a:lnTo>
                    <a:pt x="532" y="136"/>
                  </a:lnTo>
                  <a:lnTo>
                    <a:pt x="520" y="140"/>
                  </a:lnTo>
                  <a:lnTo>
                    <a:pt x="508" y="143"/>
                  </a:lnTo>
                  <a:lnTo>
                    <a:pt x="497" y="144"/>
                  </a:lnTo>
                  <a:lnTo>
                    <a:pt x="486" y="145"/>
                  </a:lnTo>
                  <a:lnTo>
                    <a:pt x="477" y="144"/>
                  </a:lnTo>
                  <a:lnTo>
                    <a:pt x="469" y="141"/>
                  </a:lnTo>
                  <a:lnTo>
                    <a:pt x="461" y="136"/>
                  </a:lnTo>
                  <a:lnTo>
                    <a:pt x="455" y="127"/>
                  </a:lnTo>
                  <a:lnTo>
                    <a:pt x="450" y="116"/>
                  </a:lnTo>
                  <a:lnTo>
                    <a:pt x="442" y="105"/>
                  </a:lnTo>
                  <a:lnTo>
                    <a:pt x="434" y="96"/>
                  </a:lnTo>
                  <a:lnTo>
                    <a:pt x="423" y="87"/>
                  </a:lnTo>
                  <a:lnTo>
                    <a:pt x="411" y="80"/>
                  </a:lnTo>
                  <a:lnTo>
                    <a:pt x="398" y="75"/>
                  </a:lnTo>
                  <a:lnTo>
                    <a:pt x="383" y="71"/>
                  </a:lnTo>
                  <a:lnTo>
                    <a:pt x="369" y="71"/>
                  </a:lnTo>
                  <a:lnTo>
                    <a:pt x="354" y="72"/>
                  </a:lnTo>
                  <a:lnTo>
                    <a:pt x="342" y="73"/>
                  </a:lnTo>
                  <a:lnTo>
                    <a:pt x="331" y="73"/>
                  </a:lnTo>
                  <a:lnTo>
                    <a:pt x="322" y="73"/>
                  </a:lnTo>
                  <a:lnTo>
                    <a:pt x="314" y="71"/>
                  </a:lnTo>
                  <a:lnTo>
                    <a:pt x="308" y="67"/>
                  </a:lnTo>
                  <a:lnTo>
                    <a:pt x="304" y="59"/>
                  </a:lnTo>
                  <a:lnTo>
                    <a:pt x="302" y="50"/>
                  </a:lnTo>
                  <a:lnTo>
                    <a:pt x="301" y="38"/>
                  </a:lnTo>
                  <a:lnTo>
                    <a:pt x="298" y="27"/>
                  </a:lnTo>
                  <a:lnTo>
                    <a:pt x="294" y="18"/>
                  </a:lnTo>
                  <a:lnTo>
                    <a:pt x="289" y="10"/>
                  </a:lnTo>
                  <a:lnTo>
                    <a:pt x="281" y="3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2880" y="4009320"/>
              <a:ext cx="143640" cy="240120"/>
            </a:xfrm>
            <a:custGeom>
              <a:avLst/>
              <a:gdLst/>
              <a:ahLst/>
              <a:rect l="l" t="t" r="r" b="b"/>
              <a:pathLst>
                <a:path w="233" h="390">
                  <a:moveTo>
                    <a:pt x="97" y="0"/>
                  </a:moveTo>
                  <a:lnTo>
                    <a:pt x="84" y="16"/>
                  </a:lnTo>
                  <a:lnTo>
                    <a:pt x="66" y="47"/>
                  </a:lnTo>
                  <a:lnTo>
                    <a:pt x="48" y="91"/>
                  </a:lnTo>
                  <a:lnTo>
                    <a:pt x="29" y="142"/>
                  </a:lnTo>
                  <a:lnTo>
                    <a:pt x="14" y="202"/>
                  </a:lnTo>
                  <a:lnTo>
                    <a:pt x="4" y="265"/>
                  </a:lnTo>
                  <a:lnTo>
                    <a:pt x="0" y="329"/>
                  </a:lnTo>
                  <a:lnTo>
                    <a:pt x="5" y="390"/>
                  </a:lnTo>
                  <a:lnTo>
                    <a:pt x="14" y="382"/>
                  </a:lnTo>
                  <a:lnTo>
                    <a:pt x="25" y="373"/>
                  </a:lnTo>
                  <a:lnTo>
                    <a:pt x="38" y="361"/>
                  </a:lnTo>
                  <a:lnTo>
                    <a:pt x="54" y="346"/>
                  </a:lnTo>
                  <a:lnTo>
                    <a:pt x="70" y="332"/>
                  </a:lnTo>
                  <a:lnTo>
                    <a:pt x="88" y="314"/>
                  </a:lnTo>
                  <a:lnTo>
                    <a:pt x="106" y="296"/>
                  </a:lnTo>
                  <a:lnTo>
                    <a:pt x="125" y="276"/>
                  </a:lnTo>
                  <a:lnTo>
                    <a:pt x="142" y="254"/>
                  </a:lnTo>
                  <a:lnTo>
                    <a:pt x="160" y="233"/>
                  </a:lnTo>
                  <a:lnTo>
                    <a:pt x="177" y="210"/>
                  </a:lnTo>
                  <a:lnTo>
                    <a:pt x="191" y="188"/>
                  </a:lnTo>
                  <a:lnTo>
                    <a:pt x="206" y="165"/>
                  </a:lnTo>
                  <a:lnTo>
                    <a:pt x="217" y="142"/>
                  </a:lnTo>
                  <a:lnTo>
                    <a:pt x="226" y="120"/>
                  </a:lnTo>
                  <a:lnTo>
                    <a:pt x="233" y="97"/>
                  </a:lnTo>
                  <a:lnTo>
                    <a:pt x="203" y="103"/>
                  </a:lnTo>
                  <a:lnTo>
                    <a:pt x="184" y="97"/>
                  </a:lnTo>
                  <a:lnTo>
                    <a:pt x="170" y="84"/>
                  </a:lnTo>
                  <a:lnTo>
                    <a:pt x="160" y="65"/>
                  </a:lnTo>
                  <a:lnTo>
                    <a:pt x="150" y="45"/>
                  </a:lnTo>
                  <a:lnTo>
                    <a:pt x="138" y="25"/>
                  </a:lnTo>
                  <a:lnTo>
                    <a:pt x="122" y="9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2960" y="4253040"/>
              <a:ext cx="293040" cy="581400"/>
            </a:xfrm>
            <a:custGeom>
              <a:avLst/>
              <a:gdLst/>
              <a:ahLst/>
              <a:rect l="l" t="t" r="r" b="b"/>
              <a:pathLst>
                <a:path w="476" h="944">
                  <a:moveTo>
                    <a:pt x="471" y="0"/>
                  </a:moveTo>
                  <a:lnTo>
                    <a:pt x="452" y="16"/>
                  </a:lnTo>
                  <a:lnTo>
                    <a:pt x="432" y="40"/>
                  </a:lnTo>
                  <a:lnTo>
                    <a:pt x="411" y="71"/>
                  </a:lnTo>
                  <a:lnTo>
                    <a:pt x="388" y="105"/>
                  </a:lnTo>
                  <a:lnTo>
                    <a:pt x="367" y="144"/>
                  </a:lnTo>
                  <a:lnTo>
                    <a:pt x="347" y="182"/>
                  </a:lnTo>
                  <a:lnTo>
                    <a:pt x="328" y="220"/>
                  </a:lnTo>
                  <a:lnTo>
                    <a:pt x="314" y="256"/>
                  </a:lnTo>
                  <a:lnTo>
                    <a:pt x="299" y="290"/>
                  </a:lnTo>
                  <a:lnTo>
                    <a:pt x="283" y="325"/>
                  </a:lnTo>
                  <a:lnTo>
                    <a:pt x="265" y="361"/>
                  </a:lnTo>
                  <a:lnTo>
                    <a:pt x="245" y="397"/>
                  </a:lnTo>
                  <a:lnTo>
                    <a:pt x="223" y="433"/>
                  </a:lnTo>
                  <a:lnTo>
                    <a:pt x="201" y="466"/>
                  </a:lnTo>
                  <a:lnTo>
                    <a:pt x="179" y="498"/>
                  </a:lnTo>
                  <a:lnTo>
                    <a:pt x="159" y="527"/>
                  </a:lnTo>
                  <a:lnTo>
                    <a:pt x="145" y="547"/>
                  </a:lnTo>
                  <a:lnTo>
                    <a:pt x="126" y="574"/>
                  </a:lnTo>
                  <a:lnTo>
                    <a:pt x="105" y="607"/>
                  </a:lnTo>
                  <a:lnTo>
                    <a:pt x="81" y="645"/>
                  </a:lnTo>
                  <a:lnTo>
                    <a:pt x="57" y="685"/>
                  </a:lnTo>
                  <a:lnTo>
                    <a:pt x="34" y="727"/>
                  </a:lnTo>
                  <a:lnTo>
                    <a:pt x="16" y="770"/>
                  </a:lnTo>
                  <a:lnTo>
                    <a:pt x="0" y="814"/>
                  </a:lnTo>
                  <a:lnTo>
                    <a:pt x="10" y="819"/>
                  </a:lnTo>
                  <a:lnTo>
                    <a:pt x="20" y="826"/>
                  </a:lnTo>
                  <a:lnTo>
                    <a:pt x="28" y="834"/>
                  </a:lnTo>
                  <a:lnTo>
                    <a:pt x="36" y="843"/>
                  </a:lnTo>
                  <a:lnTo>
                    <a:pt x="41" y="854"/>
                  </a:lnTo>
                  <a:lnTo>
                    <a:pt x="46" y="864"/>
                  </a:lnTo>
                  <a:lnTo>
                    <a:pt x="50" y="878"/>
                  </a:lnTo>
                  <a:lnTo>
                    <a:pt x="52" y="891"/>
                  </a:lnTo>
                  <a:lnTo>
                    <a:pt x="53" y="904"/>
                  </a:lnTo>
                  <a:lnTo>
                    <a:pt x="56" y="916"/>
                  </a:lnTo>
                  <a:lnTo>
                    <a:pt x="60" y="926"/>
                  </a:lnTo>
                  <a:lnTo>
                    <a:pt x="64" y="934"/>
                  </a:lnTo>
                  <a:lnTo>
                    <a:pt x="69" y="939"/>
                  </a:lnTo>
                  <a:lnTo>
                    <a:pt x="77" y="943"/>
                  </a:lnTo>
                  <a:lnTo>
                    <a:pt x="85" y="944"/>
                  </a:lnTo>
                  <a:lnTo>
                    <a:pt x="96" y="943"/>
                  </a:lnTo>
                  <a:lnTo>
                    <a:pt x="108" y="942"/>
                  </a:lnTo>
                  <a:lnTo>
                    <a:pt x="120" y="939"/>
                  </a:lnTo>
                  <a:lnTo>
                    <a:pt x="130" y="938"/>
                  </a:lnTo>
                  <a:lnTo>
                    <a:pt x="141" y="934"/>
                  </a:lnTo>
                  <a:lnTo>
                    <a:pt x="150" y="928"/>
                  </a:lnTo>
                  <a:lnTo>
                    <a:pt x="158" y="919"/>
                  </a:lnTo>
                  <a:lnTo>
                    <a:pt x="163" y="907"/>
                  </a:lnTo>
                  <a:lnTo>
                    <a:pt x="166" y="891"/>
                  </a:lnTo>
                  <a:lnTo>
                    <a:pt x="167" y="870"/>
                  </a:lnTo>
                  <a:lnTo>
                    <a:pt x="170" y="845"/>
                  </a:lnTo>
                  <a:lnTo>
                    <a:pt x="174" y="815"/>
                  </a:lnTo>
                  <a:lnTo>
                    <a:pt x="178" y="783"/>
                  </a:lnTo>
                  <a:lnTo>
                    <a:pt x="183" y="750"/>
                  </a:lnTo>
                  <a:lnTo>
                    <a:pt x="190" y="715"/>
                  </a:lnTo>
                  <a:lnTo>
                    <a:pt x="198" y="681"/>
                  </a:lnTo>
                  <a:lnTo>
                    <a:pt x="206" y="647"/>
                  </a:lnTo>
                  <a:lnTo>
                    <a:pt x="218" y="610"/>
                  </a:lnTo>
                  <a:lnTo>
                    <a:pt x="237" y="563"/>
                  </a:lnTo>
                  <a:lnTo>
                    <a:pt x="258" y="513"/>
                  </a:lnTo>
                  <a:lnTo>
                    <a:pt x="281" y="461"/>
                  </a:lnTo>
                  <a:lnTo>
                    <a:pt x="306" y="410"/>
                  </a:lnTo>
                  <a:lnTo>
                    <a:pt x="330" y="365"/>
                  </a:lnTo>
                  <a:lnTo>
                    <a:pt x="351" y="328"/>
                  </a:lnTo>
                  <a:lnTo>
                    <a:pt x="370" y="302"/>
                  </a:lnTo>
                  <a:lnTo>
                    <a:pt x="387" y="281"/>
                  </a:lnTo>
                  <a:lnTo>
                    <a:pt x="407" y="253"/>
                  </a:lnTo>
                  <a:lnTo>
                    <a:pt x="428" y="218"/>
                  </a:lnTo>
                  <a:lnTo>
                    <a:pt x="447" y="181"/>
                  </a:lnTo>
                  <a:lnTo>
                    <a:pt x="463" y="140"/>
                  </a:lnTo>
                  <a:lnTo>
                    <a:pt x="472" y="95"/>
                  </a:lnTo>
                  <a:lnTo>
                    <a:pt x="476" y="48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660360" y="4764600"/>
              <a:ext cx="497520" cy="492120"/>
              <a:chOff x="6660360" y="4764600"/>
              <a:chExt cx="497520" cy="492120"/>
            </a:xfrm>
          </p:grpSpPr>
          <p:sp>
            <p:nvSpPr>
              <p:cNvPr id="256" name=""/>
              <p:cNvSpPr/>
              <p:nvPr/>
            </p:nvSpPr>
            <p:spPr>
              <a:xfrm>
                <a:off x="6892920" y="4972680"/>
                <a:ext cx="236160" cy="284040"/>
              </a:xfrm>
              <a:custGeom>
                <a:avLst/>
                <a:gdLst/>
                <a:ahLst/>
                <a:rect l="l" t="t" r="r" b="b"/>
                <a:pathLst>
                  <a:path w="383" h="462">
                    <a:moveTo>
                      <a:pt x="165" y="0"/>
                    </a:moveTo>
                    <a:lnTo>
                      <a:pt x="160" y="8"/>
                    </a:lnTo>
                    <a:lnTo>
                      <a:pt x="153" y="16"/>
                    </a:lnTo>
                    <a:lnTo>
                      <a:pt x="146" y="26"/>
                    </a:lnTo>
                    <a:lnTo>
                      <a:pt x="141" y="36"/>
                    </a:lnTo>
                    <a:lnTo>
                      <a:pt x="134" y="48"/>
                    </a:lnTo>
                    <a:lnTo>
                      <a:pt x="128" y="58"/>
                    </a:lnTo>
                    <a:lnTo>
                      <a:pt x="121" y="67"/>
                    </a:lnTo>
                    <a:lnTo>
                      <a:pt x="116" y="77"/>
                    </a:lnTo>
                    <a:lnTo>
                      <a:pt x="109" y="89"/>
                    </a:lnTo>
                    <a:lnTo>
                      <a:pt x="100" y="105"/>
                    </a:lnTo>
                    <a:lnTo>
                      <a:pt x="90" y="122"/>
                    </a:lnTo>
                    <a:lnTo>
                      <a:pt x="81" y="141"/>
                    </a:lnTo>
                    <a:lnTo>
                      <a:pt x="69" y="161"/>
                    </a:lnTo>
                    <a:lnTo>
                      <a:pt x="58" y="181"/>
                    </a:lnTo>
                    <a:lnTo>
                      <a:pt x="48" y="198"/>
                    </a:lnTo>
                    <a:lnTo>
                      <a:pt x="37" y="215"/>
                    </a:lnTo>
                    <a:lnTo>
                      <a:pt x="27" y="233"/>
                    </a:lnTo>
                    <a:lnTo>
                      <a:pt x="19" y="253"/>
                    </a:lnTo>
                    <a:lnTo>
                      <a:pt x="11" y="274"/>
                    </a:lnTo>
                    <a:lnTo>
                      <a:pt x="5" y="297"/>
                    </a:lnTo>
                    <a:lnTo>
                      <a:pt x="1" y="321"/>
                    </a:lnTo>
                    <a:lnTo>
                      <a:pt x="0" y="345"/>
                    </a:lnTo>
                    <a:lnTo>
                      <a:pt x="1" y="369"/>
                    </a:lnTo>
                    <a:lnTo>
                      <a:pt x="7" y="391"/>
                    </a:lnTo>
                    <a:lnTo>
                      <a:pt x="17" y="415"/>
                    </a:lnTo>
                    <a:lnTo>
                      <a:pt x="35" y="433"/>
                    </a:lnTo>
                    <a:lnTo>
                      <a:pt x="57" y="446"/>
                    </a:lnTo>
                    <a:lnTo>
                      <a:pt x="82" y="455"/>
                    </a:lnTo>
                    <a:lnTo>
                      <a:pt x="110" y="460"/>
                    </a:lnTo>
                    <a:lnTo>
                      <a:pt x="138" y="462"/>
                    </a:lnTo>
                    <a:lnTo>
                      <a:pt x="165" y="462"/>
                    </a:lnTo>
                    <a:lnTo>
                      <a:pt x="189" y="459"/>
                    </a:lnTo>
                    <a:lnTo>
                      <a:pt x="210" y="452"/>
                    </a:lnTo>
                    <a:lnTo>
                      <a:pt x="229" y="440"/>
                    </a:lnTo>
                    <a:lnTo>
                      <a:pt x="246" y="423"/>
                    </a:lnTo>
                    <a:lnTo>
                      <a:pt x="262" y="405"/>
                    </a:lnTo>
                    <a:lnTo>
                      <a:pt x="275" y="385"/>
                    </a:lnTo>
                    <a:lnTo>
                      <a:pt x="286" y="365"/>
                    </a:lnTo>
                    <a:lnTo>
                      <a:pt x="295" y="346"/>
                    </a:lnTo>
                    <a:lnTo>
                      <a:pt x="302" y="331"/>
                    </a:lnTo>
                    <a:lnTo>
                      <a:pt x="307" y="318"/>
                    </a:lnTo>
                    <a:lnTo>
                      <a:pt x="314" y="301"/>
                    </a:lnTo>
                    <a:lnTo>
                      <a:pt x="322" y="281"/>
                    </a:lnTo>
                    <a:lnTo>
                      <a:pt x="330" y="261"/>
                    </a:lnTo>
                    <a:lnTo>
                      <a:pt x="339" y="242"/>
                    </a:lnTo>
                    <a:lnTo>
                      <a:pt x="347" y="225"/>
                    </a:lnTo>
                    <a:lnTo>
                      <a:pt x="357" y="210"/>
                    </a:lnTo>
                    <a:lnTo>
                      <a:pt x="365" y="199"/>
                    </a:lnTo>
                    <a:lnTo>
                      <a:pt x="379" y="173"/>
                    </a:lnTo>
                    <a:lnTo>
                      <a:pt x="383" y="142"/>
                    </a:lnTo>
                    <a:lnTo>
                      <a:pt x="383" y="110"/>
                    </a:lnTo>
                    <a:lnTo>
                      <a:pt x="382" y="85"/>
                    </a:lnTo>
                    <a:lnTo>
                      <a:pt x="378" y="90"/>
                    </a:lnTo>
                    <a:lnTo>
                      <a:pt x="371" y="93"/>
                    </a:lnTo>
                    <a:lnTo>
                      <a:pt x="366" y="93"/>
                    </a:lnTo>
                    <a:lnTo>
                      <a:pt x="359" y="90"/>
                    </a:lnTo>
                    <a:lnTo>
                      <a:pt x="354" y="86"/>
                    </a:lnTo>
                    <a:lnTo>
                      <a:pt x="350" y="81"/>
                    </a:lnTo>
                    <a:lnTo>
                      <a:pt x="349" y="75"/>
                    </a:lnTo>
                    <a:lnTo>
                      <a:pt x="350" y="69"/>
                    </a:lnTo>
                    <a:lnTo>
                      <a:pt x="290" y="94"/>
                    </a:lnTo>
                    <a:lnTo>
                      <a:pt x="337" y="137"/>
                    </a:lnTo>
                    <a:lnTo>
                      <a:pt x="338" y="135"/>
                    </a:lnTo>
                    <a:lnTo>
                      <a:pt x="342" y="133"/>
                    </a:lnTo>
                    <a:lnTo>
                      <a:pt x="349" y="131"/>
                    </a:lnTo>
                    <a:lnTo>
                      <a:pt x="359" y="133"/>
                    </a:lnTo>
                    <a:lnTo>
                      <a:pt x="367" y="141"/>
                    </a:lnTo>
                    <a:lnTo>
                      <a:pt x="370" y="154"/>
                    </a:lnTo>
                    <a:lnTo>
                      <a:pt x="366" y="166"/>
                    </a:lnTo>
                    <a:lnTo>
                      <a:pt x="357" y="171"/>
                    </a:lnTo>
                    <a:lnTo>
                      <a:pt x="346" y="171"/>
                    </a:lnTo>
                    <a:lnTo>
                      <a:pt x="337" y="171"/>
                    </a:lnTo>
                    <a:lnTo>
                      <a:pt x="330" y="167"/>
                    </a:lnTo>
                    <a:lnTo>
                      <a:pt x="327" y="158"/>
                    </a:lnTo>
                    <a:lnTo>
                      <a:pt x="278" y="165"/>
                    </a:lnTo>
                    <a:lnTo>
                      <a:pt x="313" y="215"/>
                    </a:lnTo>
                    <a:lnTo>
                      <a:pt x="327" y="217"/>
                    </a:lnTo>
                    <a:lnTo>
                      <a:pt x="334" y="223"/>
                    </a:lnTo>
                    <a:lnTo>
                      <a:pt x="334" y="233"/>
                    </a:lnTo>
                    <a:lnTo>
                      <a:pt x="331" y="242"/>
                    </a:lnTo>
                    <a:lnTo>
                      <a:pt x="326" y="250"/>
                    </a:lnTo>
                    <a:lnTo>
                      <a:pt x="319" y="255"/>
                    </a:lnTo>
                    <a:lnTo>
                      <a:pt x="313" y="257"/>
                    </a:lnTo>
                    <a:lnTo>
                      <a:pt x="306" y="250"/>
                    </a:lnTo>
                    <a:lnTo>
                      <a:pt x="233" y="231"/>
                    </a:lnTo>
                    <a:lnTo>
                      <a:pt x="290" y="271"/>
                    </a:lnTo>
                    <a:lnTo>
                      <a:pt x="297" y="274"/>
                    </a:lnTo>
                    <a:lnTo>
                      <a:pt x="301" y="277"/>
                    </a:lnTo>
                    <a:lnTo>
                      <a:pt x="303" y="281"/>
                    </a:lnTo>
                    <a:lnTo>
                      <a:pt x="305" y="287"/>
                    </a:lnTo>
                    <a:lnTo>
                      <a:pt x="303" y="297"/>
                    </a:lnTo>
                    <a:lnTo>
                      <a:pt x="297" y="305"/>
                    </a:lnTo>
                    <a:lnTo>
                      <a:pt x="287" y="310"/>
                    </a:lnTo>
                    <a:lnTo>
                      <a:pt x="278" y="311"/>
                    </a:lnTo>
                    <a:lnTo>
                      <a:pt x="273" y="307"/>
                    </a:lnTo>
                    <a:lnTo>
                      <a:pt x="271" y="299"/>
                    </a:lnTo>
                    <a:lnTo>
                      <a:pt x="271" y="293"/>
                    </a:lnTo>
                    <a:lnTo>
                      <a:pt x="271" y="290"/>
                    </a:lnTo>
                    <a:lnTo>
                      <a:pt x="249" y="283"/>
                    </a:lnTo>
                    <a:lnTo>
                      <a:pt x="194" y="297"/>
                    </a:lnTo>
                    <a:lnTo>
                      <a:pt x="242" y="309"/>
                    </a:lnTo>
                    <a:lnTo>
                      <a:pt x="254" y="311"/>
                    </a:lnTo>
                    <a:lnTo>
                      <a:pt x="262" y="321"/>
                    </a:lnTo>
                    <a:lnTo>
                      <a:pt x="263" y="333"/>
                    </a:lnTo>
                    <a:lnTo>
                      <a:pt x="261" y="343"/>
                    </a:lnTo>
                    <a:lnTo>
                      <a:pt x="255" y="346"/>
                    </a:lnTo>
                    <a:lnTo>
                      <a:pt x="242" y="350"/>
                    </a:lnTo>
                    <a:lnTo>
                      <a:pt x="229" y="349"/>
                    </a:lnTo>
                    <a:lnTo>
                      <a:pt x="223" y="334"/>
                    </a:lnTo>
                    <a:lnTo>
                      <a:pt x="213" y="330"/>
                    </a:lnTo>
                    <a:lnTo>
                      <a:pt x="198" y="325"/>
                    </a:lnTo>
                    <a:lnTo>
                      <a:pt x="178" y="319"/>
                    </a:lnTo>
                    <a:lnTo>
                      <a:pt x="157" y="314"/>
                    </a:lnTo>
                    <a:lnTo>
                      <a:pt x="136" y="307"/>
                    </a:lnTo>
                    <a:lnTo>
                      <a:pt x="116" y="302"/>
                    </a:lnTo>
                    <a:lnTo>
                      <a:pt x="98" y="297"/>
                    </a:lnTo>
                    <a:lnTo>
                      <a:pt x="86" y="293"/>
                    </a:lnTo>
                    <a:lnTo>
                      <a:pt x="66" y="290"/>
                    </a:lnTo>
                    <a:lnTo>
                      <a:pt x="58" y="278"/>
                    </a:lnTo>
                    <a:lnTo>
                      <a:pt x="61" y="263"/>
                    </a:lnTo>
                    <a:lnTo>
                      <a:pt x="72" y="253"/>
                    </a:lnTo>
                    <a:lnTo>
                      <a:pt x="85" y="258"/>
                    </a:lnTo>
                    <a:lnTo>
                      <a:pt x="93" y="262"/>
                    </a:lnTo>
                    <a:lnTo>
                      <a:pt x="96" y="267"/>
                    </a:lnTo>
                    <a:lnTo>
                      <a:pt x="97" y="269"/>
                    </a:lnTo>
                    <a:lnTo>
                      <a:pt x="137" y="282"/>
                    </a:lnTo>
                    <a:lnTo>
                      <a:pt x="90" y="231"/>
                    </a:lnTo>
                    <a:lnTo>
                      <a:pt x="78" y="229"/>
                    </a:lnTo>
                    <a:lnTo>
                      <a:pt x="72" y="222"/>
                    </a:lnTo>
                    <a:lnTo>
                      <a:pt x="70" y="213"/>
                    </a:lnTo>
                    <a:lnTo>
                      <a:pt x="72" y="205"/>
                    </a:lnTo>
                    <a:lnTo>
                      <a:pt x="77" y="198"/>
                    </a:lnTo>
                    <a:lnTo>
                      <a:pt x="82" y="194"/>
                    </a:lnTo>
                    <a:lnTo>
                      <a:pt x="89" y="193"/>
                    </a:lnTo>
                    <a:lnTo>
                      <a:pt x="96" y="193"/>
                    </a:lnTo>
                    <a:lnTo>
                      <a:pt x="101" y="197"/>
                    </a:lnTo>
                    <a:lnTo>
                      <a:pt x="102" y="203"/>
                    </a:lnTo>
                    <a:lnTo>
                      <a:pt x="101" y="210"/>
                    </a:lnTo>
                    <a:lnTo>
                      <a:pt x="101" y="213"/>
                    </a:lnTo>
                    <a:lnTo>
                      <a:pt x="160" y="209"/>
                    </a:lnTo>
                    <a:lnTo>
                      <a:pt x="128" y="174"/>
                    </a:lnTo>
                    <a:lnTo>
                      <a:pt x="120" y="179"/>
                    </a:lnTo>
                    <a:lnTo>
                      <a:pt x="108" y="178"/>
                    </a:lnTo>
                    <a:lnTo>
                      <a:pt x="100" y="171"/>
                    </a:lnTo>
                    <a:lnTo>
                      <a:pt x="96" y="163"/>
                    </a:lnTo>
                    <a:lnTo>
                      <a:pt x="96" y="155"/>
                    </a:lnTo>
                    <a:lnTo>
                      <a:pt x="100" y="149"/>
                    </a:lnTo>
                    <a:lnTo>
                      <a:pt x="109" y="143"/>
                    </a:lnTo>
                    <a:lnTo>
                      <a:pt x="121" y="142"/>
                    </a:lnTo>
                    <a:lnTo>
                      <a:pt x="132" y="151"/>
                    </a:lnTo>
                    <a:lnTo>
                      <a:pt x="193" y="146"/>
                    </a:lnTo>
                    <a:lnTo>
                      <a:pt x="156" y="107"/>
                    </a:lnTo>
                    <a:lnTo>
                      <a:pt x="141" y="107"/>
                    </a:lnTo>
                    <a:lnTo>
                      <a:pt x="133" y="101"/>
                    </a:lnTo>
                    <a:lnTo>
                      <a:pt x="132" y="93"/>
                    </a:lnTo>
                    <a:lnTo>
                      <a:pt x="134" y="83"/>
                    </a:lnTo>
                    <a:lnTo>
                      <a:pt x="141" y="77"/>
                    </a:lnTo>
                    <a:lnTo>
                      <a:pt x="152" y="73"/>
                    </a:lnTo>
                    <a:lnTo>
                      <a:pt x="164" y="75"/>
                    </a:lnTo>
                    <a:lnTo>
                      <a:pt x="173" y="87"/>
                    </a:lnTo>
                    <a:lnTo>
                      <a:pt x="238" y="73"/>
                    </a:lnTo>
                    <a:lnTo>
                      <a:pt x="204" y="33"/>
                    </a:lnTo>
                    <a:lnTo>
                      <a:pt x="194" y="36"/>
                    </a:lnTo>
                    <a:lnTo>
                      <a:pt x="186" y="37"/>
                    </a:lnTo>
                    <a:lnTo>
                      <a:pt x="178" y="36"/>
                    </a:lnTo>
                    <a:lnTo>
                      <a:pt x="173" y="33"/>
                    </a:lnTo>
                    <a:lnTo>
                      <a:pt x="168" y="28"/>
                    </a:lnTo>
                    <a:lnTo>
                      <a:pt x="165" y="21"/>
                    </a:lnTo>
                    <a:lnTo>
                      <a:pt x="164" y="12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73920" y="5114880"/>
                <a:ext cx="62640" cy="32760"/>
              </a:xfrm>
              <a:custGeom>
                <a:avLst/>
                <a:gdLst/>
                <a:ahLst/>
                <a:rect l="l" t="t" r="r" b="b"/>
                <a:pathLst>
                  <a:path w="102" h="55">
                    <a:moveTo>
                      <a:pt x="0" y="7"/>
                    </a:moveTo>
                    <a:lnTo>
                      <a:pt x="58" y="0"/>
                    </a:lnTo>
                    <a:lnTo>
                      <a:pt x="102" y="36"/>
                    </a:lnTo>
                    <a:lnTo>
                      <a:pt x="37" y="5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88680" y="5076000"/>
                <a:ext cx="77760" cy="31320"/>
              </a:xfrm>
              <a:custGeom>
                <a:avLst/>
                <a:gdLst/>
                <a:ahLst/>
                <a:rect l="l" t="t" r="r" b="b"/>
                <a:pathLst>
                  <a:path w="125" h="49">
                    <a:moveTo>
                      <a:pt x="125" y="49"/>
                    </a:moveTo>
                    <a:lnTo>
                      <a:pt x="41" y="44"/>
                    </a:lnTo>
                    <a:lnTo>
                      <a:pt x="0" y="4"/>
                    </a:lnTo>
                    <a:lnTo>
                      <a:pt x="66" y="0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01640" y="5028480"/>
                <a:ext cx="77040" cy="36720"/>
              </a:xfrm>
              <a:custGeom>
                <a:avLst/>
                <a:gdLst/>
                <a:ahLst/>
                <a:rect l="l" t="t" r="r" b="b"/>
                <a:pathLst>
                  <a:path w="126" h="58">
                    <a:moveTo>
                      <a:pt x="126" y="46"/>
                    </a:moveTo>
                    <a:lnTo>
                      <a:pt x="53" y="58"/>
                    </a:lnTo>
                    <a:lnTo>
                      <a:pt x="0" y="15"/>
                    </a:lnTo>
                    <a:lnTo>
                      <a:pt x="71" y="0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120" y="49842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16" h="57">
                    <a:moveTo>
                      <a:pt x="0" y="12"/>
                    </a:moveTo>
                    <a:lnTo>
                      <a:pt x="69" y="0"/>
                    </a:lnTo>
                    <a:lnTo>
                      <a:pt x="116" y="37"/>
                    </a:lnTo>
                    <a:lnTo>
                      <a:pt x="40" y="5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94440" y="4860360"/>
                <a:ext cx="75240" cy="12168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41" y="118"/>
                    </a:moveTo>
                    <a:lnTo>
                      <a:pt x="33" y="121"/>
                    </a:lnTo>
                    <a:lnTo>
                      <a:pt x="29" y="130"/>
                    </a:lnTo>
                    <a:lnTo>
                      <a:pt x="31" y="142"/>
                    </a:lnTo>
                    <a:lnTo>
                      <a:pt x="40" y="152"/>
                    </a:lnTo>
                    <a:lnTo>
                      <a:pt x="49" y="153"/>
                    </a:lnTo>
                    <a:lnTo>
                      <a:pt x="57" y="150"/>
                    </a:lnTo>
                    <a:lnTo>
                      <a:pt x="65" y="146"/>
                    </a:lnTo>
                    <a:lnTo>
                      <a:pt x="69" y="138"/>
                    </a:lnTo>
                    <a:lnTo>
                      <a:pt x="117" y="181"/>
                    </a:lnTo>
                    <a:lnTo>
                      <a:pt x="44" y="200"/>
                    </a:lnTo>
                    <a:lnTo>
                      <a:pt x="44" y="198"/>
                    </a:lnTo>
                    <a:lnTo>
                      <a:pt x="43" y="194"/>
                    </a:lnTo>
                    <a:lnTo>
                      <a:pt x="39" y="189"/>
                    </a:lnTo>
                    <a:lnTo>
                      <a:pt x="35" y="184"/>
                    </a:lnTo>
                    <a:lnTo>
                      <a:pt x="29" y="180"/>
                    </a:lnTo>
                    <a:lnTo>
                      <a:pt x="21" y="178"/>
                    </a:lnTo>
                    <a:lnTo>
                      <a:pt x="12" y="178"/>
                    </a:lnTo>
                    <a:lnTo>
                      <a:pt x="0" y="184"/>
                    </a:lnTo>
                    <a:lnTo>
                      <a:pt x="3" y="164"/>
                    </a:lnTo>
                    <a:lnTo>
                      <a:pt x="8" y="138"/>
                    </a:lnTo>
                    <a:lnTo>
                      <a:pt x="16" y="110"/>
                    </a:lnTo>
                    <a:lnTo>
                      <a:pt x="24" y="81"/>
                    </a:lnTo>
                    <a:lnTo>
                      <a:pt x="33" y="54"/>
                    </a:lnTo>
                    <a:lnTo>
                      <a:pt x="44" y="30"/>
                    </a:lnTo>
                    <a:lnTo>
                      <a:pt x="53" y="12"/>
                    </a:lnTo>
                    <a:lnTo>
                      <a:pt x="62" y="0"/>
                    </a:lnTo>
                    <a:lnTo>
                      <a:pt x="81" y="6"/>
                    </a:lnTo>
                    <a:lnTo>
                      <a:pt x="84" y="33"/>
                    </a:lnTo>
                    <a:lnTo>
                      <a:pt x="82" y="53"/>
                    </a:lnTo>
                    <a:lnTo>
                      <a:pt x="77" y="62"/>
                    </a:lnTo>
                    <a:lnTo>
                      <a:pt x="68" y="57"/>
                    </a:lnTo>
                    <a:lnTo>
                      <a:pt x="57" y="56"/>
                    </a:lnTo>
                    <a:lnTo>
                      <a:pt x="47" y="62"/>
                    </a:lnTo>
                    <a:lnTo>
                      <a:pt x="43" y="74"/>
                    </a:lnTo>
                    <a:lnTo>
                      <a:pt x="51" y="86"/>
                    </a:lnTo>
                    <a:lnTo>
                      <a:pt x="57" y="92"/>
                    </a:lnTo>
                    <a:lnTo>
                      <a:pt x="65" y="93"/>
                    </a:lnTo>
                    <a:lnTo>
                      <a:pt x="73" y="92"/>
                    </a:lnTo>
                    <a:lnTo>
                      <a:pt x="80" y="86"/>
                    </a:lnTo>
                    <a:lnTo>
                      <a:pt x="121" y="109"/>
                    </a:lnTo>
                    <a:lnTo>
                      <a:pt x="70" y="122"/>
                    </a:lnTo>
                    <a:lnTo>
                      <a:pt x="69" y="121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1" y="11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57080" y="4934160"/>
                <a:ext cx="56880" cy="3672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0" y="11"/>
                    </a:moveTo>
                    <a:lnTo>
                      <a:pt x="50" y="58"/>
                    </a:lnTo>
                    <a:lnTo>
                      <a:pt x="92" y="39"/>
                    </a:lnTo>
                    <a:lnTo>
                      <a:pt x="5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97760" y="4971240"/>
                <a:ext cx="42120" cy="3816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56" y="63"/>
                    </a:moveTo>
                    <a:lnTo>
                      <a:pt x="53" y="55"/>
                    </a:lnTo>
                    <a:lnTo>
                      <a:pt x="48" y="50"/>
                    </a:lnTo>
                    <a:lnTo>
                      <a:pt x="40" y="48"/>
                    </a:lnTo>
                    <a:lnTo>
                      <a:pt x="30" y="50"/>
                    </a:lnTo>
                    <a:lnTo>
                      <a:pt x="0" y="16"/>
                    </a:lnTo>
                    <a:lnTo>
                      <a:pt x="38" y="0"/>
                    </a:lnTo>
                    <a:lnTo>
                      <a:pt x="40" y="10"/>
                    </a:lnTo>
                    <a:lnTo>
                      <a:pt x="46" y="14"/>
                    </a:lnTo>
                    <a:lnTo>
                      <a:pt x="56" y="14"/>
                    </a:lnTo>
                    <a:lnTo>
                      <a:pt x="68" y="8"/>
                    </a:lnTo>
                    <a:lnTo>
                      <a:pt x="66" y="20"/>
                    </a:lnTo>
                    <a:lnTo>
                      <a:pt x="64" y="38"/>
                    </a:lnTo>
                    <a:lnTo>
                      <a:pt x="60" y="52"/>
                    </a:lnTo>
                    <a:lnTo>
                      <a:pt x="56" y="63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06760" y="4934160"/>
                <a:ext cx="40320" cy="2736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56" y="46"/>
                    </a:moveTo>
                    <a:lnTo>
                      <a:pt x="52" y="40"/>
                    </a:lnTo>
                    <a:lnTo>
                      <a:pt x="47" y="36"/>
                    </a:lnTo>
                    <a:lnTo>
                      <a:pt x="40" y="36"/>
                    </a:lnTo>
                    <a:lnTo>
                      <a:pt x="33" y="38"/>
                    </a:lnTo>
                    <a:lnTo>
                      <a:pt x="0" y="0"/>
                    </a:lnTo>
                    <a:lnTo>
                      <a:pt x="52" y="4"/>
                    </a:lnTo>
                    <a:lnTo>
                      <a:pt x="51" y="10"/>
                    </a:lnTo>
                    <a:lnTo>
                      <a:pt x="52" y="17"/>
                    </a:lnTo>
                    <a:lnTo>
                      <a:pt x="57" y="22"/>
                    </a:lnTo>
                    <a:lnTo>
                      <a:pt x="68" y="24"/>
                    </a:lnTo>
                    <a:lnTo>
                      <a:pt x="56" y="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54920" y="4873320"/>
                <a:ext cx="102960" cy="51840"/>
              </a:xfrm>
              <a:custGeom>
                <a:avLst/>
                <a:gdLst/>
                <a:ahLst/>
                <a:rect l="l" t="t" r="r" b="b"/>
                <a:pathLst>
                  <a:path w="170" h="83">
                    <a:moveTo>
                      <a:pt x="0" y="43"/>
                    </a:moveTo>
                    <a:lnTo>
                      <a:pt x="0" y="27"/>
                    </a:lnTo>
                    <a:lnTo>
                      <a:pt x="1" y="11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31" y="4"/>
                    </a:lnTo>
                    <a:lnTo>
                      <a:pt x="40" y="8"/>
                    </a:lnTo>
                    <a:lnTo>
                      <a:pt x="49" y="12"/>
                    </a:lnTo>
                    <a:lnTo>
                      <a:pt x="59" y="16"/>
                    </a:lnTo>
                    <a:lnTo>
                      <a:pt x="67" y="19"/>
                    </a:lnTo>
                    <a:lnTo>
                      <a:pt x="75" y="20"/>
                    </a:lnTo>
                    <a:lnTo>
                      <a:pt x="83" y="22"/>
                    </a:lnTo>
                    <a:lnTo>
                      <a:pt x="91" y="20"/>
                    </a:lnTo>
                    <a:lnTo>
                      <a:pt x="100" y="19"/>
                    </a:lnTo>
                    <a:lnTo>
                      <a:pt x="112" y="19"/>
                    </a:lnTo>
                    <a:lnTo>
                      <a:pt x="124" y="19"/>
                    </a:lnTo>
                    <a:lnTo>
                      <a:pt x="136" y="20"/>
                    </a:lnTo>
                    <a:lnTo>
                      <a:pt x="148" y="24"/>
                    </a:lnTo>
                    <a:lnTo>
                      <a:pt x="158" y="28"/>
                    </a:lnTo>
                    <a:lnTo>
                      <a:pt x="165" y="34"/>
                    </a:lnTo>
                    <a:lnTo>
                      <a:pt x="169" y="40"/>
                    </a:lnTo>
                    <a:lnTo>
                      <a:pt x="170" y="54"/>
                    </a:lnTo>
                    <a:lnTo>
                      <a:pt x="170" y="66"/>
                    </a:lnTo>
                    <a:lnTo>
                      <a:pt x="166" y="74"/>
                    </a:lnTo>
                    <a:lnTo>
                      <a:pt x="162" y="79"/>
                    </a:lnTo>
                    <a:lnTo>
                      <a:pt x="154" y="78"/>
                    </a:lnTo>
                    <a:lnTo>
                      <a:pt x="149" y="76"/>
                    </a:lnTo>
                    <a:lnTo>
                      <a:pt x="145" y="78"/>
                    </a:lnTo>
                    <a:lnTo>
                      <a:pt x="142" y="83"/>
                    </a:lnTo>
                    <a:lnTo>
                      <a:pt x="123" y="82"/>
                    </a:lnTo>
                    <a:lnTo>
                      <a:pt x="101" y="79"/>
                    </a:lnTo>
                    <a:lnTo>
                      <a:pt x="80" y="75"/>
                    </a:lnTo>
                    <a:lnTo>
                      <a:pt x="60" y="71"/>
                    </a:lnTo>
                    <a:lnTo>
                      <a:pt x="41" y="66"/>
                    </a:lnTo>
                    <a:lnTo>
                      <a:pt x="25" y="59"/>
                    </a:lnTo>
                    <a:lnTo>
                      <a:pt x="11" y="5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660360" y="4764600"/>
                <a:ext cx="339480" cy="385560"/>
              </a:xfrm>
              <a:custGeom>
                <a:avLst/>
                <a:gdLst/>
                <a:ahLst/>
                <a:rect l="l" t="t" r="r" b="b"/>
                <a:pathLst>
                  <a:path w="553" h="629">
                    <a:moveTo>
                      <a:pt x="441" y="0"/>
                    </a:moveTo>
                    <a:lnTo>
                      <a:pt x="435" y="5"/>
                    </a:lnTo>
                    <a:lnTo>
                      <a:pt x="425" y="12"/>
                    </a:lnTo>
                    <a:lnTo>
                      <a:pt x="415" y="19"/>
                    </a:lnTo>
                    <a:lnTo>
                      <a:pt x="402" y="26"/>
                    </a:lnTo>
                    <a:lnTo>
                      <a:pt x="387" y="34"/>
                    </a:lnTo>
                    <a:lnTo>
                      <a:pt x="372" y="41"/>
                    </a:lnTo>
                    <a:lnTo>
                      <a:pt x="358" y="48"/>
                    </a:lnTo>
                    <a:lnTo>
                      <a:pt x="344" y="52"/>
                    </a:lnTo>
                    <a:lnTo>
                      <a:pt x="331" y="56"/>
                    </a:lnTo>
                    <a:lnTo>
                      <a:pt x="316" y="62"/>
                    </a:lnTo>
                    <a:lnTo>
                      <a:pt x="302" y="70"/>
                    </a:lnTo>
                    <a:lnTo>
                      <a:pt x="287" y="78"/>
                    </a:lnTo>
                    <a:lnTo>
                      <a:pt x="272" y="89"/>
                    </a:lnTo>
                    <a:lnTo>
                      <a:pt x="260" y="101"/>
                    </a:lnTo>
                    <a:lnTo>
                      <a:pt x="248" y="114"/>
                    </a:lnTo>
                    <a:lnTo>
                      <a:pt x="241" y="129"/>
                    </a:lnTo>
                    <a:lnTo>
                      <a:pt x="234" y="145"/>
                    </a:lnTo>
                    <a:lnTo>
                      <a:pt x="229" y="164"/>
                    </a:lnTo>
                    <a:lnTo>
                      <a:pt x="223" y="184"/>
                    </a:lnTo>
                    <a:lnTo>
                      <a:pt x="218" y="204"/>
                    </a:lnTo>
                    <a:lnTo>
                      <a:pt x="210" y="225"/>
                    </a:lnTo>
                    <a:lnTo>
                      <a:pt x="201" y="248"/>
                    </a:lnTo>
                    <a:lnTo>
                      <a:pt x="187" y="269"/>
                    </a:lnTo>
                    <a:lnTo>
                      <a:pt x="171" y="289"/>
                    </a:lnTo>
                    <a:lnTo>
                      <a:pt x="153" y="312"/>
                    </a:lnTo>
                    <a:lnTo>
                      <a:pt x="133" y="336"/>
                    </a:lnTo>
                    <a:lnTo>
                      <a:pt x="114" y="361"/>
                    </a:lnTo>
                    <a:lnTo>
                      <a:pt x="94" y="386"/>
                    </a:lnTo>
                    <a:lnTo>
                      <a:pt x="77" y="410"/>
                    </a:lnTo>
                    <a:lnTo>
                      <a:pt x="60" y="433"/>
                    </a:lnTo>
                    <a:lnTo>
                      <a:pt x="45" y="453"/>
                    </a:lnTo>
                    <a:lnTo>
                      <a:pt x="33" y="467"/>
                    </a:lnTo>
                    <a:lnTo>
                      <a:pt x="22" y="482"/>
                    </a:lnTo>
                    <a:lnTo>
                      <a:pt x="13" y="498"/>
                    </a:lnTo>
                    <a:lnTo>
                      <a:pt x="6" y="517"/>
                    </a:lnTo>
                    <a:lnTo>
                      <a:pt x="1" y="535"/>
                    </a:lnTo>
                    <a:lnTo>
                      <a:pt x="0" y="554"/>
                    </a:lnTo>
                    <a:lnTo>
                      <a:pt x="4" y="573"/>
                    </a:lnTo>
                    <a:lnTo>
                      <a:pt x="10" y="590"/>
                    </a:lnTo>
                    <a:lnTo>
                      <a:pt x="24" y="605"/>
                    </a:lnTo>
                    <a:lnTo>
                      <a:pt x="42" y="617"/>
                    </a:lnTo>
                    <a:lnTo>
                      <a:pt x="65" y="625"/>
                    </a:lnTo>
                    <a:lnTo>
                      <a:pt x="91" y="629"/>
                    </a:lnTo>
                    <a:lnTo>
                      <a:pt x="121" y="629"/>
                    </a:lnTo>
                    <a:lnTo>
                      <a:pt x="149" y="626"/>
                    </a:lnTo>
                    <a:lnTo>
                      <a:pt x="177" y="619"/>
                    </a:lnTo>
                    <a:lnTo>
                      <a:pt x="202" y="609"/>
                    </a:lnTo>
                    <a:lnTo>
                      <a:pt x="223" y="597"/>
                    </a:lnTo>
                    <a:lnTo>
                      <a:pt x="242" y="581"/>
                    </a:lnTo>
                    <a:lnTo>
                      <a:pt x="262" y="562"/>
                    </a:lnTo>
                    <a:lnTo>
                      <a:pt x="283" y="541"/>
                    </a:lnTo>
                    <a:lnTo>
                      <a:pt x="302" y="519"/>
                    </a:lnTo>
                    <a:lnTo>
                      <a:pt x="320" y="497"/>
                    </a:lnTo>
                    <a:lnTo>
                      <a:pt x="336" y="475"/>
                    </a:lnTo>
                    <a:lnTo>
                      <a:pt x="348" y="455"/>
                    </a:lnTo>
                    <a:lnTo>
                      <a:pt x="358" y="437"/>
                    </a:lnTo>
                    <a:lnTo>
                      <a:pt x="366" y="421"/>
                    </a:lnTo>
                    <a:lnTo>
                      <a:pt x="374" y="403"/>
                    </a:lnTo>
                    <a:lnTo>
                      <a:pt x="384" y="389"/>
                    </a:lnTo>
                    <a:lnTo>
                      <a:pt x="394" y="373"/>
                    </a:lnTo>
                    <a:lnTo>
                      <a:pt x="404" y="360"/>
                    </a:lnTo>
                    <a:lnTo>
                      <a:pt x="414" y="346"/>
                    </a:lnTo>
                    <a:lnTo>
                      <a:pt x="423" y="336"/>
                    </a:lnTo>
                    <a:lnTo>
                      <a:pt x="431" y="328"/>
                    </a:lnTo>
                    <a:lnTo>
                      <a:pt x="439" y="318"/>
                    </a:lnTo>
                    <a:lnTo>
                      <a:pt x="448" y="308"/>
                    </a:lnTo>
                    <a:lnTo>
                      <a:pt x="457" y="296"/>
                    </a:lnTo>
                    <a:lnTo>
                      <a:pt x="467" y="282"/>
                    </a:lnTo>
                    <a:lnTo>
                      <a:pt x="475" y="269"/>
                    </a:lnTo>
                    <a:lnTo>
                      <a:pt x="481" y="256"/>
                    </a:lnTo>
                    <a:lnTo>
                      <a:pt x="487" y="245"/>
                    </a:lnTo>
                    <a:lnTo>
                      <a:pt x="489" y="236"/>
                    </a:lnTo>
                    <a:lnTo>
                      <a:pt x="492" y="226"/>
                    </a:lnTo>
                    <a:lnTo>
                      <a:pt x="496" y="217"/>
                    </a:lnTo>
                    <a:lnTo>
                      <a:pt x="501" y="206"/>
                    </a:lnTo>
                    <a:lnTo>
                      <a:pt x="509" y="196"/>
                    </a:lnTo>
                    <a:lnTo>
                      <a:pt x="517" y="185"/>
                    </a:lnTo>
                    <a:lnTo>
                      <a:pt x="527" y="176"/>
                    </a:lnTo>
                    <a:lnTo>
                      <a:pt x="537" y="166"/>
                    </a:lnTo>
                    <a:lnTo>
                      <a:pt x="548" y="158"/>
                    </a:lnTo>
                    <a:lnTo>
                      <a:pt x="553" y="150"/>
                    </a:lnTo>
                    <a:lnTo>
                      <a:pt x="553" y="142"/>
                    </a:lnTo>
                    <a:lnTo>
                      <a:pt x="548" y="136"/>
                    </a:lnTo>
                    <a:lnTo>
                      <a:pt x="537" y="134"/>
                    </a:lnTo>
                    <a:lnTo>
                      <a:pt x="529" y="134"/>
                    </a:lnTo>
                    <a:lnTo>
                      <a:pt x="521" y="132"/>
                    </a:lnTo>
                    <a:lnTo>
                      <a:pt x="513" y="128"/>
                    </a:lnTo>
                    <a:lnTo>
                      <a:pt x="507" y="120"/>
                    </a:lnTo>
                    <a:lnTo>
                      <a:pt x="499" y="112"/>
                    </a:lnTo>
                    <a:lnTo>
                      <a:pt x="493" y="101"/>
                    </a:lnTo>
                    <a:lnTo>
                      <a:pt x="489" y="89"/>
                    </a:lnTo>
                    <a:lnTo>
                      <a:pt x="488" y="74"/>
                    </a:lnTo>
                    <a:lnTo>
                      <a:pt x="487" y="60"/>
                    </a:lnTo>
                    <a:lnTo>
                      <a:pt x="484" y="46"/>
                    </a:lnTo>
                    <a:lnTo>
                      <a:pt x="480" y="33"/>
                    </a:lnTo>
                    <a:lnTo>
                      <a:pt x="475" y="22"/>
                    </a:lnTo>
                    <a:lnTo>
                      <a:pt x="468" y="13"/>
                    </a:lnTo>
                    <a:lnTo>
                      <a:pt x="461" y="7"/>
                    </a:lnTo>
                    <a:lnTo>
                      <a:pt x="452" y="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08240" y="4806720"/>
                <a:ext cx="263880" cy="293400"/>
              </a:xfrm>
              <a:custGeom>
                <a:avLst/>
                <a:gdLst/>
                <a:ahLst/>
                <a:rect l="l" t="t" r="r" b="b"/>
                <a:pathLst>
                  <a:path w="431" h="477">
                    <a:moveTo>
                      <a:pt x="22" y="383"/>
                    </a:moveTo>
                    <a:lnTo>
                      <a:pt x="18" y="377"/>
                    </a:lnTo>
                    <a:lnTo>
                      <a:pt x="13" y="375"/>
                    </a:lnTo>
                    <a:lnTo>
                      <a:pt x="6" y="376"/>
                    </a:lnTo>
                    <a:lnTo>
                      <a:pt x="1" y="381"/>
                    </a:lnTo>
                    <a:lnTo>
                      <a:pt x="0" y="389"/>
                    </a:lnTo>
                    <a:lnTo>
                      <a:pt x="1" y="397"/>
                    </a:lnTo>
                    <a:lnTo>
                      <a:pt x="8" y="403"/>
                    </a:lnTo>
                    <a:lnTo>
                      <a:pt x="20" y="404"/>
                    </a:lnTo>
                    <a:lnTo>
                      <a:pt x="28" y="407"/>
                    </a:lnTo>
                    <a:lnTo>
                      <a:pt x="38" y="412"/>
                    </a:lnTo>
                    <a:lnTo>
                      <a:pt x="53" y="417"/>
                    </a:lnTo>
                    <a:lnTo>
                      <a:pt x="68" y="425"/>
                    </a:lnTo>
                    <a:lnTo>
                      <a:pt x="84" y="433"/>
                    </a:lnTo>
                    <a:lnTo>
                      <a:pt x="98" y="441"/>
                    </a:lnTo>
                    <a:lnTo>
                      <a:pt x="112" y="451"/>
                    </a:lnTo>
                    <a:lnTo>
                      <a:pt x="122" y="460"/>
                    </a:lnTo>
                    <a:lnTo>
                      <a:pt x="122" y="469"/>
                    </a:lnTo>
                    <a:lnTo>
                      <a:pt x="129" y="475"/>
                    </a:lnTo>
                    <a:lnTo>
                      <a:pt x="138" y="477"/>
                    </a:lnTo>
                    <a:lnTo>
                      <a:pt x="146" y="475"/>
                    </a:lnTo>
                    <a:lnTo>
                      <a:pt x="152" y="468"/>
                    </a:lnTo>
                    <a:lnTo>
                      <a:pt x="153" y="457"/>
                    </a:lnTo>
                    <a:lnTo>
                      <a:pt x="150" y="448"/>
                    </a:lnTo>
                    <a:lnTo>
                      <a:pt x="140" y="444"/>
                    </a:lnTo>
                    <a:lnTo>
                      <a:pt x="132" y="439"/>
                    </a:lnTo>
                    <a:lnTo>
                      <a:pt x="122" y="432"/>
                    </a:lnTo>
                    <a:lnTo>
                      <a:pt x="112" y="425"/>
                    </a:lnTo>
                    <a:lnTo>
                      <a:pt x="104" y="420"/>
                    </a:lnTo>
                    <a:lnTo>
                      <a:pt x="162" y="407"/>
                    </a:lnTo>
                    <a:lnTo>
                      <a:pt x="162" y="409"/>
                    </a:lnTo>
                    <a:lnTo>
                      <a:pt x="161" y="416"/>
                    </a:lnTo>
                    <a:lnTo>
                      <a:pt x="162" y="424"/>
                    </a:lnTo>
                    <a:lnTo>
                      <a:pt x="167" y="431"/>
                    </a:lnTo>
                    <a:lnTo>
                      <a:pt x="177" y="431"/>
                    </a:lnTo>
                    <a:lnTo>
                      <a:pt x="186" y="427"/>
                    </a:lnTo>
                    <a:lnTo>
                      <a:pt x="193" y="417"/>
                    </a:lnTo>
                    <a:lnTo>
                      <a:pt x="191" y="407"/>
                    </a:lnTo>
                    <a:lnTo>
                      <a:pt x="185" y="399"/>
                    </a:lnTo>
                    <a:lnTo>
                      <a:pt x="178" y="393"/>
                    </a:lnTo>
                    <a:lnTo>
                      <a:pt x="171" y="392"/>
                    </a:lnTo>
                    <a:lnTo>
                      <a:pt x="164" y="395"/>
                    </a:lnTo>
                    <a:lnTo>
                      <a:pt x="152" y="363"/>
                    </a:lnTo>
                    <a:lnTo>
                      <a:pt x="207" y="365"/>
                    </a:lnTo>
                    <a:lnTo>
                      <a:pt x="206" y="373"/>
                    </a:lnTo>
                    <a:lnTo>
                      <a:pt x="209" y="379"/>
                    </a:lnTo>
                    <a:lnTo>
                      <a:pt x="215" y="381"/>
                    </a:lnTo>
                    <a:lnTo>
                      <a:pt x="223" y="381"/>
                    </a:lnTo>
                    <a:lnTo>
                      <a:pt x="231" y="379"/>
                    </a:lnTo>
                    <a:lnTo>
                      <a:pt x="237" y="372"/>
                    </a:lnTo>
                    <a:lnTo>
                      <a:pt x="237" y="363"/>
                    </a:lnTo>
                    <a:lnTo>
                      <a:pt x="231" y="355"/>
                    </a:lnTo>
                    <a:lnTo>
                      <a:pt x="222" y="349"/>
                    </a:lnTo>
                    <a:lnTo>
                      <a:pt x="215" y="349"/>
                    </a:lnTo>
                    <a:lnTo>
                      <a:pt x="210" y="351"/>
                    </a:lnTo>
                    <a:lnTo>
                      <a:pt x="209" y="352"/>
                    </a:lnTo>
                    <a:lnTo>
                      <a:pt x="182" y="315"/>
                    </a:lnTo>
                    <a:lnTo>
                      <a:pt x="245" y="318"/>
                    </a:lnTo>
                    <a:lnTo>
                      <a:pt x="243" y="326"/>
                    </a:lnTo>
                    <a:lnTo>
                      <a:pt x="249" y="331"/>
                    </a:lnTo>
                    <a:lnTo>
                      <a:pt x="257" y="333"/>
                    </a:lnTo>
                    <a:lnTo>
                      <a:pt x="266" y="331"/>
                    </a:lnTo>
                    <a:lnTo>
                      <a:pt x="271" y="324"/>
                    </a:lnTo>
                    <a:lnTo>
                      <a:pt x="273" y="315"/>
                    </a:lnTo>
                    <a:lnTo>
                      <a:pt x="269" y="306"/>
                    </a:lnTo>
                    <a:lnTo>
                      <a:pt x="259" y="299"/>
                    </a:lnTo>
                    <a:lnTo>
                      <a:pt x="235" y="268"/>
                    </a:lnTo>
                    <a:lnTo>
                      <a:pt x="282" y="268"/>
                    </a:lnTo>
                    <a:lnTo>
                      <a:pt x="282" y="278"/>
                    </a:lnTo>
                    <a:lnTo>
                      <a:pt x="285" y="284"/>
                    </a:lnTo>
                    <a:lnTo>
                      <a:pt x="290" y="290"/>
                    </a:lnTo>
                    <a:lnTo>
                      <a:pt x="299" y="290"/>
                    </a:lnTo>
                    <a:lnTo>
                      <a:pt x="307" y="286"/>
                    </a:lnTo>
                    <a:lnTo>
                      <a:pt x="313" y="276"/>
                    </a:lnTo>
                    <a:lnTo>
                      <a:pt x="314" y="267"/>
                    </a:lnTo>
                    <a:lnTo>
                      <a:pt x="306" y="258"/>
                    </a:lnTo>
                    <a:lnTo>
                      <a:pt x="297" y="254"/>
                    </a:lnTo>
                    <a:lnTo>
                      <a:pt x="289" y="252"/>
                    </a:lnTo>
                    <a:lnTo>
                      <a:pt x="285" y="254"/>
                    </a:lnTo>
                    <a:lnTo>
                      <a:pt x="283" y="255"/>
                    </a:lnTo>
                    <a:lnTo>
                      <a:pt x="263" y="211"/>
                    </a:lnTo>
                    <a:lnTo>
                      <a:pt x="319" y="210"/>
                    </a:lnTo>
                    <a:lnTo>
                      <a:pt x="319" y="220"/>
                    </a:lnTo>
                    <a:lnTo>
                      <a:pt x="323" y="228"/>
                    </a:lnTo>
                    <a:lnTo>
                      <a:pt x="329" y="234"/>
                    </a:lnTo>
                    <a:lnTo>
                      <a:pt x="338" y="236"/>
                    </a:lnTo>
                    <a:lnTo>
                      <a:pt x="347" y="232"/>
                    </a:lnTo>
                    <a:lnTo>
                      <a:pt x="355" y="222"/>
                    </a:lnTo>
                    <a:lnTo>
                      <a:pt x="358" y="211"/>
                    </a:lnTo>
                    <a:lnTo>
                      <a:pt x="352" y="202"/>
                    </a:lnTo>
                    <a:lnTo>
                      <a:pt x="343" y="199"/>
                    </a:lnTo>
                    <a:lnTo>
                      <a:pt x="337" y="198"/>
                    </a:lnTo>
                    <a:lnTo>
                      <a:pt x="333" y="199"/>
                    </a:lnTo>
                    <a:lnTo>
                      <a:pt x="331" y="199"/>
                    </a:lnTo>
                    <a:lnTo>
                      <a:pt x="306" y="159"/>
                    </a:lnTo>
                    <a:lnTo>
                      <a:pt x="363" y="160"/>
                    </a:lnTo>
                    <a:lnTo>
                      <a:pt x="363" y="170"/>
                    </a:lnTo>
                    <a:lnTo>
                      <a:pt x="364" y="178"/>
                    </a:lnTo>
                    <a:lnTo>
                      <a:pt x="370" y="182"/>
                    </a:lnTo>
                    <a:lnTo>
                      <a:pt x="378" y="182"/>
                    </a:lnTo>
                    <a:lnTo>
                      <a:pt x="387" y="179"/>
                    </a:lnTo>
                    <a:lnTo>
                      <a:pt x="395" y="174"/>
                    </a:lnTo>
                    <a:lnTo>
                      <a:pt x="399" y="166"/>
                    </a:lnTo>
                    <a:lnTo>
                      <a:pt x="399" y="158"/>
                    </a:lnTo>
                    <a:lnTo>
                      <a:pt x="394" y="151"/>
                    </a:lnTo>
                    <a:lnTo>
                      <a:pt x="387" y="147"/>
                    </a:lnTo>
                    <a:lnTo>
                      <a:pt x="379" y="146"/>
                    </a:lnTo>
                    <a:lnTo>
                      <a:pt x="371" y="147"/>
                    </a:lnTo>
                    <a:lnTo>
                      <a:pt x="362" y="98"/>
                    </a:lnTo>
                    <a:lnTo>
                      <a:pt x="403" y="112"/>
                    </a:lnTo>
                    <a:lnTo>
                      <a:pt x="403" y="123"/>
                    </a:lnTo>
                    <a:lnTo>
                      <a:pt x="407" y="128"/>
                    </a:lnTo>
                    <a:lnTo>
                      <a:pt x="415" y="128"/>
                    </a:lnTo>
                    <a:lnTo>
                      <a:pt x="423" y="123"/>
                    </a:lnTo>
                    <a:lnTo>
                      <a:pt x="428" y="114"/>
                    </a:lnTo>
                    <a:lnTo>
                      <a:pt x="431" y="106"/>
                    </a:lnTo>
                    <a:lnTo>
                      <a:pt x="427" y="99"/>
                    </a:lnTo>
                    <a:lnTo>
                      <a:pt x="414" y="96"/>
                    </a:lnTo>
                    <a:lnTo>
                      <a:pt x="408" y="94"/>
                    </a:lnTo>
                    <a:lnTo>
                      <a:pt x="396" y="87"/>
                    </a:lnTo>
                    <a:lnTo>
                      <a:pt x="378" y="78"/>
                    </a:lnTo>
                    <a:lnTo>
                      <a:pt x="356" y="66"/>
                    </a:lnTo>
                    <a:lnTo>
                      <a:pt x="334" y="52"/>
                    </a:lnTo>
                    <a:lnTo>
                      <a:pt x="313" y="39"/>
                    </a:lnTo>
                    <a:lnTo>
                      <a:pt x="297" y="26"/>
                    </a:lnTo>
                    <a:lnTo>
                      <a:pt x="286" y="15"/>
                    </a:lnTo>
                    <a:lnTo>
                      <a:pt x="285" y="7"/>
                    </a:lnTo>
                    <a:lnTo>
                      <a:pt x="279" y="2"/>
                    </a:lnTo>
                    <a:lnTo>
                      <a:pt x="269" y="0"/>
                    </a:lnTo>
                    <a:lnTo>
                      <a:pt x="259" y="4"/>
                    </a:lnTo>
                    <a:lnTo>
                      <a:pt x="253" y="14"/>
                    </a:lnTo>
                    <a:lnTo>
                      <a:pt x="254" y="23"/>
                    </a:lnTo>
                    <a:lnTo>
                      <a:pt x="261" y="31"/>
                    </a:lnTo>
                    <a:lnTo>
                      <a:pt x="273" y="32"/>
                    </a:lnTo>
                    <a:lnTo>
                      <a:pt x="274" y="34"/>
                    </a:lnTo>
                    <a:lnTo>
                      <a:pt x="277" y="36"/>
                    </a:lnTo>
                    <a:lnTo>
                      <a:pt x="281" y="42"/>
                    </a:lnTo>
                    <a:lnTo>
                      <a:pt x="286" y="47"/>
                    </a:lnTo>
                    <a:lnTo>
                      <a:pt x="293" y="54"/>
                    </a:lnTo>
                    <a:lnTo>
                      <a:pt x="301" y="60"/>
                    </a:lnTo>
                    <a:lnTo>
                      <a:pt x="307" y="66"/>
                    </a:lnTo>
                    <a:lnTo>
                      <a:pt x="315" y="71"/>
                    </a:lnTo>
                    <a:lnTo>
                      <a:pt x="255" y="71"/>
                    </a:lnTo>
                    <a:lnTo>
                      <a:pt x="251" y="60"/>
                    </a:lnTo>
                    <a:lnTo>
                      <a:pt x="245" y="51"/>
                    </a:lnTo>
                    <a:lnTo>
                      <a:pt x="234" y="46"/>
                    </a:lnTo>
                    <a:lnTo>
                      <a:pt x="225" y="48"/>
                    </a:lnTo>
                    <a:lnTo>
                      <a:pt x="219" y="58"/>
                    </a:lnTo>
                    <a:lnTo>
                      <a:pt x="219" y="67"/>
                    </a:lnTo>
                    <a:lnTo>
                      <a:pt x="227" y="76"/>
                    </a:lnTo>
                    <a:lnTo>
                      <a:pt x="241" y="79"/>
                    </a:lnTo>
                    <a:lnTo>
                      <a:pt x="262" y="126"/>
                    </a:lnTo>
                    <a:lnTo>
                      <a:pt x="213" y="112"/>
                    </a:lnTo>
                    <a:lnTo>
                      <a:pt x="209" y="103"/>
                    </a:lnTo>
                    <a:lnTo>
                      <a:pt x="201" y="95"/>
                    </a:lnTo>
                    <a:lnTo>
                      <a:pt x="191" y="94"/>
                    </a:lnTo>
                    <a:lnTo>
                      <a:pt x="182" y="99"/>
                    </a:lnTo>
                    <a:lnTo>
                      <a:pt x="178" y="110"/>
                    </a:lnTo>
                    <a:lnTo>
                      <a:pt x="182" y="122"/>
                    </a:lnTo>
                    <a:lnTo>
                      <a:pt x="190" y="128"/>
                    </a:lnTo>
                    <a:lnTo>
                      <a:pt x="203" y="128"/>
                    </a:lnTo>
                    <a:lnTo>
                      <a:pt x="235" y="179"/>
                    </a:lnTo>
                    <a:lnTo>
                      <a:pt x="179" y="182"/>
                    </a:lnTo>
                    <a:lnTo>
                      <a:pt x="175" y="172"/>
                    </a:lnTo>
                    <a:lnTo>
                      <a:pt x="167" y="167"/>
                    </a:lnTo>
                    <a:lnTo>
                      <a:pt x="158" y="164"/>
                    </a:lnTo>
                    <a:lnTo>
                      <a:pt x="152" y="168"/>
                    </a:lnTo>
                    <a:lnTo>
                      <a:pt x="146" y="176"/>
                    </a:lnTo>
                    <a:lnTo>
                      <a:pt x="144" y="184"/>
                    </a:lnTo>
                    <a:lnTo>
                      <a:pt x="144" y="191"/>
                    </a:lnTo>
                    <a:lnTo>
                      <a:pt x="146" y="198"/>
                    </a:lnTo>
                    <a:lnTo>
                      <a:pt x="152" y="202"/>
                    </a:lnTo>
                    <a:lnTo>
                      <a:pt x="157" y="203"/>
                    </a:lnTo>
                    <a:lnTo>
                      <a:pt x="162" y="203"/>
                    </a:lnTo>
                    <a:lnTo>
                      <a:pt x="169" y="202"/>
                    </a:lnTo>
                    <a:lnTo>
                      <a:pt x="191" y="243"/>
                    </a:lnTo>
                    <a:lnTo>
                      <a:pt x="138" y="247"/>
                    </a:lnTo>
                    <a:lnTo>
                      <a:pt x="136" y="236"/>
                    </a:lnTo>
                    <a:lnTo>
                      <a:pt x="130" y="231"/>
                    </a:lnTo>
                    <a:lnTo>
                      <a:pt x="122" y="228"/>
                    </a:lnTo>
                    <a:lnTo>
                      <a:pt x="114" y="231"/>
                    </a:lnTo>
                    <a:lnTo>
                      <a:pt x="108" y="238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09" y="263"/>
                    </a:lnTo>
                    <a:lnTo>
                      <a:pt x="117" y="266"/>
                    </a:lnTo>
                    <a:lnTo>
                      <a:pt x="124" y="267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48" y="306"/>
                    </a:lnTo>
                    <a:lnTo>
                      <a:pt x="96" y="304"/>
                    </a:lnTo>
                    <a:lnTo>
                      <a:pt x="93" y="294"/>
                    </a:lnTo>
                    <a:lnTo>
                      <a:pt x="88" y="287"/>
                    </a:lnTo>
                    <a:lnTo>
                      <a:pt x="78" y="286"/>
                    </a:lnTo>
                    <a:lnTo>
                      <a:pt x="72" y="290"/>
                    </a:lnTo>
                    <a:lnTo>
                      <a:pt x="68" y="299"/>
                    </a:lnTo>
                    <a:lnTo>
                      <a:pt x="69" y="311"/>
                    </a:lnTo>
                    <a:lnTo>
                      <a:pt x="73" y="319"/>
                    </a:lnTo>
                    <a:lnTo>
                      <a:pt x="84" y="322"/>
                    </a:lnTo>
                    <a:lnTo>
                      <a:pt x="124" y="344"/>
                    </a:lnTo>
                    <a:lnTo>
                      <a:pt x="72" y="352"/>
                    </a:lnTo>
                    <a:lnTo>
                      <a:pt x="66" y="343"/>
                    </a:lnTo>
                    <a:lnTo>
                      <a:pt x="57" y="337"/>
                    </a:lnTo>
                    <a:lnTo>
                      <a:pt x="49" y="335"/>
                    </a:lnTo>
                    <a:lnTo>
                      <a:pt x="41" y="339"/>
                    </a:lnTo>
                    <a:lnTo>
                      <a:pt x="40" y="347"/>
                    </a:lnTo>
                    <a:lnTo>
                      <a:pt x="44" y="356"/>
                    </a:lnTo>
                    <a:lnTo>
                      <a:pt x="50" y="363"/>
                    </a:lnTo>
                    <a:lnTo>
                      <a:pt x="61" y="363"/>
                    </a:lnTo>
                    <a:lnTo>
                      <a:pt x="76" y="401"/>
                    </a:lnTo>
                    <a:lnTo>
                      <a:pt x="73" y="401"/>
                    </a:lnTo>
                    <a:lnTo>
                      <a:pt x="68" y="400"/>
                    </a:lnTo>
                    <a:lnTo>
                      <a:pt x="61" y="397"/>
                    </a:lnTo>
                    <a:lnTo>
                      <a:pt x="52" y="395"/>
                    </a:lnTo>
                    <a:lnTo>
                      <a:pt x="42" y="392"/>
                    </a:lnTo>
                    <a:lnTo>
                      <a:pt x="33" y="388"/>
                    </a:lnTo>
                    <a:lnTo>
                      <a:pt x="26" y="385"/>
                    </a:lnTo>
                    <a:lnTo>
                      <a:pt x="22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72760" y="4860360"/>
                <a:ext cx="47520" cy="31320"/>
              </a:xfrm>
              <a:custGeom>
                <a:avLst/>
                <a:gdLst/>
                <a:ahLst/>
                <a:rect l="l" t="t" r="r" b="b"/>
                <a:pathLst>
                  <a:path w="79" h="51">
                    <a:moveTo>
                      <a:pt x="66" y="0"/>
                    </a:moveTo>
                    <a:lnTo>
                      <a:pt x="0" y="5"/>
                    </a:lnTo>
                    <a:lnTo>
                      <a:pt x="24" y="48"/>
                    </a:lnTo>
                    <a:lnTo>
                      <a:pt x="79" y="5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0440" y="4893840"/>
                <a:ext cx="44280" cy="291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42" y="8"/>
                    </a:moveTo>
                    <a:lnTo>
                      <a:pt x="0" y="0"/>
                    </a:lnTo>
                    <a:lnTo>
                      <a:pt x="24" y="48"/>
                    </a:lnTo>
                    <a:lnTo>
                      <a:pt x="72" y="50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24520" y="4932360"/>
                <a:ext cx="45720" cy="295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46" y="0"/>
                    </a:moveTo>
                    <a:lnTo>
                      <a:pt x="0" y="0"/>
                    </a:lnTo>
                    <a:lnTo>
                      <a:pt x="26" y="48"/>
                    </a:lnTo>
                    <a:lnTo>
                      <a:pt x="76" y="4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02560" y="4967280"/>
                <a:ext cx="47880" cy="23760"/>
              </a:xfrm>
              <a:custGeom>
                <a:avLst/>
                <a:gdLst/>
                <a:ahLst/>
                <a:rect l="l" t="t" r="r" b="b"/>
                <a:pathLst>
                  <a:path w="80" h="39">
                    <a:moveTo>
                      <a:pt x="42" y="0"/>
                    </a:moveTo>
                    <a:lnTo>
                      <a:pt x="0" y="6"/>
                    </a:lnTo>
                    <a:lnTo>
                      <a:pt x="18" y="39"/>
                    </a:lnTo>
                    <a:lnTo>
                      <a:pt x="80" y="3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400" y="500256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7" y="0"/>
                    </a:moveTo>
                    <a:lnTo>
                      <a:pt x="0" y="3"/>
                    </a:lnTo>
                    <a:lnTo>
                      <a:pt x="22" y="28"/>
                    </a:lnTo>
                    <a:lnTo>
                      <a:pt x="65" y="2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60080" y="5029920"/>
                <a:ext cx="34560" cy="2376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37" y="0"/>
                    </a:moveTo>
                    <a:lnTo>
                      <a:pt x="0" y="2"/>
                    </a:lnTo>
                    <a:lnTo>
                      <a:pt x="8" y="38"/>
                    </a:lnTo>
                    <a:lnTo>
                      <a:pt x="57" y="2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87680" y="3036960"/>
              <a:ext cx="1076040" cy="321120"/>
            </a:xfrm>
            <a:custGeom>
              <a:avLst/>
              <a:gdLst/>
              <a:ahLst/>
              <a:rect l="l" t="t" r="r" b="b"/>
              <a:pathLst>
                <a:path w="1748" h="523">
                  <a:moveTo>
                    <a:pt x="0" y="190"/>
                  </a:moveTo>
                  <a:lnTo>
                    <a:pt x="0" y="210"/>
                  </a:lnTo>
                  <a:lnTo>
                    <a:pt x="0" y="245"/>
                  </a:lnTo>
                  <a:lnTo>
                    <a:pt x="4" y="289"/>
                  </a:lnTo>
                  <a:lnTo>
                    <a:pt x="10" y="339"/>
                  </a:lnTo>
                  <a:lnTo>
                    <a:pt x="19" y="391"/>
                  </a:lnTo>
                  <a:lnTo>
                    <a:pt x="32" y="443"/>
                  </a:lnTo>
                  <a:lnTo>
                    <a:pt x="50" y="489"/>
                  </a:lnTo>
                  <a:lnTo>
                    <a:pt x="73" y="523"/>
                  </a:lnTo>
                  <a:lnTo>
                    <a:pt x="89" y="506"/>
                  </a:lnTo>
                  <a:lnTo>
                    <a:pt x="105" y="490"/>
                  </a:lnTo>
                  <a:lnTo>
                    <a:pt x="123" y="474"/>
                  </a:lnTo>
                  <a:lnTo>
                    <a:pt x="140" y="458"/>
                  </a:lnTo>
                  <a:lnTo>
                    <a:pt x="159" y="442"/>
                  </a:lnTo>
                  <a:lnTo>
                    <a:pt x="177" y="427"/>
                  </a:lnTo>
                  <a:lnTo>
                    <a:pt x="196" y="414"/>
                  </a:lnTo>
                  <a:lnTo>
                    <a:pt x="216" y="399"/>
                  </a:lnTo>
                  <a:lnTo>
                    <a:pt x="236" y="387"/>
                  </a:lnTo>
                  <a:lnTo>
                    <a:pt x="256" y="375"/>
                  </a:lnTo>
                  <a:lnTo>
                    <a:pt x="277" y="366"/>
                  </a:lnTo>
                  <a:lnTo>
                    <a:pt x="298" y="357"/>
                  </a:lnTo>
                  <a:lnTo>
                    <a:pt x="320" y="349"/>
                  </a:lnTo>
                  <a:lnTo>
                    <a:pt x="341" y="342"/>
                  </a:lnTo>
                  <a:lnTo>
                    <a:pt x="364" y="337"/>
                  </a:lnTo>
                  <a:lnTo>
                    <a:pt x="385" y="333"/>
                  </a:lnTo>
                  <a:lnTo>
                    <a:pt x="340" y="370"/>
                  </a:lnTo>
                  <a:lnTo>
                    <a:pt x="352" y="373"/>
                  </a:lnTo>
                  <a:lnTo>
                    <a:pt x="365" y="375"/>
                  </a:lnTo>
                  <a:lnTo>
                    <a:pt x="381" y="379"/>
                  </a:lnTo>
                  <a:lnTo>
                    <a:pt x="398" y="382"/>
                  </a:lnTo>
                  <a:lnTo>
                    <a:pt x="417" y="385"/>
                  </a:lnTo>
                  <a:lnTo>
                    <a:pt x="437" y="387"/>
                  </a:lnTo>
                  <a:lnTo>
                    <a:pt x="458" y="390"/>
                  </a:lnTo>
                  <a:lnTo>
                    <a:pt x="479" y="391"/>
                  </a:lnTo>
                  <a:lnTo>
                    <a:pt x="502" y="394"/>
                  </a:lnTo>
                  <a:lnTo>
                    <a:pt x="523" y="395"/>
                  </a:lnTo>
                  <a:lnTo>
                    <a:pt x="545" y="395"/>
                  </a:lnTo>
                  <a:lnTo>
                    <a:pt x="565" y="397"/>
                  </a:lnTo>
                  <a:lnTo>
                    <a:pt x="585" y="397"/>
                  </a:lnTo>
                  <a:lnTo>
                    <a:pt x="603" y="395"/>
                  </a:lnTo>
                  <a:lnTo>
                    <a:pt x="620" y="394"/>
                  </a:lnTo>
                  <a:lnTo>
                    <a:pt x="635" y="391"/>
                  </a:lnTo>
                  <a:lnTo>
                    <a:pt x="660" y="387"/>
                  </a:lnTo>
                  <a:lnTo>
                    <a:pt x="682" y="387"/>
                  </a:lnTo>
                  <a:lnTo>
                    <a:pt x="700" y="391"/>
                  </a:lnTo>
                  <a:lnTo>
                    <a:pt x="718" y="397"/>
                  </a:lnTo>
                  <a:lnTo>
                    <a:pt x="735" y="403"/>
                  </a:lnTo>
                  <a:lnTo>
                    <a:pt x="752" y="410"/>
                  </a:lnTo>
                  <a:lnTo>
                    <a:pt x="771" y="417"/>
                  </a:lnTo>
                  <a:lnTo>
                    <a:pt x="792" y="422"/>
                  </a:lnTo>
                  <a:lnTo>
                    <a:pt x="804" y="423"/>
                  </a:lnTo>
                  <a:lnTo>
                    <a:pt x="816" y="426"/>
                  </a:lnTo>
                  <a:lnTo>
                    <a:pt x="831" y="426"/>
                  </a:lnTo>
                  <a:lnTo>
                    <a:pt x="844" y="427"/>
                  </a:lnTo>
                  <a:lnTo>
                    <a:pt x="859" y="426"/>
                  </a:lnTo>
                  <a:lnTo>
                    <a:pt x="875" y="426"/>
                  </a:lnTo>
                  <a:lnTo>
                    <a:pt x="889" y="425"/>
                  </a:lnTo>
                  <a:lnTo>
                    <a:pt x="905" y="423"/>
                  </a:lnTo>
                  <a:lnTo>
                    <a:pt x="921" y="422"/>
                  </a:lnTo>
                  <a:lnTo>
                    <a:pt x="939" y="419"/>
                  </a:lnTo>
                  <a:lnTo>
                    <a:pt x="955" y="418"/>
                  </a:lnTo>
                  <a:lnTo>
                    <a:pt x="970" y="415"/>
                  </a:lnTo>
                  <a:lnTo>
                    <a:pt x="988" y="411"/>
                  </a:lnTo>
                  <a:lnTo>
                    <a:pt x="1004" y="409"/>
                  </a:lnTo>
                  <a:lnTo>
                    <a:pt x="1020" y="405"/>
                  </a:lnTo>
                  <a:lnTo>
                    <a:pt x="1036" y="401"/>
                  </a:lnTo>
                  <a:lnTo>
                    <a:pt x="1052" y="397"/>
                  </a:lnTo>
                  <a:lnTo>
                    <a:pt x="1068" y="393"/>
                  </a:lnTo>
                  <a:lnTo>
                    <a:pt x="1084" y="390"/>
                  </a:lnTo>
                  <a:lnTo>
                    <a:pt x="1101" y="387"/>
                  </a:lnTo>
                  <a:lnTo>
                    <a:pt x="1117" y="383"/>
                  </a:lnTo>
                  <a:lnTo>
                    <a:pt x="1134" y="381"/>
                  </a:lnTo>
                  <a:lnTo>
                    <a:pt x="1151" y="379"/>
                  </a:lnTo>
                  <a:lnTo>
                    <a:pt x="1167" y="377"/>
                  </a:lnTo>
                  <a:lnTo>
                    <a:pt x="1185" y="374"/>
                  </a:lnTo>
                  <a:lnTo>
                    <a:pt x="1201" y="373"/>
                  </a:lnTo>
                  <a:lnTo>
                    <a:pt x="1217" y="370"/>
                  </a:lnTo>
                  <a:lnTo>
                    <a:pt x="1233" y="369"/>
                  </a:lnTo>
                  <a:lnTo>
                    <a:pt x="1249" y="367"/>
                  </a:lnTo>
                  <a:lnTo>
                    <a:pt x="1263" y="366"/>
                  </a:lnTo>
                  <a:lnTo>
                    <a:pt x="1278" y="365"/>
                  </a:lnTo>
                  <a:lnTo>
                    <a:pt x="1291" y="363"/>
                  </a:lnTo>
                  <a:lnTo>
                    <a:pt x="1305" y="362"/>
                  </a:lnTo>
                  <a:lnTo>
                    <a:pt x="1319" y="361"/>
                  </a:lnTo>
                  <a:lnTo>
                    <a:pt x="1334" y="359"/>
                  </a:lnTo>
                  <a:lnTo>
                    <a:pt x="1350" y="358"/>
                  </a:lnTo>
                  <a:lnTo>
                    <a:pt x="1366" y="357"/>
                  </a:lnTo>
                  <a:lnTo>
                    <a:pt x="1382" y="355"/>
                  </a:lnTo>
                  <a:lnTo>
                    <a:pt x="1398" y="355"/>
                  </a:lnTo>
                  <a:lnTo>
                    <a:pt x="1414" y="354"/>
                  </a:lnTo>
                  <a:lnTo>
                    <a:pt x="1430" y="353"/>
                  </a:lnTo>
                  <a:lnTo>
                    <a:pt x="1446" y="351"/>
                  </a:lnTo>
                  <a:lnTo>
                    <a:pt x="1462" y="350"/>
                  </a:lnTo>
                  <a:lnTo>
                    <a:pt x="1476" y="349"/>
                  </a:lnTo>
                  <a:lnTo>
                    <a:pt x="1491" y="347"/>
                  </a:lnTo>
                  <a:lnTo>
                    <a:pt x="1504" y="347"/>
                  </a:lnTo>
                  <a:lnTo>
                    <a:pt x="1516" y="346"/>
                  </a:lnTo>
                  <a:lnTo>
                    <a:pt x="1528" y="345"/>
                  </a:lnTo>
                  <a:lnTo>
                    <a:pt x="1547" y="342"/>
                  </a:lnTo>
                  <a:lnTo>
                    <a:pt x="1572" y="337"/>
                  </a:lnTo>
                  <a:lnTo>
                    <a:pt x="1601" y="329"/>
                  </a:lnTo>
                  <a:lnTo>
                    <a:pt x="1633" y="321"/>
                  </a:lnTo>
                  <a:lnTo>
                    <a:pt x="1664" y="311"/>
                  </a:lnTo>
                  <a:lnTo>
                    <a:pt x="1691" y="302"/>
                  </a:lnTo>
                  <a:lnTo>
                    <a:pt x="1712" y="295"/>
                  </a:lnTo>
                  <a:lnTo>
                    <a:pt x="1724" y="289"/>
                  </a:lnTo>
                  <a:lnTo>
                    <a:pt x="1734" y="279"/>
                  </a:lnTo>
                  <a:lnTo>
                    <a:pt x="1738" y="271"/>
                  </a:lnTo>
                  <a:lnTo>
                    <a:pt x="1736" y="265"/>
                  </a:lnTo>
                  <a:lnTo>
                    <a:pt x="1725" y="258"/>
                  </a:lnTo>
                  <a:lnTo>
                    <a:pt x="1714" y="263"/>
                  </a:lnTo>
                  <a:lnTo>
                    <a:pt x="1697" y="270"/>
                  </a:lnTo>
                  <a:lnTo>
                    <a:pt x="1675" y="278"/>
                  </a:lnTo>
                  <a:lnTo>
                    <a:pt x="1648" y="286"/>
                  </a:lnTo>
                  <a:lnTo>
                    <a:pt x="1619" y="294"/>
                  </a:lnTo>
                  <a:lnTo>
                    <a:pt x="1587" y="301"/>
                  </a:lnTo>
                  <a:lnTo>
                    <a:pt x="1553" y="305"/>
                  </a:lnTo>
                  <a:lnTo>
                    <a:pt x="1521" y="306"/>
                  </a:lnTo>
                  <a:lnTo>
                    <a:pt x="1525" y="301"/>
                  </a:lnTo>
                  <a:lnTo>
                    <a:pt x="1533" y="297"/>
                  </a:lnTo>
                  <a:lnTo>
                    <a:pt x="1541" y="293"/>
                  </a:lnTo>
                  <a:lnTo>
                    <a:pt x="1552" y="290"/>
                  </a:lnTo>
                  <a:lnTo>
                    <a:pt x="1564" y="287"/>
                  </a:lnTo>
                  <a:lnTo>
                    <a:pt x="1576" y="285"/>
                  </a:lnTo>
                  <a:lnTo>
                    <a:pt x="1588" y="283"/>
                  </a:lnTo>
                  <a:lnTo>
                    <a:pt x="1600" y="282"/>
                  </a:lnTo>
                  <a:lnTo>
                    <a:pt x="1613" y="279"/>
                  </a:lnTo>
                  <a:lnTo>
                    <a:pt x="1631" y="277"/>
                  </a:lnTo>
                  <a:lnTo>
                    <a:pt x="1648" y="271"/>
                  </a:lnTo>
                  <a:lnTo>
                    <a:pt x="1667" y="266"/>
                  </a:lnTo>
                  <a:lnTo>
                    <a:pt x="1685" y="261"/>
                  </a:lnTo>
                  <a:lnTo>
                    <a:pt x="1701" y="253"/>
                  </a:lnTo>
                  <a:lnTo>
                    <a:pt x="1716" y="246"/>
                  </a:lnTo>
                  <a:lnTo>
                    <a:pt x="1726" y="238"/>
                  </a:lnTo>
                  <a:lnTo>
                    <a:pt x="1741" y="221"/>
                  </a:lnTo>
                  <a:lnTo>
                    <a:pt x="1748" y="205"/>
                  </a:lnTo>
                  <a:lnTo>
                    <a:pt x="1744" y="194"/>
                  </a:lnTo>
                  <a:lnTo>
                    <a:pt x="1725" y="189"/>
                  </a:lnTo>
                  <a:lnTo>
                    <a:pt x="1716" y="197"/>
                  </a:lnTo>
                  <a:lnTo>
                    <a:pt x="1701" y="209"/>
                  </a:lnTo>
                  <a:lnTo>
                    <a:pt x="1683" y="221"/>
                  </a:lnTo>
                  <a:lnTo>
                    <a:pt x="1659" y="233"/>
                  </a:lnTo>
                  <a:lnTo>
                    <a:pt x="1629" y="245"/>
                  </a:lnTo>
                  <a:lnTo>
                    <a:pt x="1596" y="254"/>
                  </a:lnTo>
                  <a:lnTo>
                    <a:pt x="1559" y="261"/>
                  </a:lnTo>
                  <a:lnTo>
                    <a:pt x="1516" y="262"/>
                  </a:lnTo>
                  <a:lnTo>
                    <a:pt x="1527" y="255"/>
                  </a:lnTo>
                  <a:lnTo>
                    <a:pt x="1541" y="250"/>
                  </a:lnTo>
                  <a:lnTo>
                    <a:pt x="1557" y="246"/>
                  </a:lnTo>
                  <a:lnTo>
                    <a:pt x="1576" y="242"/>
                  </a:lnTo>
                  <a:lnTo>
                    <a:pt x="1595" y="238"/>
                  </a:lnTo>
                  <a:lnTo>
                    <a:pt x="1616" y="231"/>
                  </a:lnTo>
                  <a:lnTo>
                    <a:pt x="1636" y="225"/>
                  </a:lnTo>
                  <a:lnTo>
                    <a:pt x="1657" y="214"/>
                  </a:lnTo>
                  <a:lnTo>
                    <a:pt x="1676" y="203"/>
                  </a:lnTo>
                  <a:lnTo>
                    <a:pt x="1692" y="194"/>
                  </a:lnTo>
                  <a:lnTo>
                    <a:pt x="1704" y="187"/>
                  </a:lnTo>
                  <a:lnTo>
                    <a:pt x="1713" y="180"/>
                  </a:lnTo>
                  <a:lnTo>
                    <a:pt x="1721" y="173"/>
                  </a:lnTo>
                  <a:lnTo>
                    <a:pt x="1728" y="165"/>
                  </a:lnTo>
                  <a:lnTo>
                    <a:pt x="1733" y="157"/>
                  </a:lnTo>
                  <a:lnTo>
                    <a:pt x="1737" y="148"/>
                  </a:lnTo>
                  <a:lnTo>
                    <a:pt x="1741" y="138"/>
                  </a:lnTo>
                  <a:lnTo>
                    <a:pt x="1742" y="129"/>
                  </a:lnTo>
                  <a:lnTo>
                    <a:pt x="1741" y="122"/>
                  </a:lnTo>
                  <a:lnTo>
                    <a:pt x="1738" y="117"/>
                  </a:lnTo>
                  <a:lnTo>
                    <a:pt x="1733" y="114"/>
                  </a:lnTo>
                  <a:lnTo>
                    <a:pt x="1725" y="113"/>
                  </a:lnTo>
                  <a:lnTo>
                    <a:pt x="1716" y="113"/>
                  </a:lnTo>
                  <a:lnTo>
                    <a:pt x="1704" y="116"/>
                  </a:lnTo>
                  <a:lnTo>
                    <a:pt x="1694" y="129"/>
                  </a:lnTo>
                  <a:lnTo>
                    <a:pt x="1683" y="145"/>
                  </a:lnTo>
                  <a:lnTo>
                    <a:pt x="1667" y="162"/>
                  </a:lnTo>
                  <a:lnTo>
                    <a:pt x="1647" y="180"/>
                  </a:lnTo>
                  <a:lnTo>
                    <a:pt x="1621" y="195"/>
                  </a:lnTo>
                  <a:lnTo>
                    <a:pt x="1591" y="209"/>
                  </a:lnTo>
                  <a:lnTo>
                    <a:pt x="1553" y="219"/>
                  </a:lnTo>
                  <a:lnTo>
                    <a:pt x="1508" y="223"/>
                  </a:lnTo>
                  <a:lnTo>
                    <a:pt x="1519" y="217"/>
                  </a:lnTo>
                  <a:lnTo>
                    <a:pt x="1531" y="211"/>
                  </a:lnTo>
                  <a:lnTo>
                    <a:pt x="1543" y="207"/>
                  </a:lnTo>
                  <a:lnTo>
                    <a:pt x="1557" y="205"/>
                  </a:lnTo>
                  <a:lnTo>
                    <a:pt x="1571" y="201"/>
                  </a:lnTo>
                  <a:lnTo>
                    <a:pt x="1585" y="197"/>
                  </a:lnTo>
                  <a:lnTo>
                    <a:pt x="1600" y="193"/>
                  </a:lnTo>
                  <a:lnTo>
                    <a:pt x="1613" y="186"/>
                  </a:lnTo>
                  <a:lnTo>
                    <a:pt x="1627" y="180"/>
                  </a:lnTo>
                  <a:lnTo>
                    <a:pt x="1639" y="172"/>
                  </a:lnTo>
                  <a:lnTo>
                    <a:pt x="1649" y="164"/>
                  </a:lnTo>
                  <a:lnTo>
                    <a:pt x="1660" y="154"/>
                  </a:lnTo>
                  <a:lnTo>
                    <a:pt x="1669" y="146"/>
                  </a:lnTo>
                  <a:lnTo>
                    <a:pt x="1677" y="137"/>
                  </a:lnTo>
                  <a:lnTo>
                    <a:pt x="1683" y="126"/>
                  </a:lnTo>
                  <a:lnTo>
                    <a:pt x="1687" y="116"/>
                  </a:lnTo>
                  <a:lnTo>
                    <a:pt x="1688" y="108"/>
                  </a:lnTo>
                  <a:lnTo>
                    <a:pt x="1684" y="102"/>
                  </a:lnTo>
                  <a:lnTo>
                    <a:pt x="1677" y="102"/>
                  </a:lnTo>
                  <a:lnTo>
                    <a:pt x="1667" y="108"/>
                  </a:lnTo>
                  <a:lnTo>
                    <a:pt x="1659" y="113"/>
                  </a:lnTo>
                  <a:lnTo>
                    <a:pt x="1648" y="121"/>
                  </a:lnTo>
                  <a:lnTo>
                    <a:pt x="1635" y="130"/>
                  </a:lnTo>
                  <a:lnTo>
                    <a:pt x="1620" y="140"/>
                  </a:lnTo>
                  <a:lnTo>
                    <a:pt x="1603" y="149"/>
                  </a:lnTo>
                  <a:lnTo>
                    <a:pt x="1585" y="157"/>
                  </a:lnTo>
                  <a:lnTo>
                    <a:pt x="1569" y="164"/>
                  </a:lnTo>
                  <a:lnTo>
                    <a:pt x="1553" y="166"/>
                  </a:lnTo>
                  <a:lnTo>
                    <a:pt x="1537" y="168"/>
                  </a:lnTo>
                  <a:lnTo>
                    <a:pt x="1521" y="170"/>
                  </a:lnTo>
                  <a:lnTo>
                    <a:pt x="1504" y="174"/>
                  </a:lnTo>
                  <a:lnTo>
                    <a:pt x="1488" y="176"/>
                  </a:lnTo>
                  <a:lnTo>
                    <a:pt x="1474" y="178"/>
                  </a:lnTo>
                  <a:lnTo>
                    <a:pt x="1460" y="178"/>
                  </a:lnTo>
                  <a:lnTo>
                    <a:pt x="1448" y="176"/>
                  </a:lnTo>
                  <a:lnTo>
                    <a:pt x="1440" y="170"/>
                  </a:lnTo>
                  <a:lnTo>
                    <a:pt x="1431" y="156"/>
                  </a:lnTo>
                  <a:lnTo>
                    <a:pt x="1428" y="138"/>
                  </a:lnTo>
                  <a:lnTo>
                    <a:pt x="1432" y="121"/>
                  </a:lnTo>
                  <a:lnTo>
                    <a:pt x="1440" y="105"/>
                  </a:lnTo>
                  <a:lnTo>
                    <a:pt x="1447" y="96"/>
                  </a:lnTo>
                  <a:lnTo>
                    <a:pt x="1455" y="84"/>
                  </a:lnTo>
                  <a:lnTo>
                    <a:pt x="1466" y="70"/>
                  </a:lnTo>
                  <a:lnTo>
                    <a:pt x="1475" y="56"/>
                  </a:lnTo>
                  <a:lnTo>
                    <a:pt x="1482" y="41"/>
                  </a:lnTo>
                  <a:lnTo>
                    <a:pt x="1486" y="26"/>
                  </a:lnTo>
                  <a:lnTo>
                    <a:pt x="1484" y="13"/>
                  </a:lnTo>
                  <a:lnTo>
                    <a:pt x="1476" y="0"/>
                  </a:lnTo>
                  <a:lnTo>
                    <a:pt x="1471" y="8"/>
                  </a:lnTo>
                  <a:lnTo>
                    <a:pt x="1464" y="17"/>
                  </a:lnTo>
                  <a:lnTo>
                    <a:pt x="1458" y="28"/>
                  </a:lnTo>
                  <a:lnTo>
                    <a:pt x="1450" y="37"/>
                  </a:lnTo>
                  <a:lnTo>
                    <a:pt x="1442" y="46"/>
                  </a:lnTo>
                  <a:lnTo>
                    <a:pt x="1434" y="54"/>
                  </a:lnTo>
                  <a:lnTo>
                    <a:pt x="1424" y="61"/>
                  </a:lnTo>
                  <a:lnTo>
                    <a:pt x="1414" y="66"/>
                  </a:lnTo>
                  <a:lnTo>
                    <a:pt x="1404" y="72"/>
                  </a:lnTo>
                  <a:lnTo>
                    <a:pt x="1395" y="78"/>
                  </a:lnTo>
                  <a:lnTo>
                    <a:pt x="1386" y="86"/>
                  </a:lnTo>
                  <a:lnTo>
                    <a:pt x="1378" y="97"/>
                  </a:lnTo>
                  <a:lnTo>
                    <a:pt x="1370" y="109"/>
                  </a:lnTo>
                  <a:lnTo>
                    <a:pt x="1363" y="121"/>
                  </a:lnTo>
                  <a:lnTo>
                    <a:pt x="1358" y="136"/>
                  </a:lnTo>
                  <a:lnTo>
                    <a:pt x="1354" y="149"/>
                  </a:lnTo>
                  <a:lnTo>
                    <a:pt x="1351" y="162"/>
                  </a:lnTo>
                  <a:lnTo>
                    <a:pt x="1348" y="173"/>
                  </a:lnTo>
                  <a:lnTo>
                    <a:pt x="1346" y="182"/>
                  </a:lnTo>
                  <a:lnTo>
                    <a:pt x="1342" y="191"/>
                  </a:lnTo>
                  <a:lnTo>
                    <a:pt x="1335" y="199"/>
                  </a:lnTo>
                  <a:lnTo>
                    <a:pt x="1325" y="207"/>
                  </a:lnTo>
                  <a:lnTo>
                    <a:pt x="1311" y="217"/>
                  </a:lnTo>
                  <a:lnTo>
                    <a:pt x="1293" y="226"/>
                  </a:lnTo>
                  <a:lnTo>
                    <a:pt x="1287" y="229"/>
                  </a:lnTo>
                  <a:lnTo>
                    <a:pt x="1281" y="230"/>
                  </a:lnTo>
                  <a:lnTo>
                    <a:pt x="1271" y="233"/>
                  </a:lnTo>
                  <a:lnTo>
                    <a:pt x="1262" y="234"/>
                  </a:lnTo>
                  <a:lnTo>
                    <a:pt x="1250" y="237"/>
                  </a:lnTo>
                  <a:lnTo>
                    <a:pt x="1238" y="238"/>
                  </a:lnTo>
                  <a:lnTo>
                    <a:pt x="1223" y="239"/>
                  </a:lnTo>
                  <a:lnTo>
                    <a:pt x="1209" y="241"/>
                  </a:lnTo>
                  <a:lnTo>
                    <a:pt x="1193" y="241"/>
                  </a:lnTo>
                  <a:lnTo>
                    <a:pt x="1175" y="242"/>
                  </a:lnTo>
                  <a:lnTo>
                    <a:pt x="1158" y="241"/>
                  </a:lnTo>
                  <a:lnTo>
                    <a:pt x="1140" y="241"/>
                  </a:lnTo>
                  <a:lnTo>
                    <a:pt x="1121" y="239"/>
                  </a:lnTo>
                  <a:lnTo>
                    <a:pt x="1102" y="237"/>
                  </a:lnTo>
                  <a:lnTo>
                    <a:pt x="1084" y="234"/>
                  </a:lnTo>
                  <a:lnTo>
                    <a:pt x="1064" y="230"/>
                  </a:lnTo>
                  <a:lnTo>
                    <a:pt x="1044" y="226"/>
                  </a:lnTo>
                  <a:lnTo>
                    <a:pt x="1025" y="223"/>
                  </a:lnTo>
                  <a:lnTo>
                    <a:pt x="1005" y="219"/>
                  </a:lnTo>
                  <a:lnTo>
                    <a:pt x="986" y="217"/>
                  </a:lnTo>
                  <a:lnTo>
                    <a:pt x="968" y="215"/>
                  </a:lnTo>
                  <a:lnTo>
                    <a:pt x="949" y="213"/>
                  </a:lnTo>
                  <a:lnTo>
                    <a:pt x="931" y="211"/>
                  </a:lnTo>
                  <a:lnTo>
                    <a:pt x="913" y="210"/>
                  </a:lnTo>
                  <a:lnTo>
                    <a:pt x="896" y="210"/>
                  </a:lnTo>
                  <a:lnTo>
                    <a:pt x="879" y="209"/>
                  </a:lnTo>
                  <a:lnTo>
                    <a:pt x="863" y="209"/>
                  </a:lnTo>
                  <a:lnTo>
                    <a:pt x="847" y="210"/>
                  </a:lnTo>
                  <a:lnTo>
                    <a:pt x="831" y="210"/>
                  </a:lnTo>
                  <a:lnTo>
                    <a:pt x="816" y="211"/>
                  </a:lnTo>
                  <a:lnTo>
                    <a:pt x="801" y="213"/>
                  </a:lnTo>
                  <a:lnTo>
                    <a:pt x="788" y="215"/>
                  </a:lnTo>
                  <a:lnTo>
                    <a:pt x="775" y="218"/>
                  </a:lnTo>
                  <a:lnTo>
                    <a:pt x="762" y="221"/>
                  </a:lnTo>
                  <a:lnTo>
                    <a:pt x="748" y="225"/>
                  </a:lnTo>
                  <a:lnTo>
                    <a:pt x="735" y="229"/>
                  </a:lnTo>
                  <a:lnTo>
                    <a:pt x="722" y="233"/>
                  </a:lnTo>
                  <a:lnTo>
                    <a:pt x="708" y="237"/>
                  </a:lnTo>
                  <a:lnTo>
                    <a:pt x="695" y="242"/>
                  </a:lnTo>
                  <a:lnTo>
                    <a:pt x="680" y="246"/>
                  </a:lnTo>
                  <a:lnTo>
                    <a:pt x="667" y="250"/>
                  </a:lnTo>
                  <a:lnTo>
                    <a:pt x="654" y="254"/>
                  </a:lnTo>
                  <a:lnTo>
                    <a:pt x="640" y="258"/>
                  </a:lnTo>
                  <a:lnTo>
                    <a:pt x="627" y="261"/>
                  </a:lnTo>
                  <a:lnTo>
                    <a:pt x="612" y="263"/>
                  </a:lnTo>
                  <a:lnTo>
                    <a:pt x="599" y="266"/>
                  </a:lnTo>
                  <a:lnTo>
                    <a:pt x="586" y="267"/>
                  </a:lnTo>
                  <a:lnTo>
                    <a:pt x="573" y="267"/>
                  </a:lnTo>
                  <a:lnTo>
                    <a:pt x="582" y="265"/>
                  </a:lnTo>
                  <a:lnTo>
                    <a:pt x="591" y="261"/>
                  </a:lnTo>
                  <a:lnTo>
                    <a:pt x="601" y="255"/>
                  </a:lnTo>
                  <a:lnTo>
                    <a:pt x="611" y="249"/>
                  </a:lnTo>
                  <a:lnTo>
                    <a:pt x="622" y="242"/>
                  </a:lnTo>
                  <a:lnTo>
                    <a:pt x="634" y="235"/>
                  </a:lnTo>
                  <a:lnTo>
                    <a:pt x="644" y="227"/>
                  </a:lnTo>
                  <a:lnTo>
                    <a:pt x="656" y="221"/>
                  </a:lnTo>
                  <a:lnTo>
                    <a:pt x="642" y="222"/>
                  </a:lnTo>
                  <a:lnTo>
                    <a:pt x="627" y="222"/>
                  </a:lnTo>
                  <a:lnTo>
                    <a:pt x="611" y="221"/>
                  </a:lnTo>
                  <a:lnTo>
                    <a:pt x="595" y="219"/>
                  </a:lnTo>
                  <a:lnTo>
                    <a:pt x="579" y="217"/>
                  </a:lnTo>
                  <a:lnTo>
                    <a:pt x="562" y="214"/>
                  </a:lnTo>
                  <a:lnTo>
                    <a:pt x="546" y="211"/>
                  </a:lnTo>
                  <a:lnTo>
                    <a:pt x="529" y="207"/>
                  </a:lnTo>
                  <a:lnTo>
                    <a:pt x="511" y="203"/>
                  </a:lnTo>
                  <a:lnTo>
                    <a:pt x="495" y="199"/>
                  </a:lnTo>
                  <a:lnTo>
                    <a:pt x="478" y="195"/>
                  </a:lnTo>
                  <a:lnTo>
                    <a:pt x="462" y="190"/>
                  </a:lnTo>
                  <a:lnTo>
                    <a:pt x="446" y="186"/>
                  </a:lnTo>
                  <a:lnTo>
                    <a:pt x="430" y="181"/>
                  </a:lnTo>
                  <a:lnTo>
                    <a:pt x="416" y="176"/>
                  </a:lnTo>
                  <a:lnTo>
                    <a:pt x="401" y="172"/>
                  </a:lnTo>
                  <a:lnTo>
                    <a:pt x="385" y="168"/>
                  </a:lnTo>
                  <a:lnTo>
                    <a:pt x="368" y="164"/>
                  </a:lnTo>
                  <a:lnTo>
                    <a:pt x="348" y="160"/>
                  </a:lnTo>
                  <a:lnTo>
                    <a:pt x="326" y="157"/>
                  </a:lnTo>
                  <a:lnTo>
                    <a:pt x="304" y="154"/>
                  </a:lnTo>
                  <a:lnTo>
                    <a:pt x="280" y="153"/>
                  </a:lnTo>
                  <a:lnTo>
                    <a:pt x="254" y="152"/>
                  </a:lnTo>
                  <a:lnTo>
                    <a:pt x="229" y="152"/>
                  </a:lnTo>
                  <a:lnTo>
                    <a:pt x="201" y="152"/>
                  </a:lnTo>
                  <a:lnTo>
                    <a:pt x="173" y="154"/>
                  </a:lnTo>
                  <a:lnTo>
                    <a:pt x="145" y="157"/>
                  </a:lnTo>
                  <a:lnTo>
                    <a:pt x="117" y="161"/>
                  </a:lnTo>
                  <a:lnTo>
                    <a:pt x="88" y="166"/>
                  </a:lnTo>
                  <a:lnTo>
                    <a:pt x="59" y="173"/>
                  </a:lnTo>
                  <a:lnTo>
                    <a:pt x="30" y="181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96840" y="2959200"/>
              <a:ext cx="108720" cy="9396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176" y="152"/>
                  </a:moveTo>
                  <a:lnTo>
                    <a:pt x="169" y="146"/>
                  </a:lnTo>
                  <a:lnTo>
                    <a:pt x="161" y="137"/>
                  </a:lnTo>
                  <a:lnTo>
                    <a:pt x="152" y="126"/>
                  </a:lnTo>
                  <a:lnTo>
                    <a:pt x="141" y="113"/>
                  </a:lnTo>
                  <a:lnTo>
                    <a:pt x="130" y="98"/>
                  </a:lnTo>
                  <a:lnTo>
                    <a:pt x="121" y="82"/>
                  </a:lnTo>
                  <a:lnTo>
                    <a:pt x="111" y="65"/>
                  </a:lnTo>
                  <a:lnTo>
                    <a:pt x="103" y="48"/>
                  </a:lnTo>
                  <a:lnTo>
                    <a:pt x="91" y="37"/>
                  </a:lnTo>
                  <a:lnTo>
                    <a:pt x="77" y="26"/>
                  </a:lnTo>
                  <a:lnTo>
                    <a:pt x="63" y="17"/>
                  </a:lnTo>
                  <a:lnTo>
                    <a:pt x="48" y="8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3" y="9"/>
                  </a:lnTo>
                  <a:lnTo>
                    <a:pt x="0" y="18"/>
                  </a:lnTo>
                  <a:lnTo>
                    <a:pt x="3" y="29"/>
                  </a:lnTo>
                  <a:lnTo>
                    <a:pt x="11" y="38"/>
                  </a:lnTo>
                  <a:lnTo>
                    <a:pt x="21" y="46"/>
                  </a:lnTo>
                  <a:lnTo>
                    <a:pt x="35" y="56"/>
                  </a:lnTo>
                  <a:lnTo>
                    <a:pt x="48" y="64"/>
                  </a:lnTo>
                  <a:lnTo>
                    <a:pt x="61" y="72"/>
                  </a:lnTo>
                  <a:lnTo>
                    <a:pt x="72" y="78"/>
                  </a:lnTo>
                  <a:lnTo>
                    <a:pt x="81" y="86"/>
                  </a:lnTo>
                  <a:lnTo>
                    <a:pt x="89" y="98"/>
                  </a:lnTo>
                  <a:lnTo>
                    <a:pt x="100" y="110"/>
                  </a:lnTo>
                  <a:lnTo>
                    <a:pt x="112" y="122"/>
                  </a:lnTo>
                  <a:lnTo>
                    <a:pt x="124" y="134"/>
                  </a:lnTo>
                  <a:lnTo>
                    <a:pt x="138" y="144"/>
                  </a:lnTo>
                  <a:lnTo>
                    <a:pt x="156" y="149"/>
                  </a:lnTo>
                  <a:lnTo>
                    <a:pt x="176" y="152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37800" y="3002040"/>
              <a:ext cx="132480" cy="6048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218" y="85"/>
                  </a:moveTo>
                  <a:lnTo>
                    <a:pt x="210" y="86"/>
                  </a:lnTo>
                  <a:lnTo>
                    <a:pt x="200" y="89"/>
                  </a:lnTo>
                  <a:lnTo>
                    <a:pt x="186" y="92"/>
                  </a:lnTo>
                  <a:lnTo>
                    <a:pt x="172" y="94"/>
                  </a:lnTo>
                  <a:lnTo>
                    <a:pt x="157" y="97"/>
                  </a:lnTo>
                  <a:lnTo>
                    <a:pt x="142" y="98"/>
                  </a:lnTo>
                  <a:lnTo>
                    <a:pt x="130" y="98"/>
                  </a:lnTo>
                  <a:lnTo>
                    <a:pt x="121" y="96"/>
                  </a:lnTo>
                  <a:lnTo>
                    <a:pt x="112" y="90"/>
                  </a:lnTo>
                  <a:lnTo>
                    <a:pt x="98" y="82"/>
                  </a:lnTo>
                  <a:lnTo>
                    <a:pt x="85" y="73"/>
                  </a:lnTo>
                  <a:lnTo>
                    <a:pt x="69" y="62"/>
                  </a:lnTo>
                  <a:lnTo>
                    <a:pt x="53" y="53"/>
                  </a:lnTo>
                  <a:lnTo>
                    <a:pt x="40" y="44"/>
                  </a:lnTo>
                  <a:lnTo>
                    <a:pt x="27" y="38"/>
                  </a:lnTo>
                  <a:lnTo>
                    <a:pt x="17" y="34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4" y="2"/>
                  </a:lnTo>
                  <a:lnTo>
                    <a:pt x="17" y="0"/>
                  </a:lnTo>
                  <a:lnTo>
                    <a:pt x="28" y="4"/>
                  </a:lnTo>
                  <a:lnTo>
                    <a:pt x="41" y="9"/>
                  </a:lnTo>
                  <a:lnTo>
                    <a:pt x="54" y="17"/>
                  </a:lnTo>
                  <a:lnTo>
                    <a:pt x="69" y="26"/>
                  </a:lnTo>
                  <a:lnTo>
                    <a:pt x="84" y="34"/>
                  </a:lnTo>
                  <a:lnTo>
                    <a:pt x="97" y="44"/>
                  </a:lnTo>
                  <a:lnTo>
                    <a:pt x="109" y="52"/>
                  </a:lnTo>
                  <a:lnTo>
                    <a:pt x="120" y="57"/>
                  </a:lnTo>
                  <a:lnTo>
                    <a:pt x="128" y="61"/>
                  </a:lnTo>
                  <a:lnTo>
                    <a:pt x="137" y="64"/>
                  </a:lnTo>
                  <a:lnTo>
                    <a:pt x="145" y="65"/>
                  </a:lnTo>
                  <a:lnTo>
                    <a:pt x="153" y="65"/>
                  </a:lnTo>
                  <a:lnTo>
                    <a:pt x="161" y="65"/>
                  </a:lnTo>
                  <a:lnTo>
                    <a:pt x="169" y="64"/>
                  </a:lnTo>
                  <a:lnTo>
                    <a:pt x="177" y="62"/>
                  </a:lnTo>
                  <a:lnTo>
                    <a:pt x="185" y="60"/>
                  </a:lnTo>
                  <a:lnTo>
                    <a:pt x="192" y="66"/>
                  </a:lnTo>
                  <a:lnTo>
                    <a:pt x="200" y="73"/>
                  </a:lnTo>
                  <a:lnTo>
                    <a:pt x="209" y="80"/>
                  </a:lnTo>
                  <a:lnTo>
                    <a:pt x="218" y="85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48600" y="2970720"/>
              <a:ext cx="96120" cy="586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155" y="96"/>
                  </a:moveTo>
                  <a:lnTo>
                    <a:pt x="149" y="97"/>
                  </a:lnTo>
                  <a:lnTo>
                    <a:pt x="142" y="97"/>
                  </a:lnTo>
                  <a:lnTo>
                    <a:pt x="134" y="96"/>
                  </a:lnTo>
                  <a:lnTo>
                    <a:pt x="126" y="95"/>
                  </a:lnTo>
                  <a:lnTo>
                    <a:pt x="118" y="93"/>
                  </a:lnTo>
                  <a:lnTo>
                    <a:pt x="110" y="91"/>
                  </a:lnTo>
                  <a:lnTo>
                    <a:pt x="102" y="87"/>
                  </a:lnTo>
                  <a:lnTo>
                    <a:pt x="94" y="81"/>
                  </a:lnTo>
                  <a:lnTo>
                    <a:pt x="86" y="76"/>
                  </a:lnTo>
                  <a:lnTo>
                    <a:pt x="75" y="69"/>
                  </a:lnTo>
                  <a:lnTo>
                    <a:pt x="63" y="61"/>
                  </a:lnTo>
                  <a:lnTo>
                    <a:pt x="51" y="53"/>
                  </a:lnTo>
                  <a:lnTo>
                    <a:pt x="39" y="47"/>
                  </a:lnTo>
                  <a:lnTo>
                    <a:pt x="27" y="40"/>
                  </a:lnTo>
                  <a:lnTo>
                    <a:pt x="17" y="35"/>
                  </a:lnTo>
                  <a:lnTo>
                    <a:pt x="9" y="31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30" y="1"/>
                  </a:lnTo>
                  <a:lnTo>
                    <a:pt x="47" y="8"/>
                  </a:lnTo>
                  <a:lnTo>
                    <a:pt x="51" y="15"/>
                  </a:lnTo>
                  <a:lnTo>
                    <a:pt x="57" y="21"/>
                  </a:lnTo>
                  <a:lnTo>
                    <a:pt x="63" y="28"/>
                  </a:lnTo>
                  <a:lnTo>
                    <a:pt x="70" y="35"/>
                  </a:lnTo>
                  <a:lnTo>
                    <a:pt x="78" y="40"/>
                  </a:lnTo>
                  <a:lnTo>
                    <a:pt x="85" y="45"/>
                  </a:lnTo>
                  <a:lnTo>
                    <a:pt x="91" y="49"/>
                  </a:lnTo>
                  <a:lnTo>
                    <a:pt x="98" y="52"/>
                  </a:lnTo>
                  <a:lnTo>
                    <a:pt x="105" y="56"/>
                  </a:lnTo>
                  <a:lnTo>
                    <a:pt x="113" y="61"/>
                  </a:lnTo>
                  <a:lnTo>
                    <a:pt x="122" y="67"/>
                  </a:lnTo>
                  <a:lnTo>
                    <a:pt x="131" y="73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51" y="92"/>
                  </a:lnTo>
                  <a:lnTo>
                    <a:pt x="155" y="96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0520" y="2581200"/>
              <a:ext cx="678600" cy="462960"/>
            </a:xfrm>
            <a:custGeom>
              <a:avLst/>
              <a:gdLst/>
              <a:ahLst/>
              <a:rect l="l" t="t" r="r" b="b"/>
              <a:pathLst>
                <a:path w="368" h="251">
                  <a:moveTo>
                    <a:pt x="351" y="92"/>
                  </a:moveTo>
                  <a:cubicBezTo>
                    <a:pt x="366" y="85"/>
                    <a:pt x="368" y="57"/>
                    <a:pt x="363" y="44"/>
                  </a:cubicBezTo>
                  <a:cubicBezTo>
                    <a:pt x="358" y="31"/>
                    <a:pt x="335" y="23"/>
                    <a:pt x="319" y="16"/>
                  </a:cubicBezTo>
                  <a:cubicBezTo>
                    <a:pt x="303" y="9"/>
                    <a:pt x="280" y="0"/>
                    <a:pt x="267" y="0"/>
                  </a:cubicBezTo>
                  <a:cubicBezTo>
                    <a:pt x="254" y="0"/>
                    <a:pt x="252" y="10"/>
                    <a:pt x="239" y="16"/>
                  </a:cubicBezTo>
                  <a:cubicBezTo>
                    <a:pt x="226" y="22"/>
                    <a:pt x="204" y="29"/>
                    <a:pt x="187" y="36"/>
                  </a:cubicBezTo>
                  <a:cubicBezTo>
                    <a:pt x="170" y="43"/>
                    <a:pt x="154" y="57"/>
                    <a:pt x="139" y="60"/>
                  </a:cubicBezTo>
                  <a:cubicBezTo>
                    <a:pt x="124" y="63"/>
                    <a:pt x="112" y="51"/>
                    <a:pt x="95" y="52"/>
                  </a:cubicBezTo>
                  <a:cubicBezTo>
                    <a:pt x="78" y="53"/>
                    <a:pt x="50" y="65"/>
                    <a:pt x="35" y="68"/>
                  </a:cubicBezTo>
                  <a:cubicBezTo>
                    <a:pt x="20" y="71"/>
                    <a:pt x="0" y="62"/>
                    <a:pt x="3" y="68"/>
                  </a:cubicBezTo>
                  <a:cubicBezTo>
                    <a:pt x="6" y="74"/>
                    <a:pt x="32" y="94"/>
                    <a:pt x="51" y="104"/>
                  </a:cubicBezTo>
                  <a:cubicBezTo>
                    <a:pt x="70" y="114"/>
                    <a:pt x="100" y="126"/>
                    <a:pt x="115" y="128"/>
                  </a:cubicBezTo>
                  <a:cubicBezTo>
                    <a:pt x="130" y="130"/>
                    <a:pt x="134" y="118"/>
                    <a:pt x="143" y="116"/>
                  </a:cubicBezTo>
                  <a:cubicBezTo>
                    <a:pt x="152" y="114"/>
                    <a:pt x="170" y="106"/>
                    <a:pt x="171" y="116"/>
                  </a:cubicBezTo>
                  <a:cubicBezTo>
                    <a:pt x="172" y="126"/>
                    <a:pt x="144" y="157"/>
                    <a:pt x="147" y="176"/>
                  </a:cubicBezTo>
                  <a:cubicBezTo>
                    <a:pt x="150" y="195"/>
                    <a:pt x="177" y="216"/>
                    <a:pt x="191" y="228"/>
                  </a:cubicBezTo>
                  <a:cubicBezTo>
                    <a:pt x="205" y="240"/>
                    <a:pt x="224" y="251"/>
                    <a:pt x="231" y="248"/>
                  </a:cubicBezTo>
                  <a:cubicBezTo>
                    <a:pt x="238" y="245"/>
                    <a:pt x="237" y="215"/>
                    <a:pt x="231" y="208"/>
                  </a:cubicBezTo>
                  <a:cubicBezTo>
                    <a:pt x="225" y="201"/>
                    <a:pt x="202" y="211"/>
                    <a:pt x="195" y="204"/>
                  </a:cubicBezTo>
                  <a:cubicBezTo>
                    <a:pt x="188" y="197"/>
                    <a:pt x="186" y="171"/>
                    <a:pt x="191" y="164"/>
                  </a:cubicBezTo>
                  <a:cubicBezTo>
                    <a:pt x="196" y="157"/>
                    <a:pt x="220" y="170"/>
                    <a:pt x="223" y="160"/>
                  </a:cubicBezTo>
                  <a:cubicBezTo>
                    <a:pt x="226" y="150"/>
                    <a:pt x="208" y="115"/>
                    <a:pt x="211" y="104"/>
                  </a:cubicBezTo>
                  <a:cubicBezTo>
                    <a:pt x="214" y="93"/>
                    <a:pt x="227" y="101"/>
                    <a:pt x="243" y="96"/>
                  </a:cubicBezTo>
                  <a:cubicBezTo>
                    <a:pt x="259" y="91"/>
                    <a:pt x="289" y="77"/>
                    <a:pt x="307" y="76"/>
                  </a:cubicBezTo>
                  <a:cubicBezTo>
                    <a:pt x="325" y="75"/>
                    <a:pt x="342" y="89"/>
                    <a:pt x="351" y="92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068600" y="3096360"/>
              <a:ext cx="988920" cy="1022040"/>
              <a:chOff x="7068600" y="3096360"/>
              <a:chExt cx="988920" cy="1022040"/>
            </a:xfrm>
          </p:grpSpPr>
          <p:sp>
            <p:nvSpPr>
              <p:cNvPr id="280" name=""/>
              <p:cNvSpPr/>
              <p:nvPr/>
            </p:nvSpPr>
            <p:spPr>
              <a:xfrm>
                <a:off x="7068600" y="3096360"/>
                <a:ext cx="988920" cy="1022040"/>
              </a:xfrm>
              <a:custGeom>
                <a:avLst/>
                <a:gdLst/>
                <a:ahLst/>
                <a:rect l="l" t="t" r="r" b="b"/>
                <a:pathLst>
                  <a:path w="536" h="554">
                    <a:moveTo>
                      <a:pt x="404" y="145"/>
                    </a:moveTo>
                    <a:cubicBezTo>
                      <a:pt x="384" y="142"/>
                      <a:pt x="363" y="112"/>
                      <a:pt x="350" y="89"/>
                    </a:cubicBezTo>
                    <a:cubicBezTo>
                      <a:pt x="337" y="66"/>
                      <a:pt x="330" y="9"/>
                      <a:pt x="326" y="5"/>
                    </a:cubicBezTo>
                    <a:cubicBezTo>
                      <a:pt x="322" y="1"/>
                      <a:pt x="333" y="47"/>
                      <a:pt x="326" y="65"/>
                    </a:cubicBezTo>
                    <a:cubicBezTo>
                      <a:pt x="319" y="83"/>
                      <a:pt x="301" y="104"/>
                      <a:pt x="286" y="117"/>
                    </a:cubicBezTo>
                    <a:cubicBezTo>
                      <a:pt x="271" y="130"/>
                      <a:pt x="247" y="131"/>
                      <a:pt x="236" y="145"/>
                    </a:cubicBezTo>
                    <a:cubicBezTo>
                      <a:pt x="225" y="159"/>
                      <a:pt x="224" y="178"/>
                      <a:pt x="218" y="199"/>
                    </a:cubicBezTo>
                    <a:cubicBezTo>
                      <a:pt x="212" y="220"/>
                      <a:pt x="210" y="270"/>
                      <a:pt x="200" y="271"/>
                    </a:cubicBezTo>
                    <a:cubicBezTo>
                      <a:pt x="190" y="272"/>
                      <a:pt x="177" y="219"/>
                      <a:pt x="158" y="205"/>
                    </a:cubicBezTo>
                    <a:cubicBezTo>
                      <a:pt x="139" y="191"/>
                      <a:pt x="110" y="188"/>
                      <a:pt x="86" y="187"/>
                    </a:cubicBezTo>
                    <a:cubicBezTo>
                      <a:pt x="62" y="186"/>
                      <a:pt x="19" y="195"/>
                      <a:pt x="14" y="199"/>
                    </a:cubicBezTo>
                    <a:cubicBezTo>
                      <a:pt x="9" y="203"/>
                      <a:pt x="57" y="205"/>
                      <a:pt x="56" y="211"/>
                    </a:cubicBezTo>
                    <a:cubicBezTo>
                      <a:pt x="55" y="217"/>
                      <a:pt x="11" y="223"/>
                      <a:pt x="8" y="235"/>
                    </a:cubicBezTo>
                    <a:cubicBezTo>
                      <a:pt x="5" y="247"/>
                      <a:pt x="39" y="268"/>
                      <a:pt x="38" y="283"/>
                    </a:cubicBezTo>
                    <a:cubicBezTo>
                      <a:pt x="37" y="298"/>
                      <a:pt x="0" y="312"/>
                      <a:pt x="2" y="325"/>
                    </a:cubicBezTo>
                    <a:cubicBezTo>
                      <a:pt x="4" y="338"/>
                      <a:pt x="44" y="348"/>
                      <a:pt x="50" y="361"/>
                    </a:cubicBezTo>
                    <a:cubicBezTo>
                      <a:pt x="56" y="374"/>
                      <a:pt x="33" y="397"/>
                      <a:pt x="38" y="403"/>
                    </a:cubicBezTo>
                    <a:cubicBezTo>
                      <a:pt x="43" y="409"/>
                      <a:pt x="65" y="395"/>
                      <a:pt x="80" y="397"/>
                    </a:cubicBezTo>
                    <a:cubicBezTo>
                      <a:pt x="95" y="399"/>
                      <a:pt x="110" y="407"/>
                      <a:pt x="128" y="415"/>
                    </a:cubicBezTo>
                    <a:cubicBezTo>
                      <a:pt x="146" y="423"/>
                      <a:pt x="175" y="432"/>
                      <a:pt x="188" y="445"/>
                    </a:cubicBezTo>
                    <a:cubicBezTo>
                      <a:pt x="201" y="458"/>
                      <a:pt x="194" y="486"/>
                      <a:pt x="206" y="493"/>
                    </a:cubicBezTo>
                    <a:cubicBezTo>
                      <a:pt x="218" y="500"/>
                      <a:pt x="244" y="478"/>
                      <a:pt x="260" y="487"/>
                    </a:cubicBezTo>
                    <a:cubicBezTo>
                      <a:pt x="276" y="496"/>
                      <a:pt x="292" y="544"/>
                      <a:pt x="302" y="549"/>
                    </a:cubicBezTo>
                    <a:cubicBezTo>
                      <a:pt x="312" y="554"/>
                      <a:pt x="309" y="518"/>
                      <a:pt x="320" y="517"/>
                    </a:cubicBezTo>
                    <a:cubicBezTo>
                      <a:pt x="331" y="516"/>
                      <a:pt x="360" y="544"/>
                      <a:pt x="370" y="541"/>
                    </a:cubicBezTo>
                    <a:cubicBezTo>
                      <a:pt x="380" y="538"/>
                      <a:pt x="373" y="504"/>
                      <a:pt x="380" y="499"/>
                    </a:cubicBezTo>
                    <a:cubicBezTo>
                      <a:pt x="387" y="494"/>
                      <a:pt x="396" y="515"/>
                      <a:pt x="410" y="513"/>
                    </a:cubicBezTo>
                    <a:cubicBezTo>
                      <a:pt x="424" y="511"/>
                      <a:pt x="448" y="494"/>
                      <a:pt x="462" y="489"/>
                    </a:cubicBezTo>
                    <a:cubicBezTo>
                      <a:pt x="476" y="484"/>
                      <a:pt x="490" y="493"/>
                      <a:pt x="494" y="481"/>
                    </a:cubicBezTo>
                    <a:cubicBezTo>
                      <a:pt x="498" y="469"/>
                      <a:pt x="500" y="433"/>
                      <a:pt x="488" y="415"/>
                    </a:cubicBezTo>
                    <a:cubicBezTo>
                      <a:pt x="476" y="397"/>
                      <a:pt x="428" y="389"/>
                      <a:pt x="422" y="373"/>
                    </a:cubicBezTo>
                    <a:cubicBezTo>
                      <a:pt x="416" y="357"/>
                      <a:pt x="441" y="335"/>
                      <a:pt x="452" y="319"/>
                    </a:cubicBezTo>
                    <a:cubicBezTo>
                      <a:pt x="463" y="303"/>
                      <a:pt x="473" y="296"/>
                      <a:pt x="486" y="277"/>
                    </a:cubicBezTo>
                    <a:cubicBezTo>
                      <a:pt x="499" y="258"/>
                      <a:pt x="524" y="228"/>
                      <a:pt x="530" y="205"/>
                    </a:cubicBezTo>
                    <a:cubicBezTo>
                      <a:pt x="536" y="182"/>
                      <a:pt x="527" y="164"/>
                      <a:pt x="522" y="141"/>
                    </a:cubicBezTo>
                    <a:cubicBezTo>
                      <a:pt x="517" y="118"/>
                      <a:pt x="504" y="87"/>
                      <a:pt x="498" y="65"/>
                    </a:cubicBezTo>
                    <a:cubicBezTo>
                      <a:pt x="492" y="43"/>
                      <a:pt x="493" y="0"/>
                      <a:pt x="488" y="7"/>
                    </a:cubicBezTo>
                    <a:cubicBezTo>
                      <a:pt x="483" y="14"/>
                      <a:pt x="484" y="86"/>
                      <a:pt x="470" y="109"/>
                    </a:cubicBezTo>
                    <a:cubicBezTo>
                      <a:pt x="456" y="132"/>
                      <a:pt x="418" y="137"/>
                      <a:pt x="404" y="145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64680" y="3492720"/>
                <a:ext cx="121680" cy="65880"/>
              </a:xfrm>
              <a:custGeom>
                <a:avLst/>
                <a:gdLst/>
                <a:ahLst/>
                <a:rect l="l" t="t" r="r" b="b"/>
                <a:pathLst>
                  <a:path w="198" h="107">
                    <a:moveTo>
                      <a:pt x="0" y="0"/>
                    </a:moveTo>
                    <a:lnTo>
                      <a:pt x="13" y="16"/>
                    </a:lnTo>
                    <a:lnTo>
                      <a:pt x="29" y="33"/>
                    </a:lnTo>
                    <a:lnTo>
                      <a:pt x="46" y="49"/>
                    </a:lnTo>
                    <a:lnTo>
                      <a:pt x="68" y="64"/>
                    </a:lnTo>
                    <a:lnTo>
                      <a:pt x="93" y="76"/>
                    </a:lnTo>
                    <a:lnTo>
                      <a:pt x="122" y="84"/>
                    </a:lnTo>
                    <a:lnTo>
                      <a:pt x="157" y="87"/>
                    </a:lnTo>
                    <a:lnTo>
                      <a:pt x="198" y="83"/>
                    </a:lnTo>
                    <a:lnTo>
                      <a:pt x="170" y="100"/>
                    </a:lnTo>
                    <a:lnTo>
                      <a:pt x="141" y="107"/>
                    </a:lnTo>
                    <a:lnTo>
                      <a:pt x="110" y="105"/>
                    </a:lnTo>
                    <a:lnTo>
                      <a:pt x="81" y="97"/>
                    </a:lnTo>
                    <a:lnTo>
                      <a:pt x="54" y="81"/>
                    </a:lnTo>
                    <a:lnTo>
                      <a:pt x="32" y="59"/>
                    </a:ln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71040" y="3579480"/>
                <a:ext cx="81000" cy="21960"/>
              </a:xfrm>
              <a:custGeom>
                <a:avLst/>
                <a:gdLst/>
                <a:ahLst/>
                <a:rect l="l" t="t" r="r" b="b"/>
                <a:pathLst>
                  <a:path w="133" h="36">
                    <a:moveTo>
                      <a:pt x="133" y="0"/>
                    </a:moveTo>
                    <a:lnTo>
                      <a:pt x="122" y="4"/>
                    </a:lnTo>
                    <a:lnTo>
                      <a:pt x="109" y="8"/>
                    </a:lnTo>
                    <a:lnTo>
                      <a:pt x="93" y="12"/>
                    </a:lnTo>
                    <a:lnTo>
                      <a:pt x="76" y="15"/>
                    </a:lnTo>
                    <a:lnTo>
                      <a:pt x="57" y="19"/>
                    </a:lnTo>
                    <a:lnTo>
                      <a:pt x="38" y="20"/>
                    </a:lnTo>
                    <a:lnTo>
                      <a:pt x="18" y="20"/>
                    </a:lnTo>
                    <a:lnTo>
                      <a:pt x="0" y="19"/>
                    </a:lnTo>
                    <a:lnTo>
                      <a:pt x="9" y="26"/>
                    </a:lnTo>
                    <a:lnTo>
                      <a:pt x="21" y="31"/>
                    </a:lnTo>
                    <a:lnTo>
                      <a:pt x="36" y="35"/>
                    </a:lnTo>
                    <a:lnTo>
                      <a:pt x="52" y="36"/>
                    </a:lnTo>
                    <a:lnTo>
                      <a:pt x="69" y="36"/>
                    </a:lnTo>
                    <a:lnTo>
                      <a:pt x="86" y="35"/>
                    </a:lnTo>
                    <a:lnTo>
                      <a:pt x="102" y="32"/>
                    </a:lnTo>
                    <a:lnTo>
                      <a:pt x="117" y="28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52920" y="3527640"/>
                <a:ext cx="592200" cy="501840"/>
              </a:xfrm>
              <a:custGeom>
                <a:avLst/>
                <a:gdLst/>
                <a:ahLst/>
                <a:rect l="l" t="t" r="r" b="b"/>
                <a:pathLst>
                  <a:path w="963" h="818">
                    <a:moveTo>
                      <a:pt x="324" y="229"/>
                    </a:moveTo>
                    <a:lnTo>
                      <a:pt x="319" y="215"/>
                    </a:lnTo>
                    <a:lnTo>
                      <a:pt x="312" y="201"/>
                    </a:lnTo>
                    <a:lnTo>
                      <a:pt x="303" y="185"/>
                    </a:lnTo>
                    <a:lnTo>
                      <a:pt x="292" y="167"/>
                    </a:lnTo>
                    <a:lnTo>
                      <a:pt x="279" y="149"/>
                    </a:lnTo>
                    <a:lnTo>
                      <a:pt x="264" y="130"/>
                    </a:lnTo>
                    <a:lnTo>
                      <a:pt x="248" y="110"/>
                    </a:lnTo>
                    <a:lnTo>
                      <a:pt x="229" y="92"/>
                    </a:lnTo>
                    <a:lnTo>
                      <a:pt x="209" y="74"/>
                    </a:lnTo>
                    <a:lnTo>
                      <a:pt x="187" y="57"/>
                    </a:lnTo>
                    <a:lnTo>
                      <a:pt x="164" y="42"/>
                    </a:lnTo>
                    <a:lnTo>
                      <a:pt x="139" y="29"/>
                    </a:lnTo>
                    <a:lnTo>
                      <a:pt x="112" y="17"/>
                    </a:lnTo>
                    <a:lnTo>
                      <a:pt x="83" y="8"/>
                    </a:lnTo>
                    <a:lnTo>
                      <a:pt x="54" y="2"/>
                    </a:lnTo>
                    <a:lnTo>
                      <a:pt x="22" y="0"/>
                    </a:lnTo>
                    <a:lnTo>
                      <a:pt x="31" y="6"/>
                    </a:lnTo>
                    <a:lnTo>
                      <a:pt x="42" y="12"/>
                    </a:lnTo>
                    <a:lnTo>
                      <a:pt x="55" y="20"/>
                    </a:lnTo>
                    <a:lnTo>
                      <a:pt x="70" y="28"/>
                    </a:lnTo>
                    <a:lnTo>
                      <a:pt x="87" y="36"/>
                    </a:lnTo>
                    <a:lnTo>
                      <a:pt x="104" y="45"/>
                    </a:lnTo>
                    <a:lnTo>
                      <a:pt x="122" y="56"/>
                    </a:lnTo>
                    <a:lnTo>
                      <a:pt x="140" y="66"/>
                    </a:lnTo>
                    <a:lnTo>
                      <a:pt x="159" y="80"/>
                    </a:lnTo>
                    <a:lnTo>
                      <a:pt x="176" y="92"/>
                    </a:lnTo>
                    <a:lnTo>
                      <a:pt x="193" y="106"/>
                    </a:lnTo>
                    <a:lnTo>
                      <a:pt x="211" y="121"/>
                    </a:lnTo>
                    <a:lnTo>
                      <a:pt x="225" y="138"/>
                    </a:lnTo>
                    <a:lnTo>
                      <a:pt x="239" y="155"/>
                    </a:lnTo>
                    <a:lnTo>
                      <a:pt x="249" y="174"/>
                    </a:lnTo>
                    <a:lnTo>
                      <a:pt x="259" y="194"/>
                    </a:lnTo>
                    <a:lnTo>
                      <a:pt x="241" y="191"/>
                    </a:lnTo>
                    <a:lnTo>
                      <a:pt x="224" y="191"/>
                    </a:lnTo>
                    <a:lnTo>
                      <a:pt x="207" y="191"/>
                    </a:lnTo>
                    <a:lnTo>
                      <a:pt x="188" y="194"/>
                    </a:lnTo>
                    <a:lnTo>
                      <a:pt x="170" y="197"/>
                    </a:lnTo>
                    <a:lnTo>
                      <a:pt x="151" y="202"/>
                    </a:lnTo>
                    <a:lnTo>
                      <a:pt x="132" y="207"/>
                    </a:lnTo>
                    <a:lnTo>
                      <a:pt x="114" y="215"/>
                    </a:lnTo>
                    <a:lnTo>
                      <a:pt x="96" y="225"/>
                    </a:lnTo>
                    <a:lnTo>
                      <a:pt x="79" y="235"/>
                    </a:lnTo>
                    <a:lnTo>
                      <a:pt x="63" y="247"/>
                    </a:lnTo>
                    <a:lnTo>
                      <a:pt x="48" y="261"/>
                    </a:lnTo>
                    <a:lnTo>
                      <a:pt x="34" y="277"/>
                    </a:lnTo>
                    <a:lnTo>
                      <a:pt x="20" y="294"/>
                    </a:lnTo>
                    <a:lnTo>
                      <a:pt x="10" y="313"/>
                    </a:lnTo>
                    <a:lnTo>
                      <a:pt x="0" y="333"/>
                    </a:lnTo>
                    <a:lnTo>
                      <a:pt x="11" y="325"/>
                    </a:lnTo>
                    <a:lnTo>
                      <a:pt x="22" y="317"/>
                    </a:lnTo>
                    <a:lnTo>
                      <a:pt x="34" y="306"/>
                    </a:lnTo>
                    <a:lnTo>
                      <a:pt x="47" y="295"/>
                    </a:lnTo>
                    <a:lnTo>
                      <a:pt x="62" y="285"/>
                    </a:lnTo>
                    <a:lnTo>
                      <a:pt x="76" y="274"/>
                    </a:lnTo>
                    <a:lnTo>
                      <a:pt x="92" y="263"/>
                    </a:lnTo>
                    <a:lnTo>
                      <a:pt x="110" y="253"/>
                    </a:lnTo>
                    <a:lnTo>
                      <a:pt x="128" y="243"/>
                    </a:lnTo>
                    <a:lnTo>
                      <a:pt x="147" y="235"/>
                    </a:lnTo>
                    <a:lnTo>
                      <a:pt x="167" y="229"/>
                    </a:lnTo>
                    <a:lnTo>
                      <a:pt x="187" y="225"/>
                    </a:lnTo>
                    <a:lnTo>
                      <a:pt x="208" y="221"/>
                    </a:lnTo>
                    <a:lnTo>
                      <a:pt x="231" y="221"/>
                    </a:lnTo>
                    <a:lnTo>
                      <a:pt x="253" y="223"/>
                    </a:lnTo>
                    <a:lnTo>
                      <a:pt x="277" y="229"/>
                    </a:lnTo>
                    <a:lnTo>
                      <a:pt x="283" y="239"/>
                    </a:lnTo>
                    <a:lnTo>
                      <a:pt x="291" y="251"/>
                    </a:lnTo>
                    <a:lnTo>
                      <a:pt x="301" y="263"/>
                    </a:lnTo>
                    <a:lnTo>
                      <a:pt x="313" y="277"/>
                    </a:lnTo>
                    <a:lnTo>
                      <a:pt x="325" y="293"/>
                    </a:lnTo>
                    <a:lnTo>
                      <a:pt x="336" y="311"/>
                    </a:lnTo>
                    <a:lnTo>
                      <a:pt x="345" y="335"/>
                    </a:lnTo>
                    <a:lnTo>
                      <a:pt x="352" y="363"/>
                    </a:lnTo>
                    <a:lnTo>
                      <a:pt x="362" y="434"/>
                    </a:lnTo>
                    <a:lnTo>
                      <a:pt x="373" y="515"/>
                    </a:lnTo>
                    <a:lnTo>
                      <a:pt x="381" y="594"/>
                    </a:lnTo>
                    <a:lnTo>
                      <a:pt x="382" y="663"/>
                    </a:lnTo>
                    <a:lnTo>
                      <a:pt x="392" y="648"/>
                    </a:lnTo>
                    <a:lnTo>
                      <a:pt x="398" y="627"/>
                    </a:lnTo>
                    <a:lnTo>
                      <a:pt x="405" y="600"/>
                    </a:lnTo>
                    <a:lnTo>
                      <a:pt x="410" y="570"/>
                    </a:lnTo>
                    <a:lnTo>
                      <a:pt x="413" y="536"/>
                    </a:lnTo>
                    <a:lnTo>
                      <a:pt x="414" y="502"/>
                    </a:lnTo>
                    <a:lnTo>
                      <a:pt x="412" y="467"/>
                    </a:lnTo>
                    <a:lnTo>
                      <a:pt x="406" y="435"/>
                    </a:lnTo>
                    <a:lnTo>
                      <a:pt x="416" y="449"/>
                    </a:lnTo>
                    <a:lnTo>
                      <a:pt x="426" y="459"/>
                    </a:lnTo>
                    <a:lnTo>
                      <a:pt x="438" y="470"/>
                    </a:lnTo>
                    <a:lnTo>
                      <a:pt x="450" y="481"/>
                    </a:lnTo>
                    <a:lnTo>
                      <a:pt x="464" y="489"/>
                    </a:lnTo>
                    <a:lnTo>
                      <a:pt x="477" y="497"/>
                    </a:lnTo>
                    <a:lnTo>
                      <a:pt x="492" y="505"/>
                    </a:lnTo>
                    <a:lnTo>
                      <a:pt x="506" y="510"/>
                    </a:lnTo>
                    <a:lnTo>
                      <a:pt x="521" y="515"/>
                    </a:lnTo>
                    <a:lnTo>
                      <a:pt x="537" y="519"/>
                    </a:lnTo>
                    <a:lnTo>
                      <a:pt x="551" y="522"/>
                    </a:lnTo>
                    <a:lnTo>
                      <a:pt x="567" y="524"/>
                    </a:lnTo>
                    <a:lnTo>
                      <a:pt x="582" y="526"/>
                    </a:lnTo>
                    <a:lnTo>
                      <a:pt x="598" y="526"/>
                    </a:lnTo>
                    <a:lnTo>
                      <a:pt x="614" y="526"/>
                    </a:lnTo>
                    <a:lnTo>
                      <a:pt x="629" y="524"/>
                    </a:lnTo>
                    <a:lnTo>
                      <a:pt x="639" y="543"/>
                    </a:lnTo>
                    <a:lnTo>
                      <a:pt x="654" y="567"/>
                    </a:lnTo>
                    <a:lnTo>
                      <a:pt x="670" y="596"/>
                    </a:lnTo>
                    <a:lnTo>
                      <a:pt x="687" y="631"/>
                    </a:lnTo>
                    <a:lnTo>
                      <a:pt x="702" y="671"/>
                    </a:lnTo>
                    <a:lnTo>
                      <a:pt x="713" y="715"/>
                    </a:lnTo>
                    <a:lnTo>
                      <a:pt x="718" y="764"/>
                    </a:lnTo>
                    <a:lnTo>
                      <a:pt x="718" y="818"/>
                    </a:lnTo>
                    <a:lnTo>
                      <a:pt x="730" y="795"/>
                    </a:lnTo>
                    <a:lnTo>
                      <a:pt x="736" y="767"/>
                    </a:lnTo>
                    <a:lnTo>
                      <a:pt x="739" y="732"/>
                    </a:lnTo>
                    <a:lnTo>
                      <a:pt x="738" y="695"/>
                    </a:lnTo>
                    <a:lnTo>
                      <a:pt x="732" y="656"/>
                    </a:lnTo>
                    <a:lnTo>
                      <a:pt x="724" y="618"/>
                    </a:lnTo>
                    <a:lnTo>
                      <a:pt x="713" y="580"/>
                    </a:lnTo>
                    <a:lnTo>
                      <a:pt x="699" y="546"/>
                    </a:lnTo>
                    <a:lnTo>
                      <a:pt x="717" y="551"/>
                    </a:lnTo>
                    <a:lnTo>
                      <a:pt x="735" y="556"/>
                    </a:lnTo>
                    <a:lnTo>
                      <a:pt x="754" y="563"/>
                    </a:lnTo>
                    <a:lnTo>
                      <a:pt x="774" y="570"/>
                    </a:lnTo>
                    <a:lnTo>
                      <a:pt x="794" y="576"/>
                    </a:lnTo>
                    <a:lnTo>
                      <a:pt x="815" y="583"/>
                    </a:lnTo>
                    <a:lnTo>
                      <a:pt x="835" y="591"/>
                    </a:lnTo>
                    <a:lnTo>
                      <a:pt x="854" y="600"/>
                    </a:lnTo>
                    <a:lnTo>
                      <a:pt x="872" y="610"/>
                    </a:lnTo>
                    <a:lnTo>
                      <a:pt x="891" y="619"/>
                    </a:lnTo>
                    <a:lnTo>
                      <a:pt x="907" y="631"/>
                    </a:lnTo>
                    <a:lnTo>
                      <a:pt x="923" y="643"/>
                    </a:lnTo>
                    <a:lnTo>
                      <a:pt x="936" y="655"/>
                    </a:lnTo>
                    <a:lnTo>
                      <a:pt x="947" y="670"/>
                    </a:lnTo>
                    <a:lnTo>
                      <a:pt x="956" y="684"/>
                    </a:lnTo>
                    <a:lnTo>
                      <a:pt x="963" y="700"/>
                    </a:lnTo>
                    <a:lnTo>
                      <a:pt x="960" y="676"/>
                    </a:lnTo>
                    <a:lnTo>
                      <a:pt x="949" y="651"/>
                    </a:lnTo>
                    <a:lnTo>
                      <a:pt x="932" y="626"/>
                    </a:lnTo>
                    <a:lnTo>
                      <a:pt x="909" y="600"/>
                    </a:lnTo>
                    <a:lnTo>
                      <a:pt x="883" y="576"/>
                    </a:lnTo>
                    <a:lnTo>
                      <a:pt x="855" y="554"/>
                    </a:lnTo>
                    <a:lnTo>
                      <a:pt x="826" y="534"/>
                    </a:lnTo>
                    <a:lnTo>
                      <a:pt x="796" y="518"/>
                    </a:lnTo>
                    <a:lnTo>
                      <a:pt x="815" y="517"/>
                    </a:lnTo>
                    <a:lnTo>
                      <a:pt x="830" y="514"/>
                    </a:lnTo>
                    <a:lnTo>
                      <a:pt x="840" y="510"/>
                    </a:lnTo>
                    <a:lnTo>
                      <a:pt x="851" y="505"/>
                    </a:lnTo>
                    <a:lnTo>
                      <a:pt x="859" y="499"/>
                    </a:lnTo>
                    <a:lnTo>
                      <a:pt x="868" y="490"/>
                    </a:lnTo>
                    <a:lnTo>
                      <a:pt x="879" y="481"/>
                    </a:lnTo>
                    <a:lnTo>
                      <a:pt x="892" y="469"/>
                    </a:lnTo>
                    <a:lnTo>
                      <a:pt x="874" y="473"/>
                    </a:lnTo>
                    <a:lnTo>
                      <a:pt x="854" y="477"/>
                    </a:lnTo>
                    <a:lnTo>
                      <a:pt x="831" y="482"/>
                    </a:lnTo>
                    <a:lnTo>
                      <a:pt x="807" y="486"/>
                    </a:lnTo>
                    <a:lnTo>
                      <a:pt x="780" y="490"/>
                    </a:lnTo>
                    <a:lnTo>
                      <a:pt x="754" y="494"/>
                    </a:lnTo>
                    <a:lnTo>
                      <a:pt x="726" y="497"/>
                    </a:lnTo>
                    <a:lnTo>
                      <a:pt x="698" y="499"/>
                    </a:lnTo>
                    <a:lnTo>
                      <a:pt x="670" y="501"/>
                    </a:lnTo>
                    <a:lnTo>
                      <a:pt x="642" y="501"/>
                    </a:lnTo>
                    <a:lnTo>
                      <a:pt x="615" y="499"/>
                    </a:lnTo>
                    <a:lnTo>
                      <a:pt x="589" y="497"/>
                    </a:lnTo>
                    <a:lnTo>
                      <a:pt x="563" y="491"/>
                    </a:lnTo>
                    <a:lnTo>
                      <a:pt x="541" y="486"/>
                    </a:lnTo>
                    <a:lnTo>
                      <a:pt x="518" y="477"/>
                    </a:lnTo>
                    <a:lnTo>
                      <a:pt x="500" y="466"/>
                    </a:lnTo>
                    <a:lnTo>
                      <a:pt x="466" y="443"/>
                    </a:lnTo>
                    <a:lnTo>
                      <a:pt x="440" y="425"/>
                    </a:lnTo>
                    <a:lnTo>
                      <a:pt x="417" y="405"/>
                    </a:lnTo>
                    <a:lnTo>
                      <a:pt x="398" y="383"/>
                    </a:lnTo>
                    <a:lnTo>
                      <a:pt x="380" y="358"/>
                    </a:lnTo>
                    <a:lnTo>
                      <a:pt x="362" y="325"/>
                    </a:lnTo>
                    <a:lnTo>
                      <a:pt x="344" y="283"/>
                    </a:lnTo>
                    <a:lnTo>
                      <a:pt x="324" y="229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8:07:46Z</dcterms:created>
  <dc:creator>Plano ISD</dc:creator>
  <dc:description/>
  <dc:language>en-US</dc:language>
  <cp:lastModifiedBy>Plano ISD</cp:lastModifiedBy>
  <dcterms:modified xsi:type="dcterms:W3CDTF">2006-06-06T21:18:34Z</dcterms:modified>
  <cp:revision>62</cp:revision>
  <dc:subject/>
  <dc:title>PowerPoint Presentation</dc:title>
</cp:coreProperties>
</file>